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FA1-873C-40DB-A61D-D31B4A65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4A7-BA27-4867-B9D2-51B7B946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D7E-00B5-4C9A-8454-46EB4A75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86C-9BF2-4116-AB95-B967AFAD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294-425E-468E-B4B0-879A7F4B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1D5-CE98-4102-B187-9CE3A6E4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C3A-C2E1-4A67-B924-D66FEC76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C47-4E92-46A6-A559-08935997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555-C908-44F0-BAF3-0CAFA42B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035-EADC-42B6-91A9-32AF0A1F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9F3-C9D9-4F9A-BB8E-CAB08DF1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B98-A3AD-4BE4-BB88-EBC76AA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9677-A037-4C1F-B494-171CA0BA01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еликие спортсмены Белгородчин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резентация-викторин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лена учителем физической культу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веевой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Тимур Мамедов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й мастер спорта России, серебряный призер чемпионата мира по армспорту, г. Белгород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2" descr="Timur2"/>
          <p:cNvPicPr/>
          <p:nvPr/>
        </p:nvPicPr>
        <p:blipFill>
          <a:blip r:embed="rId1"/>
          <a:srcRect l="0" t="5300" r="0" b="0"/>
          <a:stretch/>
        </p:blipFill>
        <p:spPr>
          <a:xfrm>
            <a:off x="409680" y="1928880"/>
            <a:ext cx="3566880" cy="4776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ffk.bsu.edu.ru/news/arm_ch_m6.JPG"/>
          <p:cNvPicPr/>
          <p:nvPr/>
        </p:nvPicPr>
        <p:blipFill>
          <a:blip r:embed="rId2"/>
          <a:srcRect l="6695" t="0" r="0" b="0"/>
          <a:stretch/>
        </p:blipFill>
        <p:spPr>
          <a:xfrm>
            <a:off x="4214880" y="1857240"/>
            <a:ext cx="46036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Кирилл Сидельников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астер спорта России, чемпион мира по боевому самбо, г. Старый Оск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2" descr="img 0349 500"/>
          <p:cNvPicPr/>
          <p:nvPr/>
        </p:nvPicPr>
        <p:blipFill>
          <a:blip r:embed="rId1"/>
          <a:stretch/>
        </p:blipFill>
        <p:spPr>
          <a:xfrm>
            <a:off x="4265640" y="1857240"/>
            <a:ext cx="4878360" cy="347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ports.ru/images/object_81.1257438130.jpg"/>
          <p:cNvPicPr/>
          <p:nvPr/>
        </p:nvPicPr>
        <p:blipFill>
          <a:blip r:embed="rId2"/>
          <a:stretch/>
        </p:blipFill>
        <p:spPr>
          <a:xfrm>
            <a:off x="142920" y="3000240"/>
            <a:ext cx="47624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Елена Чирков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й мастер спорта России, чемпионка Европы по кикбоксингу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г. Белгород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chirkova elena"/>
          <p:cNvPicPr/>
          <p:nvPr/>
        </p:nvPicPr>
        <p:blipFill>
          <a:blip r:embed="rId1"/>
          <a:stretch/>
        </p:blipFill>
        <p:spPr>
          <a:xfrm>
            <a:off x="214200" y="1714680"/>
            <a:ext cx="4862520" cy="3238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&amp;Lcy;&amp;ucy;&amp;chcy;&amp;shcy;&amp;icy;&amp;iecy; &amp;vcy; &amp;IEcy;&amp;vcy;&amp;rcy;&amp;ocy;&amp;pcy;&amp;iecy;"/>
          <p:cNvPicPr/>
          <p:nvPr/>
        </p:nvPicPr>
        <p:blipFill>
          <a:blip r:embed="rId2"/>
          <a:stretch/>
        </p:blipFill>
        <p:spPr>
          <a:xfrm>
            <a:off x="4405320" y="2786040"/>
            <a:ext cx="47386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Светлана Хоркина — знаменитая российская гимнастка, двукратная олимпийская чемпионка в упражнениях на брусьях (в 1996 и 2000 годах), трёхкратная абсолютная чемпионка мира и трёхкратная абсолютная чемпионка Европы. Заслуженный мастер спорта России (1995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&amp;Scy;&amp;vcy;&amp;iecy;&amp;tcy;&amp;lcy;&amp;acy;&amp;ncy;&amp;acy; &amp;KHcy;&amp;ocy;&amp;rcy;&amp;kcy;&amp;icy;&amp;ncy;&amp;acy;"/>
          <p:cNvPicPr/>
          <p:nvPr/>
        </p:nvPicPr>
        <p:blipFill>
          <a:blip r:embed="rId1"/>
          <a:stretch/>
        </p:blipFill>
        <p:spPr>
          <a:xfrm>
            <a:off x="0" y="2286000"/>
            <a:ext cx="4405320" cy="3303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&amp;Fcy;&amp;ocy;&amp;tcy;&amp;ocy;&amp;gcy;&amp;rcy;&amp;acy;&amp;fcy;&amp;icy;&amp;yacy; &amp;Scy;&amp;vcy;&amp;iecy;&amp;tcy;&amp;lcy;&amp;acy;&amp;ncy;&amp;acy; &amp;KHcy;&amp;ocy;&amp;rcy;&amp;kcy;&amp;icy;&amp;ncy;&amp;acy;. Svetlana Horkina"/>
          <p:cNvPicPr/>
          <p:nvPr/>
        </p:nvPicPr>
        <p:blipFill>
          <a:blip r:embed="rId2"/>
          <a:srcRect l="0" t="0" r="0" b="9952"/>
          <a:stretch/>
        </p:blipFill>
        <p:spPr>
          <a:xfrm>
            <a:off x="4643280" y="1643040"/>
            <a:ext cx="4286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На родине знаменитой гимнастки Светланы Хоркиной в Белгороде ей поставили памятник. Бронзовая скульптура изображает спортсменку в натуральную величину во время исполнения упражнения на бревне. Памятник установлен возле спортивного комплекса Белгородского государственного университет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http://img-fotki.yandex.ru/get/6303/35721275.46/0_73801_b45445e0_XL.jpg"/>
          <p:cNvPicPr/>
          <p:nvPr/>
        </p:nvPicPr>
        <p:blipFill>
          <a:blip r:embed="rId1"/>
          <a:srcRect l="5627" t="12813" r="0" b="0"/>
          <a:stretch/>
        </p:blipFill>
        <p:spPr>
          <a:xfrm>
            <a:off x="3143160" y="2071800"/>
            <a:ext cx="33577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543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ИКТОР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Каких  знаменитых спортсменов Белгородчины  ты знаешь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В каком виде спорта отличилась Елена Чиркова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Как называется волейбольная команда под руководством Шипулина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Каков рост самого высокого волейболиста в мире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Назовите фамилию Заслуженного мастера спорта России, бронзового призёра XXX Олимпийских Игр по баскетболу, г. Белгород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вшая скульп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http://paifo.ru/images/stories/pamyatniki-6/volleyball.jpg"/>
          <p:cNvPicPr/>
          <p:nvPr/>
        </p:nvPicPr>
        <p:blipFill>
          <a:blip r:embed="rId1"/>
          <a:stretch/>
        </p:blipFill>
        <p:spPr>
          <a:xfrm>
            <a:off x="1143000" y="1500120"/>
            <a:ext cx="6515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вшая скульп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http://img-fotki.yandex.ru/get/2/olesa-rus2.0/0_184d_d45b3671_XL"/>
          <p:cNvPicPr/>
          <p:nvPr/>
        </p:nvPicPr>
        <p:blipFill>
          <a:blip r:embed="rId1"/>
          <a:stretch/>
        </p:blipFill>
        <p:spPr>
          <a:xfrm>
            <a:off x="2643120" y="1643040"/>
            <a:ext cx="37861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вшая скульп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" descr="http://img-fotki.yandex.ru/get/4200/alla-grig.b/0_2f73d_caf2b0bb_XL"/>
          <p:cNvPicPr/>
          <p:nvPr/>
        </p:nvPicPr>
        <p:blipFill>
          <a:blip r:embed="rId1"/>
          <a:srcRect l="0" t="13929" r="24288" b="0"/>
          <a:stretch/>
        </p:blipFill>
        <p:spPr>
          <a:xfrm>
            <a:off x="3143160" y="1476360"/>
            <a:ext cx="34084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sportinformburo.ru/media/k2/items/cache/983fb56032c1ac1b726360eae9dd3d18_XL.jpg"/>
          <p:cNvPicPr/>
          <p:nvPr/>
        </p:nvPicPr>
        <p:blipFill>
          <a:blip r:embed="rId1"/>
          <a:stretch/>
        </p:blipFill>
        <p:spPr>
          <a:xfrm>
            <a:off x="571680" y="157176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ЛУЧШИЕ  СПОРТСМЕНЫ  БЕЛГОРОДЧИ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ергей Тетюхин и Тарас Хтей</a:t>
            </a:r>
            <a:br>
              <a:rPr sz="4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е мастера спорта России, чемпионы XXX Олимпийских Игр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по волейболу , г. Белгород 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2" descr="YRB 4094"/>
          <p:cNvPicPr/>
          <p:nvPr/>
        </p:nvPicPr>
        <p:blipFill>
          <a:blip r:embed="rId1"/>
          <a:stretch/>
        </p:blipFill>
        <p:spPr>
          <a:xfrm>
            <a:off x="1000080" y="1571760"/>
            <a:ext cx="6767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imy2"/>
          <p:cNvPicPr/>
          <p:nvPr/>
        </p:nvPicPr>
        <p:blipFill>
          <a:blip r:embed="rId1"/>
          <a:stretch/>
        </p:blipFill>
        <p:spPr>
          <a:xfrm>
            <a:off x="4006800" y="2143080"/>
            <a:ext cx="5137200" cy="41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86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митрий Мусэрский 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митрий Ильиных</a:t>
            </a:r>
            <a:br>
              <a:rPr sz="4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е мастера спорта России, чемпионы XXX Олимпийских Игр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по волейболу , г. Белгород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85960"/>
            <a:ext cx="3471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митр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усэрский – самый высокий волейболист в мире, его рост – 218 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кульптурная композиция, расположенная возле дворца спорта «Космос», открыта к 30-летию спортивного клуба “Белогорье”и в честь выдающихся побед волейболистов Белгородчины под руководством тренера Г.Шипулин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http://paifo.ru/images/stories/pamyatniki-6/volleyball.jpg"/>
          <p:cNvPicPr/>
          <p:nvPr/>
        </p:nvPicPr>
        <p:blipFill>
          <a:blip r:embed="rId1"/>
          <a:stretch/>
        </p:blipFill>
        <p:spPr>
          <a:xfrm>
            <a:off x="1785960" y="2016000"/>
            <a:ext cx="587232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Елена Соколова</a:t>
            </a:r>
            <a:br>
              <a:rPr sz="4000"/>
            </a:b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Заслуженный мастер спорта России, серебряный призёр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XXX Олимпийских Игр по легкой атлетике, г. Старый Оскол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2" descr="sokolova2"/>
          <p:cNvPicPr/>
          <p:nvPr/>
        </p:nvPicPr>
        <p:blipFill>
          <a:blip r:embed="rId1"/>
          <a:stretch/>
        </p:blipFill>
        <p:spPr>
          <a:xfrm>
            <a:off x="142920" y="1500120"/>
            <a:ext cx="5645160" cy="348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&amp;IEcy;&amp;lcy;&amp;iecy;&amp;ncy;&amp;acy; &amp;Scy;&amp;ocy;&amp;kcy;&amp;ocy;&amp;lcy;&amp;ocy;&amp;vcy;&amp;acy;"/>
          <p:cNvPicPr/>
          <p:nvPr/>
        </p:nvPicPr>
        <p:blipFill>
          <a:blip r:embed="rId2"/>
          <a:stretch/>
        </p:blipFill>
        <p:spPr>
          <a:xfrm>
            <a:off x="3929040" y="292896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2" descr="http://img-fotki.yandex.ru/get/4200/alla-grig.b/0_2f73d_caf2b0bb_XL"/>
          <p:cNvPicPr/>
          <p:nvPr/>
        </p:nvPicPr>
        <p:blipFill>
          <a:blip r:embed="rId1"/>
          <a:stretch/>
        </p:blipFill>
        <p:spPr>
          <a:xfrm>
            <a:off x="142920" y="35712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214960" y="1428840"/>
            <a:ext cx="33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едующая скульптура "Спортсмен" установлена в 2007 году на территории БГТУ им. Шухова и посвящен спортсменам университ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лексей Швед</a:t>
            </a:r>
            <a:br>
              <a:rPr sz="4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й мастер спорта России, бронзовый призёр XXX Олимпийских Игр по баскетболу, г. Белгород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2" descr="YRB 6310111 DxO7d"/>
          <p:cNvPicPr/>
          <p:nvPr/>
        </p:nvPicPr>
        <p:blipFill>
          <a:blip r:embed="rId1"/>
          <a:stretch/>
        </p:blipFill>
        <p:spPr>
          <a:xfrm>
            <a:off x="142920" y="1643040"/>
            <a:ext cx="3608280" cy="509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sports.ru/images/object_90.1344435228.46411.jpg"/>
          <p:cNvPicPr/>
          <p:nvPr/>
        </p:nvPicPr>
        <p:blipFill>
          <a:blip r:embed="rId2"/>
          <a:stretch/>
        </p:blipFill>
        <p:spPr>
          <a:xfrm>
            <a:off x="3714840" y="2286000"/>
            <a:ext cx="52704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ладимир Никитин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астер спорта России международного класса, чемпион Европы по боксу, г. Старый Оск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2" descr="3DSC 0910 copy"/>
          <p:cNvPicPr/>
          <p:nvPr/>
        </p:nvPicPr>
        <p:blipFill>
          <a:blip r:embed="rId1"/>
          <a:srcRect l="0" t="0" r="4596" b="0"/>
          <a:stretch/>
        </p:blipFill>
        <p:spPr>
          <a:xfrm>
            <a:off x="0" y="1714680"/>
            <a:ext cx="5143680" cy="4302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17" descr="C:\Documents and Settings\Тихонова\Рабочий стол\бокс.jpg"/>
          <p:cNvPicPr/>
          <p:nvPr/>
        </p:nvPicPr>
        <p:blipFill>
          <a:blip r:embed="rId2"/>
          <a:stretch/>
        </p:blipFill>
        <p:spPr>
          <a:xfrm>
            <a:off x="4286160" y="371484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06:07Z</dcterms:created>
  <dc:creator>Admin</dc:creator>
  <dc:description/>
  <dc:language>en-US</dc:language>
  <cp:lastModifiedBy>User</cp:lastModifiedBy>
  <dcterms:modified xsi:type="dcterms:W3CDTF">2017-01-15T16:17:17Z</dcterms:modified>
  <cp:revision>38</cp:revision>
  <dc:subject/>
  <dc:title>Слайд 1</dc:title>
</cp:coreProperties>
</file>