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6D4-3320-4089-BCE5-E8CAA4B2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627-D4CE-4B33-ABC4-DC6FE46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4FE-80AF-4AF8-9794-29C1FF95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B56-F6C8-484C-9212-A463906A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C72B-EED2-4F96-8ADC-8BD740EF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275C-D3F3-4D41-9268-8F3B246F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123-1DB6-4750-982A-3B701A5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8CAC-07C9-4AF4-8AA8-AD9BF29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C02-0CD4-4313-8FAC-742B006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8E35-99BA-4633-AC62-5D33079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81A7-C33B-4C6A-BC7D-980BB3B4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B36-8DE1-4A81-8675-DCD909E4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487-AE4E-4B34-AF47-D2B0389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6063-B838-4609-B5D1-76EDA8F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8DDC-9ED2-413E-81A9-B650093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DF4-9F13-4051-8DBB-C0EF6CF0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27A5-CB06-43D0-A63B-2355CA0C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42DC-4FE7-406D-A362-B7B35551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5FDA-DA46-43F7-A2AB-ABBDEBCA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98A3-FF6E-4514-BD22-1E9242F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6845-3DCA-491E-BF7A-B914F369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15CC-4B0E-4893-B029-E2843F80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418-43A6-40F5-9607-EB989ED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3889-FE43-48ED-AFDA-65A32666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EE35-AA8A-4017-8601-CDC73BA2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925E0-EDE0-47D5-B51E-91BF2BF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B900-AEFC-4738-B37B-4001E3F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F8E45-7F19-4E9A-8DC3-E720A5A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38D8-3859-4F7D-9430-C529DE73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17A5-76F8-4E5C-9113-C16C3A30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F468D-817C-4AAC-9300-510E84F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B4963-C7D0-4BF1-BF23-15F1970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A6509-0EB9-4CEA-99F4-A102A5A2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742-EE12-48F8-8B05-1E9F554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443A-66AC-46BA-BA92-6DF1B3D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AF81-F002-4373-A5C6-1E6A4D4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232E-36E1-4845-B344-4231F39C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57D6-5BD5-4176-9256-5E8E554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F19F-39FF-4398-BC4B-BF5C42D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566F-1524-48FE-B0CA-9AE6E32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8E8F-33CA-4202-991F-13C1CA50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5A78-8EC5-46B3-96E6-D7EFA1D0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02CE-DDC6-40DB-8547-7D5287B8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5BB-2AFE-4220-8B70-E437A02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C67-B9D2-44C3-8CD2-8BA65E6B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E67-043E-43CC-882E-53748D6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A50-BD8F-4307-B412-8CE45D0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241-4913-432C-A28F-14B9B5E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CF6-4622-4CA6-835B-FCA2D89AEA9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F0E5-745E-4E90-B1C3-8ABDEDA3FBA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970-794E-4655-8372-9DB2AB90614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5426-11F7-4F51-BF78-69044482826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133720"/>
            <a:ext cx="799308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«Танец чере</a:t>
            </a: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з</a:t>
            </a: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 слово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716000" y="5300280"/>
            <a:ext cx="44276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Автор: Антонова Наталья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ученица 8Б класса МБОУ «СОШ № 10»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Руководитель: Кутузова М. А.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Педагог дополнительного образова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7" descr="http://s006.radikal.ru/i213/1402/ab/2e9f26255ce4.jpg"/>
          <p:cNvPicPr/>
          <p:nvPr/>
        </p:nvPicPr>
        <p:blipFill>
          <a:blip r:embed="rId1"/>
          <a:stretch/>
        </p:blipFill>
        <p:spPr>
          <a:xfrm>
            <a:off x="307800" y="3929040"/>
            <a:ext cx="4270680" cy="2643120"/>
          </a:xfrm>
          <a:prstGeom prst="rect">
            <a:avLst/>
          </a:prstGeom>
          <a:ln w="0">
            <a:noFill/>
          </a:ln>
        </p:spPr>
      </p:pic>
      <p:sp>
        <p:nvSpPr>
          <p:cNvPr id="215" name="Заголовок 3"/>
          <p:cNvSpPr/>
          <p:nvPr/>
        </p:nvSpPr>
        <p:spPr>
          <a:xfrm>
            <a:off x="468360" y="0"/>
            <a:ext cx="75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a5010"/>
                </a:solidFill>
                <a:latin typeface="Georgia"/>
              </a:rPr>
              <a:t>Городская научно-практическ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a5010"/>
                </a:solidFill>
                <a:latin typeface="Georgia"/>
              </a:rPr>
              <a:t>«Знание – нравственная сила, Юниор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Полонез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C:\Documents and Settings\Админ\Рабочий стол\НПК танцы и литература\полоне3.jpg"/>
          <p:cNvPicPr/>
          <p:nvPr/>
        </p:nvPicPr>
        <p:blipFill>
          <a:blip r:embed="rId1"/>
          <a:stretch/>
        </p:blipFill>
        <p:spPr>
          <a:xfrm>
            <a:off x="539640" y="1197000"/>
            <a:ext cx="66675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Кадриль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C:\Documents and Settings\Админ\Рабочий стол\НПК танцы и литература\стар танец.jpg"/>
          <p:cNvPicPr/>
          <p:nvPr/>
        </p:nvPicPr>
        <p:blipFill>
          <a:blip r:embed="rId1"/>
          <a:stretch/>
        </p:blipFill>
        <p:spPr>
          <a:xfrm>
            <a:off x="1258920" y="907920"/>
            <a:ext cx="5100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Вальс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Documents and Settings\Админ\Рабочий стол\НПК танцы и литература\менуэт.jpg"/>
          <p:cNvPicPr/>
          <p:nvPr/>
        </p:nvPicPr>
        <p:blipFill>
          <a:blip r:embed="rId1"/>
          <a:stretch/>
        </p:blipFill>
        <p:spPr>
          <a:xfrm>
            <a:off x="1116000" y="1628640"/>
            <a:ext cx="57405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Анализ рассказа Л.Н. Толстого «После бала» и романа А.С. Пушкина «Евгений Онегин»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4" descr="http://img.1tvrus.com/2015-07-20/fmt_89_24_14373848268.jpg"/>
          <p:cNvPicPr/>
          <p:nvPr/>
        </p:nvPicPr>
        <p:blipFill>
          <a:blip r:embed="rId1"/>
          <a:stretch/>
        </p:blipFill>
        <p:spPr>
          <a:xfrm>
            <a:off x="611280" y="2492280"/>
            <a:ext cx="2952720" cy="40402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262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Arial Black"/>
              </a:rPr>
              <a:t>Выводы после анализа литературы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с помощью танца можно эффектно и понятно описать главных героев, более ярко раскрыть их характер, дать читателю сделать самостоятельный вывод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именно во время исполнения танца можно наметить новый поворот в сюжете, изменить замысел, добавить интересные сцены и события, создать художественный образ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личное мнение автора легче всего выразить в сценах описания танца. Истинным знатоком танцев из рассмотренных произведений считаю А.С. Пушкина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Именно во время танца мы замечаем то, на что раньше не обращали внимания, потому что «танец – это тайный язык души»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79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rebuchet MS"/>
              </a:rPr>
              <a:t>респонденты помнят литературные произведения, где есть описания танцев или балов; знают названия исторических танцев но, к сожалению, только по произведениям школьной программ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Диаграмма 4" descr=""/>
          <p:cNvPicPr/>
          <p:nvPr/>
        </p:nvPicPr>
        <p:blipFill>
          <a:blip r:embed="rId1"/>
          <a:stretch/>
        </p:blipFill>
        <p:spPr>
          <a:xfrm>
            <a:off x="272880" y="2946240"/>
            <a:ext cx="8166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танцы которые помнят помните из романа А.С. Пушкин «Евгений Онегин»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Диаграмма 2" descr=""/>
          <p:cNvPicPr/>
          <p:nvPr/>
        </p:nvPicPr>
        <p:blipFill>
          <a:blip r:embed="rId1"/>
          <a:stretch/>
        </p:blipFill>
        <p:spPr>
          <a:xfrm>
            <a:off x="-50760" y="2225520"/>
            <a:ext cx="7878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«Танцуют ли герои поэмы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Н.В. Гоголя «Мертвые души»»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41 респондент и 48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ответил утвердительно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1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Вопрос: «Что танцует отец с дочерью в рассказе Л.Н. Толстого «После бала»?»: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31 человек - что вальс,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15 человек – мазурка,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2 – затруднились ответить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100" spc="-1" strike="noStrike">
                <a:solidFill>
                  <a:srgbClr val="2a5010"/>
                </a:solidFill>
                <a:latin typeface="Trebuchet MS"/>
              </a:rPr>
              <a:t>15 человек внимательно читали произведение, правильный ответ – мазурка!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Вопрос: «Хотели бы вы оказаться на настоящем балу, и станцевать старинный бальный танец?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практически все ответили утвердительно,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4 девушки добавили, что дважды принимали участие в старинном танце на городском балу в доме культуры «Горизонт»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240" y="5013360"/>
            <a:ext cx="85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Бывают моменты, когда простое достоинство         </a:t>
            </a:r>
            <a:br>
              <a:rPr sz="2400"/>
            </a:b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движения заменяет целые тома слов. </a:t>
            </a:r>
            <a:r>
              <a:rPr b="0" lang="ru-RU" sz="2400" spc="-1" strike="noStrike">
                <a:solidFill>
                  <a:srgbClr val="2a5010"/>
                </a:solidFill>
                <a:latin typeface="Arial Black"/>
              </a:rPr>
              <a:t>                                          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2a5010"/>
                </a:solidFill>
                <a:latin typeface="Arial Black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Дорис Хамфри</a:t>
            </a: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.</a:t>
            </a:r>
            <a:r>
              <a:rPr b="0" lang="ru-RU" sz="2400" spc="-1" strike="noStrike">
                <a:solidFill>
                  <a:srgbClr val="2a501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7" name="Picture 6" descr="http://art-dot.ru/wp-content/uploads/2013/05/alexeidelyamine3.jpg"/>
          <p:cNvPicPr/>
          <p:nvPr/>
        </p:nvPicPr>
        <p:blipFill>
          <a:blip r:embed="rId1"/>
          <a:stretch/>
        </p:blipFill>
        <p:spPr>
          <a:xfrm>
            <a:off x="755640" y="189000"/>
            <a:ext cx="6624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Вопрос: «Хотели бы вы оказаться на настоящем балу, и танцевать старинный бальный танец?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практически все ответили утвердительно,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4 девушки добавили, что дважды принимали участие в старинном танце на городском балу в доме культуры «Горизонт»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МАРИНА\РАБОТА 14-15\Сохранение\Бал\DSCN7008.JPG"/>
          <p:cNvPicPr/>
          <p:nvPr/>
        </p:nvPicPr>
        <p:blipFill>
          <a:blip r:embed="rId2"/>
          <a:stretch/>
        </p:blipFill>
        <p:spPr>
          <a:xfrm>
            <a:off x="4716360" y="981000"/>
            <a:ext cx="3899160" cy="2924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E:\литературный бал\DSC04574.JPG"/>
          <p:cNvPicPr/>
          <p:nvPr/>
        </p:nvPicPr>
        <p:blipFill>
          <a:blip r:embed="rId3"/>
          <a:stretch/>
        </p:blipFill>
        <p:spPr>
          <a:xfrm>
            <a:off x="4465800" y="3500280"/>
            <a:ext cx="4678200" cy="311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4"/>
          <a:stretch/>
        </p:blipFill>
        <p:spPr>
          <a:xfrm>
            <a:off x="0" y="400536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5300640"/>
            <a:ext cx="59403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f7819"/>
                </a:solidFill>
                <a:latin typeface="Georgia"/>
              </a:rPr>
              <a:t>Танец – отличный способ раскрытия художественного образа литературных героев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2" descr="http://static.ozone.ru/multimedia/books_covers/1008803535.jpg"/>
          <p:cNvPicPr/>
          <p:nvPr/>
        </p:nvPicPr>
        <p:blipFill>
          <a:blip r:embed="rId1"/>
          <a:stretch/>
        </p:blipFill>
        <p:spPr>
          <a:xfrm>
            <a:off x="0" y="476280"/>
            <a:ext cx="4005360" cy="4005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img.1tvrus.com/2015-07-20/fmt_89_24_14373848268.jpg"/>
          <p:cNvPicPr/>
          <p:nvPr/>
        </p:nvPicPr>
        <p:blipFill>
          <a:blip r:embed="rId2"/>
          <a:stretch/>
        </p:blipFill>
        <p:spPr>
          <a:xfrm>
            <a:off x="4140360" y="1268280"/>
            <a:ext cx="2663640" cy="364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actuall.ru/images/cover_large/25000369482.jpg"/>
          <p:cNvPicPr/>
          <p:nvPr/>
        </p:nvPicPr>
        <p:blipFill>
          <a:blip r:embed="rId3"/>
          <a:stretch/>
        </p:blipFill>
        <p:spPr>
          <a:xfrm>
            <a:off x="6588000" y="3098880"/>
            <a:ext cx="2556000" cy="3759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books.moda/sites/books.moda/files/prd_img/15/10/06/dl_image_10979.jpg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Цель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доказать, что исполнение танцев героями на страницах русской литературы, является важным сюжетным элементом реализующим авторский замысел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3" descr="C:\Documents and Settings\Админ\Рабочий стол\НПК танцы и литература\война и мир.jpg"/>
          <p:cNvPicPr/>
          <p:nvPr/>
        </p:nvPicPr>
        <p:blipFill>
          <a:blip r:embed="rId1"/>
          <a:stretch/>
        </p:blipFill>
        <p:spPr>
          <a:xfrm>
            <a:off x="1042920" y="3860640"/>
            <a:ext cx="48974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2a5010"/>
                </a:solidFill>
                <a:latin typeface="Arial Black"/>
              </a:rPr>
              <a:t>Задачи: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Показать разнообразность танцев, описанных в структуре русской литературы, описать их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Выявить какую роль играет танец в произведениях А.С. Пушкина «Евгений Онегин», Л. Н. Толстого «После бала»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Оформить наглядный словарь «Танцы в литературе»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Найти видеосюжеты историко-бытовых танцев, просмотреть и оформить наглядный диск 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Объект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танец на страницах книг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Предмет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танец, как средство изображения героев в русских литературных произведениях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C:\Documents and Settings\Админ\Рабочий стол\НПК танцы и литература\ма3урка 1.jpg"/>
          <p:cNvPicPr/>
          <p:nvPr/>
        </p:nvPicPr>
        <p:blipFill>
          <a:blip r:embed="rId1"/>
          <a:stretch/>
        </p:blipFill>
        <p:spPr>
          <a:xfrm>
            <a:off x="1187280" y="3933720"/>
            <a:ext cx="3816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етоды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сторический метод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зучение литературы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кетирование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ализ полученных результатов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етоды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сторический метод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зучение литературы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кетирование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ализ полученных результатов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азурка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C:\Documents and Settings\Админ\Рабочий стол\НПК танцы и литература\ма3урка 1.jpg"/>
          <p:cNvPicPr/>
          <p:nvPr/>
        </p:nvPicPr>
        <p:blipFill>
          <a:blip r:embed="rId1"/>
          <a:stretch/>
        </p:blipFill>
        <p:spPr>
          <a:xfrm>
            <a:off x="468360" y="836640"/>
            <a:ext cx="7365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20:09:26Z</dcterms:created>
  <dc:creator>Admin</dc:creator>
  <dc:description/>
  <dc:language>en-US</dc:language>
  <cp:lastModifiedBy>Админ</cp:lastModifiedBy>
  <dcterms:modified xsi:type="dcterms:W3CDTF">2017-01-15T09:36:10Z</dcterms:modified>
  <cp:revision>23</cp:revision>
  <dc:subject/>
  <dc:title>Слайд 1</dc:title>
</cp:coreProperties>
</file>