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354-54B0-4E3D-BAF2-67780D3C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751-0D12-4079-96C8-F4147114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BE8F-1825-48F7-ACE5-2F400D850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322-9627-4683-ACED-5244FEF2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8C22-DB74-4F09-8CBD-BC66CF80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D315-C085-451F-A259-8FE8912F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CDCA-9E46-4ABF-A35B-51C08DA9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8855-BD39-4CB0-8C70-B59F99B1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9D7C-EAB7-46B5-B905-9F5EF2F8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A4CA-8998-4DB1-91CE-40624ADB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D6C6-C59F-4E35-BDB8-562977EE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73E-A988-4ECF-B1BE-7B8C4C261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BF6E-1474-4FBE-9B23-9D1EE812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DF1B-BE73-46AF-8B70-764A732B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E712-980A-4C8B-A2EA-D2650A03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EACA-C4FC-42F3-92D3-86815C99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D023-6CEC-44FF-A055-47295BC8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9A59-252E-4A31-8E9C-00229D29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369A0-33DC-4DE2-8131-49529DA6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D31B-3CE7-4FA4-85DC-25335467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16637-1E94-403B-AC2D-3FC3277C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4B98-41D6-4EAB-9EB1-7C176E32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75E3-AE5B-41B3-8E7D-978FB147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D318-ECC6-40A9-A47D-2106626C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3841-9783-45CB-B641-F3B0C03C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1C9AA-7213-4F86-95A3-67828A66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3C40A-0902-4B29-ADAC-92DC0D44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1483D-1AB6-44D1-A052-BC5CBA12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DA0FB-E22D-4331-8AC8-9D7CEBF92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E01AC-72F1-4759-B68D-253AF544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DB9B9-B0B9-4E4F-97AC-B46AADA1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5B084-9926-4837-8647-CEDABB15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93BFE-9A7F-4970-B704-BF83B7DB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985-E68B-4614-9958-2B729D9D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9C439-6C75-4589-8FB0-672BD0A6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558A-7C17-450C-AB3E-D1EE77A4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E5B4-CF46-4D1B-9576-06615968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A30F2-F64A-460E-98B7-825A3CB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22904-E616-4984-8A96-BDA7AF24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9AD57-A14D-44F5-8264-EC2F004C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3324A-BA61-4E28-9F13-B622C1BF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65C5C-73E2-46E8-9F75-ABCA72C7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67C97-C0B0-4916-A53F-807A47A85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307-0001-4580-9895-279C6579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DDD3-383E-48FF-944B-7A997ACB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074-CF12-408B-83C4-033ED759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0C0-1287-49B1-87E5-0F5CF17C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766-E64B-444E-832F-37111B65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C772-877F-4510-9800-5C5F4345323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5AD5-D2D7-4C22-927C-E992100C1C3F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8126-9F90-48A1-B03E-5D368E4EA816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31E7-3BFF-4A11-9EAD-1EEEA23DFA6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560" y="2133720"/>
            <a:ext cx="7993080" cy="107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2a5010"/>
                </a:solidFill>
                <a:latin typeface="Georgia"/>
              </a:rPr>
              <a:t>«Танец чере</a:t>
            </a:r>
            <a:r>
              <a:rPr b="1" lang="ru-RU" sz="5400" spc="-1" strike="noStrike">
                <a:solidFill>
                  <a:srgbClr val="2a5010"/>
                </a:solidFill>
                <a:latin typeface="Georgia"/>
              </a:rPr>
              <a:t>з</a:t>
            </a:r>
            <a:r>
              <a:rPr b="1" lang="ru-RU" sz="5400" spc="-1" strike="noStrike">
                <a:solidFill>
                  <a:srgbClr val="2a5010"/>
                </a:solidFill>
                <a:latin typeface="Georgia"/>
              </a:rPr>
              <a:t> слово»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716000" y="5300280"/>
            <a:ext cx="442764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2a5010"/>
                </a:solidFill>
                <a:latin typeface="Georgia"/>
              </a:rPr>
              <a:t>Автор: Антонова Наталья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2a5010"/>
                </a:solidFill>
                <a:latin typeface="Georgia"/>
              </a:rPr>
              <a:t>ученица 8Б класса МБОУ «СОШ № 10»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2a5010"/>
                </a:solidFill>
                <a:latin typeface="Georgia"/>
              </a:rPr>
              <a:t>Руководитель: Кутузова М. А.,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500" spc="-1" strike="noStrike">
                <a:solidFill>
                  <a:srgbClr val="2a5010"/>
                </a:solidFill>
                <a:latin typeface="Georgia"/>
              </a:rPr>
              <a:t>Педагог дополнительного образования</a:t>
            </a: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4" name="Picture 7" descr="http://s006.radikal.ru/i213/1402/ab/2e9f26255ce4.jpg"/>
          <p:cNvPicPr/>
          <p:nvPr/>
        </p:nvPicPr>
        <p:blipFill>
          <a:blip r:embed="rId1"/>
          <a:stretch/>
        </p:blipFill>
        <p:spPr>
          <a:xfrm>
            <a:off x="307800" y="3929040"/>
            <a:ext cx="4270680" cy="2643120"/>
          </a:xfrm>
          <a:prstGeom prst="rect">
            <a:avLst/>
          </a:prstGeom>
          <a:ln w="0">
            <a:noFill/>
          </a:ln>
        </p:spPr>
      </p:pic>
      <p:sp>
        <p:nvSpPr>
          <p:cNvPr id="215" name="Заголовок 3"/>
          <p:cNvSpPr/>
          <p:nvPr/>
        </p:nvSpPr>
        <p:spPr>
          <a:xfrm>
            <a:off x="468360" y="0"/>
            <a:ext cx="755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a5010"/>
                </a:solidFill>
                <a:latin typeface="Georgia"/>
              </a:rPr>
              <a:t>Городская научно-практическ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2a5010"/>
                </a:solidFill>
                <a:latin typeface="Georgia"/>
              </a:rPr>
              <a:t>«Знание – нравственная сила, Юниор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Полонез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C:\Documents and Settings\Админ\Рабочий стол\НПК танцы и литература\полоне3.jpg"/>
          <p:cNvPicPr/>
          <p:nvPr/>
        </p:nvPicPr>
        <p:blipFill>
          <a:blip r:embed="rId1"/>
          <a:stretch/>
        </p:blipFill>
        <p:spPr>
          <a:xfrm>
            <a:off x="539640" y="1197000"/>
            <a:ext cx="666756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Кадриль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5" name="Picture 2" descr="C:\Documents and Settings\Админ\Рабочий стол\НПК танцы и литература\стар танец.jpg"/>
          <p:cNvPicPr/>
          <p:nvPr/>
        </p:nvPicPr>
        <p:blipFill>
          <a:blip r:embed="rId1"/>
          <a:stretch/>
        </p:blipFill>
        <p:spPr>
          <a:xfrm>
            <a:off x="1258920" y="907920"/>
            <a:ext cx="5100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Вальс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2" descr="C:\Documents and Settings\Админ\Рабочий стол\НПК танцы и литература\менуэт.jpg"/>
          <p:cNvPicPr/>
          <p:nvPr/>
        </p:nvPicPr>
        <p:blipFill>
          <a:blip r:embed="rId1"/>
          <a:stretch/>
        </p:blipFill>
        <p:spPr>
          <a:xfrm>
            <a:off x="1116000" y="1628640"/>
            <a:ext cx="57405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Анализ рассказа Л.Н. Толстого «После бала» и романа А.С. Пушкина «Евгений Онегин»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Picture 4" descr="http://img.1tvrus.com/2015-07-20/fmt_89_24_14373848268.jpg"/>
          <p:cNvPicPr/>
          <p:nvPr/>
        </p:nvPicPr>
        <p:blipFill>
          <a:blip r:embed="rId1"/>
          <a:stretch/>
        </p:blipFill>
        <p:spPr>
          <a:xfrm>
            <a:off x="611280" y="2492280"/>
            <a:ext cx="2952720" cy="40402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" descr=""/>
          <p:cNvPicPr/>
          <p:nvPr/>
        </p:nvPicPr>
        <p:blipFill>
          <a:blip r:embed="rId2"/>
          <a:stretch/>
        </p:blipFill>
        <p:spPr>
          <a:xfrm>
            <a:off x="4211640" y="2637000"/>
            <a:ext cx="262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13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000" spc="-1" strike="noStrike">
                <a:solidFill>
                  <a:srgbClr val="2a5010"/>
                </a:solidFill>
                <a:latin typeface="Arial Black"/>
              </a:rPr>
              <a:t>Выводы после анализа литературы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000" spc="-1" strike="noStrike">
                <a:solidFill>
                  <a:srgbClr val="2a5010"/>
                </a:solidFill>
                <a:latin typeface="Trebuchet MS"/>
              </a:rPr>
              <a:t>с помощью танца можно эффектно и понятно описать главных героев, более ярко раскрыть их характер, дать читателю сделать самостоятельный вывод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000" spc="-1" strike="noStrike">
                <a:solidFill>
                  <a:srgbClr val="2a5010"/>
                </a:solidFill>
                <a:latin typeface="Trebuchet MS"/>
              </a:rPr>
              <a:t>именно во время исполнения танца можно наметить новый поворот в сюжете, изменить замысел, добавить интересные сцены и события, создать художественный образ;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000" spc="-1" strike="noStrike">
                <a:solidFill>
                  <a:srgbClr val="2a5010"/>
                </a:solidFill>
                <a:latin typeface="Trebuchet MS"/>
              </a:rPr>
              <a:t>личное мнение автора легче всего выразить в сценах описания танца. Истинным знатоком танцев из рассмотренных произведений считаю А.С. Пушкина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6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000" spc="-1" strike="noStrike">
                <a:solidFill>
                  <a:srgbClr val="2a5010"/>
                </a:solidFill>
                <a:latin typeface="Trebuchet MS"/>
              </a:rPr>
              <a:t>Именно во время танца мы замечаем то, на что раньше не обращали внимания, потому что «танец – это тайный язык души»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7956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3f7819"/>
                </a:solidFill>
                <a:latin typeface="Trebuchet MS"/>
              </a:rPr>
              <a:t>респонденты помнят литературные произведения, где есть описания танцев или балов; знают названия исторических танцев но, к сожалению, только по произведениям школьной программы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Диаграмма 4" descr=""/>
          <p:cNvPicPr/>
          <p:nvPr/>
        </p:nvPicPr>
        <p:blipFill>
          <a:blip r:embed="rId1"/>
          <a:stretch/>
        </p:blipFill>
        <p:spPr>
          <a:xfrm>
            <a:off x="272880" y="2946240"/>
            <a:ext cx="81662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танцы которые помнят помните из романа А.С. Пушкин «Евгений Онегин»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Диаграмма 2" descr=""/>
          <p:cNvPicPr/>
          <p:nvPr/>
        </p:nvPicPr>
        <p:blipFill>
          <a:blip r:embed="rId1"/>
          <a:stretch/>
        </p:blipFill>
        <p:spPr>
          <a:xfrm>
            <a:off x="-50760" y="2225520"/>
            <a:ext cx="787860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0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400" spc="-1" strike="noStrike">
                <a:solidFill>
                  <a:srgbClr val="2a5010"/>
                </a:solidFill>
                <a:latin typeface="Trebuchet MS"/>
              </a:rPr>
              <a:t>«Танцуют ли герои поэмы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400" spc="-1" strike="noStrike">
                <a:solidFill>
                  <a:srgbClr val="2a5010"/>
                </a:solidFill>
                <a:latin typeface="Trebuchet MS"/>
              </a:rPr>
              <a:t>Н.В. Гоголя «Мертвые души»»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400" spc="-1" strike="noStrike">
                <a:solidFill>
                  <a:srgbClr val="2a5010"/>
                </a:solidFill>
                <a:latin typeface="Trebuchet MS"/>
              </a:rPr>
              <a:t>41 респондент и 48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400" spc="-1" strike="noStrike">
                <a:solidFill>
                  <a:srgbClr val="2a5010"/>
                </a:solidFill>
                <a:latin typeface="Trebuchet MS"/>
              </a:rPr>
              <a:t>ответил утвердительно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0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1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700" spc="-1" strike="noStrike">
                <a:solidFill>
                  <a:srgbClr val="2a5010"/>
                </a:solidFill>
                <a:latin typeface="Trebuchet MS"/>
              </a:rPr>
              <a:t>Вопрос: «Что танцует отец с дочерью в рассказе Л.Н. Толстого «После бала»?»: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700" spc="-1" strike="noStrike">
                <a:solidFill>
                  <a:srgbClr val="2a5010"/>
                </a:solidFill>
                <a:latin typeface="Trebuchet MS"/>
              </a:rPr>
              <a:t>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700" spc="-1" strike="noStrike">
                <a:solidFill>
                  <a:srgbClr val="2a5010"/>
                </a:solidFill>
                <a:latin typeface="Trebuchet MS"/>
              </a:rPr>
              <a:t>31 человек - что вальс,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700" spc="-1" strike="noStrike">
                <a:solidFill>
                  <a:srgbClr val="2a5010"/>
                </a:solidFill>
                <a:latin typeface="Trebuchet MS"/>
              </a:rPr>
              <a:t>15 человек – мазурка,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700" spc="-1" strike="noStrike">
                <a:solidFill>
                  <a:srgbClr val="2a5010"/>
                </a:solidFill>
                <a:latin typeface="Trebuchet MS"/>
              </a:rPr>
              <a:t>2 – затруднились ответить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100" spc="-1" strike="noStrike">
                <a:solidFill>
                  <a:srgbClr val="2a5010"/>
                </a:solidFill>
                <a:latin typeface="Trebuchet MS"/>
              </a:rPr>
              <a:t>15 человек внимательно читали произведение, правильный ответ – мазурка!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0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Вопрос: «Хотели бы вы оказаться на настоящем балу, и станцевать старинный бальный танец?»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 </a:t>
            </a: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практически все ответили утвердительно, 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4 девушки добавили, что дважды принимали участие в старинном танце на городском балу в доме культуры «Горизонт».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240" y="5013360"/>
            <a:ext cx="8532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a5010"/>
                </a:solidFill>
                <a:latin typeface="Arial Black"/>
              </a:rPr>
              <a:t>Бывают моменты, когда простое достоинство         </a:t>
            </a:r>
            <a:br>
              <a:rPr sz="2400"/>
            </a:br>
            <a:r>
              <a:rPr b="1" lang="ru-RU" sz="2400" spc="-1" strike="noStrike">
                <a:solidFill>
                  <a:srgbClr val="2a5010"/>
                </a:solidFill>
                <a:latin typeface="Arial Black"/>
              </a:rPr>
              <a:t>движения заменяет целые тома слов. </a:t>
            </a:r>
            <a:r>
              <a:rPr b="0" lang="ru-RU" sz="2400" spc="-1" strike="noStrike">
                <a:solidFill>
                  <a:srgbClr val="2a5010"/>
                </a:solidFill>
                <a:latin typeface="Arial Black"/>
              </a:rPr>
              <a:t>                                                                                                       </a:t>
            </a:r>
            <a:br>
              <a:rPr sz="2400"/>
            </a:br>
            <a:r>
              <a:rPr b="0" lang="ru-RU" sz="2400" spc="-1" strike="noStrike">
                <a:solidFill>
                  <a:srgbClr val="2a5010"/>
                </a:solidFill>
                <a:latin typeface="Arial Black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2a5010"/>
                </a:solidFill>
                <a:latin typeface="Arial Black"/>
              </a:rPr>
              <a:t>Дорис Хамфри</a:t>
            </a:r>
            <a:r>
              <a:rPr b="1" lang="ru-RU" sz="2400" spc="-1" strike="noStrike">
                <a:solidFill>
                  <a:srgbClr val="2a5010"/>
                </a:solidFill>
                <a:latin typeface="Arial Black"/>
              </a:rPr>
              <a:t>.</a:t>
            </a:r>
            <a:r>
              <a:rPr b="0" lang="ru-RU" sz="2400" spc="-1" strike="noStrike">
                <a:solidFill>
                  <a:srgbClr val="2a501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7" name="Picture 6" descr="http://art-dot.ru/wp-content/uploads/2013/05/alexeidelyamine3.jpg"/>
          <p:cNvPicPr/>
          <p:nvPr/>
        </p:nvPicPr>
        <p:blipFill>
          <a:blip r:embed="rId1"/>
          <a:stretch/>
        </p:blipFill>
        <p:spPr>
          <a:xfrm>
            <a:off x="755640" y="189000"/>
            <a:ext cx="6624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0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Вопрос: «Хотели бы вы оказаться на настоящем балу, и танцевать старинный бальный танец?»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 </a:t>
            </a: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практически все ответили утвердительно, 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500" spc="-1" strike="noStrike">
                <a:solidFill>
                  <a:srgbClr val="2a5010"/>
                </a:solidFill>
                <a:latin typeface="Trebuchet MS"/>
              </a:rPr>
              <a:t>4 девушки добавили, что дважды принимали участие в старинном танце на городском балу в доме культуры «Горизонт».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-360" y="333000"/>
            <a:ext cx="8604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4800" spc="-1" strike="noStrike">
                <a:solidFill>
                  <a:srgbClr val="2a5010"/>
                </a:solidFill>
                <a:latin typeface="Arial Black"/>
              </a:rPr>
              <a:t>Результаты опроса: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D:\МАРИНА\РАБОТА 14-15\Сохранение\Бал\DSCN7008.JPG"/>
          <p:cNvPicPr/>
          <p:nvPr/>
        </p:nvPicPr>
        <p:blipFill>
          <a:blip r:embed="rId2"/>
          <a:stretch/>
        </p:blipFill>
        <p:spPr>
          <a:xfrm>
            <a:off x="4716360" y="981000"/>
            <a:ext cx="3899160" cy="2924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E:\литературный бал\DSC04574.JPG"/>
          <p:cNvPicPr/>
          <p:nvPr/>
        </p:nvPicPr>
        <p:blipFill>
          <a:blip r:embed="rId3"/>
          <a:stretch/>
        </p:blipFill>
        <p:spPr>
          <a:xfrm>
            <a:off x="4465800" y="3500280"/>
            <a:ext cx="4678200" cy="3114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4"/>
          <a:stretch/>
        </p:blipFill>
        <p:spPr>
          <a:xfrm>
            <a:off x="0" y="4005360"/>
            <a:ext cx="42847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5300640"/>
            <a:ext cx="594036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f7819"/>
                </a:solidFill>
                <a:latin typeface="Georgia"/>
              </a:rPr>
              <a:t>Танец – отличный способ раскрытия художественного образа литературных героев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Picture 2" descr="http://static.ozone.ru/multimedia/books_covers/1008803535.jpg"/>
          <p:cNvPicPr/>
          <p:nvPr/>
        </p:nvPicPr>
        <p:blipFill>
          <a:blip r:embed="rId1"/>
          <a:stretch/>
        </p:blipFill>
        <p:spPr>
          <a:xfrm>
            <a:off x="0" y="476280"/>
            <a:ext cx="4005360" cy="4005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://img.1tvrus.com/2015-07-20/fmt_89_24_14373848268.jpg"/>
          <p:cNvPicPr/>
          <p:nvPr/>
        </p:nvPicPr>
        <p:blipFill>
          <a:blip r:embed="rId2"/>
          <a:stretch/>
        </p:blipFill>
        <p:spPr>
          <a:xfrm>
            <a:off x="4140360" y="1268280"/>
            <a:ext cx="2663640" cy="3645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http://actuall.ru/images/cover_large/25000369482.jpg"/>
          <p:cNvPicPr/>
          <p:nvPr/>
        </p:nvPicPr>
        <p:blipFill>
          <a:blip r:embed="rId3"/>
          <a:stretch/>
        </p:blipFill>
        <p:spPr>
          <a:xfrm>
            <a:off x="6588000" y="3098880"/>
            <a:ext cx="2556000" cy="37591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books.moda/sites/books.moda/files/prd_img/15/10/06/dl_image_10979.jpg"/>
          <p:cNvPicPr/>
          <p:nvPr/>
        </p:nvPicPr>
        <p:blipFill>
          <a:blip r:embed="rId4"/>
          <a:stretch/>
        </p:blipFill>
        <p:spPr>
          <a:xfrm>
            <a:off x="7020000" y="0"/>
            <a:ext cx="212400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826560" y="188640"/>
            <a:ext cx="71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Цель: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Trebuchet MS"/>
              </a:rPr>
              <a:t>доказать, что исполнение танцев героями на страницах русской литературы, является важным сюжетным элементом реализующим авторский замысел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Picture 3" descr="C:\Documents and Settings\Админ\Рабочий стол\НПК танцы и литература\война и мир.jpg"/>
          <p:cNvPicPr/>
          <p:nvPr/>
        </p:nvPicPr>
        <p:blipFill>
          <a:blip r:embed="rId1"/>
          <a:stretch/>
        </p:blipFill>
        <p:spPr>
          <a:xfrm>
            <a:off x="1042920" y="3860640"/>
            <a:ext cx="489744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826560" y="188640"/>
            <a:ext cx="71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300" spc="-1" strike="noStrike">
                <a:solidFill>
                  <a:srgbClr val="2a5010"/>
                </a:solidFill>
                <a:latin typeface="Arial Black"/>
              </a:rPr>
              <a:t>Задачи: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300" spc="-1" strike="noStrike">
                <a:solidFill>
                  <a:srgbClr val="3f7819"/>
                </a:solidFill>
                <a:latin typeface="Trebuchet MS"/>
              </a:rPr>
              <a:t>Показать разнообразность танцев, описанных в структуре русской литературы, описать их;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300" spc="-1" strike="noStrike">
                <a:solidFill>
                  <a:srgbClr val="3f7819"/>
                </a:solidFill>
                <a:latin typeface="Trebuchet MS"/>
              </a:rPr>
              <a:t>Выявить какую роль играет танец в произведениях А.С. Пушкина «Евгений Онегин», Л. Н. Толстого «После бала»;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300" spc="-1" strike="noStrike">
                <a:solidFill>
                  <a:srgbClr val="3f7819"/>
                </a:solidFill>
                <a:latin typeface="Trebuchet MS"/>
              </a:rPr>
              <a:t>Оформить наглядный словарь «Танцы в литературе»;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300" spc="-1" strike="noStrike">
                <a:solidFill>
                  <a:srgbClr val="3f7819"/>
                </a:solidFill>
                <a:latin typeface="Trebuchet MS"/>
              </a:rPr>
              <a:t>Найти видеосюжеты историко-бытовых танцев, просмотреть и оформить наглядный диск 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826560" y="188640"/>
            <a:ext cx="7129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Объект: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танец на страницах книг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Предмет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танец, как средство изображения героев в русских литературных произведениях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Picture 2" descr="C:\Documents and Settings\Админ\Рабочий стол\НПК танцы и литература\ма3урка 1.jpg"/>
          <p:cNvPicPr/>
          <p:nvPr/>
        </p:nvPicPr>
        <p:blipFill>
          <a:blip r:embed="rId1"/>
          <a:stretch/>
        </p:blipFill>
        <p:spPr>
          <a:xfrm>
            <a:off x="1187280" y="3933720"/>
            <a:ext cx="38163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Методы: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Исторический метод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Изучение литературы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Анкетирование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Анализ полученных результатов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Методы: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Исторический метод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Изучение литературы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Анкетирование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Анализ полученных результатов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611280" y="259920"/>
            <a:ext cx="712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600" spc="-1" strike="noStrike">
                <a:solidFill>
                  <a:srgbClr val="2a5010"/>
                </a:solidFill>
                <a:latin typeface="Arial Black"/>
              </a:rPr>
              <a:t>Мазурка: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1" name="Picture 2" descr="C:\Documents and Settings\Админ\Рабочий стол\НПК танцы и литература\ма3урка 1.jpg"/>
          <p:cNvPicPr/>
          <p:nvPr/>
        </p:nvPicPr>
        <p:blipFill>
          <a:blip r:embed="rId1"/>
          <a:stretch/>
        </p:blipFill>
        <p:spPr>
          <a:xfrm>
            <a:off x="468360" y="836640"/>
            <a:ext cx="736596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20:09:26Z</dcterms:created>
  <dc:creator>Admin</dc:creator>
  <dc:description/>
  <dc:language>en-US</dc:language>
  <cp:lastModifiedBy>Админ</cp:lastModifiedBy>
  <dcterms:modified xsi:type="dcterms:W3CDTF">2017-01-15T09:36:10Z</dcterms:modified>
  <cp:revision>23</cp:revision>
  <dc:subject/>
  <dc:title>Слайд 1</dc:title>
</cp:coreProperties>
</file>