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C63B-2690-4AD0-8CE5-2FB811FB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391A-D4EA-4896-972E-93A6CE77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B049-182A-40B0-85FD-6EA2AC07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35DB-7A30-47BD-9408-79419F22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4306-87A5-4E85-BD9E-9CC0309EE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8EE9-DAA1-47BC-8F14-7647412B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BB86-A029-4219-B4B3-CCE28E69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F6B8-77B8-4BAA-B965-1DC2A064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B391-D311-430D-A23E-902BCA38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0D4B-D3CE-4BE8-A6A2-42E0477A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14BA-8ED9-434D-80DB-F718DFBD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20A2-EE3C-4FB4-979E-8C5F4CA3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55FF-07F0-428B-8519-84D6133F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5396-C061-4C58-B291-F2FDC90D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A87D-B5FD-41D8-9660-40E77AC4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3681-D5E2-427C-BE13-BDD704D36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1769-6210-4A98-BF4F-E9A2BD50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E891-ABCC-46D2-B584-BE5AEBE2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12AB-A8CD-4A6C-90DD-BADD50A2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05E0-06EF-48C8-93D4-B1B826A3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B08A-0B45-4731-BC07-55C1DB84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214E-B982-47D5-A31D-9B52474B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0ADA-0927-49F1-B327-E88113E0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0A9A-BCEB-406A-B0C0-5073B2F0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Rectangle 3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cc3399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cc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Group 12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Freeform 13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3" name="Freeform 15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4" name="Freeform 16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B2D6-DA39-4BCA-90A7-3B850A5ACD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Rectangle 3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cc3399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0" name="Rectangle 4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cc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91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3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6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7" name="Group 11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Group 12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Freeform 13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0" name="Freeform 14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1" name="Freeform 15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2" name="Freeform 16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3" name="Line 17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4" name="Freeform 18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5" name="Freeform 19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6" name="Freeform 20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7" name="Freeform 21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8" name="Freeform 22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9" name="Freeform 23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0" name="Freeform 24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1" name="Freeform 25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2" name="Freeform 26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3" name="Freeform 27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4" name="Freeform 28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5" name="Freeform 29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6" name="Freeform 30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117" name="Freeform 31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8" name="Freeform 32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9" name="Freeform 33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0" name="Freeform 34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1" name="Line 35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2" name="Freeform 36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3" name="Freeform 37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4" name="Freeform 38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5" name="Freeform 39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6" name="Freeform 40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7" name="Freeform 41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8" name="Freeform 42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9" name="Freeform 43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0" name="Freeform 44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1" name="Freeform 45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2" name="Freeform 46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3" name="Freeform 47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4" name="Freeform 48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6F0D-4E8F-4DAB-B457-1314A79A5F5A}" type="slidenum"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all-sbor.net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280" y="328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История возникновения праздника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«Татьянин день»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8208720" cy="549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"...Установление оного университета в Москве тем способнее будет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великое число в ней живущих дворян и разночинцев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положение оной среди Российского государства, куда из округ лежащих мест способно приехать можно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содержание всякого не стоит многого иждивения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почти всякой у себя имеет родственников или знакомых, где себя квартирою и пищею содержать может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великое число в Москве у помещиков на дорогом содержании учителей, из которых большая часть не токмо учить науке не могут, но и сами к тому никакого начала не имеют, и только чрез то младые лета учеников и лучшее время к учению пропадает, а за учение оным бесполезно великая плата дается...«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(Ломоносов</a:t>
            </a: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211280" y="1341360"/>
            <a:ext cx="432108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ШУВАЛОВ Иван Иванович (1727-97), российский государственный деятель, фаворит Елизаветы Петровны, генерал-адъютант (1760). Покровительствовал просвещению. 1-й куратор Московского университета, президент Академии художеств</a:t>
            </a: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0" y="765000"/>
            <a:ext cx="43560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440" y="5734080"/>
            <a:ext cx="380988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Елизавета Петровна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4643280" y="1341360"/>
            <a:ext cx="374364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 Cyr"/>
              </a:rPr>
              <a:t>12(25) января 1755 г. был подписан императрицей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 Cyr"/>
              </a:rPr>
              <a:t> </a:t>
            </a:r>
            <a:r>
              <a:rPr b="1" lang="ru-RU" sz="2400" spc="-1" strike="noStrike">
                <a:solidFill>
                  <a:srgbClr val="f8f8f8"/>
                </a:solidFill>
                <a:latin typeface="Times New Roman Cyr"/>
              </a:rPr>
              <a:t>Елизаветой Петровной Указ об открытии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 Cyr"/>
              </a:rPr>
              <a:t>в Москве 1-го российского университета</a:t>
            </a:r>
            <a:r>
              <a:rPr b="0" lang="ru-RU" sz="2400" spc="-1" strike="noStrike">
                <a:solidFill>
                  <a:srgbClr val="f8f8f8"/>
                </a:solidFill>
                <a:latin typeface="Times New Roman Cyr"/>
              </a:rPr>
              <a:t>.</a:t>
            </a:r>
            <a:r>
              <a:rPr b="1" lang="ru-RU" sz="2400" spc="-1" strike="noStrike">
                <a:solidFill>
                  <a:srgbClr val="f8f8f8"/>
                </a:solidFill>
                <a:latin typeface="Times New Roman Cyr"/>
              </a:rPr>
              <a:t> 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39531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i2?i=08af8fbca4"/>
          <p:cNvPicPr/>
          <p:nvPr/>
        </p:nvPicPr>
        <p:blipFill>
          <a:blip r:embed="rId1"/>
          <a:stretch/>
        </p:blipFill>
        <p:spPr>
          <a:xfrm>
            <a:off x="250920" y="981000"/>
            <a:ext cx="4224240" cy="47516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178160" y="1341360"/>
            <a:ext cx="4965840" cy="38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Под университет определили трехэтажное здание, принадлежавшее Земскому Приказу на Красной площади. Дом отремонтировали и 26 апреля 1775 года приступили к занятиям.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4796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Домовая церковь Московского Университета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1" name="Picture 7" descr="419-1"/>
          <p:cNvPicPr/>
          <p:nvPr/>
        </p:nvPicPr>
        <p:blipFill>
          <a:blip r:embed="rId1"/>
          <a:stretch/>
        </p:blipFill>
        <p:spPr>
          <a:xfrm>
            <a:off x="324000" y="1052640"/>
            <a:ext cx="42955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219640" y="2286000"/>
            <a:ext cx="3238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Медаль на открытие Московского университета. 1775 г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47754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971280" y="4868640"/>
            <a:ext cx="3809880" cy="73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Главное здание МГУ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381024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Официальным университетским днем, отмечаемым молебном в университетской церкви, было 12 января. Но его называли не Татьяниным днем, а «днем основания Московского университета»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6" name="Picture 7" descr="280px-Moscow_State_University%2C_HDR"/>
          <p:cNvPicPr/>
          <p:nvPr/>
        </p:nvPicPr>
        <p:blipFill>
          <a:blip r:embed="rId1"/>
          <a:srcRect l="12148" t="0" r="8099" b="0"/>
          <a:stretch/>
        </p:blipFill>
        <p:spPr>
          <a:xfrm>
            <a:off x="826920" y="1268280"/>
            <a:ext cx="40323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066920" y="1197000"/>
            <a:ext cx="4606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Указ Николая I, где он распорядился праздновать не день открытия университета, а подписание акта о его учреждении. Так волей монарха появился студенческий праздник - Татьянин день и День студента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9495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076360" y="1413000"/>
            <a:ext cx="338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Татьянин день праздновался повсюду. Он объединял профессоров, студентов нынешних и “бывших” по всей России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10" name="Picture 4" descr="История возникновения праздника Татьянин день праздник студентов"/>
          <p:cNvPicPr/>
          <p:nvPr/>
        </p:nvPicPr>
        <p:blipFill>
          <a:blip r:embed="rId1"/>
          <a:stretch/>
        </p:blipFill>
        <p:spPr>
          <a:xfrm>
            <a:off x="826920" y="1557360"/>
            <a:ext cx="428148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Как отмечают свой праздник студенты в других странах?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24360" y="2286000"/>
            <a:ext cx="4533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У иностранных студентов нет особых традиций и обычаев празднования этого дня, но тем не менее: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Бельгийские студенты неравнодушны к любым студенческим праздникам. Успешное окончание сессии — хороший повод для встреч друзей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13" name="Picture 4" descr="i2?i=6647d48195"/>
          <p:cNvPicPr/>
          <p:nvPr/>
        </p:nvPicPr>
        <p:blipFill>
          <a:blip r:embed="rId1"/>
          <a:stretch/>
        </p:blipFill>
        <p:spPr>
          <a:xfrm>
            <a:off x="0" y="1817640"/>
            <a:ext cx="36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360" y="4797360"/>
            <a:ext cx="777384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Святая мученица Татиана родилась в древнем Риме от знатных родителей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78" name="Picture 7" descr="15810609_2358"/>
          <p:cNvPicPr/>
          <p:nvPr/>
        </p:nvPicPr>
        <p:blipFill>
          <a:blip r:embed="rId1"/>
          <a:stretch/>
        </p:blipFill>
        <p:spPr>
          <a:xfrm>
            <a:off x="1835280" y="620640"/>
            <a:ext cx="575928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ПРИМЕТЫ ТАТЬЯНИНОГО ДН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8f8f8"/>
                </a:solidFill>
                <a:latin typeface="Times New Roman"/>
              </a:rPr>
              <a:t>"Солнце красно заходит за лес - к колючему ветру". </a:t>
            </a:r>
            <a:br>
              <a:rPr sz="2800"/>
            </a:br>
            <a:r>
              <a:rPr b="0" i="1" lang="ru-RU" sz="2800" spc="-1" strike="noStrike">
                <a:solidFill>
                  <a:srgbClr val="f8f8f8"/>
                </a:solidFill>
                <a:latin typeface="Times New Roman"/>
              </a:rPr>
              <a:t>"Солнце поутру выглянуло, в полдень постояло над деревней - птицы по весне рано прилетят". </a:t>
            </a:r>
            <a:br>
              <a:rPr sz="2800"/>
            </a:br>
            <a:r>
              <a:rPr b="0" i="1" lang="ru-RU" sz="2800" spc="-1" strike="noStrike">
                <a:solidFill>
                  <a:srgbClr val="f8f8f8"/>
                </a:solidFill>
                <a:latin typeface="Times New Roman"/>
              </a:rPr>
              <a:t>"Снег на Татьянин день - быть летом частому дождичку". </a:t>
            </a:r>
            <a:br>
              <a:rPr sz="2800"/>
            </a:br>
            <a:r>
              <a:rPr b="0" i="1" lang="ru-RU" sz="2800" spc="-1" strike="noStrike">
                <a:solidFill>
                  <a:srgbClr val="f8f8f8"/>
                </a:solidFill>
                <a:latin typeface="Times New Roman"/>
              </a:rPr>
              <a:t>"На Татьяну проглянет солнышко - к раннему прилету птиц"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Источники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http://happy-year.narod.ru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http://slovo.odessa.ua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50035"/>
                </a:solidFill>
                <a:uFillTx/>
                <a:latin typeface="Times New Roman"/>
                <a:hlinkClick r:id="rId1"/>
              </a:rPr>
              <a:t>www.all-sbor.net</a:t>
            </a: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11280" y="5157360"/>
            <a:ext cx="777240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7000"/>
          </a:bodyPr>
          <a:p>
            <a:pPr marL="160920" indent="-160920">
              <a:lnSpc>
                <a:spcPct val="80000"/>
              </a:lnSpc>
              <a:spcBef>
                <a:spcPts val="2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160920" indent="-160920">
              <a:lnSpc>
                <a:spcPct val="80000"/>
              </a:lnSpc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На другой день неправедный судья, воссев на судилище, опять приказал привести на мучение святую Татиану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0" name="Picture 4" descr="tatiana5"/>
          <p:cNvPicPr/>
          <p:nvPr/>
        </p:nvPicPr>
        <p:blipFill>
          <a:blip r:embed="rId1"/>
          <a:stretch/>
        </p:blipFill>
        <p:spPr>
          <a:xfrm>
            <a:off x="2627280" y="476280"/>
            <a:ext cx="3824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5373360"/>
            <a:ext cx="799128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На утро святую Татиану привели в цирк и выпустили на нее страшного льва, чтобы он растерзал святую. Но лев  лег у ее ног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2" name="Picture 4" descr="08058131"/>
          <p:cNvPicPr/>
          <p:nvPr/>
        </p:nvPicPr>
        <p:blipFill>
          <a:blip r:embed="rId1"/>
          <a:stretch/>
        </p:blipFill>
        <p:spPr>
          <a:xfrm>
            <a:off x="1835280" y="692280"/>
            <a:ext cx="577836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779640" y="1699920"/>
            <a:ext cx="4678200" cy="47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Ее предали огню, но пламя стихло у ее ног. В конце концов, ее умертвили, но принудить отказаться от веры не смогли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4" name="Picture 4" descr="4"/>
          <p:cNvPicPr/>
          <p:nvPr/>
        </p:nvPicPr>
        <p:blipFill>
          <a:blip r:embed="rId1"/>
          <a:stretch/>
        </p:blipFill>
        <p:spPr>
          <a:xfrm>
            <a:off x="250920" y="981000"/>
            <a:ext cx="3684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7" descr="180px-Saint_Tatiana"/>
          <p:cNvPicPr/>
          <p:nvPr/>
        </p:nvPicPr>
        <p:blipFill>
          <a:blip r:embed="rId1"/>
          <a:stretch/>
        </p:blipFill>
        <p:spPr>
          <a:xfrm>
            <a:off x="584280" y="1125360"/>
            <a:ext cx="3773520" cy="547236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42920" y="2286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Икона Святой Татианы — покровительница российского студенчества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836640"/>
            <a:ext cx="7772400" cy="556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Огромный зал бурлит, как кратер,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терты сословные межи,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И вспоминают alma-mater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едобородые мужи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Тут все равны. У всех во взоре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Веселье. Блещет яркость лент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И Gaudeamus в общем хоре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Поют профессор и студент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Воспоминаньем каждый ранен,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реди чужих людей одни, -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Пришельцы, снова в день Татьянин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ошлись, как там в былые дни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284720" y="1125360"/>
            <a:ext cx="42480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12 января (25 января по новому стилю) 1724 года Петром Великим была основана Российская Академия Наук в Санкт-Петербурге. А через год при Академии открылся Санкт-Петербургский Академический Университет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9" name="Picture 7" descr="9N0487"/>
          <p:cNvPicPr/>
          <p:nvPr/>
        </p:nvPicPr>
        <p:blipFill>
          <a:blip r:embed="rId1"/>
          <a:stretch/>
        </p:blipFill>
        <p:spPr>
          <a:xfrm>
            <a:off x="0" y="1125360"/>
            <a:ext cx="41148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355640" y="2286000"/>
            <a:ext cx="410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М.В. Ломоносов оказал влияние на то, что университет открылся в Москве, а не в Петербурге или каком другом городе России.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39369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7:38:04Z</dcterms:created>
  <dc:creator>User</dc:creator>
  <dc:description/>
  <dc:language>en-US</dc:language>
  <cp:lastModifiedBy>user</cp:lastModifiedBy>
  <dcterms:modified xsi:type="dcterms:W3CDTF">2015-12-08T08:55:29Z</dcterms:modified>
  <cp:revision>12</cp:revision>
  <dc:subject/>
  <dc:title>История возникновения праздника</dc:title>
</cp:coreProperties>
</file>