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1E5A-0815-4CE8-93B4-0FC5FA35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205D-9F12-4580-B18F-E9AC98E2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877-08D9-4CFF-AE14-669ABD5D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A4B-3B2E-4D7A-80F0-30FE6193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FCA3-0113-4682-B64A-829F658EE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4002-F0F9-4894-BDE3-C6CB2D83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C8A1-030B-4139-B731-AFA158F4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64DA-497E-4835-945E-5BAD589F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C57F-1AFF-4E19-877B-7EFF566A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8BD1-84DD-4DAF-875F-B92B951C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E2F0-DD27-49A0-8940-78D0218A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902-9FAF-4E60-85E6-A46F6940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8E32-A8CA-4095-ACE2-CED80E17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C0E4-D3AE-4EF7-8F6A-8516F3FD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C12E-6F88-49CF-929C-0C8C7C3D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A95D-2CC2-41DE-ADD3-2B6124DB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4510-9F1A-4682-BDFB-4B567716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E65-CAFD-4520-80BB-66FA58BEE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8790-727A-49EE-A693-788E0F5C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6B3-5A88-4C03-BA79-9CDE1F73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DA3-1959-4213-9604-219F57E5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BBF-609A-4D62-91E9-1B6A2325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801B-2A56-4A4E-9C4D-E304CB0D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3AF2-A364-4CD4-B7D2-20C7C51A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Rectangle 3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6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" name="Group 11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Group 12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Freeform 13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2" name="Freeform 14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3" name="Freeform 15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4" name="Freeform 26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5" name="Freeform 27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6" name="Freeform 28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7" name="Freeform 29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29" name="Freeform 31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0898-F0A7-4585-A5A3-2F39EBEBE3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Rectangle 3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cc3399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sp>
          <p:nvSpPr>
            <p:cNvPr id="90" name="Rectangle 4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cc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f8f8f8"/>
                </a:solidFill>
                <a:latin typeface="Times New Roman Cyr"/>
              </a:endParaRPr>
            </a:p>
          </p:txBody>
        </p:sp>
        <p:grpSp>
          <p:nvGrpSpPr>
            <p:cNvPr id="91" name="Group 5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Freeform 6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3" name="Freeform 7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Freeform 9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96" name="Freeform 10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cc3399"/>
                  </a:gs>
                  <a:gs pos="100000">
                    <a:srgbClr val="00005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  <p:grpSp>
          <p:nvGrpSpPr>
            <p:cNvPr id="97" name="Group 11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Group 12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Freeform 13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0" name="Freeform 14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1" name="Freeform 15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2" name="Freeform 16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3" name="Line 17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4" name="Freeform 18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5" name="Freeform 19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6" name="Freeform 20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7" name="Freeform 21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8" name="Freeform 22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09" name="Freeform 23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0" name="Freeform 24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1" name="Freeform 25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2" name="Freeform 26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3" name="Freeform 27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4" name="Freeform 28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5" name="Freeform 29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  <p:sp>
              <p:nvSpPr>
                <p:cNvPr id="116" name="Freeform 30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f8f8f8"/>
                    </a:solidFill>
                    <a:latin typeface="Times New Roman Cyr"/>
                  </a:endParaRPr>
                </a:p>
              </p:txBody>
            </p:sp>
          </p:grpSp>
          <p:sp>
            <p:nvSpPr>
              <p:cNvPr id="117" name="Freeform 31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3" name="Freeform 37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4" name="Freeform 38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5" name="Freeform 39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6" name="Freeform 40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7" name="Freeform 41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8" name="Freeform 42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29" name="Freeform 43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0" name="Freeform 44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1" name="Freeform 45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2" name="Freeform 46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3" name="Freeform 47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  <p:sp>
            <p:nvSpPr>
              <p:cNvPr id="134" name="Freeform 48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8f8f8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DE53-9711-4774-BC88-4BC139CBA0A2}" type="slidenum">
              <a:rPr b="0" lang="ru-RU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all-sbor.net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328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История возникновения праздника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ffcc00"/>
                </a:solidFill>
                <a:latin typeface="Times New Roman"/>
              </a:rPr>
              <a:t>«Татьянин день»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4360" y="1125360"/>
            <a:ext cx="8208720" cy="549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"...Установление оного университета в Москве тем способнее будет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великое число в ней живущих дворян и разночинцев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положение оной среди Российского государства, куда из округ лежащих мест способно приехать можно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содержание всякого не стоит многого иждивения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почти всякой у себя имеет родственников или знакомых, где себя квартирою и пищею содержать может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великое число в Москве у помещиков на дорогом содержании учителей, из которых большая часть не токмо учить науке не могут, но и сами к тому никакого начала не имеют, и только чрез то младые лета учеников и лучшее время к учению пропадает, а за учение оным бесполезно великая плата дается...«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(Ломоносов</a:t>
            </a: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211280" y="1341360"/>
            <a:ext cx="4321080" cy="505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ШУВАЛОВ Иван Иванович (1727-97), российский государственный деятель, фаворит Елизаветы Петровны, генерал-адъютант (1760). Покровительствовал просвещению. 1-й куратор Московского университета, президент Академии художеств</a:t>
            </a: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0" y="765000"/>
            <a:ext cx="43560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85440" y="5734080"/>
            <a:ext cx="380988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Елизавета Петровн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4643280" y="1341360"/>
            <a:ext cx="374364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12(25) января 1755 г. был подписан императрицей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Елизаветой Петровной Указ об открытии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в Москве 1-го российского университета</a:t>
            </a:r>
            <a:r>
              <a:rPr b="0" lang="ru-RU" sz="2400" spc="-1" strike="noStrike">
                <a:solidFill>
                  <a:srgbClr val="f8f8f8"/>
                </a:solidFill>
                <a:latin typeface="Times New Roman Cyr"/>
              </a:rPr>
              <a:t>.</a:t>
            </a:r>
            <a:r>
              <a:rPr b="1" lang="ru-RU" sz="2400" spc="-1" strike="noStrike">
                <a:solidFill>
                  <a:srgbClr val="f8f8f8"/>
                </a:solidFill>
                <a:latin typeface="Times New Roman Cyr"/>
              </a:rPr>
              <a:t> </a:t>
            </a:r>
            <a:endParaRPr b="1" lang="en-US" sz="2400" spc="-1" strike="noStrike">
              <a:solidFill>
                <a:srgbClr val="f8f8f8"/>
              </a:solidFill>
              <a:latin typeface="Times New Roman Cyr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39531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i2?i=08af8fbca4"/>
          <p:cNvPicPr/>
          <p:nvPr/>
        </p:nvPicPr>
        <p:blipFill>
          <a:blip r:embed="rId1"/>
          <a:stretch/>
        </p:blipFill>
        <p:spPr>
          <a:xfrm>
            <a:off x="250920" y="981000"/>
            <a:ext cx="4224240" cy="47516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178160" y="1341360"/>
            <a:ext cx="4965840" cy="383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Под университет определили трехэтажное здание, принадлежавшее Земскому Приказу на Красной площади. Дом отремонтировали и 26 апреля 1775 года приступили к занятиям.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4796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Домовая церковь Московского Университета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1" name="Picture 7" descr="419-1"/>
          <p:cNvPicPr/>
          <p:nvPr/>
        </p:nvPicPr>
        <p:blipFill>
          <a:blip r:embed="rId1"/>
          <a:stretch/>
        </p:blipFill>
        <p:spPr>
          <a:xfrm>
            <a:off x="324000" y="1052640"/>
            <a:ext cx="429552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219640" y="2286000"/>
            <a:ext cx="323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Медаль на открытие Московского университета. 1775 г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7754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71280" y="4868640"/>
            <a:ext cx="380988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Главное здание МГУ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3810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Официальным университетским днем, отмечаемым молебном в университетской церкви, было 12 января. Но его называли не Татьяниным днем, а «днем основания Московского университета»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6" name="Picture 7" descr="280px-Moscow_State_University%2C_HDR"/>
          <p:cNvPicPr/>
          <p:nvPr/>
        </p:nvPicPr>
        <p:blipFill>
          <a:blip r:embed="rId1"/>
          <a:srcRect l="12148" t="0" r="8099" b="0"/>
          <a:stretch/>
        </p:blipFill>
        <p:spPr>
          <a:xfrm>
            <a:off x="826920" y="1268280"/>
            <a:ext cx="40323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066920" y="1197000"/>
            <a:ext cx="460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Указ Николая I, где он распорядился праздновать не день открытия университета, а подписание акта о его учреждении. Так волей монарха появился студенческий праздник - Татьянин день и День студента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495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076360" y="1413000"/>
            <a:ext cx="338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Татьянин день праздновался повсюду. Он объединял профессоров, студентов нынешних и “бывших” по всей России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0" name="Picture 4" descr="История возникновения праздника Татьянин день праздник студентов"/>
          <p:cNvPicPr/>
          <p:nvPr/>
        </p:nvPicPr>
        <p:blipFill>
          <a:blip r:embed="rId1"/>
          <a:stretch/>
        </p:blipFill>
        <p:spPr>
          <a:xfrm>
            <a:off x="826920" y="1557360"/>
            <a:ext cx="42814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Как отмечают свой праздник студенты в других странах?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24360" y="2286000"/>
            <a:ext cx="453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У иностранных студентов нет особых традиций и обычаев празднования этого дня, но тем не менее: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imes New Roman"/>
              </a:rPr>
              <a:t>Бельгийские студенты неравнодушны к любым студенческим праздникам. Успешное окончание сессии — хороший повод для встреч друзей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13" name="Picture 4" descr="i2?i=6647d48195"/>
          <p:cNvPicPr/>
          <p:nvPr/>
        </p:nvPicPr>
        <p:blipFill>
          <a:blip r:embed="rId1"/>
          <a:stretch/>
        </p:blipFill>
        <p:spPr>
          <a:xfrm>
            <a:off x="0" y="1817640"/>
            <a:ext cx="36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4797360"/>
            <a:ext cx="777384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Святая мученица Татиана родилась в древнем Риме от знатных родителей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8" name="Picture 7" descr="15810609_2358"/>
          <p:cNvPicPr/>
          <p:nvPr/>
        </p:nvPicPr>
        <p:blipFill>
          <a:blip r:embed="rId1"/>
          <a:stretch/>
        </p:blipFill>
        <p:spPr>
          <a:xfrm>
            <a:off x="1835280" y="620640"/>
            <a:ext cx="575928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ПРИМЕТЫ ТАТЬЯНИНОГО ДН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8f8f8"/>
                </a:solidFill>
                <a:latin typeface="Times New Roman"/>
              </a:rPr>
              <a:t>"Солнце красно заходит за лес - к колючему ветру". </a:t>
            </a:r>
            <a:br>
              <a:rPr sz="2800"/>
            </a:br>
            <a:r>
              <a:rPr b="0" i="1" lang="ru-RU" sz="2800" spc="-1" strike="noStrike">
                <a:solidFill>
                  <a:srgbClr val="f8f8f8"/>
                </a:solidFill>
                <a:latin typeface="Times New Roman"/>
              </a:rPr>
              <a:t>"Солнце поутру выглянуло, в полдень постояло над деревней - птицы по весне рано прилетят". </a:t>
            </a:r>
            <a:br>
              <a:rPr sz="2800"/>
            </a:br>
            <a:r>
              <a:rPr b="0" i="1" lang="ru-RU" sz="2800" spc="-1" strike="noStrike">
                <a:solidFill>
                  <a:srgbClr val="f8f8f8"/>
                </a:solidFill>
                <a:latin typeface="Times New Roman"/>
              </a:rPr>
              <a:t>"Снег на Татьянин день - быть летом частому дождичку". </a:t>
            </a:r>
            <a:br>
              <a:rPr sz="2800"/>
            </a:br>
            <a:r>
              <a:rPr b="0" i="1" lang="ru-RU" sz="2800" spc="-1" strike="noStrike">
                <a:solidFill>
                  <a:srgbClr val="f8f8f8"/>
                </a:solidFill>
                <a:latin typeface="Times New Roman"/>
              </a:rPr>
              <a:t>"На Татьяну проглянет солнышко - к раннему прилету птиц"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Источники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happy-year.narod.ru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http://slovo.odessa.u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350035"/>
                </a:solidFill>
                <a:uFillTx/>
                <a:latin typeface="Times New Roman"/>
                <a:hlinkClick r:id="rId1"/>
              </a:rPr>
              <a:t>www.all-sbor.net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1280" y="5157360"/>
            <a:ext cx="7772400" cy="45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47000"/>
          </a:bodyPr>
          <a:p>
            <a:pPr marL="160920" indent="-160920">
              <a:lnSpc>
                <a:spcPct val="80000"/>
              </a:lnSpc>
              <a:spcBef>
                <a:spcPts val="2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160920" indent="-160920">
              <a:lnSpc>
                <a:spcPct val="80000"/>
              </a:lnSpc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другой день неправедный судья, воссев на судилище, опять приказал привести на мучение святую Татиану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0" name="Picture 4" descr="tatiana5"/>
          <p:cNvPicPr/>
          <p:nvPr/>
        </p:nvPicPr>
        <p:blipFill>
          <a:blip r:embed="rId1"/>
          <a:stretch/>
        </p:blipFill>
        <p:spPr>
          <a:xfrm>
            <a:off x="2627280" y="476280"/>
            <a:ext cx="3824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5373360"/>
            <a:ext cx="799128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На утро святую Татиану привели в цирк и выпустили на нее страшного льва, чтобы он растерзал святую. Но лев  лег у ее ног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Picture 4" descr="08058131"/>
          <p:cNvPicPr/>
          <p:nvPr/>
        </p:nvPicPr>
        <p:blipFill>
          <a:blip r:embed="rId1"/>
          <a:stretch/>
        </p:blipFill>
        <p:spPr>
          <a:xfrm>
            <a:off x="1835280" y="692280"/>
            <a:ext cx="57783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779640" y="1699920"/>
            <a:ext cx="4678200" cy="470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Ее предали огню, но пламя стихло у ее ног. В конце концов, ее умертвили, но принудить отказаться от веры не смогл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4" name="Picture 4" descr="4"/>
          <p:cNvPicPr/>
          <p:nvPr/>
        </p:nvPicPr>
        <p:blipFill>
          <a:blip r:embed="rId1"/>
          <a:stretch/>
        </p:blipFill>
        <p:spPr>
          <a:xfrm>
            <a:off x="250920" y="981000"/>
            <a:ext cx="3684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180px-Saint_Tatiana"/>
          <p:cNvPicPr/>
          <p:nvPr/>
        </p:nvPicPr>
        <p:blipFill>
          <a:blip r:embed="rId1"/>
          <a:stretch/>
        </p:blipFill>
        <p:spPr>
          <a:xfrm>
            <a:off x="584280" y="1125360"/>
            <a:ext cx="3773520" cy="54723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642920" y="22860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imes New Roman"/>
              </a:rPr>
              <a:t>Икона Святой Татианы — покровительница российского студенчества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836640"/>
            <a:ext cx="7772400" cy="556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Огромный зал бурлит, как кратер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терты сословные межи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вспоминают alma-mater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едобородые мужи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Тут все равны. У всех во вз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еселье. Блещет яркость л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И Gaudeamus в общем хоре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оют профессор и студент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Воспоминаньем каждый ранен,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реди чужих людей одни, -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Пришельцы, снова в день Татьянин</a:t>
            </a:r>
            <a:br>
              <a:rPr sz="3200"/>
            </a:br>
            <a:r>
              <a:rPr b="1" lang="ru-RU" sz="3200" spc="-1" strike="noStrike">
                <a:solidFill>
                  <a:srgbClr val="f8f8f8"/>
                </a:solidFill>
                <a:latin typeface="Times New Roman"/>
              </a:rPr>
              <a:t>Сошлись, как там в былые дни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284720" y="112536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Times New Roman"/>
              </a:rPr>
              <a:t>12 января (25 января по новому стилю) 1724 года Петром Великим была основана Российская Академия Наук в Санкт-Петербурге. А через год при Академии открылся Санкт-Петербургский Академический Университет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9" name="Picture 7" descr="9N0487"/>
          <p:cNvPicPr/>
          <p:nvPr/>
        </p:nvPicPr>
        <p:blipFill>
          <a:blip r:embed="rId1"/>
          <a:stretch/>
        </p:blipFill>
        <p:spPr>
          <a:xfrm>
            <a:off x="0" y="1125360"/>
            <a:ext cx="411480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355640" y="2286000"/>
            <a:ext cx="410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8f8f8"/>
                </a:solidFill>
                <a:latin typeface="Times New Roman"/>
              </a:rPr>
              <a:t>М.В. Ломоносов оказал влияние на то, что университет открылся в Москве, а не в Петербурге или каком другом городе России.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9369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38:04Z</dcterms:created>
  <dc:creator>User</dc:creator>
  <dc:description/>
  <dc:language>en-US</dc:language>
  <cp:lastModifiedBy>user</cp:lastModifiedBy>
  <dcterms:modified xsi:type="dcterms:W3CDTF">2015-12-08T08:55:29Z</dcterms:modified>
  <cp:revision>12</cp:revision>
  <dc:subject/>
  <dc:title>История возникновения праздника</dc:title>
</cp:coreProperties>
</file>