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522-21CF-4C06-A720-1049CB4A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F74-D03B-498D-BF14-D3B6D93C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7CB-CBBA-4803-9295-52D6FAF8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E51-1796-4C0B-8699-F8762C7D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ABEE-6A05-4CA4-9DA0-B01AC7DF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1C34-B904-47FD-80AD-B9D5772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028E-B077-42DB-9E98-E8AEFA89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0B9-1BC1-4A89-868B-5C9EE36F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F388-E6EF-4C77-B335-AD269B05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5737-B26C-4294-A8B3-E07A35A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D273-8265-4091-ADFE-A5F66D23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8C2-B6F4-42C8-A78F-148AAE68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A258-5571-42C1-B575-4E07CC5E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BE3-A664-414E-8BF4-400B087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A020-DA92-40E5-89E6-5DDD844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10A-C7E8-4829-8508-D2EA0DEC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1C9D-7AFF-420B-A834-4D1EC42A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76D6-A9FD-45CD-95DB-BC03E064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E921-709D-4314-9A48-D5D6B346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FA0E-BF54-4C31-8AE5-AE66D8D2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E112-5628-483F-BB8B-522F96ED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6554-F7AE-4557-9FC1-EDA7663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999-CB33-47F0-88E1-F700E72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B6ED-D20C-4AD7-849A-1A05A85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830F-0399-4481-B8B3-DF3C79E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8FD7-195C-489A-ABA7-6DA7100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0810-64FB-4047-A1AA-CC0824C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9F78-8F49-4B65-BEAE-4A57E2BF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1ACF-F7FE-4A78-BA80-1C0D58A7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EE15-C636-48D6-ABA3-0E636BF0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7E42-B005-4E4C-BE5C-1D0302FF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F121-11EC-4D3D-BECC-7DFFEEF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F0A7-FA1A-4389-BD08-7234644C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E41-917F-4D67-B53F-0E50BDE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9510-73C7-4458-815C-E49FC138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4CC8-913D-43A6-9E01-E62485D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BD35-B507-4432-A5E0-DC0D6DC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50F5-0D17-4E19-97FF-746F503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87D1-7C21-4685-9F29-3DA736DA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D1482-9B17-4CE4-8525-BEFD7B7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43313-6C99-448E-B1CA-A02D28F6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7D30-5F70-4742-BC4F-D3D0E9C3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16E8-553B-4C2B-91EE-B93405A4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4EE-5F8D-4305-8361-16FEC49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7A9-ABE1-4AB0-9F76-275832D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B19-4A9B-4291-B15F-56538E0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793-0490-4FB4-B7E7-6E8FBD5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4EF-616F-4CEB-A440-5A16B66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309B-8DE7-407F-9731-80EFBA2DDB4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A37-B0D7-4720-B76D-0C5933C8FFD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96E-75AE-49D4-820D-8AE664E701A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75D9-D9A0-41F2-B94C-0B6F429FE14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feia"/>
          <p:cNvPicPr/>
          <p:nvPr/>
        </p:nvPicPr>
        <p:blipFill>
          <a:blip r:embed="rId2"/>
          <a:stretch/>
        </p:blipFill>
        <p:spPr>
          <a:xfrm flipH="1">
            <a:off x="7643880" y="1571760"/>
            <a:ext cx="1071360" cy="135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571680" y="2928960"/>
            <a:ext cx="17334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 каком падеже у имен прилагательных окончания –ого, -ег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Выноска со стрелкой вниз 9"/>
          <p:cNvSpPr/>
          <p:nvPr/>
        </p:nvSpPr>
        <p:spPr>
          <a:xfrm>
            <a:off x="357120" y="25002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да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носка со стрелкой вниз 10"/>
          <p:cNvSpPr/>
          <p:nvPr/>
        </p:nvSpPr>
        <p:spPr>
          <a:xfrm>
            <a:off x="192888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роди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носка со стрелкой вниз 11"/>
          <p:cNvSpPr/>
          <p:nvPr/>
        </p:nvSpPr>
        <p:spPr>
          <a:xfrm>
            <a:off x="4071960" y="25002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твори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носка со стрелкой вниз 5"/>
          <p:cNvSpPr/>
          <p:nvPr/>
        </p:nvSpPr>
        <p:spPr>
          <a:xfrm>
            <a:off x="621504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предлож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7120" y="5357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Укажи падеж имен прилагательных в словосочетаниях?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Наблюдаю за удивительным явлением, пришел перед последним уроком, любуюсь вечерним небом.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Выноска со стрелкой вниз 9"/>
          <p:cNvSpPr/>
          <p:nvPr/>
        </p:nvSpPr>
        <p:spPr>
          <a:xfrm>
            <a:off x="285840" y="31431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дитель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носка со стрелкой вниз 10"/>
          <p:cNvSpPr/>
          <p:nvPr/>
        </p:nvSpPr>
        <p:spPr>
          <a:xfrm>
            <a:off x="221472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лож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носка со стрелкой вниз 11"/>
          <p:cNvSpPr/>
          <p:nvPr/>
        </p:nvSpPr>
        <p:spPr>
          <a:xfrm>
            <a:off x="6929280" y="314316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итель-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Выноска со стрелкой вниз 5"/>
          <p:cNvSpPr/>
          <p:nvPr/>
        </p:nvSpPr>
        <p:spPr>
          <a:xfrm>
            <a:off x="485784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тель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714840" y="2571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им членом предложения бывает имя прилагательн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Выноска со стрелкой вниз 7"/>
          <p:cNvSpPr/>
          <p:nvPr/>
        </p:nvSpPr>
        <p:spPr>
          <a:xfrm>
            <a:off x="1571760" y="32860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вным членом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 со стрелкой вниз 8"/>
          <p:cNvSpPr/>
          <p:nvPr/>
        </p:nvSpPr>
        <p:spPr>
          <a:xfrm>
            <a:off x="5357880" y="3214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торостепенным членом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 тес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642960" y="5143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feia"/>
          <p:cNvPicPr/>
          <p:nvPr/>
        </p:nvPicPr>
        <p:blipFill>
          <a:blip r:embed="rId2"/>
          <a:stretch/>
        </p:blipFill>
        <p:spPr>
          <a:xfrm flipH="1">
            <a:off x="7643880" y="1571760"/>
            <a:ext cx="107136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такое имя прилагательн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асть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428760" y="50720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мена прилагательные отвечают на вопросы 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то?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ой? Какая? К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делает? Что с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0040" y="5143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ая часть речи обозначает признак предмет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существите-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00040" y="4857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читай имена прилагательные.</a:t>
            </a:r>
            <a:br>
              <a:rPr sz="45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Замечаешь оранжевый насекомое рукоятка великолепный подлежащее сказуемое большинство смолисты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носка со стрелкой вниз 9"/>
          <p:cNvSpPr/>
          <p:nvPr/>
        </p:nvSpPr>
        <p:spPr>
          <a:xfrm>
            <a:off x="500040" y="28576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со стрелкой вниз 11"/>
          <p:cNvSpPr/>
          <p:nvPr/>
        </p:nvSpPr>
        <p:spPr>
          <a:xfrm>
            <a:off x="6572160" y="3000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28760" y="54291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ие окончания у имен прилагательных женского род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ой (-ый, -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ая ( -я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ое (-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28760" y="5143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кажи род имен прилагательных в словосочетаниях: </a:t>
            </a:r>
            <a:r>
              <a:rPr b="0" i="1" lang="ru-RU" sz="2900" spc="-1" strike="noStrike">
                <a:solidFill>
                  <a:srgbClr val="04617b"/>
                </a:solidFill>
                <a:latin typeface="Calibri"/>
              </a:rPr>
              <a:t>у глубокой проруби, без вишневой шали, с шоколадной конфетой, вкусной вермишелью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Выноска со стрелкой вниз 9"/>
          <p:cNvSpPr/>
          <p:nvPr/>
        </p:nvSpPr>
        <p:spPr>
          <a:xfrm>
            <a:off x="642960" y="2928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ужско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Выноска со стрелкой вниз 10"/>
          <p:cNvSpPr/>
          <p:nvPr/>
        </p:nvSpPr>
        <p:spPr>
          <a:xfrm>
            <a:off x="3357720" y="40006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Женск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Выноска со стрелкой вниз 11"/>
          <p:cNvSpPr/>
          <p:nvPr/>
        </p:nvSpPr>
        <p:spPr>
          <a:xfrm>
            <a:off x="6000840" y="3000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редн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85840" y="5500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 узнать род имен прилагательны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Выноска со стрелкой вниз 9"/>
          <p:cNvSpPr/>
          <p:nvPr/>
        </p:nvSpPr>
        <p:spPr>
          <a:xfrm>
            <a:off x="1000080" y="1785960"/>
            <a:ext cx="1500120" cy="2714760"/>
          </a:xfrm>
          <a:prstGeom prst="down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роду имени существительного, с которым оно свя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окончанию имени 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носка со стрелкой вниз 11"/>
          <p:cNvSpPr/>
          <p:nvPr/>
        </p:nvSpPr>
        <p:spPr>
          <a:xfrm>
            <a:off x="5572080" y="1857240"/>
            <a:ext cx="1500120" cy="264348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окончанию имени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00040" y="500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feia"/>
          <p:cNvPicPr/>
          <p:nvPr/>
        </p:nvPicPr>
        <p:blipFill>
          <a:blip r:embed="rId2"/>
          <a:stretch/>
        </p:blipFill>
        <p:spPr>
          <a:xfrm flipH="1">
            <a:off x="7572240" y="928800"/>
            <a:ext cx="1214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Nikolai</cp:lastModifiedBy>
  <dcterms:modified xsi:type="dcterms:W3CDTF">2017-01-15T10:35:11Z</dcterms:modified>
  <cp:revision>123</cp:revision>
  <dc:subject/>
  <dc:title>Слайд 1</dc:title>
</cp:coreProperties>
</file>