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ookman Old Style"/>
              </a:rPr>
              <a:t>Воспитание у детей старшего дошкольного возраста уважительного отношения к личным правам другого человека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Bookman Old Style"/>
              </a:rPr>
              <a:t> посредством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Bookman Old Style"/>
              </a:rPr>
              <a:t>игровой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Bookman Old Style"/>
              </a:rPr>
              <a:t>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92436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ава ребенка на защиту и поддержку во время пребывания в МДОУ зафиксировано в программе «Радуга»; задача консолидации усилий семьи и детского сада поставлена в программе «Из детства – в отрочеств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84720" y="3500280"/>
            <a:ext cx="1974960" cy="3068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35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и было проведено наблюдение в ходе, которого мы узнали, что в старших группах детского сада применяется широкий диапазон приемов и методов по воспитанию и обучению, в том числе и по социально – правов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3564000" cy="2489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кольку мы считаем, что родители играют одну из основных ролей в воспитании  у детей уважительного отношения к правам других людей, то в данном случае родителям была предложена анкета, состоящая из 5 пунктов. Цель анкеты: выявить юридическую грамотность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знания в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3890880"/>
            <a:ext cx="345600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16000" y="836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Анкетирование проводилось с родителями детей дошкольного возраста. Общее количество опрошенных - 15 человек. Основной контингент – 23-33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436200">
            <a:off x="5148360" y="3573000"/>
            <a:ext cx="29574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7280" y="836640"/>
            <a:ext cx="7499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анкетирования показали, что правовое осознание родителей недостаточно сформировано. Представление о правовых нормах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ано однозначно и непротиворечиво с представлениями 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ных форм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я на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51640" y="2852640"/>
            <a:ext cx="2666880" cy="2772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сформированы две группы: экспериментальная и контрольная. Экспериментальная группа занималась по программе «Формирование социально-право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нания у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его дошко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»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ая груп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руг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275280" cy="327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целью выявления уровня сформированности у детей старшего дошкольного возраста уважительного отношения к правам других людей было проведено занятие  «Жар – пт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51280" y="3213000"/>
            <a:ext cx="41702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ля оценки сформированности у детей старшего дошкольного возраста уважительного отношения к правам других людей были выделены три уровня, в основу которых были положены следующие крите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бенок имеет представление о том, что каждый человек равен в пра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бенок стремится учитывать права других детей в игре и повседне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бенок пыт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азграничивать прав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2240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5840" y="21240"/>
            <a:ext cx="83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  <a:ea typeface="Times New Roman"/>
              </a:rPr>
              <a:t>Результаты проведенного занятия «Жар-птица», полученные в экспериментальной групп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6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4760" y="6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333360"/>
          <a:ext cx="7489800" cy="6510240"/>
        </p:xfrm>
        <a:graphic>
          <a:graphicData uri="http://schemas.openxmlformats.org/drawingml/2006/table">
            <a:tbl>
              <a:tblPr/>
              <a:tblGrid>
                <a:gridCol w="1951200"/>
                <a:gridCol w="620640"/>
                <a:gridCol w="625320"/>
                <a:gridCol w="624240"/>
                <a:gridCol w="1854000"/>
                <a:gridCol w="603360"/>
                <a:gridCol w="606240"/>
                <a:gridCol w="604800"/>
              </a:tblGrid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эксперименталь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констатирующего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констатирующего экспери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я 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дим Ж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 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я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а 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ег 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я 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юша 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я 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я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яна 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ля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ша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а Щ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аша 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ируя результаты можно отметить, что дети были активны на занятии, точно и понятно отвечали на вопросы. Уровень сформированности у детей уважительного отношения к правам дру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ей не один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3068640"/>
            <a:ext cx="4500360" cy="3378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Права человека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– это признаваемые и охраняемые международным сообществом, государством, обществом равные социальные возможности  по удовлетворению людьми своих потребностей и притязаний, гарантий которые обеспечивают справедливое, достойное, ответствен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свободное развит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активное участи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ногообраз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социальных отношениях.</a:t>
            </a:r>
            <a:r>
              <a:rPr b="0" lang="sk-SK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3716280"/>
            <a:ext cx="34718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30% детей характеризуются высоким уровнем развития представлений о правах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60% детей можно отнести к среднему уров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0% детей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м уровнем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262116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Arial"/>
              </a:rPr>
              <a:t>Диаграмм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5640" y="1628640"/>
          <a:ext cx="7885080" cy="38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88508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CR A Extend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На основе анализа констатирующего эксперимента можно сделать вывод, что необходима определенная работа с детьми для того, чтобы сформировать уважительное отношение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правам дру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OCR A Extended"/>
              </a:rPr>
              <a:t>люд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140360" y="3716280"/>
            <a:ext cx="4230360" cy="2817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формированности у детей уважительного отношения к правам людей, мы посчитали целесообразным использовать комплекс игр, (продолжительностью 20 – 30 минут), которые проводятся во 2 - ой половине дня. Задачи, которые мы ставили перед собой, включали в себя: закрепление знаний о правах на имя, на обучение, на медицинское обслуживание, на защиту; знакомство детей с Конвенцией о правах ребенка; формирование у детей представлений о мире, о странах мира, о России, о себе, как о полноправных гражданах России, уважительного отношения к правам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работы формирующего этапа позволило повысить уровень сформированности у детей старшего дошкольного возраста уважительного отношени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м пра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х людей.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67280" y="2781360"/>
            <a:ext cx="4759200" cy="3408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Детство – идеальное время для начала обучения правам человека, которое затем продолжается всю жиз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й для исследования особенностей уважительного отношения к правам других люде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жили труды многих известных учёных: О. Борисова, Ю. Яковлев, Е. В. Аграновской, П.Н. Баранова, В.И Кудрявцева, А.В Мицкевича, Е.И Трубецкого, И.Е Фарб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71280" y="836280"/>
            <a:ext cx="76546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Объек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правового образования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Предм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оцесс воспитания у детей старшего дошкольного возраста уважительного отношения к правам друг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редством игр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45600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cc"/>
                </a:solidFill>
                <a:uFillTx/>
                <a:latin typeface="Arial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аковы условия воспитания у детей старшего дошкольного возраста уваж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я к пра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х людей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989000"/>
            <a:ext cx="34624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cc"/>
                </a:solidFill>
                <a:uFillTx/>
                <a:latin typeface="Arial"/>
              </a:rPr>
              <a:t>Гипоте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состоит в том, что игровая деятельность будет являться эффективным средством воспитания детей старшего дошкольного возраста уважительного отношения к личным правам другого человека ,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едагог  будет компетентен в проблеме воспитания у детей старшего дошкольного возраста уважительного отношения к правам други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дания для ребенка будут соответствовать его уровню развития и постепенно услож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а соответствующая предметно – развивающая игровая сре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одиться работа с родителями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я состоят в следующ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литературу по теме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казатели и уровни сформированности у старших дошкольников уважительного отношения к личным правам други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особенности воспитания у детей старшего дошкольного возраста уважительного отношения к правам други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едагогические условия воспитания у детей старшего дошкольного возраста уважительного отношения к правам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58560" y="620640"/>
            <a:ext cx="7427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ксперименте принимало участие 10 детей старшего дошкольного возраста. Цель констатирующего этапа: выявление уровня сформированности у детей старшего дошкольного возра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аж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я к пра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95596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0:00:01Z</dcterms:created>
  <dc:creator>пользователь</dc:creator>
  <dc:description/>
  <dc:language>en-US</dc:language>
  <cp:lastModifiedBy>пользователь</cp:lastModifiedBy>
  <dcterms:modified xsi:type="dcterms:W3CDTF">2009-12-22T21:10:40Z</dcterms:modified>
  <cp:revision>2</cp:revision>
  <dc:subject/>
  <dc:title>Воспитание у детей старшего дошкольного возраста уважительного отношения к личным правам другого человека  посредством  игровой  деятельности</dc:title>
</cp:coreProperties>
</file>