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F97-C1B2-4403-BE31-1C67CE75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106-690F-462F-B059-BC88FF59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198-03A9-413D-9864-5073918F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82A-34A9-4516-89D5-D63A965F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7CD8-B4EF-4373-9FEA-58F5FBDB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BC4D-B66B-4125-A716-E4CA8D25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C235-C037-4504-917B-2F8E7AA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F7DE-A5B7-4D16-800C-1E3D0C50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4D30-012C-4121-8911-F732A662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384B-D27B-4ABF-B6EE-64E9A2C5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5D82-11CC-478C-AA12-F2EC0E7F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74C-0D43-4BAE-AEE7-6CAFDB55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100C-94C3-44A6-914F-A10CE04D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DFBB-8A15-454C-9B9E-473C197B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583-728F-4D89-8397-EFFDBD74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768F-95D1-4A8B-8813-7F3DC9DB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53E3-058E-44C6-9D09-C8D40340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3D7-1EFA-42DB-BFA8-5537308C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A47-1009-4A2C-9BDA-C10FC337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A2A-F9AB-420B-B628-13E3B5BB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C55-5D0F-4C17-A631-F4702665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4D0-0737-4988-A516-59FB0CE1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A0B-EA7B-484B-AEE6-BBBD7FDD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EF7-1ED7-4800-9054-C617315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Прямоуг.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Рисунок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Прямоуг.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Линия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Линия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39AE-5075-4E2A-BBD0-9F341DAF3C0B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Прямоуг.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Прямоуг.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Прямоуг.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Прямоуг.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Рисунок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Прямоуг.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Прямоуг.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Линия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Линия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Полилиния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Полилиния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98B6-485D-427C-872A-44BB67A44954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5" descr="{4289D2F6-51F8-4F5D-A30E-31E7FF31A218}"/>
          <p:cNvPicPr/>
          <p:nvPr/>
        </p:nvPicPr>
        <p:blipFill>
          <a:blip r:embed="rId1"/>
          <a:stretch/>
        </p:blipFill>
        <p:spPr>
          <a:xfrm>
            <a:off x="14860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4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ступая к возведению временного дома, сначала решите, зачем он вам нужен — защититься от дождя и снега, холода и жары, насекомых и пр. На выбор типа укрытия влияют и другие важные факторы: наличие материалов для строительства, продолжительность предполагаемой стоянки, количество людей и др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т некоторые виды временных укрытий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57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иболее просты в изготовлении шалаши в виде пирамиды. Чаще всего они строятся, когда есть ткань или полиэтилен, причём ткань следует натягивать так, чтобы морщин было как можно меньше. Угол между стенками — примерно 60°; это обеспечит хороший сток воды. Высота такого укрытия — обычно 1,5 м. Начинать натягивать ткань нужно с задней стенки, постепенно продвигаясь к выходу. Шалаши данного типа строят, используя одну жердь и деревья или только три жерди. В последнем случае угол между длинной (коньковой) жердью и стропилами (перекрещивающимися жердями) должен составлять 90° — тогда конструкция будет прочной и устойчивой.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ух скатный шалаш из ткани, построенный с использованием одной жерд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7" descr="Untitled-Scanned-05"/>
          <p:cNvPicPr/>
          <p:nvPr/>
        </p:nvPicPr>
        <p:blipFill>
          <a:blip r:embed="rId1"/>
          <a:stretch/>
        </p:blipFill>
        <p:spPr>
          <a:xfrm>
            <a:off x="1692360" y="2133720"/>
            <a:ext cx="6696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120" y="609480"/>
            <a:ext cx="788652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скатный шалаш из ткани с наружным тентом построенный с использованием двух жерд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Untitled-Scanned-06"/>
          <p:cNvPicPr/>
          <p:nvPr/>
        </p:nvPicPr>
        <p:blipFill>
          <a:blip r:embed="rId1"/>
          <a:stretch/>
        </p:blipFill>
        <p:spPr>
          <a:xfrm>
            <a:off x="1835280" y="2133720"/>
            <a:ext cx="66974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алаш из ткани, построенный с использованием  трех жер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4" descr="Untitled-Scanned-03"/>
          <p:cNvPicPr/>
          <p:nvPr/>
        </p:nvPicPr>
        <p:blipFill>
          <a:blip r:embed="rId1"/>
          <a:stretch/>
        </p:blipFill>
        <p:spPr>
          <a:xfrm>
            <a:off x="1979640" y="1844640"/>
            <a:ext cx="597708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лый шалаш из ткани, построенный вокруг дере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9" descr="Untitled-Scanned-01"/>
          <p:cNvPicPr/>
          <p:nvPr/>
        </p:nvPicPr>
        <p:blipFill>
          <a:blip r:embed="rId1"/>
          <a:stretch/>
        </p:blipFill>
        <p:spPr>
          <a:xfrm>
            <a:off x="2050920" y="1989000"/>
            <a:ext cx="63374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алаш из ткани, построенный с использованием дере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6" descr="Untitled-Scanned-04"/>
          <p:cNvPicPr/>
          <p:nvPr/>
        </p:nvPicPr>
        <p:blipFill>
          <a:blip r:embed="rId1"/>
          <a:stretch/>
        </p:blipFill>
        <p:spPr>
          <a:xfrm>
            <a:off x="1476360" y="1844640"/>
            <a:ext cx="6840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лое укр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Чтобы в случае дождя в ваше убежище не затекала вода с поверхности земли, сделайте так. Вокруг укрытия выкопайте канавку глубиной и шириной 8—10 см — она отведёт воду по уклону местности. Землёй или дёрном обложите низ жилища, и тогда вода не попадёт внутрь даже во время продолжительного или сильного дождя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Рисунок 6" descr="Круглый"/>
          <p:cNvPicPr/>
          <p:nvPr/>
        </p:nvPicPr>
        <p:blipFill>
          <a:blip r:embed="rId1"/>
          <a:stretch/>
        </p:blipFill>
        <p:spPr>
          <a:xfrm>
            <a:off x="5076720" y="2133720"/>
            <a:ext cx="39592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кани или плёнки нет, можно сделать односкатный или двускатный шалаш с помощью лап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Заготавливая материал для крыши, обязательно оставляйте на больших ветках веточку-крючок: будет удобно крепить лапник на горизонтальные жерди. Начинайте укладывать лапник снизу, как черепицу, — каждый последующий слой должен прикрывать предыдущий, лежащий ниже, примерно до половины. Если вам удастся всё правильно уложить, вода с такой крыши будет скатываться, если же нет — проникнет в ваш дом. Тщательно прикройте верх крыши и заплетите ветками в зависимости от конструкции заднюю или боковые части шалаша. В холодное время года такое укрытие можно утеплить, положив сверху слой снега толщиной до 30 см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ительство двухскатного шал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208080" cy="1928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9288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Прямоуг. 16"/>
          <p:cNvSpPr/>
          <p:nvPr/>
        </p:nvSpPr>
        <p:spPr>
          <a:xfrm>
            <a:off x="1800" y="1927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Рисунок 23" descr="Untitled-Scanned-02"/>
          <p:cNvPicPr/>
          <p:nvPr/>
        </p:nvPicPr>
        <p:blipFill>
          <a:blip r:embed="rId1"/>
          <a:stretch/>
        </p:blipFill>
        <p:spPr>
          <a:xfrm>
            <a:off x="2340000" y="198900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74167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ить на вопрос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брать место для костра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Расскажите о порядке разжигание костр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Как добыть огня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ложитесь на голую землю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од телом она будет испарять влагу, которая увлажнит одежду и охладит тело. Особенно холодно становится к утру. Кроме того, на голой земле спать неудобно, вы не отдохнёте как следует и после такого сна будете чувствовать себя разбитым. Поэтому не поленитесь сделать хорошую постель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заболоченных участках используйте пучки сухой травы или мха, листья рогоза или крупные стебли осоки. Осока считается «тёплой» травой. Из толстых пучков растений получится хороший тюфяк, а из тонких — неплохое одеяло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поднятое укр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В заболоченном или сыром месте временное жилище необходимо приподнять над землёй. Высота помоста должна быть не менее 0,5 м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7" name="Рисунок 4" descr="Untitled-Scanned-07"/>
          <p:cNvPicPr/>
          <p:nvPr/>
        </p:nvPicPr>
        <p:blipFill>
          <a:blip r:embed="rId1"/>
          <a:stretch/>
        </p:blipFill>
        <p:spPr>
          <a:xfrm>
            <a:off x="4572000" y="2133720"/>
            <a:ext cx="432108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анка в место кро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120" y="2781000"/>
            <a:ext cx="7707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делать импровизированную постель в лесу можно следующим образом. Вбейте в землю четыре крепких коротких колышка с развилкой на конце и положите на них две продольные и две поперечные жерди. Для прочности жерди лучше привязать к колышкам. На получившуюся раму положите ещё несколько поперечных палок, прикрепив их концы к продольным жердям. Колышки и жерди должны выдержать тяжесть вашего тела, поэтому выбирайте достаточно крепкие. Теперь наломайте зелёных веток, лучше еловых или сосновых, и покройте ими кровать. Ветки нужно класть плотными рядами, так чтобы нижний толстый конец был прикрыт верхушками следующего ряда — внахлёст, как кроют черепицей крыши домов. Желательно сделать несколько слоев. Проверьте ваше сооружение: если оно пружинит, как хороший матрац, то спать будет мягко и тепло.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0" name="Рисунок 7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51847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907920"/>
            <a:ext cx="75931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огда сил или возможности возиться с устройством рамы для кровати нет, просто положите на землю несколько слоев веток. Чем толще будет такой матрас, тем мягче выйдет постель. И ещё одно важное замечание. Большая часть наших рекомендаций предназначена для людей, попавших в беду. Временное жилище им необходимо для сохранения здоровья и жизни. Это — единственное оправдание ломки и рубки деревьев и кустарника. В таком случае вы отнимаете их жизнь лишь для того, чтобы спасти себя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закреп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Значение временного укрыт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ыбор место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иды временных укрыти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7160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1.  ТЕСТ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Каково самое главное требование к месту для сооружения временного укрытия (длительного лагеря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. Наличие рядом воды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Б. Живописная природа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В.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Безопасность места стоянки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Г. Отсутствие комаров и мошек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2. ВЕСЕЛЫЙ ТЕСТ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Мальчишки из 6-го «А» поставили палатку на берегу реки у самой воды, чтобы не ходить далеко за водой. Ночью они проснулись от сырости. Оказалось, что вода в реке поднялась и палатку затопило. Почему так произошло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. Надо было не спать, а следить за состоянием воды в реке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Б. Ребята забыли поставить под палатку сваи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B.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Палатку поставили слишком близко к воде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Г.  Палатка должна была быть водонепроницаемой. 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257480" y="609120"/>
            <a:ext cx="77724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3  Выберите из предложенных вариантов установленные требования к месту  сооружения временного жилища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место должно находиться на берегу реки на уровне воды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б) место должно находиться на ровной возвышенной продуваемой площадке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) место должно находиться среди сухостоя, который можно использовать для костра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возле площадки должен находиться источник воды и достаточно топлива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д) недалеко от площадки должна быть дорога или наезженная тропа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е) возле лагеря должна быть площадка (поляна) для подачи сигналов бедствия в случае необходимости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.  При устройстве навеса или шалаша крышу следует накрывать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 сверху - вниз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б)  справа - налево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)  снизу - вверх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 безразлично как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Какой из способов является единственно правильным и почему?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писать строительство временных укрыти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типы костров вы зн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{C80CA0E8-CB3E-4681-B116-D34E62563EE0}"/>
          <p:cNvPicPr/>
          <p:nvPr/>
        </p:nvPicPr>
        <p:blipFill>
          <a:blip r:embed="rId1"/>
          <a:stretch/>
        </p:blipFill>
        <p:spPr>
          <a:xfrm>
            <a:off x="1476360" y="1557360"/>
            <a:ext cx="734364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 лет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Урок по основам безопасности жизнедеятельности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Учитель ОБЖ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БОУ «СОШ с.Псяк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Давыдов Р.Л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знакомить учащихся с видами временных жили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учить правильно сооружать временных жилищ и укрыти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спитывать бережное отношение к своему и у других здоровью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ебные 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Значение временного укрытия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Выбор место для укрытия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Виды временных укрытий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609120"/>
            <a:ext cx="777096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чение временного жилища в условиях вынужденной автономии на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920" y="2205000"/>
            <a:ext cx="461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татистика свидетельствует, что люди, оказавшиеся в силу разных обстоятельств (заблудились, авария транспортного средства и т. д.) один на один с дикой природой, могут в течение длительного времени сохранять силы и надёжно защищать себя от неблагоприятных природных факторов, если построят временное укрытие, хотя бы простейшее. Возвести такое укрытие необходимо и потому, что спасателям с воздуха значительно легче обнаружить лагерь или убежище с сигнальными знаками, чем одинокую человеческую фигуру или даже группу людей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" name="Рисунок 4" descr="{B311C95E-D72C-42A1-AB37-5E2C63D4533E}"/>
          <p:cNvPicPr/>
          <p:nvPr/>
        </p:nvPicPr>
        <p:blipFill>
          <a:blip r:embed="rId1"/>
          <a:stretch/>
        </p:blipFill>
        <p:spPr>
          <a:xfrm>
            <a:off x="5940360" y="2637000"/>
            <a:ext cx="28749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ор место для временного жили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сто для лагеря должно отвечать нескольким требованиям, главное из которых — безопасность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Нельзя сооружать свой временный дом на речных отмелях, низменных берегах и островах, в руслах пересохших рек, на дне каньонов и узких щелей. Из-за проливных дождей уровень воды может подняться, и вашу стоянку - затопит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Лагерь нужно разбивать рядом с водой, но желательно не на низком берегу реки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Не стоит размещать лагерь рядом со звериными тропами: дикие животные могут принести немало неожиданных хлопот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Место должно быть защищен от ветров (спиной к ветру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Где меньше кровососущие насекомые (где ветер будет отгонять их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Место под большими деревьями опасно во время бури и грозы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типы укрытий расставляют на против костра с наветренной сторо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7" descr="01Как"/>
          <p:cNvPicPr/>
          <p:nvPr/>
        </p:nvPicPr>
        <p:blipFill>
          <a:blip r:embed="rId1"/>
          <a:stretch/>
        </p:blipFill>
        <p:spPr>
          <a:xfrm>
            <a:off x="2050920" y="2133720"/>
            <a:ext cx="66182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5:34:59Z</dcterms:created>
  <dc:creator>User</dc:creator>
  <dc:description/>
  <dc:language>en-US</dc:language>
  <cp:lastModifiedBy>Радик</cp:lastModifiedBy>
  <dcterms:modified xsi:type="dcterms:W3CDTF">2013-03-24T07:52:11Z</dcterms:modified>
  <cp:revision>17</cp:revision>
  <dc:subject/>
  <dc:title>Временное жилище </dc:title>
</cp:coreProperties>
</file>