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32600" cy="99647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9620-E556-4841-A4C7-EF9F7115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ADA-FC79-44FC-8D90-F17962FE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8910-F15F-425F-A8B9-1C4742EC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15F5-AC82-46A7-96C6-DC6E5FD8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507E2-0823-4048-B2C2-4290C989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979C-B3D2-4066-B0C8-9DE6E749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66A8-AEE6-4CFB-BEC3-B646C447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0193-A8C4-4D4F-B016-BA824998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D118-69EA-4338-96BF-2238EEBE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F4B2-83D5-40C6-9B7E-2161C022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FE14-1B1D-412D-A92F-A322C221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3EE-F84C-45DE-BF5B-6F6C0351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29AB-6421-45AD-B536-04B70B97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3197-EFAC-4CA9-BC92-79A226FA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B58D-9B23-4A5D-942C-9B3380E1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837E-6C3D-48F3-B00B-60B99EC0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10ED-8E45-4F35-A774-0A9EE0A2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900-E4C3-42CF-9A8C-26D869B7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AFD-46A7-4F94-9DB4-03EFF081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6F9-A930-4D74-9BE8-4C5E521A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AF79-BA05-4B95-9D93-1122AC29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7800-AB8D-408D-A12A-F337734B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B9A1-5E0D-400C-8A48-068C4400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01F-540D-4115-BADE-36993DF5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Прямоуг.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Рисунок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Прямоуг.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Прямоуг.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Прямоуг.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Линия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Линия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Прямоуг.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2822-912B-4FDE-B4E9-EA7767F5E6C1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Прямоуг.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Прямоуг.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Прямоуг.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Прямоуг.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Рисунок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Прямоуг.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Прямоуг.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Прямоуг.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Линия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Линия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Полилиния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Полилиния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3078-56E8-4616-8A5C-3D3F11927458}" type="slidenum">
              <a:rPr b="0" lang="ru-RU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5" descr="{4289D2F6-51F8-4F5D-A30E-31E7FF31A218}"/>
          <p:cNvPicPr/>
          <p:nvPr/>
        </p:nvPicPr>
        <p:blipFill>
          <a:blip r:embed="rId1"/>
          <a:stretch/>
        </p:blipFill>
        <p:spPr>
          <a:xfrm>
            <a:off x="148608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476000" y="981000"/>
            <a:ext cx="7488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Приступая к возведению временного дома, сначала решите, зачем он вам нужен — защититься от дождя и снега, холода и жары, насекомых и пр. На выбор типа укрытия влияют и другие важные факторы: наличие материалов для строительства, продолжительность предполагаемой стоянки, количество людей и др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от некоторые виды временных укрытий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257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Наиболее просты в изготовлении шалаши в виде пирамиды. Чаще всего они строятся, когда есть ткань или полиэтилен, причём ткань следует натягивать так, чтобы морщин было как можно меньше. Угол между стенками — примерно 60°; это обеспечит хороший сток воды. Высота такого укрытия — обычно 1,5 м. Начинать натягивать ткань нужно с задней стенки, постепенно продвигаясь к выходу. Шалаши данного типа строят, используя одну жердь и деревья или только три жерди. В последнем случае угол между длинной (коньковой) жердью и стропилами (перекрещивающимися жердями) должен составлять 90° — тогда конструкция будет прочной и устойчивой.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вух скатный шалаш из ткани, построенный с использованием одной жерд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7" descr="Untitled-Scanned-05"/>
          <p:cNvPicPr/>
          <p:nvPr/>
        </p:nvPicPr>
        <p:blipFill>
          <a:blip r:embed="rId1"/>
          <a:stretch/>
        </p:blipFill>
        <p:spPr>
          <a:xfrm>
            <a:off x="1692360" y="2133720"/>
            <a:ext cx="66960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7120" y="609480"/>
            <a:ext cx="788652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ухскатный шалаш из ткани с наружным тентом построенный с использованием двух жерде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4" descr="Untitled-Scanned-06"/>
          <p:cNvPicPr/>
          <p:nvPr/>
        </p:nvPicPr>
        <p:blipFill>
          <a:blip r:embed="rId1"/>
          <a:stretch/>
        </p:blipFill>
        <p:spPr>
          <a:xfrm>
            <a:off x="1835280" y="2133720"/>
            <a:ext cx="66974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алаш из ткани, построенный с использованием  трех жер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4" descr="Untitled-Scanned-03"/>
          <p:cNvPicPr/>
          <p:nvPr/>
        </p:nvPicPr>
        <p:blipFill>
          <a:blip r:embed="rId1"/>
          <a:stretch/>
        </p:blipFill>
        <p:spPr>
          <a:xfrm>
            <a:off x="1979640" y="1844640"/>
            <a:ext cx="5977080" cy="48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глый шалаш из ткани, построенный вокруг дере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9" descr="Untitled-Scanned-01"/>
          <p:cNvPicPr/>
          <p:nvPr/>
        </p:nvPicPr>
        <p:blipFill>
          <a:blip r:embed="rId1"/>
          <a:stretch/>
        </p:blipFill>
        <p:spPr>
          <a:xfrm>
            <a:off x="2050920" y="1989000"/>
            <a:ext cx="633744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Шалаш из ткани, построенный с использованием дере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6" descr="Untitled-Scanned-04"/>
          <p:cNvPicPr/>
          <p:nvPr/>
        </p:nvPicPr>
        <p:blipFill>
          <a:blip r:embed="rId1"/>
          <a:stretch/>
        </p:blipFill>
        <p:spPr>
          <a:xfrm>
            <a:off x="1476360" y="1844640"/>
            <a:ext cx="68407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глое укры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Чтобы в случае дождя в ваше убежище не затекала вода с поверхности земли, сделайте так. Вокруг укрытия выкопайте канавку глубиной и шириной 8—10 см — она отведёт воду по уклону местности. Землёй или дёрном обложите низ жилища, и тогда вода не попадёт внутрь даже во время продолжительного или сильного дождя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5" name="Рисунок 6" descr="Круглый"/>
          <p:cNvPicPr/>
          <p:nvPr/>
        </p:nvPicPr>
        <p:blipFill>
          <a:blip r:embed="rId1"/>
          <a:stretch/>
        </p:blipFill>
        <p:spPr>
          <a:xfrm>
            <a:off x="5076720" y="2133720"/>
            <a:ext cx="395928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ткани или плёнки нет, можно сделать односкатный или двускатный шалаш с помощью лапни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Заготавливая материал для крыши, обязательно оставляйте на больших ветках веточку-крючок: будет удобно крепить лапник на горизонтальные жерди. Начинайте укладывать лапник снизу, как черепицу, — каждый последующий слой должен прикрывать предыдущий, лежащий ниже, примерно до половины. Если вам удастся всё правильно уложить, вода с такой крыши будет скатываться, если же нет — проникнет в ваш дом. Тщательно прикройте верх крыши и заплетите ветками в зависимости от конструкции заднюю или боковые части шалаша. В холодное время года такое укрытие можно утеплить, положив сверху слой снега толщиной до 30 см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роительство двухскатного шала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.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0"/>
          <a:ext cx="208080" cy="192888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19288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Прямоуг. 16"/>
          <p:cNvSpPr/>
          <p:nvPr/>
        </p:nvSpPr>
        <p:spPr>
          <a:xfrm>
            <a:off x="1800" y="19270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2" name="Рисунок 23" descr="Untitled-Scanned-02"/>
          <p:cNvPicPr/>
          <p:nvPr/>
        </p:nvPicPr>
        <p:blipFill>
          <a:blip r:embed="rId1"/>
          <a:stretch/>
        </p:blipFill>
        <p:spPr>
          <a:xfrm>
            <a:off x="2340000" y="1989000"/>
            <a:ext cx="5977080" cy="44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741672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ветить на вопросы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Как выбрать место для костра?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Расскажите о порядке разжигание костр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Как добыть огня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гда не ложитесь на голую землю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Под телом она будет испарять влагу, которая увлажнит одежду и охладит тело. Особенно холодно становится к утру. Кроме того, на голой земле спать неудобно, вы не отдохнёте как следует и после такого сна будете чувствовать себя разбитым. Поэтому не поленитесь сделать хорошую постель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На заболоченных участках используйте пучки сухой травы или мха, листья рогоза или крупные стебли осоки. Осока считается «тёплой» травой. Из толстых пучков растений получится хороший тюфяк, а из тонких — неплохое одеяло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поднятое укры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331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В заболоченном или сыром месте временное жилище необходимо приподнять над землёй. Высота помоста должна быть не менее 0,5 м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7" name="Рисунок 4" descr="Untitled-Scanned-07"/>
          <p:cNvPicPr/>
          <p:nvPr/>
        </p:nvPicPr>
        <p:blipFill>
          <a:blip r:embed="rId1"/>
          <a:stretch/>
        </p:blipFill>
        <p:spPr>
          <a:xfrm>
            <a:off x="4572000" y="2133720"/>
            <a:ext cx="432108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748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жанка в место кров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7120" y="2781000"/>
            <a:ext cx="77072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Сделать импровизированную постель в лесу можно следующим образом. Вбейте в землю четыре крепких коротких колышка с развилкой на конце и положите на них две продольные и две поперечные жерди. Для прочности жерди лучше привязать к колышкам. На получившуюся раму положите ещё несколько поперечных палок, прикрепив их концы к продольным жердям. Колышки и жерди должны выдержать тяжесть вашего тела, поэтому выбирайте достаточно крепкие. Теперь наломайте зелёных веток, лучше еловых или сосновых, и покройте ими кровать. Ветки нужно класть плотными рядами, так чтобы нижний толстый конец был прикрыт верхушками следующего ряда — внахлёст, как кроют черепицей крыши домов. Желательно сделать несколько слоев. Проверьте ваше сооружение: если оно пружинит, как хороший матрац, то спать будет мягко и тепло.</a:t>
            </a:r>
            <a:r>
              <a:rPr b="0" lang="ru-RU" sz="1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0" name="Рисунок 7" descr=""/>
          <p:cNvPicPr/>
          <p:nvPr/>
        </p:nvPicPr>
        <p:blipFill>
          <a:blip r:embed="rId1"/>
          <a:stretch/>
        </p:blipFill>
        <p:spPr>
          <a:xfrm>
            <a:off x="2627280" y="1268280"/>
            <a:ext cx="518472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71600" y="907920"/>
            <a:ext cx="75931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Когда сил или возможности возиться с устройством рамы для кровати нет, просто положите на землю несколько слоев веток. Чем толще будет такой матрас, тем мягче выйдет постель. И ещё одно важное замечание. Большая часть наших рекомендаций предназначена для людей, попавших в беду. Временное жилище им необходимо для сохранения здоровья и жизни. Это — единственное оправдание ломки и рубки деревьев и кустарника. В таком случае вы отнимаете их жизнь лишь для того, чтобы спасти себя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для закреп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Значение временного укрыти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ыбор место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иды временных укрыти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371600" y="692280"/>
            <a:ext cx="77724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1.  ТЕСТ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Каково самое главное требование к месту для сооружения временного укрытия (длительного лагеря)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А. Наличие рядом воды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Б. Живописная природа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33"/>
                </a:solidFill>
                <a:latin typeface="Arial"/>
              </a:rPr>
              <a:t>В.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Безопасность места стоянки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Г. Отсутствие комаров и мошек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2. ВЕСЕЛЫЙ ТЕСТ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Мальчишки из 6-го «А» поставили палатку на берегу реки у самой воды, чтобы не ходить далеко за водой. Ночью они проснулись от сырости. Оказалось, что вода в реке поднялась и палатку затопило. Почему так произошло?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А. Надо было не спать, а следить за состоянием воды в реке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Б. Ребята забыли поставить под палатку сваи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B.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Палатку поставили слишком близко к воде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Г.  Палатка должна была быть водонепроницаемой. </a:t>
            </a:r>
            <a:r>
              <a:rPr b="0" lang="ru-RU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257480" y="609120"/>
            <a:ext cx="777240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3  Выберите из предложенных вариантов установленные требования к месту  сооружения временного жилища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а) место должно находиться на берегу реки на уровне воды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б) место должно находиться на ровной возвышенной продуваемой площадке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в) место должно находиться среди сухостоя, который можно использовать для костра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г) возле площадки должен находиться источник воды и достаточно топлива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д) недалеко от площадки должна быть дорога или наезженная тропа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е) возле лагеря должна быть площадка (поляна) для подачи сигналов бедствия в случае необходимости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4.  При устройстве навеса или шалаша крышу следует накрывать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а)  сверху - вниз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б)  справа - налево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в)  снизу - вверх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г)  безразлично как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Какой из способов является единственно правильным и почему?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Описать строительство временных укрыти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ие типы костров вы знае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6" descr="{C80CA0E8-CB3E-4681-B116-D34E62563EE0}"/>
          <p:cNvPicPr/>
          <p:nvPr/>
        </p:nvPicPr>
        <p:blipFill>
          <a:blip r:embed="rId1"/>
          <a:stretch/>
        </p:blipFill>
        <p:spPr>
          <a:xfrm>
            <a:off x="1476360" y="1557360"/>
            <a:ext cx="7343640" cy="51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Оборудование временного укрытия лет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Урок по основам безопасности жизнедеятельности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Учитель ОБЖ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МБОУ «СОШ с.Псяк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Давыдов Р.Л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Ознакомить учащихся с видами временных жилищ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учить правильно сооружать временных жилищ и укрытий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Воспитывать бережное отношение к своему и у других здоровью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чебные вопро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Arial"/>
              </a:rPr>
              <a:t>Значение временного укрытия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Arial"/>
              </a:rPr>
              <a:t>Выбор место для укрытия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33"/>
                </a:solidFill>
                <a:latin typeface="Arial"/>
              </a:rPr>
              <a:t>Виды временных укрытий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920" y="609120"/>
            <a:ext cx="7770960" cy="14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чение временного жилища в условиях вынужденной автономии на прир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58920" y="2205000"/>
            <a:ext cx="461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Статистика свидетельствует, что люди, оказавшиеся в силу разных обстоятельств (заблудились, авария транспортного средства и т. д.) один на один с дикой природой, могут в течение длительного времени сохранять силы и надёжно защищать себя от неблагоприятных природных факторов, если построят временное укрытие, хотя бы простейшее. Возвести такое укрытие необходимо и потому, что спасателям с воздуха значительно легче обнаружить лагерь или убежище с сигнальными знаками, чем одинокую человеческую фигуру или даже группу людей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" name="Рисунок 4" descr="{B311C95E-D72C-42A1-AB37-5E2C63D4533E}"/>
          <p:cNvPicPr/>
          <p:nvPr/>
        </p:nvPicPr>
        <p:blipFill>
          <a:blip r:embed="rId1"/>
          <a:stretch/>
        </p:blipFill>
        <p:spPr>
          <a:xfrm>
            <a:off x="5940360" y="2637000"/>
            <a:ext cx="28749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бор место для временного жилищ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сто для лагеря должно отвечать нескольким требованиям, главное из которых — безопасность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Нельзя сооружать свой временный дом на речных отмелях, низменных берегах и островах, в руслах пересохших рек, на дне каньонов и узких щелей. Из-за проливных дождей уровень воды может подняться, и вашу стоянку - затопит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Лагерь нужно разбивать рядом с водой, но желательно не на низком берегу реки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Не стоит размещать лагерь рядом со звериными тропами: дикие животные могут принести немало неожиданных хлопот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Место должно быть защищен от ветров (спиной к ветру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Где меньше кровососущие насекомые (где ветер будет отгонять их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</a:rPr>
              <a:t>Место под большими деревьями опасно во время бури и грозы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 типы укрытий расставляют на против костра с наветренной сторо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7" descr="01Как"/>
          <p:cNvPicPr/>
          <p:nvPr/>
        </p:nvPicPr>
        <p:blipFill>
          <a:blip r:embed="rId1"/>
          <a:stretch/>
        </p:blipFill>
        <p:spPr>
          <a:xfrm>
            <a:off x="2050920" y="2133720"/>
            <a:ext cx="66182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05:34:59Z</dcterms:created>
  <dc:creator>User</dc:creator>
  <dc:description/>
  <dc:language>en-US</dc:language>
  <cp:lastModifiedBy>Радик</cp:lastModifiedBy>
  <dcterms:modified xsi:type="dcterms:W3CDTF">2013-03-24T07:52:11Z</dcterms:modified>
  <cp:revision>17</cp:revision>
  <dc:subject/>
  <dc:title>Временное жилище </dc:title>
</cp:coreProperties>
</file>