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788-5DD7-41CE-ADBB-CA22211A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D453-BB41-43E3-9361-82E4B732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E7E-0422-4C8A-AA48-5CC9B64A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F0FC-B36C-450B-BF56-EEB5D57E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180-F0B8-4796-B818-339FAD8B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00E9-67F4-460D-93FA-797457B4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9F66-4DAA-4CD7-A576-14E45CBE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B6E-8AED-4DD3-8BCA-0B7D46BB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68E-F42F-4ABD-A0C5-AF2DF7EC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8418-F9DE-4CA4-B898-6D426929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E533-FB00-47A1-8F7D-272C149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4191-18F2-48CC-9399-6A1DAFE7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13AA-A61A-4F66-95AF-0EF8BA47F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el1" descr=""/>
          <p:cNvPicPr/>
          <p:nvPr/>
        </p:nvPicPr>
        <p:blipFill>
          <a:blip r:embed="rId1"/>
          <a:stretch/>
        </p:blipFill>
        <p:spPr>
          <a:xfrm>
            <a:off x="0" y="0"/>
            <a:ext cx="6488280" cy="6524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5229360"/>
            <a:ext cx="101592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42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zagadki-pro-barana-150x120" descr=""/>
          <p:cNvPicPr/>
          <p:nvPr/>
        </p:nvPicPr>
        <p:blipFill>
          <a:blip r:embed="rId1"/>
          <a:stretch/>
        </p:blipFill>
        <p:spPr>
          <a:xfrm>
            <a:off x="2556000" y="836640"/>
            <a:ext cx="6588000" cy="6021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-3565440" y="-531720"/>
            <a:ext cx="3565440" cy="301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1146 0.47315 L 0.58473 0.69375 E">
                                      <p:cBhvr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760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2:20:23Z</dcterms:created>
  <dc:creator>Customer</dc:creator>
  <dc:description/>
  <dc:language>en-US</dc:language>
  <cp:lastModifiedBy>Customer</cp:lastModifiedBy>
  <dcterms:modified xsi:type="dcterms:W3CDTF">2016-02-18T13:13:11Z</dcterms:modified>
  <cp:revision>2</cp:revision>
  <dc:subject/>
  <dc:title>Слайд 1</dc:title>
</cp:coreProperties>
</file>