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C8F-6B50-4E24-B400-34E053AC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7F4-3325-44DD-830F-4F88136F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4F6-DADE-4FDD-BC6F-BCA9B46A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75A-2DFD-4715-B208-DC561D22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9399-5EA3-49FA-B3D7-160ED0D7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88E-B979-4022-BA70-000AD25F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D36D-8C57-43BB-893D-9CCD4B74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A92B-DEAA-447F-B5D9-CC1B4936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823-0FF2-4ECF-AC5D-5A8DF24A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692-18B6-4E25-AF5B-CD2F91CE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F3BC-06CB-43ED-9034-E27F3321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0F72-F187-432F-BFC7-615CC5C7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29F2-BB3F-450E-80DE-4782EEF34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bel1" descr=""/>
          <p:cNvPicPr/>
          <p:nvPr/>
        </p:nvPicPr>
        <p:blipFill>
          <a:blip r:embed="rId1"/>
          <a:stretch/>
        </p:blipFill>
        <p:spPr>
          <a:xfrm>
            <a:off x="0" y="0"/>
            <a:ext cx="6488280" cy="6524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24720" y="5229360"/>
            <a:ext cx="101592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142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zagadki-pro-barana-150x120" descr=""/>
          <p:cNvPicPr/>
          <p:nvPr/>
        </p:nvPicPr>
        <p:blipFill>
          <a:blip r:embed="rId1"/>
          <a:stretch/>
        </p:blipFill>
        <p:spPr>
          <a:xfrm>
            <a:off x="2556000" y="836640"/>
            <a:ext cx="6588000" cy="6021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3565440" y="-531720"/>
            <a:ext cx="3565440" cy="3017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18728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146 0.47315 L 0.58473 0.69375 E">
                                      <p:cBhvr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7607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8T12:20:23Z</dcterms:created>
  <dc:creator>Customer</dc:creator>
  <dc:description/>
  <dc:language>en-US</dc:language>
  <cp:lastModifiedBy>Customer</cp:lastModifiedBy>
  <dcterms:modified xsi:type="dcterms:W3CDTF">2016-02-18T13:13:11Z</dcterms:modified>
  <cp:revision>2</cp:revision>
  <dc:subject/>
  <dc:title>Слайд 1</dc:title>
</cp:coreProperties>
</file>