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AAB-D7B1-4D10-B2EE-A82F1045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6A4-9A17-4CC9-8937-6325B70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4E7-1894-4A76-B0DB-CC9B851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041-C866-40A5-8794-2C6DEFBB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7BFD-96A3-4CD9-8DBB-2D5658B9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E32C-14FE-43DE-AB7D-BAB203AA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DA4-F4A6-4596-84EA-4C1A7C6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EE5E-35D8-47C8-AED5-EB8CBCC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9702-CEE9-432E-81CB-0FBB9A8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9F07-2090-4751-A22B-88624CB8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85EB-5966-4F44-99E7-9E8BE4B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C08-177C-48BA-BB5E-A52C75D5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C79A-8A71-45A7-B719-1F206BA0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9ECD-57DF-4AC8-BC2A-643AFDB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FAE5-C06E-4AC5-A248-CAC9197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DA76-397F-4EC3-9BB6-BA8ED96E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255C-18FE-4FB2-BB17-F1D137B2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D0B-59D6-4D83-A135-7D7D4849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348-D6E1-40D7-99BA-F1BB4F42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F8C-254E-4F39-A83F-CD844911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E6D-A206-48D2-B3BC-7E129D3A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527-377A-4D22-901E-4D5E0DD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73F-38A6-4E47-9067-50FAE8B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2B8-23EA-4915-B078-591265C2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218-EAB8-4873-A620-88B557BAFA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586-122F-4E84-8D0A-420EA1E83D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88856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Необходимые знания, умения и навыки, повышающие безопасность человека при автономном существовании в природных условиях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6858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972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12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762120" y="76212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19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1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838080" y="8380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426708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знание основных способов добывания огня, умение развести костер и поддерживать его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Rounded MT Bold"/>
              </a:rPr>
              <a:t>умение обеспечить себя водой и питание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1981080"/>
            <a:ext cx="61722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Перегонное устройств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6567" t="33337" r="12505" b="10413"/>
          <a:stretch/>
        </p:blipFill>
        <p:spPr>
          <a:xfrm>
            <a:off x="1600200" y="20574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685800" y="1295280"/>
            <a:ext cx="7848720" cy="5105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ОХО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37080" y="30492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ОХ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097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3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33520" y="1447920"/>
            <a:ext cx="7772400" cy="4876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ох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5181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ГИГИЕН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умение управлять своими мыслями, чувствами, ощущениями и поступками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5825"/>
          <a:stretch/>
        </p:blipFill>
        <p:spPr>
          <a:xfrm>
            <a:off x="4572000" y="1371600"/>
            <a:ext cx="43434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знание основных сигналов бедствия и умение подать их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   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2532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знание способов ориентирования на местности и умение пользоваться ими для определения направления выхода к населенному пункту, реке или дорог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4847"/>
          <a:stretch/>
        </p:blipFill>
        <p:spPr>
          <a:xfrm>
            <a:off x="914400" y="2438280"/>
            <a:ext cx="7110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умение найти или соорудить временное жилище, отвечающее основным требованиям безопасности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25671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5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1143000" y="2362320"/>
            <a:ext cx="6858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066680" y="457200"/>
            <a:ext cx="6934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609480" y="399960"/>
            <a:ext cx="8153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099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8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90720" y="457200"/>
            <a:ext cx="7238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66680" y="533520"/>
            <a:ext cx="7239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671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765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10" descr=""/>
          <p:cNvPicPr/>
          <p:nvPr/>
        </p:nvPicPr>
        <p:blipFill>
          <a:blip r:embed="rId1">
            <a:lum contrast="40000"/>
          </a:blip>
          <a:srcRect l="0" t="0" r="0" b="4167"/>
          <a:stretch/>
        </p:blipFill>
        <p:spPr>
          <a:xfrm>
            <a:off x="533520" y="457200"/>
            <a:ext cx="8001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31T04:13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