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F017-97FD-413A-A931-85D1D924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238-1E3C-45D3-8D89-F0441916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324-BB63-405D-B252-EC80932B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C5D-F6F5-4770-8C52-5C6ECC73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1556-4D5D-47E1-A6B0-CDD9BCB5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6E46-C484-4494-952B-F08959FC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DADE-5EF5-4548-9BFF-D57412EB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A97-B1DE-499C-986F-E35F51F4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C06D-B0C8-4D83-BA16-A7D9ABFD6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9D7-8720-43B4-82C3-CFB6BD5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B6DD-0F5B-4669-99DF-C779552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4B9-EC18-466E-BDFD-AF34EE0C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2EFB-9B4B-41F7-A3E2-7D00AFF4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D9D3-15AC-4217-A06C-24D3222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9AE1-FA41-4468-BDAB-7FCAC0E0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B5B8-B133-41E0-9887-04914FBE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F6B8-68EC-4F88-90B5-7F95D4A2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86C-1A8D-417F-8DD0-B68DE505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FC51-9B4C-404B-9583-BC2D17A9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E9C8-25D6-4637-A300-C0DE04B3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235-F8C5-49BD-A141-386C762FE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143-9B24-49D5-A023-DB686414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AC5-7A75-4948-ABF9-EA8616D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612-59B8-407B-9CD1-31DCFA55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938F-4C5C-473B-A2E3-35A66CEB93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25E-DD43-47AE-A218-5E18F75BE56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8885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Необходимые знания, умения и навыки, повышающие безопасность человека при автономном существовании в природных условиях.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685800"/>
            <a:ext cx="7467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972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12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762120" y="762120"/>
            <a:ext cx="76197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19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1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838080" y="838080"/>
            <a:ext cx="7239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426708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основных способов добывания огня, умение развести костер и поддерживать его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36576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Rounded MT Bold"/>
              </a:rPr>
              <a:t>умение обеспечить себя водой и питанием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1981080"/>
            <a:ext cx="61722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Перегонное устройство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6567" t="33337" r="12505" b="10413"/>
          <a:stretch/>
        </p:blipFill>
        <p:spPr>
          <a:xfrm>
            <a:off x="1600200" y="2057400"/>
            <a:ext cx="60958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685800" y="1295280"/>
            <a:ext cx="7848720" cy="51055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685800" y="1371600"/>
            <a:ext cx="784872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637080" y="304920"/>
            <a:ext cx="17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20976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3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33520" y="1447920"/>
            <a:ext cx="7772400" cy="4876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охот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17220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ГИГИЕ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умение управлять своими мыслями, чувствами, ощущениями и поступками</a:t>
            </a:r>
            <a:br>
              <a:rPr sz="4000"/>
            </a:br>
            <a:br>
              <a:rPr sz="40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5825"/>
          <a:stretch/>
        </p:blipFill>
        <p:spPr>
          <a:xfrm>
            <a:off x="4572000" y="1371600"/>
            <a:ext cx="43434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основных сигналов бедствия и умение подать их.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   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4114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2532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 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знание способов ориентирования на местности и умение пользоваться ими для определения направления выхода к населенному пункту, реке или дороге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0" t="0" r="0" b="4847"/>
          <a:stretch/>
        </p:blipFill>
        <p:spPr>
          <a:xfrm>
            <a:off x="914400" y="2438280"/>
            <a:ext cx="7110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• </a:t>
            </a: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умение найти или соорудить временное жилище, отвечающее основным требованиям безопасности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25671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5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1143000" y="2362320"/>
            <a:ext cx="6858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066680" y="457200"/>
            <a:ext cx="69343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609480" y="399960"/>
            <a:ext cx="81536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09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8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990720" y="457200"/>
            <a:ext cx="723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066680" y="533520"/>
            <a:ext cx="7239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6716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7656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10" descr=""/>
          <p:cNvPicPr/>
          <p:nvPr/>
        </p:nvPicPr>
        <p:blipFill>
          <a:blip r:embed="rId1">
            <a:lum contrast="40000"/>
          </a:blip>
          <a:srcRect l="0" t="0" r="0" b="4167"/>
          <a:stretch/>
        </p:blipFill>
        <p:spPr>
          <a:xfrm>
            <a:off x="533520" y="457200"/>
            <a:ext cx="800100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1-31T04:13:02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