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92D1-2F73-4632-AADC-67D1892CC6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9161-A872-487E-BD8A-EFDA99AE2A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6A5C-1D94-4C6E-B4AE-F1474D046F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B064-1E79-4AD1-B0D5-FBB91777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D01-B584-46EF-B42E-EB9143E7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07B7-3808-4A21-9C86-98FB460C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86CF-D434-4E9E-9BDD-15AE50FD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84FA-15E9-40D7-82D0-644F7FF8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D080-9417-4C6F-A05F-CD4906FE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052F-86D6-4033-9868-04AC6FBF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8057-ACE9-4D0C-B31F-366E3E79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498C-694A-41C1-A422-80CB5F7A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95EE-998F-4900-9815-CE8038C7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31B3-C0B7-459B-9936-B90981F0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6111-169F-4CB2-B876-A8F4A920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36AA-1A7F-407E-917E-F6A8BA80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A08D-FC04-4E2A-9D23-B9D55A87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FEED-7367-4BE9-A216-BCE05C4F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58F2-AE09-42DE-8D2C-D6F50EC6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E94A-D6C0-416B-8B03-2E4E07B8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7DDB5-70FB-4CBB-8212-282C121F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7D3AF-EB57-4A14-8044-B2A57754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4447B-6B86-4830-ADAE-2EA93C0D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38792-8440-4A66-876E-5B13C681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F28037-EB01-4C02-A072-F0192D8C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8ABB-0089-4D5E-8C4C-AC9499A7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4BE80-ABBA-4CBF-9613-39C89692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D79B8-9F7C-4296-9D3F-446A0E6E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8C953-719B-4BB4-97C1-D2ACB163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FC513-E7AA-41F3-9831-A50E90E5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DF36C-58C3-4945-9A85-8F4C5739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FDD09-64D0-468C-BBFE-5EB0D597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F2A65-9080-4E6C-9BCB-644E4D22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93CD1F-EC8E-4DAE-A6D0-9F8C72B1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44CD61-970A-413F-B0C4-4C7A522B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421DC7-854E-4C53-9A0A-886E5C45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9116-E06A-4A4B-ABAB-94777E85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4F742F-CB14-428C-8D21-5568E31D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C5D0B6-6FD6-48EC-BA25-01C733E6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49A8FB-851D-47E8-AE98-FF7BFF7C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ADDF84-1FC9-4613-9698-EA30AD44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37255A-E247-40D5-882F-F3223429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2D9569-E129-43AF-B5D9-60770AD4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7FA221-F7AF-40F6-82F6-E41B949B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1F4B8A-C7D8-4E43-B08A-E29EB4CB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82FE75-5DF5-4DCD-A769-C423CA7B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BB37B5-759A-4E46-976D-58F17AED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C0DD-2FBC-4072-A6AA-3870E544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4A19EF-08B3-4E68-B9EF-52ED05DD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F79615-F037-46A1-A0B7-15D5C3F0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AD6DA3-00F7-492B-AB94-DBB80B3B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386568-49B0-4C59-A9D8-9254FDC8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E6B83F-ABDD-4A7C-9E9B-F4343C0E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372B80-49DF-4252-BB79-75E7C5A0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07F23B-32B8-42C5-AE2C-94B4B2A6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12E2F6-1D4E-4022-AAC9-3CC5DAF7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4D432B-CBDB-458E-B3A0-3F6A18A2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D69D35-D541-4902-A294-D7416FB9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E9D9-EDB4-44AC-8129-1A641CBF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68481A-6971-4DB0-AF1D-A67192B8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FEB07-3ACC-4C9D-8F93-5EE8FCFF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772F6-6C87-45E2-B857-77997557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1888A-A5A7-4300-8260-D118E0A8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CBA58-59D7-45FE-BCF3-EA3F997A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F2E87-254B-4242-B707-1821E8E5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68E5B-6703-4BE9-950C-C8494251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CB3DA-558E-40C0-BFA2-A4517829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E8B2A-C0BE-4698-A51E-9C0450A3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5293C-A7FE-465D-AB02-B6A3F554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F511-E7B2-48AE-88C3-27E5B3E6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26EDF-B156-4C08-A429-9EF7F525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728E4-E58F-4585-BDFA-BB3C4574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4E238-BCAD-420F-B125-A8AB1FE1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9010AC-1A96-4F13-BDC4-6E324A5A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B7872C-6F30-450B-8AFE-CECECAC7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ECCD63-0B35-4E6C-BCFD-079BC75D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DFFB7D-7C36-4835-AB31-06BD5E09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52178F-5E8E-4B00-BFEA-2EFEC9FB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9863F3-9344-48B4-8BAB-CD28FC7A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BFEF87-EE82-4AA3-A379-F602C125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DC2D-366C-4027-8E0C-A81845CC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2805AB-823B-433E-A6D0-ADDAEED1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9DA952-C70C-46C9-972D-1A2BE983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363C58-E3EF-4E60-A78B-989F50D4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785205-A3EF-4BA5-A7D1-5AA02586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A5847F-83F1-4796-AEED-4FEE8BFC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9C522-F095-4244-9DC3-C80279C3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32CAB-085A-4EE8-9B7A-769C122E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44D3B-A662-41FB-8B6F-399C923F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A7F91-8D3E-4093-9849-2F673151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6F23B-0052-403B-B643-C79B4BF8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1E12-E8AC-4CC6-BB8F-64D392D6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610B3-8350-4666-A573-6E331D50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A8933-8851-4B23-AF11-046CEDBC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2258C-CB80-491A-9CB7-5AA4BA73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5F779-DFEE-47E9-9994-D2042821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A20F5-8BF5-4922-9A04-04F902A4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872CE-9911-40CD-A3FC-46B9168C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C94D6-096E-4385-BFF7-C61911C8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32E3-F5C0-4C4C-BC73-886C89A171EF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3050-FDEB-4CD6-A1D6-5342B5DEF1DE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BB9B-E7A4-44C9-88F8-54B2BE5AF3CB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F0A4-1774-4116-8DA9-8863DDF6362E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020D-B31D-43C9-8B60-A5861F1000AB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842F-2BD4-46DD-B28A-D95257E6910E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5EB6-E074-47EC-B13D-2027DB0488F6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C010-46BF-4142-9F24-2DFF86457741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99972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bddc3"/>
                </a:solidFill>
                <a:latin typeface="Calibri"/>
              </a:rPr>
              <a:t>ПОДГОТОВКА К СОЧИНЕНИЮ </a:t>
            </a:r>
            <a:br>
              <a:rPr sz="4400"/>
            </a:br>
            <a:r>
              <a:rPr b="1" lang="ru-RU" sz="4400" spc="-1" strike="noStrike">
                <a:solidFill>
                  <a:srgbClr val="ebddc3"/>
                </a:solidFill>
                <a:latin typeface="Calibri"/>
              </a:rPr>
              <a:t>ПО КАРТИНЕ Ф. П. ТОЛСТОГО «ЦВЕТЫ, ФРУКТЫ, ПТИЦА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Отгадайте загадку 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Если видишь на картин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амовар ты на столе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ли виноград в корзине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ли розу в хрустале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ли бронзовую вазу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ли грушу, или торт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ли все предметы сразу – знай, что это ___________________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2560" y="1571400"/>
            <a:ext cx="862308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70c0"/>
                </a:solidFill>
                <a:latin typeface="Calibri"/>
              </a:rPr>
              <a:t>Ю Н Т М А Р О Т Р</a:t>
            </a:r>
            <a:r>
              <a:rPr b="0" lang="ru-RU" sz="5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ru-RU" sz="5400" spc="-1" strike="noStrike">
                <a:solidFill>
                  <a:srgbClr val="0070c0"/>
                </a:solidFill>
                <a:latin typeface="Calibri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70c0"/>
                </a:solidFill>
                <a:latin typeface="Calibri"/>
              </a:rPr>
              <a:t>М К П О З Ц Я О И 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4"/>
          <p:cNvSpPr/>
          <p:nvPr/>
        </p:nvSpPr>
        <p:spPr>
          <a:xfrm>
            <a:off x="2698560" y="3244680"/>
            <a:ext cx="37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Подготовка к описанию кар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7" descr="C:\Documents and Settings\Titov\Рабочий стол\Безымянный.bmp"/>
          <p:cNvPicPr/>
          <p:nvPr/>
        </p:nvPicPr>
        <p:blipFill>
          <a:blip r:embed="rId2"/>
          <a:stretch/>
        </p:blipFill>
        <p:spPr>
          <a:xfrm>
            <a:off x="285840" y="214200"/>
            <a:ext cx="10620360" cy="76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атюрморт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картина с изображением крупным планом цветов, фруктов, битой дичи, рыбы и т.п. предме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едальер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это мастер по производству медалей и мон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кульптор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художник, занимающийся скульптур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вер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художник, мастер, занимающийся гравировк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Опишите рисунок по плану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Что видишь на рисунке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кое оперение у птицы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кого цвета  растения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кого цвета фон рисунка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вое отношение к рисунку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олстой Федор Петрович (1783-187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C:\Documents and Settings\Titov\Рабочий стол\465px-Fedor_Petrovich_Tolstoy_b.jpg"/>
          <p:cNvPicPr/>
          <p:nvPr/>
        </p:nvPicPr>
        <p:blipFill>
          <a:blip r:embed="rId2"/>
          <a:stretch/>
        </p:blipFill>
        <p:spPr>
          <a:xfrm>
            <a:off x="1571760" y="0"/>
            <a:ext cx="70009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Толстой Федор Петрович (1783-1873) 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лстой (граф Федор Петрович) - медальер, скульптор, живописец, гравер, один из наиболее влиятельных деятелей в области русского искусства (1783 - 1873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оначальное образование он получил в родительском доме в Санкт-Петербург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переставая заниматься рисованием, Толстой стал посещать классы академии в качестве вольноприходящего ученика. 1806 г. он обратил на себя внимание императора Александра I , который определил его на службу в Эрмитаж, а в 1809 г. в монетный департамент, медальер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истории русского искусства граф Толстой занимает одно из самых видных мест не только как даровитый, просвещенный и многосторонний художник. Как рисовальщик и гравер, граф выказал свое искусство в 63 гравированных им с собственных рисунков иллюстрациях большого формата к поэме Богдановича «Душенька», в картинках к стихотворениям Н. Щербины. Образчиком его живописи может служить картина, изображающая перспективу комнат с портретами его самого, его первой жены и двух дочерей (находится в музее императора Александра III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РАБОТА С ПЛАНАМ СОЧИНЕНИ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71680" y="1643040"/>
            <a:ext cx="815328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. Краткая информация о художник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Содержимое 2"/>
          <p:cNvSpPr/>
          <p:nvPr/>
        </p:nvSpPr>
        <p:spPr>
          <a:xfrm>
            <a:off x="500040" y="2214720"/>
            <a:ext cx="815328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. Композиция натюрморт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)цветы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Б)бабочка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) птичка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Г) гусеница и мушк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одержимое 2"/>
          <p:cNvSpPr/>
          <p:nvPr/>
        </p:nvSpPr>
        <p:spPr>
          <a:xfrm>
            <a:off x="500040" y="4929120"/>
            <a:ext cx="81532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3. Удивительная тайна картины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7:47:01Z</dcterms:created>
  <dc:creator>Titov</dc:creator>
  <dc:description/>
  <dc:language>en-US</dc:language>
  <cp:lastModifiedBy>Пользователь</cp:lastModifiedBy>
  <dcterms:modified xsi:type="dcterms:W3CDTF">2014-12-12T05:50:03Z</dcterms:modified>
  <cp:revision>34</cp:revision>
  <dc:subject/>
  <dc:title>ПОДГОТОВКА К СОЧИНЕНИЮ  ПО КАРТИНЕ Ф. П. ТОЛСТОГО «ЦВЕТЫ, ФРУКТЫ, ПТИЦА»  </dc:title>
</cp:coreProperties>
</file>