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jpeg" ContentType="image/jpeg"/>
  <Override PartName="/ppt/media/image22.gif" ContentType="image/gif"/>
  <Override PartName="/ppt/media/image20.jpeg" ContentType="image/jpeg"/>
  <Override PartName="/ppt/media/image19.jpeg" ContentType="image/jpeg"/>
  <Override PartName="/ppt/media/image42.jpeg" ContentType="image/jpeg"/>
  <Override PartName="/ppt/media/image28.jpeg" ContentType="image/jpeg"/>
  <Override PartName="/ppt/media/image27.gif" ContentType="image/gif"/>
  <Override PartName="/ppt/media/image18.png" ContentType="image/png"/>
  <Override PartName="/ppt/media/image6.jpeg" ContentType="image/jpeg"/>
  <Override PartName="/ppt/media/image21.jpeg" ContentType="image/jpeg"/>
  <Override PartName="/ppt/media/image17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0.gif" ContentType="image/gif"/>
  <Override PartName="/ppt/media/image43.jpeg" ContentType="image/jpeg"/>
  <Override PartName="/ppt/media/image44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26.jpeg" ContentType="image/jpeg"/>
  <Override PartName="/ppt/media/image48.gif" ContentType="image/gif"/>
  <Override PartName="/ppt/media/image13.gif" ContentType="image/gif"/>
  <Override PartName="/ppt/media/image49.jpeg" ContentType="image/jpeg"/>
  <Override PartName="/ppt/media/image30.gif" ContentType="image/gif"/>
  <Override PartName="/ppt/media/image12.jpeg" ContentType="image/jpeg"/>
  <Override PartName="/ppt/media/image5.jpeg" ContentType="image/jpeg"/>
  <Override PartName="/ppt/media/image50.png" ContentType="image/png"/>
  <Override PartName="/ppt/media/image3.jpeg" ContentType="image/jpeg"/>
  <Override PartName="/ppt/media/image37.jpeg" ContentType="image/jpeg"/>
  <Override PartName="/ppt/media/image16.jpeg" ContentType="image/jpeg"/>
  <Override PartName="/ppt/media/image9.gif" ContentType="image/gif"/>
  <Override PartName="/ppt/media/image33.jpeg" ContentType="image/jpeg"/>
  <Override PartName="/ppt/media/image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21FD-0AAC-4725-8238-8403AB953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62A-9BC5-4639-B9E7-C35EDF5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C94-569C-4A97-AD84-41867420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1A2-FDB5-4465-836F-BE6761C6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B39F-B1B4-46D8-A845-DF28E266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3D0E-3AC6-432B-9EBA-B58C1FC2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3E32-74DB-4936-8B43-08D7DA6D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CAEE-C486-4239-BA77-B24CF084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E83E-DE01-4CBA-B3A3-72455A52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3DA3-EF3D-4090-A9EF-5AC2C27B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8ECD8-5C67-40C4-BDE7-E204EE36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F09-9DEA-4B29-A6FB-54B6FEBA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A4CA-1F89-4DB0-A4D1-13EA77BF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A945-86E7-47A9-80C2-011A44B6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42F0-5FEE-4970-96D3-DC1C6448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9E35-4D2A-4BF8-B19F-BE70DE57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C5EF-5A02-4539-80B5-FD01D626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E7731-7A93-4C7E-BA5D-A633841F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5FD00-0889-4F46-9897-5BBDEC96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08F54-6D2E-46A6-9BFD-86934723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1F763-4AF3-40C7-B3DE-43759100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58870-E585-4DA1-8B64-B64D591C2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BD5-3FE3-43F7-812C-6D3F8382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DDEF-7FD8-4F6C-99A9-29A1C960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5991-2E91-40FC-B628-CA112B42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57F4-988C-4A2F-BF09-0FEF733E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9C496-8DA4-4548-8D66-D69C978F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A7A0E-1BA5-4885-AAAB-311DC0DD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92465-6D40-4BF3-8753-3BDF34A5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E95B-DF8D-48BC-8C6E-8E2678BF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F7B-5C3C-4D21-83EB-296897FD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9F9-FA14-489C-A63E-47E050F2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227-685F-487F-B8C0-1AC326E6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375-070B-407F-A9FD-569F0C1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C774-0266-4662-A259-C864940D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859-3A6C-4301-9D6E-13C08B7F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8DEF-2C06-479C-B9DD-A172FF42E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8D60-94FF-4D34-97E0-E4C9236C829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2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2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AB12-455A-4A18-805A-B8ED571D50A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gif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20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ндриян Григорьевич Николаев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94920" y="5300280"/>
            <a:ext cx="8209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ЧĂВАШ ЯТНЕ ТĔНЧЕ УÇЛĂХНЕ ÇĔКЛЕНĔ ПАТТĂ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76720" y="1989000"/>
            <a:ext cx="219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ЗАДАНИЕ ПУРНĂÇЛАНĂ!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00720" y="1267920"/>
            <a:ext cx="4186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2 çулхи авăнăн 11-15 – мĕшĕсенче «ВОСТОК-3» космос карапĕ çинче хăйĕн пĕрремĕш космос вĕçевне тухнă. Тĕнчере пĕрремĕш ушкăнлă космос карапĕсен («Восток-3» тата «Восток-4») вĕçевне хутшăннă. Космосра 3 талăк та 22 сехет те 22 минут вăхăт ирттернĕ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4103640" cy="225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340000" y="4005360"/>
            <a:ext cx="2519280" cy="1888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179280" y="3645000"/>
            <a:ext cx="1805040" cy="2708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5364000" y="4292640"/>
            <a:ext cx="2381400" cy="2400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ÇĂЛТĂРЛĂ ÇЕМ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63-мĕш çулта çемье çавă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ĕрремĕш хĕрарăм-космонавта – Валентина Тарешковăна – качча и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ĕсен пĕртен-пĕр хĕр Алёнушка çуралать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372360" y="1413000"/>
            <a:ext cx="1447560" cy="285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3995640" y="1413000"/>
            <a:ext cx="1847880" cy="287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6156360" y="4533840"/>
            <a:ext cx="2398680" cy="1871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3492360" y="4508640"/>
            <a:ext cx="2521080" cy="18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ПĔРРЕМĔШ ВĔÇЕВРЕН – ТЕПĔР ВĔÇЕВЧЧЕН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3-1968 çулсенче космонавтсен ушкăнĕн командирĕ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Ĕçленĕ чухнех 1968 çулта Çар-вĕçевçĕ инженерсен Н. Е. Жуковский ячĕллĕ академинчен вĕренсе тухн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8 - 1974 çулсенче - космонавтсене хатĕрлекен Ю. А. Гагарин ячĕллĕ Тĕпĕн пуçлăхĕң çумĕ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йăх çине вĕçме хатĕрленнĕ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69 çулхи чÿк уйăхĕнче СОЮЗ-8 карапăн дубль экипажăн командирĕ пулн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598920" cy="2840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468360" y="1557360"/>
            <a:ext cx="3600360" cy="2293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ККĔМĔШ ВĔÇ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32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70 çулхи çĕртме уйăхĕн 1 - 19-мĕшĕсенче СОЮЗ-9 карапăн экипажăн командирĕ пулса Виталий Севостьянов борт-инженерпа пĕрле вăл вăхăтри чи тăсăк космос вĕçевне иртернĕ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Çĕр çине ансан космонавтсем хăйсене питĕ начар туйнă, урисемпе утайми пулнă. Çак амаклăха медицина литературинче «Николаев ээффекчĕ» теме йышăнн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ĕçевĕ 17 талăк та 16 сехет те 58 минут та 55 секунд пын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ĕтĕмпе космосра - икĕ хут хăпарса -21 талăк та 15 сехет те 20 минут та 55 секунд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74 çултанпа - космонавтсене хатĕрлекен Ю.А.Гагарин ячĕллĕ Тĕпĕн пуçлăхĕн пĕрремĕш çумĕ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88000" y="1484280"/>
            <a:ext cx="1990800" cy="29815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643280" y="4941720"/>
            <a:ext cx="2089440" cy="14083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7020000" y="184464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6877080" y="4365720"/>
            <a:ext cx="1944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ЧĂВАШСЕМ МУХТАВЛĂ ЫВĂЛА МАНМАÇÇĔ!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уршăлти космонавтика музейне А.Г.Николаев ятчĕпе уç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кулсем, библиотекăсем А.Г.Николаев ячĕпе хисепленсе тă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ĕрлĕрен памятниксем ларт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çĕнĕрен-çĕнĕ кĕнекесем тух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стăвăм каçĕсем иртте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çакă мар-и вара вăл чыс, хисеп, мухтав тата халăх юратăвĕ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284720" y="1628640"/>
            <a:ext cx="1942920" cy="1457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516720" y="907920"/>
            <a:ext cx="1747800" cy="2189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4788000" y="3213000"/>
            <a:ext cx="1211040" cy="18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1" name="" descr=""/>
          <p:cNvPicPr/>
          <p:nvPr/>
        </p:nvPicPr>
        <p:blipFill>
          <a:blip r:embed="rId5"/>
          <a:stretch/>
        </p:blipFill>
        <p:spPr>
          <a:xfrm>
            <a:off x="6804000" y="3284640"/>
            <a:ext cx="1195560" cy="1800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2" name="" descr=""/>
          <p:cNvPicPr/>
          <p:nvPr/>
        </p:nvPicPr>
        <p:blipFill>
          <a:blip r:embed="rId6"/>
          <a:stretch/>
        </p:blipFill>
        <p:spPr>
          <a:xfrm>
            <a:off x="4140360" y="5300640"/>
            <a:ext cx="2047680" cy="1360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7"/>
          <a:stretch/>
        </p:blipFill>
        <p:spPr>
          <a:xfrm>
            <a:off x="6516720" y="5278320"/>
            <a:ext cx="2046240" cy="1357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Эпиграф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Чуна парса вĕренер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Чуна парса ĕçлер,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Кăмăл-сипетп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Ăс-тăнпа пурăнар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ccff"/>
                </a:solidFill>
                <a:latin typeface="Verdana"/>
              </a:rPr>
              <a:t>                         </a:t>
            </a:r>
            <a:r>
              <a:rPr b="1" i="1" lang="ru-RU" sz="3200" spc="-1" strike="noStrike">
                <a:solidFill>
                  <a:srgbClr val="66ccff"/>
                </a:solidFill>
                <a:latin typeface="Verdana"/>
              </a:rPr>
              <a:t>(«Тантăш» хаçатран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-609480" y="-457200"/>
            <a:ext cx="9753480" cy="73152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 rot="20158200">
            <a:off x="5364000" y="3644640"/>
            <a:ext cx="3445200" cy="13762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rot="19975200">
            <a:off x="0" y="2924280"/>
            <a:ext cx="687240" cy="67284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-612720" y="3933720"/>
            <a:ext cx="5616360" cy="3024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88360" y="0"/>
            <a:ext cx="755640" cy="6573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812000" y="0"/>
            <a:ext cx="1116000" cy="86364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08720" y="0"/>
            <a:ext cx="1262160" cy="100800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-720"/>
            <a:ext cx="8037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2e614"/>
                </a:solidFill>
                <a:latin typeface="Arial"/>
              </a:rPr>
              <a:t>         </a:t>
            </a:r>
            <a:r>
              <a:rPr b="1" i="1" lang="ru-RU" sz="6000" spc="-1" strike="noStrike">
                <a:solidFill>
                  <a:srgbClr val="d2e614"/>
                </a:solidFill>
                <a:latin typeface="Arial"/>
              </a:rPr>
              <a:t>«Космонавтсенчен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d2e614"/>
                </a:solidFill>
                <a:latin typeface="Arial"/>
              </a:rPr>
              <a:t>ырă тĕслĕх    илер»</a:t>
            </a:r>
            <a:r>
              <a:rPr b="1" lang="ru-RU" sz="6000" spc="-1" strike="noStrike">
                <a:solidFill>
                  <a:srgbClr val="d2e614"/>
                </a:solidFill>
                <a:latin typeface="Arial"/>
              </a:rPr>
              <a:t>       </a:t>
            </a:r>
            <a:r>
              <a:rPr b="1" i="1" lang="ru-RU" sz="6000" spc="-1" strike="noStrike">
                <a:solidFill>
                  <a:srgbClr val="d2e614"/>
                </a:solidFill>
                <a:latin typeface="Arial"/>
              </a:rPr>
              <a:t>вăйă</a:t>
            </a:r>
            <a:r>
              <a:rPr b="1" i="1" lang="ru-RU" sz="1800" spc="-1" strike="noStrike">
                <a:solidFill>
                  <a:srgbClr val="d2e61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урча         Шуршăл        Шуркасс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5335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7913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1. Андриян Григорьевич Николаев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çуралнă ял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4495680"/>
            <a:ext cx="2502000" cy="19051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5181480"/>
            <a:ext cx="838080" cy="762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3124080"/>
            <a:ext cx="876312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Шупашкар       Муркаш      Сĕнтĕрвăрр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767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37339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2. Андриян Григорьевич Николаев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хăш район çынни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95480" y="4495680"/>
            <a:ext cx="2502000" cy="19051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5181480"/>
            <a:ext cx="838080" cy="762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ебоксары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омсомольско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аринский Посад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457200" y="3581280"/>
            <a:ext cx="533520" cy="533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46483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7913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3. Сĕнтĕрвăрри вырăсла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мĕнле куçарăнать?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4419720"/>
            <a:ext cx="2502000" cy="190476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105520"/>
            <a:ext cx="838080" cy="7617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кулай          Кĕркури         Петĕ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3733920"/>
            <a:ext cx="53316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37339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00800" y="37339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4. Андриян Григорьевич Николаев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космонавтăн ашшĕ ячĕ?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4495680"/>
            <a:ext cx="2502000" cy="19051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5181480"/>
            <a:ext cx="838080" cy="762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ccff"/>
                </a:solidFill>
                <a:latin typeface="Arial"/>
              </a:rPr>
              <a:t>1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вел Романович Попови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ндриян Григорьевич Николае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Юрий Алексеевич Гагари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3733920"/>
            <a:ext cx="533520" cy="53316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4572000"/>
            <a:ext cx="533520" cy="533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5410080"/>
            <a:ext cx="533520" cy="5335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523880"/>
            <a:ext cx="81532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5. Чăваш ятне тĕнче уçлăх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çĕкленĕ паттăр?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4572000"/>
            <a:ext cx="2501640" cy="1905120"/>
          </a:xfrm>
          <a:prstGeom prst="star5">
            <a:avLst/>
          </a:prstGeom>
          <a:gradFill rotWithShape="0">
            <a:gsLst>
              <a:gs pos="0">
                <a:srgbClr val="ffff00"/>
              </a:gs>
              <a:gs pos="100000">
                <a:srgbClr val="e218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5257800"/>
            <a:ext cx="838440" cy="7621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35812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1. Туслăх çынна çунат …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Arial"/>
              </a:rPr>
              <a:t>хуш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975200">
            <a:off x="533160" y="304920"/>
            <a:ext cx="687240" cy="67284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1989 C 0.02066 -0.03631 0.03542 -0.0377 0.04618 -0.04048 C 0.04809 -0.04094 0.05 -0.04163 0.05191 -0.04256 C 0.05382 -0.04348 0.05539 -0.04556 0.05747 -0.04626 C 0.06164 -0.04741 0.06598 -0.04741 0.07014 -0.04811 C 0.08889 -0.04741 0.10782 -0.04741 0.12657 -0.04626 C 0.13386 -0.04579 0.14792 -0.03562 0.15747 -0.03307 C 0.16285 -0.02845 0.1665 -0.02729 0.17292 -0.02567 C 0.17848 -0.01827 0.18681 -0.01735 0.1941 -0.01434 C 0.20608 -0.00972 0.21511 -0.00648 0.22795 -0.00486 C 0.28143 0.01503 0.34011 0.01318 0.3941 -0.00486 C 0.39861 -0.01134 0.40556 -0.01596 0.41094 -0.02174 C 0.41632 -0.02752 0.42032 -0.03585 0.42657 -0.03863 C 0.43334 -0.0525 0.42934 -0.04741 0.43785 -0.05551 C 0.44167 -0.06591 0.44601 -0.07586 0.45052 -0.08557 C 0.45226 -0.0895 0.45504 -0.09251 0.45608 -0.0969 C 0.45834 -0.10569 0.4592 -0.11564 0.4632 -0.12304 C 0.47327 -0.17091 0.4941 -0.25902 0.45191 -0.27313 C 0.4415 -0.28701 0.41997 -0.28516 0.40677 -0.28631 C 0.40486 -0.28701 0.40313 -0.28816 0.40122 -0.28816 C 0.38334 -0.28816 0.36545 -0.28863 0.34757 -0.28631 C 0.34584 -0.28608 0.34601 -0.28238 0.3448 -0.28076 C 0.34063 -0.27521 0.33941 -0.2766 0.33629 -0.27128 C 0.32587 -0.25278 0.33473 -0.26573 0.32795 -0.25625 C 0.32535 -0.24584 0.3198 -0.23728 0.31528 -0.22826 C 0.31146 -0.2204 0.30938 -0.21254 0.30261 -0.20953 C 0.29896 -0.20467 0.29618 -0.20213 0.29132 -0.20005 C 0.28681 -0.19427 0.28438 -0.19057 0.27865 -0.18687 C 0.27691 -0.18016 0.27865 -0.18132 0.27431 -0.18132 E">
                                      <p:cBhvr>
                                        <p:cTn id="45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3581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2. Юлташна ан пăрах, юлмăн ……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хăр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9975200">
            <a:off x="533160" y="304920"/>
            <a:ext cx="687240" cy="67284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018 C 0.00035 -0.01249 0.00139 -0.02197 0.00278 -0.02521 C 0.00643 -0.03377 0.00677 -0.03053 0.00973 -0.03839 C 0.01129 -0.04256 0.01111 -0.04741 0.01268 -0.05158 C 0.01511 -0.05782 0.02118 -0.06938 0.02535 -0.07401 C 0.02795 -0.07702 0.03091 -0.07887 0.03368 -0.08141 C 0.03889 -0.08603 0.05209 -0.08534 0.05209 -0.08511 C 0.07466 -0.08349 0.09705 -0.08141 0.11962 -0.07956 C 0.12865 -0.07887 0.1375 -0.0717 0.14636 -0.07031 C 0.1717 -0.06661 0.19688 -0.06129 0.2224 -0.05898 C 0.27813 -0.03516 0.33976 -0.04209 0.39427 -0.06638 C 0.404 -0.07563 0.39219 -0.06545 0.40417 -0.07216 C 0.40955 -0.07517 0.41441 -0.07979 0.41962 -0.08326 C 0.4224 -0.08511 0.42535 -0.08719 0.42813 -0.08904 C 0.43004 -0.0902 0.43368 -0.09274 0.43368 -0.09251 C 0.4408 -0.10708 0.43108 -0.0902 0.44219 -0.10014 C 0.44358 -0.10153 0.44375 -0.1043 0.44497 -0.10592 C 0.44757 -0.10986 0.45018 -0.11425 0.45348 -0.11726 C 0.45486 -0.11841 0.45643 -0.11934 0.45764 -0.12096 C 0.46598 -0.13206 0.47309 -0.14593 0.48299 -0.15472 C 0.4849 -0.16235 0.49063 -0.16721 0.49566 -0.1716 C 0.49931 -0.18594 0.50157 -0.20375 0.4915 -0.21277 C 0.48716 -0.22179 0.48507 -0.22549 0.47743 -0.22965 C 0.47014 -0.2389 0.45886 -0.24214 0.44914 -0.24468 C 0.44618 -0.24677 0.43941 -0.25139 0.43646 -0.25232 C 0.43091 -0.25417 0.41962 -0.25602 0.41962 -0.25579 C 0.39306 -0.25463 0.3875 -0.26642 0.3816 -0.24283 C 0.38108 -0.23035 0.38177 -0.21763 0.38021 -0.20537 C 0.37986 -0.20282 0.37622 -0.20213 0.37605 -0.19959 C 0.375 -0.18779 0.37657 -0.18849 0.38021 -0.18849 E">
                                      <p:cBhvr>
                                        <p:cTn id="55" dur="20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066680" y="3200400"/>
            <a:ext cx="73915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3. Пĕччен йывăçа çи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ытларах …..</a:t>
            </a:r>
            <a:r>
              <a:rPr b="1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  <a:ea typeface="Arial"/>
              </a:rPr>
              <a:t>тустарать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629400" y="54100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93802E-007 C 0.01302 0.00093 0.01615 0.00278 0.02813 0.00463 C 0.0382 0.00694 0.04618 0.00902 0.05643 0.01041 C 0.06407 0.01249 0.05973 0.01156 0.07188 0.01249 C 0.08039 0.01341 0.09723 0.0148 0.09723 0.01503 C 0.13664 0.02613 0.15816 0.01619 0.18872 0.00671 C 0.19393 0.00278 0.19948 -0.00092 0.20573 -0.0037 C 0.20712 -0.00509 0.20834 -0.00671 0.2099 -0.00832 C 0.21111 -0.00902 0.21302 -0.00925 0.21407 -0.01041 C 0.21806 -0.01503 0.21598 -0.01573 0.21841 -0.01989 C 0.2191 -0.02081 0.22032 -0.02197 0.22118 -0.02336 C 0.22223 -0.02451 0.22309 -0.02613 0.22396 -0.02798 C 0.22657 -0.0451 0.22986 -0.06244 0.23247 -0.08002 C 0.23247 -0.07979 0.23559 -0.10731 0.22813 -0.11586 C 0.22084 -0.12396 0.20955 -0.13182 0.19861 -0.13668 C 0.19341 -0.13899 0.18716 -0.13899 0.18177 -0.14107 C 0.16858 -0.14662 0.17414 -0.14431 0.16476 -0.14824 C 0.15434 -0.1524 0.12795 -0.15379 0.11545 -0.15495 C 0.01459 -0.15379 0.05486 -0.15981 0.00712 -0.14709 C 0.00226 -0.14315 -0.00139 -0.13968 -0.00555 -0.13552 C -0.0085 -0.13228 -0.00937 -0.12905 -0.01267 -0.12604 C -0.01475 -0.12095 -0.0125 -0.12396 -0.01823 -0.12049 C -0.01927 -0.1198 -0.02118 -0.11795 -0.02118 -0.11771 E">
                                      <p:cBhvr>
                                        <p:cTn id="6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35812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4. Туссăр çын - туратсăр ……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йывă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9975200">
            <a:off x="380520" y="228240"/>
            <a:ext cx="68760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834 -0.01989 C 0.16094 -0.03631 0.17136 -0.0377 0.179 -0.04048 C 0.18021 -0.04094 0.1816 -0.04163 0.18299 -0.04256 C 0.1842 -0.04348 0.18542 -0.04556 0.18681 -0.04626 C 0.18976 -0.04741 0.19289 -0.04741 0.19584 -0.04811 C 0.20903 -0.04741 0.22223 -0.04741 0.23542 -0.04626 C 0.24063 -0.04579 0.25052 -0.03562 0.25712 -0.03307 C 0.26111 -0.02845 0.26355 -0.02729 0.26806 -0.02567 C 0.27205 -0.01827 0.27778 -0.01735 0.28299 -0.01434 C 0.29132 -0.00972 0.29775 -0.00648 0.30677 -0.00486 C 0.34427 0.01503 0.38559 0.01318 0.42361 -0.00486 C 0.42691 -0.01134 0.43177 -0.01596 0.43542 -0.02174 C 0.43924 -0.02752 0.44202 -0.03585 0.44636 -0.03863 C 0.45122 -0.0525 0.44844 -0.04741 0.45434 -0.05551 C 0.45712 -0.06591 0.46007 -0.07586 0.4632 -0.08557 C 0.46459 -0.0895 0.4665 -0.09251 0.46719 -0.0969 C 0.46875 -0.10569 0.46945 -0.11564 0.47223 -0.12304 C 0.47917 -0.17091 0.4941 -0.25902 0.46424 -0.27313 C 0.45695 -0.28701 0.44184 -0.28516 0.43247 -0.28631 C 0.43108 -0.28701 0.43004 -0.28816 0.42865 -0.28816 C 0.41615 -0.28816 0.40348 -0.28863 0.39098 -0.28631 C 0.38976 -0.28608 0.38976 -0.28238 0.38907 -0.28076 C 0.38611 -0.27521 0.38507 -0.2766 0.38299 -0.27128 C 0.3757 -0.25278 0.38195 -0.26573 0.37709 -0.25625 C 0.37518 -0.24584 0.37136 -0.23728 0.36806 -0.22826 C 0.36545 -0.2204 0.36407 -0.21254 0.3592 -0.20953 C 0.35677 -0.20467 0.35469 -0.20213 0.35122 -0.20005 C 0.34809 -0.19427 0.34636 -0.19057 0.34236 -0.18687 C 0.34115 -0.18016 0.34236 -0.18132 0.33924 -0.18132 E">
                                      <p:cBhvr>
                                        <p:cTn id="7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Тĕллевĕ</a:t>
            </a:r>
            <a:r>
              <a:rPr b="1" lang="ru-RU" sz="4800" spc="-1" strike="noStrike">
                <a:solidFill>
                  <a:srgbClr val="ccffff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2204640"/>
            <a:ext cx="87854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Verdana"/>
              </a:rPr>
              <a:t>- ачасене Андриян Григорьевич Николаев космонавт пурнăçĕпе тата ĕçĕ-хĕлĕпе тарăнрах паллаштарасс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35812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5. Юлташпа - вăйсăрри те……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00600"/>
            <a:ext cx="19810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вăйлă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rot="19975200">
            <a:off x="609480" y="304560"/>
            <a:ext cx="687600" cy="67284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-0.02267 C 0.20226 -0.04024 0.21129 -0.04163 0.21806 -0.04464 C 0.2191 -0.0451 0.22032 -0.04579 0.22153 -0.04695 C 0.22275 -0.04788 0.22361 -0.05019 0.225 -0.05088 C 0.22743 -0.05204 0.23021 -0.05204 0.23264 -0.05273 C 0.24427 -0.05204 0.25591 -0.05204 0.26736 -0.05088 C 0.27188 -0.05042 0.28056 -0.03955 0.28664 -0.03677 C 0.28993 -0.03169 0.29202 -0.03053 0.29618 -0.02868 C 0.29948 -0.02082 0.30469 -0.01989 0.3092 -0.01665 C 0.31632 -0.01157 0.32205 -0.0081 0.33004 -0.00648 C 0.36285 0.01503 0.39896 0.01295 0.4323 -0.00648 C 0.43507 -0.01342 0.43941 -0.01827 0.44254 -0.02452 C 0.44584 -0.03076 0.44844 -0.03978 0.45226 -0.04256 C 0.45643 -0.05759 0.454 -0.05204 0.4592 -0.06083 C 0.46164 -0.07193 0.46424 -0.08257 0.46702 -0.09297 C 0.46806 -0.09737 0.4698 -0.10037 0.47032 -0.10523 C 0.47188 -0.11471 0.4724 -0.12535 0.47483 -0.13321 C 0.48091 -0.18455 0.4941 -0.27914 0.46771 -0.29441 C 0.46164 -0.30921 0.44827 -0.30713 0.44011 -0.30851 C 0.43889 -0.30921 0.43802 -0.31036 0.43664 -0.31036 C 0.4257 -0.31036 0.41459 -0.31083 0.40365 -0.30851 C 0.40261 -0.30828 0.40278 -0.30435 0.40209 -0.3025 C 0.39948 -0.29649 0.39861 -0.29811 0.3967 -0.29233 C 0.39028 -0.27244 0.39584 -0.28631 0.39167 -0.27614 C 0.38993 -0.26504 0.38646 -0.25579 0.38368 -0.24607 C 0.38125 -0.23775 0.38021 -0.22919 0.37587 -0.22595 C 0.37361 -0.22086 0.37205 -0.21809 0.36893 -0.21578 C 0.36615 -0.20976 0.36459 -0.2056 0.36111 -0.20167 C 0.36007 -0.1945 0.36111 -0.19589 0.35834 -0.19589 E">
                                      <p:cBhvr>
                                        <p:cTn id="8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2-мĕш 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2120" y="1523880"/>
            <a:ext cx="7924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не 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ĕçлĕр:</a:t>
            </a:r>
            <a:endParaRPr b="1" i="1" lang="en-US" sz="32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19320" y="3657600"/>
            <a:ext cx="6933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6. Çĕр сум пуличч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çĕр тус ….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38680" y="4952880"/>
            <a:ext cx="19814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пултăр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72063E-006 C -0.01354 0.00254 -0.025 0.00994 -0.03785 0.01503 C -0.03958 0.01572 -0.0408 0.0185 -0.04271 0.01873 C -0.05521 0.02081 -0.06788 0.02104 -0.08056 0.02243 C -0.09792 0.02451 -0.11545 0.02868 -0.13281 0.03191 C -0.1401 0.03631 -0.14722 0.037 -0.15503 0.03931 C -0.2809 0.03538 -0.23715 0.04764 -0.2908 0.02636 C -0.29201 0.02035 -0.29271 0.01711 -0.29427 0.01133 C -0.29514 0.00763 -0.2974 1.72063000000001E-006 -0.2974 0.00023 C -0.29792 -0.00879 -0.29774 -0.01758 -0.29878 -0.02637 C -0.29931 -0.0303 -0.30156 -0.03354 -0.30191 -0.03747 C -0.30712 -0.0858 -0.3 -0.05828 -0.30503 -0.07701 C -0.30573 -0.0828 -0.30833 -0.09991 -0.30503 -0.10315 C -0.30312 -0.10523 -0.29983 -0.10315 -0.2974 -0.10315 E">
                                      <p:cBhvr>
                                        <p:cTn id="95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365760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1. Ик ухмахăн 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 сăлта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124080" y="4572000"/>
            <a:ext cx="2362320" cy="175248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3520" y="3124080"/>
            <a:ext cx="83055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2. Суя чупать çĕр çулп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чăнни утать 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 çулп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3124080" y="4800600"/>
            <a:ext cx="2362320" cy="175248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3526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3. Çиччĕ виç те 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 к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124080" y="4572000"/>
            <a:ext cx="2362320" cy="175248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9480" y="3276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4. Икĕ йытă вăрçнă çĕ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</a:t>
            </a:r>
            <a:r>
              <a:rPr b="0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 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пыма хуш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124080" y="4572000"/>
            <a:ext cx="2362320" cy="175248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447920"/>
            <a:ext cx="88394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3124080"/>
            <a:ext cx="83059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5. Пĕрре улталăн, иккĕ улталăн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(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2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,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r>
              <a:rPr b="1" lang="ru-RU" sz="3600" spc="-1" strike="noStrike">
                <a:solidFill>
                  <a:srgbClr val="cc9900"/>
                </a:solidFill>
                <a:latin typeface="Verdana"/>
                <a:ea typeface="Arial"/>
              </a:rPr>
              <a:t>) ларса макăрă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124080" y="4724280"/>
            <a:ext cx="2362320" cy="175284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3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52280" y="1447920"/>
            <a:ext cx="88394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аттисен сăмахĕсемпе каларăшĕсенче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цифрăпа кăтартнă числосенчен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bc3ea4"/>
                </a:solidFill>
                <a:latin typeface="Arial"/>
              </a:rPr>
              <a:t>вырăнлисене суйласа илĕр: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bc3ea4"/>
              </a:solidFill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" y="32767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Verdana"/>
                <a:ea typeface="Arial"/>
              </a:rPr>
              <a:t>6. 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Икĕ мулкача хăвалакан (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) те тытайм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2971800" y="4572000"/>
            <a:ext cx="2514600" cy="1905120"/>
          </a:xfrm>
          <a:prstGeom prst="star5">
            <a:avLst/>
          </a:prstGeom>
          <a:solidFill>
            <a:srgbClr val="ff7c8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4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79280" y="1700280"/>
            <a:ext cx="8785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Кластер тумалла.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Чăн-чăн тус мĕнле пулмалла?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Паллă ячĕсене тупса çырăр.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</p:txBody>
      </p:sp>
      <p:sp>
        <p:nvSpPr>
          <p:cNvPr id="401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-521928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Verdana"/>
              </a:rPr>
              <a:t>4-мĕш</a:t>
            </a:r>
            <a:r>
              <a:rPr b="1" lang="ru-RU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Verdana"/>
              </a:rPr>
              <a:t>ĕç: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"/>
          <p:cNvSpPr/>
          <p:nvPr/>
        </p:nvSpPr>
        <p:spPr>
          <a:xfrm>
            <a:off x="3708360" y="2997360"/>
            <a:ext cx="1871640" cy="129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Т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219640" y="2420640"/>
            <a:ext cx="1440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516720" y="1844640"/>
            <a:ext cx="1871640" cy="863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хаста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00720" y="3429000"/>
            <a:ext cx="2016360" cy="1079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кăмăллă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211640" y="5013360"/>
            <a:ext cx="2376360" cy="936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b76"/>
                </a:solidFill>
                <a:latin typeface="Arial"/>
              </a:rPr>
              <a:t>йĕркеллĕ</a:t>
            </a:r>
            <a:r>
              <a:rPr b="1" lang="ru-RU" sz="2400" spc="-1" strike="noStrike">
                <a:solidFill>
                  <a:srgbClr val="003b7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8920" y="4724280"/>
            <a:ext cx="2089080" cy="100980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ырă чунл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16000" y="3213000"/>
            <a:ext cx="208764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шанчăкл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35280" y="1916280"/>
            <a:ext cx="2016000" cy="792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Arial"/>
              </a:rPr>
              <a:t>ĕçчен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67280" y="1557360"/>
            <a:ext cx="1944720" cy="8636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</a:rPr>
              <a:t>матту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80000" y="3789360"/>
            <a:ext cx="107964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88000" y="4292640"/>
            <a:ext cx="215640" cy="72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2771640" y="4076640"/>
            <a:ext cx="1224000" cy="64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3203640" y="3573360"/>
            <a:ext cx="50472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563640" y="2565360"/>
            <a:ext cx="57636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643280" y="2420640"/>
            <a:ext cx="1447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67984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5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79280" y="1700280"/>
            <a:ext cx="8964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Панă сăмахсенчен ваттисен сăмахĕ йĕркелĕр. 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5840">
                  <a:solidFill>
                    <a:srgbClr val="660066"/>
                  </a:solidFill>
                  <a:miter/>
                </a:ln>
                <a:solidFill>
                  <a:srgbClr val="e6b4dc"/>
                </a:solidFill>
                <a:latin typeface="Arial"/>
              </a:rPr>
              <a:t>Хăш ушкăн маттуртарах?</a:t>
            </a:r>
            <a:endParaRPr b="1" i="1" lang="en-US" sz="2800" spc="1" strike="noStrike">
              <a:ln w="15840">
                <a:solidFill>
                  <a:srgbClr val="660066"/>
                </a:solidFill>
                <a:miter/>
              </a:ln>
              <a:solidFill>
                <a:srgbClr val="e6b4dc"/>
              </a:solidFill>
              <a:latin typeface="Arial"/>
              <a:ea typeface="Arial"/>
            </a:endParaRPr>
          </a:p>
        </p:txBody>
      </p:sp>
      <p:sp>
        <p:nvSpPr>
          <p:cNvPr id="424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572040" y="385992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усу çук пулсан - тупма тăрăш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тупсан - упрама тăрă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6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318680" y="1461600"/>
            <a:ext cx="6511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Синквейн çырă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1 япала яч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            </a:t>
            </a: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2 паллă ячĕ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3 глаго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4 сăмахран предложе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6b4dc"/>
                </a:solidFill>
                <a:latin typeface="Arial"/>
              </a:rPr>
              <a:t>5.</a:t>
            </a: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метаф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2" dur="148736" fill="hold"/>
                                        <p:tgtEl>
                                          <p:spTgt spid="4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7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6705720" y="541008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994040" y="2925000"/>
            <a:ext cx="516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Arial"/>
              </a:rPr>
              <a:t>ПАНТОНИ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8-мĕш</a:t>
            </a:r>
            <a:r>
              <a:rPr b="1" lang="ru-RU" sz="4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732720" y="544500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539640" y="1556280"/>
            <a:ext cx="820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нă шифрпа усă курса эсир 1962 çулхи августăн 11-мĕшĕнче космосра пулнă «Восток-3» тата «Восток-4» карапсемпе вĕçнĕ космонавтсен хушамачĕпе ячĕсене вулама пултарат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8-мĕш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ĕç:</a:t>
            </a: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611280" y="765000"/>
          <a:ext cx="8146800" cy="3645000"/>
        </p:xfrm>
        <a:graphic>
          <a:graphicData uri="http://schemas.openxmlformats.org/drawingml/2006/table">
            <a:tbl>
              <a:tblPr/>
              <a:tblGrid>
                <a:gridCol w="1438200"/>
                <a:gridCol w="1788840"/>
                <a:gridCol w="1701720"/>
                <a:gridCol w="1659240"/>
                <a:gridCol w="1558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9-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-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-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3-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8-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-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4-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-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-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-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7-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5-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-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-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-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6-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-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3-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1-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9-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7-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-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-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-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>
                      <a:noFill/>
                    </a:lnR>
                    <a:lnT w="1440">
                      <a:solidFill>
                        <a:srgbClr val="66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-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3-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1-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-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-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-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-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ff"/>
                      </a:solidFill>
                    </a:lnL>
                    <a:lnR w="1440">
                      <a:solidFill>
                        <a:srgbClr val="66ffff"/>
                      </a:solidFill>
                    </a:lnR>
                    <a:lnT w="1440">
                      <a:solidFill>
                        <a:srgbClr val="66ffff"/>
                      </a:solidFill>
                    </a:lnT>
                    <a:lnB w="1440">
                      <a:solidFill>
                        <a:srgbClr val="66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6" name=""/>
          <p:cNvSpPr/>
          <p:nvPr/>
        </p:nvSpPr>
        <p:spPr>
          <a:xfrm rot="19975200">
            <a:off x="178920" y="0"/>
            <a:ext cx="68760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7093080" y="0"/>
            <a:ext cx="1752480" cy="76212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1692360" y="189000"/>
            <a:ext cx="527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24000" y="6093000"/>
            <a:ext cx="8569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5443560"/>
            <a:ext cx="539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4748040" y="4797360"/>
          <a:ext cx="4395960" cy="455760"/>
        </p:xfrm>
        <a:graphic>
          <a:graphicData uri="http://schemas.openxmlformats.org/drawingml/2006/table">
            <a:tbl>
              <a:tblPr/>
              <a:tblGrid>
                <a:gridCol w="652680"/>
                <a:gridCol w="650880"/>
                <a:gridCol w="654120"/>
                <a:gridCol w="653760"/>
                <a:gridCol w="650880"/>
                <a:gridCol w="378000"/>
                <a:gridCol w="377640"/>
                <a:gridCol w="378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2" name=""/>
          <p:cNvGraphicFramePr/>
          <p:nvPr/>
        </p:nvGraphicFramePr>
        <p:xfrm>
          <a:off x="179280" y="4797360"/>
          <a:ext cx="4290840" cy="455760"/>
        </p:xfrm>
        <a:graphic>
          <a:graphicData uri="http://schemas.openxmlformats.org/drawingml/2006/table">
            <a:tbl>
              <a:tblPr/>
              <a:tblGrid>
                <a:gridCol w="534960"/>
                <a:gridCol w="642960"/>
                <a:gridCol w="549360"/>
                <a:gridCol w="635040"/>
                <a:gridCol w="642600"/>
                <a:gridCol w="642960"/>
                <a:gridCol w="642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00080"/>
                          </a:solidFill>
                          <a:latin typeface="Verdana"/>
                          <a:ea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3" name=""/>
          <p:cNvGraphicFramePr/>
          <p:nvPr/>
        </p:nvGraphicFramePr>
        <p:xfrm>
          <a:off x="971640" y="5877000"/>
          <a:ext cx="2276280" cy="455400"/>
        </p:xfrm>
        <a:graphic>
          <a:graphicData uri="http://schemas.openxmlformats.org/drawingml/2006/table">
            <a:tbl>
              <a:tblPr/>
              <a:tblGrid>
                <a:gridCol w="571320"/>
                <a:gridCol w="378000"/>
                <a:gridCol w="377640"/>
                <a:gridCol w="378000"/>
                <a:gridCol w="57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3851280" y="5877000"/>
          <a:ext cx="3806640" cy="45540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571320"/>
                <a:gridCol w="571680"/>
                <a:gridCol w="377640"/>
                <a:gridCol w="571680"/>
                <a:gridCol w="5713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33"/>
                          </a:solidFill>
                          <a:latin typeface="Verdana"/>
                          <a:ea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65040" y="6120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6" name="Равнобедренный треугольник 27"/>
          <p:cNvSpPr/>
          <p:nvPr/>
        </p:nvSpPr>
        <p:spPr>
          <a:xfrm rot="16200000">
            <a:off x="7092000" y="2132280"/>
            <a:ext cx="2089080" cy="1656000"/>
          </a:xfrm>
          <a:prstGeom prst="triangle">
            <a:avLst>
              <a:gd name="adj" fmla="val 50000"/>
            </a:avLst>
          </a:prstGeom>
          <a:solidFill>
            <a:srgbClr val="f5e4a9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Равнобедренный треугольник 13"/>
          <p:cNvSpPr/>
          <p:nvPr/>
        </p:nvSpPr>
        <p:spPr>
          <a:xfrm rot="16200000">
            <a:off x="-779760" y="2437200"/>
            <a:ext cx="2879640" cy="1198440"/>
          </a:xfrm>
          <a:prstGeom prst="triangle">
            <a:avLst>
              <a:gd name="adj" fmla="val 50000"/>
            </a:avLst>
          </a:prstGeom>
          <a:solidFill>
            <a:srgbClr val="f5e4a9"/>
          </a:solidFill>
          <a:ln w="255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5"/>
          <p:cNvSpPr/>
          <p:nvPr/>
        </p:nvSpPr>
        <p:spPr>
          <a:xfrm rot="18378000">
            <a:off x="1954080" y="1474200"/>
            <a:ext cx="14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 rot="3222000">
            <a:off x="1439280" y="3822840"/>
            <a:ext cx="29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ĕнтĕрвăрр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 rot="18642600">
            <a:off x="4006440" y="1178280"/>
            <a:ext cx="299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-мĕш вĕçе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33"/>
          <p:cNvSpPr/>
          <p:nvPr/>
        </p:nvSpPr>
        <p:spPr>
          <a:xfrm rot="18416400">
            <a:off x="4898880" y="13752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ET Chuvash"/>
                <a:ea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З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а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36"/>
          <p:cNvSpPr/>
          <p:nvPr/>
        </p:nvSpPr>
        <p:spPr>
          <a:xfrm rot="18636000">
            <a:off x="1101960" y="1355400"/>
            <a:ext cx="19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Çуралн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37"/>
          <p:cNvSpPr/>
          <p:nvPr/>
        </p:nvSpPr>
        <p:spPr>
          <a:xfrm rot="3405000">
            <a:off x="1247760" y="3860640"/>
            <a:ext cx="121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1929</a:t>
            </a:r>
            <a:r>
              <a:rPr b="1" lang="en-US" sz="3200" spc="-1" strike="noStrike">
                <a:solidFill>
                  <a:srgbClr val="002060"/>
                </a:solidFill>
                <a:latin typeface="TimesET Chuvash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8"/>
          <p:cNvSpPr/>
          <p:nvPr/>
        </p:nvSpPr>
        <p:spPr>
          <a:xfrm rot="18406200">
            <a:off x="2927160" y="162864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39"/>
          <p:cNvSpPr/>
          <p:nvPr/>
        </p:nvSpPr>
        <p:spPr>
          <a:xfrm rot="3251400">
            <a:off x="4903560" y="3616200"/>
            <a:ext cx="307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ET Chuvash"/>
                <a:ea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ет Союзĕ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 хут Геройĕ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41"/>
          <p:cNvSpPr/>
          <p:nvPr/>
        </p:nvSpPr>
        <p:spPr>
          <a:xfrm rot="3333000">
            <a:off x="2496240" y="3578040"/>
            <a:ext cx="19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Шурш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ffffff"/>
                </a:solidFill>
                <a:latin typeface="TimesET Chuvash"/>
                <a:ea typeface="Arial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2"/>
          <p:cNvSpPr/>
          <p:nvPr/>
        </p:nvSpPr>
        <p:spPr>
          <a:xfrm rot="16200000">
            <a:off x="-231480" y="2471760"/>
            <a:ext cx="205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376b"/>
                </a:solidFill>
                <a:latin typeface="TimesET Chuvash"/>
                <a:ea typeface="Arial"/>
              </a:rPr>
              <a:t>А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c376b"/>
                </a:solidFill>
                <a:latin typeface="TimesET Chuvash"/>
                <a:ea typeface="Arial"/>
              </a:rPr>
              <a:t>Никол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44"/>
          <p:cNvSpPr/>
          <p:nvPr/>
        </p:nvSpPr>
        <p:spPr>
          <a:xfrm rot="18498000">
            <a:off x="2996640" y="1116360"/>
            <a:ext cx="32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-мĕш вĕçе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rot="3298800">
            <a:off x="4500000" y="33577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rot="3243000">
            <a:off x="3634920" y="342936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6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403280" y="134136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403280" y="134136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4859280" y="134136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268360" y="1125000"/>
            <a:ext cx="1297080" cy="15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059280" y="1197000"/>
            <a:ext cx="129672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924360" y="126828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012000" y="1268280"/>
            <a:ext cx="129672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020000" y="1413000"/>
            <a:ext cx="129708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rot="18607200">
            <a:off x="6238440" y="1329120"/>
            <a:ext cx="25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лалла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2852640"/>
            <a:ext cx="129708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195640" y="2708280"/>
            <a:ext cx="129672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059280" y="2781360"/>
            <a:ext cx="129672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2852640"/>
            <a:ext cx="129708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859280" y="2852640"/>
            <a:ext cx="129708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12000" y="2852640"/>
            <a:ext cx="129672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20000" y="2997360"/>
            <a:ext cx="1297080" cy="172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rot="3222000">
            <a:off x="6341760" y="374652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узей, палă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рам, шку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rot="16200000">
            <a:off x="7248600" y="2484360"/>
            <a:ext cx="22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Виççĕмĕ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осмонавт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9975200">
            <a:off x="457200" y="228240"/>
            <a:ext cx="687240" cy="673200"/>
          </a:xfrm>
          <a:prstGeom prst="star5">
            <a:avLst/>
          </a:pr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6732720" y="5589720"/>
            <a:ext cx="175248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55640" y="1773360"/>
            <a:ext cx="7272360" cy="29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вта пуç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ндриян Григорьевич Николае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—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ăваш космонавчĕ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29 çулхи авăн уйăхĕн 5-мĕшĕнче Чăваш Енĕн Сĕнтĕрвăрри районĕнчи Шуршăл ялĕнче çуралн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ĕчĕк чухнех çăлтăрсем хушшине çул хывма ĕмĕтленнĕ чăваш хресченĕн ывăл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ççĕмĕш космонавт, тĕнче уçлăхĕнче вĕçсе, хăйĕн йышлă мар, анчах талантлă та ĕçчен чăваш халăхне мухтав кÿчĕ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259560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979640" y="4797360"/>
            <a:ext cx="253980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ÇĂЛТĂРСЕМ ПАТНЕ ПĔРРЕМĔШ УТĂМС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067280" y="1557000"/>
            <a:ext cx="489744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47 çулта Сĕнтĕрвăрринчи вăрман хуçалăх техникумĕнчен вĕренсе тухсан Карелире «Южкареллес» трестра вăрман касн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50 çулта çар хĕсметне кайн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51 çулта Фрунзери çар авиаци летчикĕсен училищинче вĕренме пуçлан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54 çулта училище хыççăн Мускав çывăхĕнчи авиаци пайĕсенче хĕсметре тăн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903840" cy="4248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0 çулта совет космонавчĕсен ушкăнне чĕнсе илнĕ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ОСТОК» ятлă карапсем çинче вĕçев ĕçĕсене вĕреннĕ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95280" y="47628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ТРЕНИРОВКĂСЕНЧЕ ÇĂМĂЛ ПУЛМА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219640" y="1484280"/>
            <a:ext cx="3529080" cy="254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995640" y="4229280"/>
            <a:ext cx="3384720" cy="239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ГЕРМАН ТИТОВПА туссем пулн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67280" y="2060640"/>
            <a:ext cx="281952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961çулхи çурла уйăхĕнче Г. С. Титов «ВОСТОК-2» космос карапĕ çинче вĕçнĕ чухне унăн дублёрĕ пулн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290680" cy="3314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2422800" cy="2363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771640" y="2637000"/>
            <a:ext cx="3219480" cy="2706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8:19:55Z</dcterms:created>
  <dc:creator>Admin</dc:creator>
  <dc:description/>
  <dc:language>en-US</dc:language>
  <cp:lastModifiedBy>user</cp:lastModifiedBy>
  <dcterms:modified xsi:type="dcterms:W3CDTF">2014-04-10T04:37:13Z</dcterms:modified>
  <cp:revision>44</cp:revision>
  <dc:subject/>
  <dc:title>Андриян Григорьевич Николаев  -</dc:title>
</cp:coreProperties>
</file>