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0E5-8DD3-4808-B609-1FA1928E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63B-9EA4-4A54-9390-4A2296F3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EAF-51E7-4EE9-BC88-F2EA9AC7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043-5232-4F70-895D-9138A439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8F6-7038-4A09-9A25-19FE242A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888-AA43-41F7-A9C6-A7EF3A87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153-15C6-46B2-9D59-124A8D4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CA5-A230-4603-9FF4-C08360E4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179-8A60-4651-8EF8-6CAA7173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E86-E4C9-4EB4-9854-CFB90A67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E19-D449-4DC5-8F57-BF9CC9CD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CF3-70AE-41CC-ACE6-50D25473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8CE3-45A6-464B-AFDB-38B8AA6E74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4&amp;action=edit&amp;redlink=1" TargetMode="External"/><Relationship Id="rId3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4&amp;action=edit&amp;redlink=1" TargetMode="External"/><Relationship Id="rId4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&#1089;&#1088;&#1077;&#1076;&#1080;_&#1082;&#1086;&#1084;&#1072;&#1085;&#1076;_1994" TargetMode="External"/><Relationship Id="rId5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1995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ru.wikipedia.org/wiki/&#1051;&#1077;&#1090;&#1085;&#1080;&#1077;_&#1054;&#1083;&#1080;&#1084;&#1087;&#1080;&#1081;&#1089;&#1082;&#1080;&#1077;_&#1080;&#1075;&#1088;&#1099;_1996" TargetMode="External"/><Relationship Id="rId3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1996_&#8212;_&#1073;&#1088;&#1091;&#1089;&#1100;&#1103;_(&#1078;&#1077;&#1085;&#1097;&#1080;&#1085;&#1099;)" TargetMode="External"/><Relationship Id="rId4" Type="http://schemas.openxmlformats.org/officeDocument/2006/relationships/hyperlink" Target="https://ru.wikipedia.org/wiki/&#1051;&#1077;&#1090;&#1085;&#1080;&#1077;_&#1054;&#1083;&#1080;&#1084;&#1087;&#1080;&#1081;&#1089;&#1082;&#1080;&#1077;_&#1080;&#1075;&#1088;&#1099;_1996" TargetMode="External"/><Relationship Id="rId5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1996" TargetMode="External"/><Relationship Id="rId6" Type="http://schemas.openxmlformats.org/officeDocument/2006/relationships/hyperlink" Target="https://ru.wikipedia.org/wiki/&#1051;&#1077;&#1090;&#1085;&#1080;&#1077;_&#1054;&#1083;&#1080;&#1084;&#1087;&#1080;&#1081;&#1089;&#1082;&#1080;&#1077;_&#1080;&#1075;&#1088;&#1099;_1996" TargetMode="External"/><Relationship Id="rId7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1996_&#8212;_&#1073;&#1088;&#1091;&#1089;&#1100;&#1103;_(&#1078;&#1077;&#1085;&#1097;&#1080;&#1085;&#1099;)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2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3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4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5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6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1999" TargetMode="External"/><Relationship Id="rId7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1999" TargetMode="External"/><Relationship Id="rId8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1999" TargetMode="External"/><Relationship Id="rId9" Type="http://schemas.openxmlformats.org/officeDocument/2006/relationships/hyperlink" Target="https://ru.wikipedia.org/wiki/&#1063;&#1077;&#1084;&#1087;&#1080;&#1086;&#1085;&#1072;&#1090;_&#1045;&#1074;&#1088;&#1086;&#1087;&#1099;_&#1087;&#1086;_&#1089;&#1087;&#1086;&#1088;&#1090;&#1080;&#1074;&#1085;&#1086;&#1081;_&#1075;&#1080;&#1084;&#1085;&#1072;&#1089;&#1090;&#1080;&#1082;&#1077;_1998_(&#1078;&#1077;&#1085;&#1097;&#1080;&#1085;&#1099;)" TargetMode="External"/><Relationship Id="rId10" Type="http://schemas.openxmlformats.org/officeDocument/2006/relationships/hyperlink" Target="https://ru.wikipedia.org/wiki/&#1063;&#1077;&#1084;&#1087;&#1080;&#1086;&#1085;&#1072;&#1090;_&#1045;&#1074;&#1088;&#1086;&#1087;&#1099;_&#1087;&#1086;_&#1089;&#1087;&#1086;&#1088;&#1090;&#1080;&#1074;&#1085;&#1086;&#1081;_&#1075;&#1080;&#1084;&#1085;&#1072;&#1089;&#1090;&#1080;&#1082;&#1077;_1998_(&#1078;&#1077;&#1085;&#1097;&#1080;&#1085;&#1099;)" TargetMode="External"/><Relationship Id="rId11" Type="http://schemas.openxmlformats.org/officeDocument/2006/relationships/hyperlink" Target="https://ru.wikipedia.org/wiki/&#1063;&#1077;&#1084;&#1087;&#1080;&#1086;&#1085;&#1072;&#1090;_&#1045;&#1074;&#1088;&#1086;&#1087;&#1099;_&#1087;&#1086;_&#1089;&#1087;&#1086;&#1088;&#1090;&#1080;&#1074;&#1085;&#1086;&#1081;_&#1075;&#1080;&#1084;&#1085;&#1072;&#1089;&#1090;&#1080;&#1082;&#1077;_1998_(&#1078;&#1077;&#1085;&#1097;&#1080;&#1085;&#1099;)" TargetMode="External"/><Relationship Id="rId12" Type="http://schemas.openxmlformats.org/officeDocument/2006/relationships/hyperlink" Target="https://ru.wikipedia.org/wiki/&#1063;&#1077;&#1084;&#1087;&#1080;&#1086;&#1085;&#1072;&#1090;_&#1045;&#1074;&#1088;&#1086;&#1087;&#1099;_&#1087;&#1086;_&#1089;&#1087;&#1086;&#1088;&#1090;&#1080;&#1074;&#1085;&#1086;&#1081;_&#1075;&#1080;&#1084;&#1085;&#1072;&#1089;&#1090;&#1080;&#1082;&#1077;_1998_(&#1078;&#1077;&#1085;&#1097;&#1080;&#1085;&#1099;)" TargetMode="External"/><Relationship Id="rId13" Type="http://schemas.openxmlformats.org/officeDocument/2006/relationships/hyperlink" Target="https://ru.wikipedia.org/wiki/&#1051;&#1077;&#1090;&#1085;&#1080;&#1077;_&#1054;&#1083;&#1080;&#1084;&#1087;&#1080;&#1081;&#1089;&#1082;&#1080;&#1077;_&#1080;&#1075;&#1088;&#1099;_2000" TargetMode="External"/><Relationship Id="rId14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2000_&#8212;_&#1088;&#1072;&#1079;&#1085;&#1086;&#1074;&#1099;&#1089;&#1086;&#1082;&#1080;&#1077;_&#1073;&#1088;&#1091;&#1089;&#1100;&#1103;_(&#1078;&#1077;&#1085;&#1097;&#1080;&#1085;&#1099;)" TargetMode="External"/><Relationship Id="rId15" Type="http://schemas.openxmlformats.org/officeDocument/2006/relationships/hyperlink" Target="https://ru.wikipedia.org/wiki/&#1051;&#1077;&#1090;&#1085;&#1080;&#1077;_&#1054;&#1083;&#1080;&#1084;&#1087;&#1080;&#1081;&#1089;&#1082;&#1080;&#1077;_&#1080;&#1075;&#1088;&#1099;_2000" TargetMode="External"/><Relationship Id="rId16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2000_&#8212;_&#1074;&#1086;&#1083;&#1100;&#1085;&#1099;&#1077;_&#1091;&#1087;&#1088;&#1072;&#1078;&#1085;&#1077;&#1085;&#1080;&#1103;_(&#1078;&#1077;&#1085;&#1097;&#1080;&#1085;&#1099;)" TargetMode="Externa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3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4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5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6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7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3" TargetMode="External"/><Relationship Id="rId8" Type="http://schemas.openxmlformats.org/officeDocument/2006/relationships/hyperlink" Target="https://ru.wikipedia.org/wiki/&#1051;&#1077;&#1090;&#1085;&#1080;&#1077;_&#1054;&#1083;&#1080;&#1084;&#1087;&#1080;&#1081;&#1089;&#1082;&#1080;&#1077;_&#1080;&#1075;&#1088;&#1099;_2004" TargetMode="External"/><Relationship Id="rId9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2004" TargetMode="External"/><Relationship Id="rId10" Type="http://schemas.openxmlformats.org/officeDocument/2006/relationships/hyperlink" Target="https://ru.wikipedia.org/wiki/&#1051;&#1077;&#1090;&#1085;&#1080;&#1077;_&#1054;&#1083;&#1080;&#1084;&#1087;&#1080;&#1081;&#1089;&#1082;&#1080;&#1077;_&#1080;&#1075;&#1088;&#1099;_2004" TargetMode="External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93;&#1086;&#1088;&#1082;&#1080;&#1085;&#1072;/&#1042;&#1080;&#1076;&#1077;&#1086;%20&#1082;%20&#1092;&#1080;&#1083;&#1100;&#1084;&#1091;%20&#171;&#1063;&#1077;&#1084;&#1087;&#1080;&#1086;&#1085;&#1099;%20&#1041;&#1099;&#1089;&#1090;&#1088;&#1077;&#1077;.%20&#1042;&#1099;&#1096;&#1077;.%20&#1057;&#1080;&#1083;&#1100;&#1085;&#1077;&#1077;&#187;%20&#1058;&#1088;&#1077;&#1081;&#1083;&#1077;&#1088;.mp4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6308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ка Светлана Хор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19280" y="3429000"/>
            <a:ext cx="36003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на Капустян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стасия Овсие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ва Анастасия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5"/>
          <p:cNvSpPr/>
          <p:nvPr/>
        </p:nvSpPr>
        <p:spPr>
          <a:xfrm>
            <a:off x="3924360" y="5805360"/>
            <a:ext cx="5040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8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224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2949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-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кина выиграла свою первую взрослую международную медаль в 1994 году на чемпионате мира в Брисбене: серебряная медаль на опорном прыжке и ещё серебро на брусьях. Она выступила ещё более успешно на чемпионате Европы в том же году. Здесь она выиграла серебро в многоборье и золото на разновысоких брусья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87640" y="3645000"/>
          <a:ext cx="3313080" cy="2457360"/>
        </p:xfrm>
        <a:graphic>
          <a:graphicData uri="http://schemas.openxmlformats.org/drawingml/2006/table">
            <a:tbl>
              <a:tblPr/>
              <a:tblGrid>
                <a:gridCol w="1081080"/>
                <a:gridCol w="1127160"/>
                <a:gridCol w="11048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Брисбен 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Брисбен 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ный прыж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Дортмунд 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Сабаэ 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6" descr=""/>
          <p:cNvPicPr/>
          <p:nvPr/>
        </p:nvPicPr>
        <p:blipFill>
          <a:blip r:embed="rId1"/>
          <a:stretch/>
        </p:blipFill>
        <p:spPr>
          <a:xfrm>
            <a:off x="4427640" y="836640"/>
            <a:ext cx="4160880" cy="3240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2949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лимпийских игр Светлана сохраняла европейский и мировой титулы чемпионки на брусьях, а также помогла российской команде выиграть серебро на чемпионате Европы, а также взяла бронзу в опорном прыжке. Падение с бревна в многоборье помешало ей бороться за медаль, она заняла лишь шестое место, но это уже не стало сюрпризом. Благодаря её недавним успехам, Светлана считалась фаворитом на играх-1996 в Атланте. И российская команда выглядела гораздо сильнее, чем в на играх-1992 году после распада СССР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59280" y="4724280"/>
          <a:ext cx="3241440" cy="1621080"/>
        </p:xfrm>
        <a:graphic>
          <a:graphicData uri="http://schemas.openxmlformats.org/drawingml/2006/table">
            <a:tbl>
              <a:tblPr/>
              <a:tblGrid>
                <a:gridCol w="1191960"/>
                <a:gridCol w="968400"/>
                <a:gridCol w="108108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Атланта 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Атланта 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Атланта 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29494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97-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кина продолжала доминировать на брусьях и скоро получила прозвище «Королева брусьев». Хоркина выиграла многоборье на чемпионате Европы 1998, но провалила его на Играх доброй воли. Чемпионат мира 1999 года она начала в статусе фаворита в многоборье, но после катастрофического выступления на бревне, осталась без медали. Тем не менее, она продолжила победную серию на брусьях, выиграв в четвёртый раз подряд титул чемпионки мир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140360" y="189000"/>
          <a:ext cx="4416120" cy="6378480"/>
        </p:xfrm>
        <a:graphic>
          <a:graphicData uri="http://schemas.openxmlformats.org/drawingml/2006/table">
            <a:tbl>
              <a:tblPr/>
              <a:tblGrid>
                <a:gridCol w="1471320"/>
                <a:gridCol w="1473480"/>
                <a:gridCol w="147132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9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9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Тяньцзинь 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Тяньцзинь 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Тяньцзинь 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Санкт-Петербург 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Санкт-Петербург 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Санкт-Петербург 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Санкт-Петербург 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5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дней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7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Сидней 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Сидней 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воль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34720" y="189000"/>
            <a:ext cx="6497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е игры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е игры в Сиднее снова начала в статусе фаворита в многоборье. В командном первенстве Хоркина исполнила очень сложный прыжок, который раньше никто не видел, впоследствии он был назван Хоркина II. Она также показала хорошие результаты в вольных упражнениях и на брусьях, квалифицировавшись в финал. Однако, в финалах был кошмар. Хоркина упала с любимых брусьев, Продунова села на вольных упражнениях, а Лобазнюк и Замолодчикова упали с бревна. Первые три ошибки не были катастрофическими, так как по тем правилам низшие оценки на снарядах отбрасывались, так что падения не разрушили шансы команды. Россияне завершили выступления на втором месте — за сборной Румынии. При безошибочном выступлении, Россия бы выиграла первое золото по спортивной гимнастике. Виноватой сделали Хоркину — если бы она безошибочно выполнила свою программу, сборная не лишилась бы золота. Спустившись с помоста, Хоркина сняла серебряную медаль. Вторую олимпиаду подряд её команда выигрывала лишь серебр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7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345600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6" descr=""/>
          <p:cNvPicPr/>
          <p:nvPr/>
        </p:nvPicPr>
        <p:blipFill>
          <a:blip r:embed="rId2"/>
          <a:stretch/>
        </p:blipFill>
        <p:spPr>
          <a:xfrm>
            <a:off x="6875640" y="1254240"/>
            <a:ext cx="2044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8" descr=""/>
          <p:cNvPicPr/>
          <p:nvPr/>
        </p:nvPicPr>
        <p:blipFill>
          <a:blip r:embed="rId1"/>
          <a:stretch/>
        </p:blipFill>
        <p:spPr>
          <a:xfrm>
            <a:off x="324000" y="2419200"/>
            <a:ext cx="462600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336528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кина приняла решение выступать и на следующей олимпиаде. На чемпионате мира 2001 она выиграла титул абсолютной чемпионки, а также золото в прыжке и на брусьях. С 5 титулами чемпионки мира и 2 титулами олимпийской чемпионки, Хоркина становится самой титулованной гимнасткой на одном снаряде. С 1995 по 2001 она выигрывала все титулы чемпионатов мира и олимпийских игр на брусьях. В 2002 году Хоркина выигрывает многоборье на чемпионате Европы, считается, что она победила только благодаря расположению судей. На чемпионате мира в Анахейме она стала абсолютной чемпионкой в третий раз, что не удавалось до этого ни одной женщин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43280" y="260280"/>
          <a:ext cx="3888000" cy="4464000"/>
        </p:xfrm>
        <a:graphic>
          <a:graphicData uri="http://schemas.openxmlformats.org/drawingml/2006/table">
            <a:tbl>
              <a:tblPr/>
              <a:tblGrid>
                <a:gridCol w="1233720"/>
                <a:gridCol w="1235160"/>
                <a:gridCol w="14191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ный прыж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ные упраж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Анахайм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4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Афины 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абсолют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Афины 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стердам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стердам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стердам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77" name="Объект 8" descr=""/>
          <p:cNvPicPr/>
          <p:nvPr/>
        </p:nvPicPr>
        <p:blipFill>
          <a:blip r:embed="rId11"/>
          <a:stretch/>
        </p:blipFill>
        <p:spPr>
          <a:xfrm>
            <a:off x="2556000" y="3271680"/>
            <a:ext cx="20415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4000" y="259920"/>
            <a:ext cx="7886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есные факты из жизни Светлан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- автор следующих гимнастических элементов: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ндат на мост – фляк с поворотом на 360 на коня – сальто назад согнувшись (опорный прыжок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ндат на мост – фляк с поворотом на 180 на коня – сальто вперёд в группировке с поворотом на 540 (опорный прыжок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 стойки на руках на нижней жерди, оборот назад не касаясь с перелётом срывом и поворотом на 180 в вис на верхнюю жердь (брусья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алог перелёта Маркелова ноги врозь на мужской перекладине (брусья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тальдер ноги врозь с поворотом на 540 в смешанный хват (брусья). Кроме неё, этот элемент сумела повторить только американская спортсменка Эмми Чоу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 положения стоя поперёк, фляк с одной ноги с поворотом на 360 в положение стоя (бревно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кок: махом одной сальто назад с поворотом на 900 (бревно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ыполнение сложнейших комбинаций на брусьях удостоилась неофициального титула "Королева брусьев"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ую карьеру завершила осенью 2004 года. Сына Святослава родила 21 июля 2005 года в Лос-Анджелесе, дав ему таким образом гражданство США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це-президент Федерации спортивной гимнастики России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минается в сериале «Гимнастки» («Make It Or Break It») 3 сезон 4 эпизод в качестве гимнастки, добившейся огромного успеха с неподходящим ростом для разноразмерных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ьев.</a:t>
            </a:r>
            <a:br>
              <a:rPr sz="1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cska.ru/upload/gallery_569de148199a5.jpg"/>
          <p:cNvPicPr/>
          <p:nvPr/>
        </p:nvPicPr>
        <p:blipFill>
          <a:blip r:embed="rId1"/>
          <a:srcRect l="18339" t="0" r="18339" b="0"/>
          <a:stretch/>
        </p:blipFill>
        <p:spPr>
          <a:xfrm>
            <a:off x="3887640" y="98748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29498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«За заслуги перед Отечеством» IV степени (18 февраля 2006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Почёта (19 апреля 200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Дружбы (6 января 1997)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ётный знак (орден) «Спортивная слава России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 Национальной премии общественного признания достижений женщин «Олимп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лёт и падение Светл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Золотые брусья Светланы Хоркиной. Кадры из архива Видео Р-Сп.mp4" descr="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766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356920"/>
            <a:ext cx="82580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кина\Золотые брусья Светланы Хоркиной. Кадры из архива Видео Р-Сп.m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25198"/>
                </a:solidFill>
                <a:latin typeface="Arial"/>
              </a:rPr>
              <a:t>Верьте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 себя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и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вою       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побед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836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зическая культура и спорт оказывали положительное влияние на человека во все времена, но сегодня, когда так много внимания уделяется развитию интеллектуальности, творчества, их роль в жизни человека возрастает. Залог успешности человека – это гармония душевного и физического развития. И это доказала 2-х кратная Олимпийская чемпионка, 9-кратная чемпионка мира,13-кратная чемпионка Европы, Вице-президент Федерации спортивной гимнастики России, хорошая мама и просто успешная женщ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лечь студентов заниматься спортом, стремиться к победе и вести здоровый образ жизни, на примере Олимпийской чемпио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рядить студентов стимулом к победе и здоровому образу жизни, провести социологический опрос среди студентов по т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графия и карьера Светланы Хоркиной, художественный фильм : «Чемпионы: Быстрее. Выше. Сильнее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ый фильм «Чемпионы: Быстрее. Выше. Сильн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ы: Быстрее. Выше. Сильне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продолжение спортивной драмы Чемпионы (2014). Фильм снят по мотивам жизни и побед легендарных российских спортсменов. Картина состоит из трех новел, основанных на реальных фактах из жизни российских спортсменов: борца Александра Карелина, гимнастки Светланы Хоркиной и пловца Александра Попова. Истории о том, как они пришли к золотым медалям Олимпийских игр и о том, как стали легендарными спортсмен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Видео к фильму «Чемпионы Быстрее. Выше. Сильнее» Трейлер.mp4" descr=""/>
          <p:cNvPicPr/>
          <p:nvPr/>
        </p:nvPicPr>
        <p:blipFill>
          <a:blip r:embed="rId1"/>
          <a:stretch/>
        </p:blipFill>
        <p:spPr>
          <a:xfrm>
            <a:off x="128520" y="2766960"/>
            <a:ext cx="88869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608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642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хоркина\Видео к фильму «Чемпионы Быстрее. Выше. Сильнее» Трейлер.m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539640" y="765000"/>
          <a:ext cx="8209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65000"/>
                    <a:ext cx="8209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6"/>
          <p:cNvSpPr/>
          <p:nvPr/>
        </p:nvSpPr>
        <p:spPr>
          <a:xfrm>
            <a:off x="0" y="52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61720" y="189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ый фильм «Чемпионы: Быстрее. Выше. Сильнее»</a:t>
            </a: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 Светланой Хоркиной я не была знакома до съёмок, но она заочно одобряла мою кандидатуру и мои сценарные правки — а я активно „вмешивалась“ в написание текста. И ко мне прислушивались И продюсеры, и режиссер — не только по творческой составляющей, что большая редкость в кино. Мы были готовы к тому, что Светлана будет активно участвовать в съёмочном процессе — она могла и имела на это право. Но, когда она пришла на площадку, мы услышали: „Ребята, я вам абсолютно доверяю. Как вы это видите, так и делайте“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ина Асмус</a:t>
            </a: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b1.filmpro.ru/c/350495.jpg"/>
          <p:cNvPicPr/>
          <p:nvPr/>
        </p:nvPicPr>
        <p:blipFill>
          <a:blip r:embed="rId1"/>
          <a:stretch/>
        </p:blipFill>
        <p:spPr>
          <a:xfrm>
            <a:off x="250920" y="2565360"/>
            <a:ext cx="419076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vladtime.ru/uploads/posts/2015-08/1439120469_1.png"/>
          <p:cNvPicPr/>
          <p:nvPr/>
        </p:nvPicPr>
        <p:blipFill>
          <a:blip r:embed="rId2"/>
          <a:stretch/>
        </p:blipFill>
        <p:spPr>
          <a:xfrm>
            <a:off x="4643280" y="2781360"/>
            <a:ext cx="4038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1" descr=""/>
          <p:cNvPicPr/>
          <p:nvPr/>
        </p:nvPicPr>
        <p:blipFill>
          <a:blip r:embed="rId1"/>
          <a:srcRect l="12459" t="0" r="12459" b="0"/>
          <a:stretch/>
        </p:blipFill>
        <p:spPr>
          <a:xfrm>
            <a:off x="3887640" y="98748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000" y="987480"/>
            <a:ext cx="2949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ана родилась в Белгороде, на границе России и Украины. В самой обычной советской семье – мама – логопед в детском садике, папа – рабочий. Светлана — российская гимнастка, двукратная олимпийская чемпионка в упражнениях на брусьях (1996, 2000), трёхкратная абсолютная чемпионка мира и трёхкратная абсолютная чемпионка Европы. Заслуженный мастер спорта России (199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ь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едставить путь, который прошла Светлана к титулу «королевы брусьев», нужно оказаться в начале 80-х годов в Белгород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м Хоркина начала заниматься с 1983 года. Тренировалась под руководством Бориса Пилкина. С 1992 года Хоркина являлась членом сборной команды России по спортивной гимнас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езультатам социологического о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7% опрошенных знают, в каком виде спорта Светлана Хоркина стала Олимпийской чемпион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5% знают, когда Хоркина становилась Олимпийской чемпион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2% затруднились ответить на вопрос «Какого неофициального титула удостоилась Светлана Хоркина за выполнение сложнейших комбинац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1"/>
          <a:srcRect l="4760" t="0" r="4760" b="0"/>
          <a:stretch/>
        </p:blipFill>
        <p:spPr>
          <a:xfrm>
            <a:off x="2556000" y="3284640"/>
            <a:ext cx="4160880" cy="2792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26560" y="907560"/>
            <a:ext cx="7039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ер будущей чемпионки – Борис Васильевич Пилкин не сразу увидел в своей воспитаннице олимпийскую чемпионку, которая к тому же была выше других девочек (потом рост и длинные ноги Светланы станут ее козырем), - олимпийскую чемпионку. А если и видел, то Светлане об этом не говорил. Борис Васильевич – очень серьезный, скупой на слова и комплименты человек. Когда Светлана показывала успехи, тренер просто дарил ей игрушки, и улыбался. Маленькая Светлана ради новых игрушек старалась изо всех сил. Когда Хоркина вошла в сборную страны по художественной гимнастике, вместе с Борисом Васильевич переехала на тренировочную базу в Подмосковье, где пережили столько всего, что об этом страшно вспоминать. Светлана благодарна судьбе за то, что она уберегала ее от серьезных травм, но во многом это была заслуга мудрого наставника – Бориса Пилк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nastasia</cp:lastModifiedBy>
  <dcterms:modified xsi:type="dcterms:W3CDTF">2017-01-12T14:29:16Z</dcterms:modified>
  <cp:revision>775</cp:revision>
  <dc:subject/>
  <dc:title>Diapositiva 1</dc:title>
</cp:coreProperties>
</file>