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3A5D-03BB-4425-9B0B-486DB05A9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F65C-53BF-4CB3-9DF1-B40C842D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9F2A1-F3C1-4A9B-94F2-063443C2B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97EC2-06D2-4C46-8A43-916983F46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30DA-9698-457E-805E-0532D13AD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9863-415A-4F6C-BB3E-644508BDA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186B-F9DB-48E2-8F34-8B1EA87CD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3F8B-75B6-432F-80E4-10D07655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0969-5C8A-4D82-B2DE-9B1CA21E5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F1F5-4E86-4597-B6E9-AFC3F8F3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C897E-5B41-4FFA-824E-12E4322A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C7A0-B186-4C2A-A907-36161FBD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518EA-7383-4AC6-91BF-CA4968FD15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"/>
          <p:cNvPicPr/>
          <p:nvPr/>
        </p:nvPicPr>
        <p:blipFill>
          <a:blip r:embed="rId1"/>
          <a:stretch/>
        </p:blipFill>
        <p:spPr>
          <a:xfrm>
            <a:off x="1908000" y="1268280"/>
            <a:ext cx="5472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певаемость класс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отличник добавляет в копилку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хорошист добавляет в копилку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 бал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ого неуспевающего с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инус 5 балл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МОО «Крыш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в организации городских и районных мероприятий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школьного актива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районных конкурсах и мероприятиях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астие в городских конкурсах и мероприятиях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эмблемма"/>
          <p:cNvPicPr/>
          <p:nvPr/>
        </p:nvPicPr>
        <p:blipFill>
          <a:blip r:embed="rId1"/>
          <a:stretch/>
        </p:blipFill>
        <p:spPr>
          <a:xfrm>
            <a:off x="5508720" y="1844640"/>
            <a:ext cx="29131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жур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балл – наименьший бал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балла – сред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балла – высший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y"/>
          <p:cNvPicPr/>
          <p:nvPr/>
        </p:nvPicPr>
        <p:blipFill>
          <a:blip r:embed="rId1"/>
          <a:stretch/>
        </p:blipFill>
        <p:spPr>
          <a:xfrm>
            <a:off x="4427640" y="1700280"/>
            <a:ext cx="4468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ий вид, обув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рке наличия школьной формы отнимается количество баллов равное количеству учащихся без школьной формы и без сменной обу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 и"/>
          <p:cNvPicPr/>
          <p:nvPr/>
        </p:nvPicPr>
        <p:blipFill>
          <a:blip r:embed="rId1"/>
          <a:stretch/>
        </p:blipFill>
        <p:spPr>
          <a:xfrm>
            <a:off x="1332000" y="3645000"/>
            <a:ext cx="662472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стие в школьных делах, в районных и городских конкурс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школьного уровня (за помощь в организации -3 бал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  призовое   место - 2  балла, за участие–1 балл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районного и городского уровня (за помощь в организации -3 бал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   призовое   место - 2  балла, за участие – 1 балл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так же вы получаете баллы 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щение секций дополнительного образования в школе и вне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творческих мероприятиях (праздниках) школы и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ность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ение правил внутреннего распоря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ывается классное самоуп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дет составлена рейтинговая таблица, где каждый может проследить за успехами свое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ключительной линейке в мае будут подведены итоги и назван класс –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07:03:35Z</dcterms:created>
  <dc:creator>Sergey</dc:creator>
  <dc:description/>
  <dc:language>en-US</dc:language>
  <cp:lastModifiedBy>Учитель</cp:lastModifiedBy>
  <dcterms:modified xsi:type="dcterms:W3CDTF">2016-11-15T06:28:14Z</dcterms:modified>
  <cp:revision>9</cp:revision>
  <dc:subject/>
  <dc:title>Слайд 1</dc:title>
</cp:coreProperties>
</file>