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C34379-7C5A-4AC9-AEBC-F65C0669263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F4388-27F9-430E-AB40-D78C80A1BB3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BFA4B-5434-4227-9465-ABC8B5121F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DA97E-1585-4749-AC87-A4BD3785ABF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0049C-1550-44AA-A1E7-22C849B95E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B1F6CC-C5CB-4C30-BADA-C0563E856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BA0EFB-D1BB-4B11-B596-D5F2E9EF51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F1426-FFC0-4FED-A931-A74FF566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579B7-9FEC-4B8F-A30C-BA8A33B23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8147DE-C930-4EA3-BD66-3CBDCA253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7FE8-B6A9-476C-9CFA-803B03A193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30811-97F7-4B81-AEAF-031AD18364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E7633E-A9E9-48E8-9FF9-4088823CCCF1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Класс года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2" name="Picture 4" descr="i"/>
          <p:cNvPicPr/>
          <p:nvPr/>
        </p:nvPicPr>
        <p:blipFill>
          <a:blip r:embed="rId1"/>
          <a:stretch/>
        </p:blipFill>
        <p:spPr>
          <a:xfrm>
            <a:off x="1908000" y="1268280"/>
            <a:ext cx="5472360" cy="5445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спеваемость класса: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39528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отличник добавляет в копилку класса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Каждый хорошист добавляет в копилку класса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2 балла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За каждого неуспевающего с класса </a:t>
            </a:r>
            <a:r>
              <a:rPr b="0" lang="ru-RU" sz="3200" spc="-1" strike="noStrike">
                <a:solidFill>
                  <a:srgbClr val="333399"/>
                </a:solidFill>
                <a:latin typeface="Arial"/>
              </a:rPr>
              <a:t>минус 5 баллов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иМОО «Крыша»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мощь в организации городских и районных мероприятий 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5 балл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Посещение школьного актива -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1 балл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Участие в районных конкурсах и мероприятиях 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3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- Участие в городских конкурсах и мероприятиях – </a:t>
            </a:r>
            <a:r>
              <a:rPr b="0" lang="ru-RU" sz="2400" spc="-1" strike="noStrike">
                <a:solidFill>
                  <a:srgbClr val="333399"/>
                </a:solidFill>
                <a:latin typeface="Arial"/>
              </a:rPr>
              <a:t>4 балл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4" descr="эмблемма"/>
          <p:cNvPicPr/>
          <p:nvPr/>
        </p:nvPicPr>
        <p:blipFill>
          <a:blip r:embed="rId1"/>
          <a:stretch/>
        </p:blipFill>
        <p:spPr>
          <a:xfrm>
            <a:off x="5508720" y="1844640"/>
            <a:ext cx="2913120" cy="404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ежурство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1 балл – наименьший балл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2 балла – средний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3 балла – высший бал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4" descr="y"/>
          <p:cNvPicPr/>
          <p:nvPr/>
        </p:nvPicPr>
        <p:blipFill>
          <a:blip r:embed="rId1"/>
          <a:stretch/>
        </p:blipFill>
        <p:spPr>
          <a:xfrm>
            <a:off x="4427640" y="1700280"/>
            <a:ext cx="4468680" cy="4468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Внешний вид, обувь: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075520" cy="2476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 проверке наличия школьной формы отнимается количество баллов равное количеству учащихся без школьной формы и без сменной обуви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4" descr="i и"/>
          <p:cNvPicPr/>
          <p:nvPr/>
        </p:nvPicPr>
        <p:blipFill>
          <a:blip r:embed="rId1"/>
          <a:stretch/>
        </p:blipFill>
        <p:spPr>
          <a:xfrm>
            <a:off x="1332000" y="3645000"/>
            <a:ext cx="6624720" cy="2814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Участие в школьных делах, в районных и городских конкурсах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астие в мероприятиях школьного уровня (за помощь в организации -3 балла,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  призовое   место - 2  балла, за участие–1 балл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- участие в мероприятиях районного и городского уровня (за помощь в организации -3 балла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за   призовое   место - 2  балла, за участие – 1 балл).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А так же вы получаете баллы за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Посещение секций дополнительного образования в школе и вне школы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астие в творческих мероприятиях (праздниках) школы и дополнительного образовани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хранность учебник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Соблюдение правил внутреннего распорядка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Учитывается классное самоуправле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Итоги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3200" spc="-1" strike="noStrike">
                <a:solidFill>
                  <a:srgbClr val="000000"/>
                </a:solidFill>
                <a:latin typeface="Arial"/>
              </a:rPr>
              <a:t>Будет составлена рейтинговая таблица, где каждый может проследить за успехами своего класса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 заключительной линейке в мае будут подведены итоги и назван класс – победитель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9-05T07:03:35Z</dcterms:created>
  <dc:creator>Sergey</dc:creator>
  <dc:description/>
  <dc:language>en-US</dc:language>
  <cp:lastModifiedBy>Учитель</cp:lastModifiedBy>
  <dcterms:modified xsi:type="dcterms:W3CDTF">2016-11-15T06:28:14Z</dcterms:modified>
  <cp:revision>9</cp:revision>
  <dc:subject/>
  <dc:title>Слайд 1</dc:title>
</cp:coreProperties>
</file>