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20.png" ContentType="image/png"/>
  <Override PartName="/ppt/media/image36.jpeg" ContentType="image/jpeg"/>
  <Override PartName="/ppt/media/image17.png" ContentType="image/png"/>
  <Override PartName="/ppt/media/image32.jpeg" ContentType="image/jpeg"/>
  <Override PartName="/ppt/media/image15.png" ContentType="image/png"/>
  <Override PartName="/ppt/media/image14.wmf" ContentType="image/x-wmf"/>
  <Override PartName="/ppt/media/image4.png" ContentType="image/png"/>
  <Override PartName="/ppt/media/image12.wmf" ContentType="image/x-wmf"/>
  <Override PartName="/ppt/media/image27.png" ContentType="image/png"/>
  <Override PartName="/ppt/media/image33.jpeg" ContentType="image/jpeg"/>
  <Override PartName="/ppt/media/image16.png" ContentType="image/png"/>
  <Override PartName="/ppt/media/image13.gif" ContentType="image/gif"/>
  <Override PartName="/ppt/media/image30.jpeg" ContentType="image/jpeg"/>
  <Override PartName="/ppt/media/image31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11.png" ContentType="image/png"/>
  <Override PartName="/ppt/media/image6.wmf" ContentType="image/x-wmf"/>
  <Override PartName="/ppt/media/image29.wmf" ContentType="image/x-wmf"/>
  <Override PartName="/ppt/media/image39.jpeg" ContentType="image/jpeg"/>
  <Override PartName="/ppt/media/image8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43.jpeg" ContentType="image/jpeg"/>
  <Override PartName="/ppt/media/image3.wmf" ContentType="image/x-wmf"/>
  <Override PartName="/ppt/media/image2.wmf" ContentType="image/x-wmf"/>
  <Override PartName="/ppt/media/image28.wmf" ContentType="image/x-wmf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E3E-862A-4C68-B135-64AF3577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D3F-C085-4429-B7A0-83678D54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866-949A-485A-9122-7E4BCFB2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2E3-6505-4CD1-A8C5-0E0D57CF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499-D2FD-4AFF-803F-D6C4B59A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5BA-F7EF-4D23-853A-770D95D8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626-AD4E-412A-BAEB-764964CB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239-BD46-49C5-A19F-71978A09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D4AA-C4C7-4D3D-9325-304F9578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1B2-8C30-45AF-B9FB-4ABA2879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039-F485-4101-9D5A-EDDB2616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FEB-CA9D-4C24-BEAD-797A60F6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22BC-392C-4ADA-9385-945B26DCC7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258920" y="1557360"/>
            <a:ext cx="75596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Book Antiqua"/>
              </a:rPr>
              <a:t>Учебны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Book Antiqua"/>
              </a:rPr>
              <a:t>«Математика и здоровь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Book Antiqua"/>
              </a:rPr>
              <a:t>Выполнили ученики 5 и 6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Book Antiqua"/>
              </a:rPr>
              <a:t>Руководитель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d2d8a"/>
                </a:solidFill>
                <a:latin typeface="Book Antiqua"/>
              </a:rPr>
              <a:t>Куликова Ольга Серге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11280" y="54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Половина, пол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11280" y="162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-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55640" y="2565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-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84360" y="3573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Пя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5600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-Пол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916360" y="1557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-Седь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987640" y="2492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-Пол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916360" y="36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-Деся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796000" y="141300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-Пол-пол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435640" y="2421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Пол-пол-пол-треть (мал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5508720" y="3573360"/>
            <a:ext cx="2627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5050"/>
                </a:solidFill>
                <a:latin typeface="Monotype Corsiva"/>
              </a:rPr>
              <a:t>-</a:t>
            </a: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ол-пол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500720" y="4581360"/>
            <a:ext cx="3528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ff66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Пол- пол полчеть</a:t>
            </a: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(Малая ч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46040" cy="79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14360" cy="85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3"/>
          <a:stretch/>
        </p:blipFill>
        <p:spPr>
          <a:xfrm>
            <a:off x="4859280" y="1197000"/>
            <a:ext cx="595440" cy="878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4"/>
          <a:stretch/>
        </p:blipFill>
        <p:spPr>
          <a:xfrm>
            <a:off x="900000" y="4437000"/>
            <a:ext cx="1781280" cy="216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"/>
          <p:cNvPicPr/>
          <p:nvPr/>
        </p:nvPicPr>
        <p:blipFill>
          <a:blip r:embed="rId5"/>
          <a:stretch/>
        </p:blipFill>
        <p:spPr>
          <a:xfrm>
            <a:off x="3995640" y="4437000"/>
            <a:ext cx="584280" cy="863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"/>
          <p:cNvPicPr/>
          <p:nvPr/>
        </p:nvPicPr>
        <p:blipFill>
          <a:blip r:embed="rId6"/>
          <a:stretch/>
        </p:blipFill>
        <p:spPr>
          <a:xfrm>
            <a:off x="179280" y="2421000"/>
            <a:ext cx="669960" cy="10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"/>
          <p:cNvPicPr/>
          <p:nvPr/>
        </p:nvPicPr>
        <p:blipFill>
          <a:blip r:embed="rId7"/>
          <a:stretch/>
        </p:blipFill>
        <p:spPr>
          <a:xfrm>
            <a:off x="108000" y="3357720"/>
            <a:ext cx="577800" cy="993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"/>
          <p:cNvPicPr/>
          <p:nvPr/>
        </p:nvPicPr>
        <p:blipFill>
          <a:blip r:embed="rId8"/>
          <a:stretch/>
        </p:blipFill>
        <p:spPr>
          <a:xfrm>
            <a:off x="3924360" y="260280"/>
            <a:ext cx="50148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"/>
          <p:cNvPicPr/>
          <p:nvPr/>
        </p:nvPicPr>
        <p:blipFill>
          <a:blip r:embed="rId9"/>
          <a:stretch/>
        </p:blipFill>
        <p:spPr>
          <a:xfrm>
            <a:off x="2411280" y="1341360"/>
            <a:ext cx="615960" cy="102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"/>
          <p:cNvPicPr/>
          <p:nvPr/>
        </p:nvPicPr>
        <p:blipFill>
          <a:blip r:embed="rId10"/>
          <a:stretch/>
        </p:blipFill>
        <p:spPr>
          <a:xfrm>
            <a:off x="2556000" y="2349360"/>
            <a:ext cx="426960" cy="93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"/>
          <p:cNvPicPr/>
          <p:nvPr/>
        </p:nvPicPr>
        <p:blipFill>
          <a:blip r:embed="rId11"/>
          <a:stretch/>
        </p:blipFill>
        <p:spPr>
          <a:xfrm>
            <a:off x="2340000" y="3357720"/>
            <a:ext cx="646200" cy="107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5" descr=""/>
          <p:cNvPicPr/>
          <p:nvPr/>
        </p:nvPicPr>
        <p:blipFill>
          <a:blip r:embed="rId12"/>
          <a:stretch/>
        </p:blipFill>
        <p:spPr>
          <a:xfrm>
            <a:off x="4932360" y="3500280"/>
            <a:ext cx="749160" cy="852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"/>
          <p:cNvPicPr/>
          <p:nvPr/>
        </p:nvPicPr>
        <p:blipFill>
          <a:blip r:embed="rId13"/>
          <a:stretch/>
        </p:blipFill>
        <p:spPr>
          <a:xfrm>
            <a:off x="4859280" y="2133720"/>
            <a:ext cx="587520" cy="1106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"/>
          <p:cNvPicPr/>
          <p:nvPr/>
        </p:nvPicPr>
        <p:blipFill>
          <a:blip r:embed="rId14"/>
          <a:stretch/>
        </p:blipFill>
        <p:spPr>
          <a:xfrm>
            <a:off x="7093080" y="18900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19" name="WordArt 5"/>
          <p:cNvSpPr txBox="1"/>
          <p:nvPr/>
        </p:nvSpPr>
        <p:spPr>
          <a:xfrm>
            <a:off x="1835280" y="69228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десятичных дробях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755640" y="1836720"/>
            <a:ext cx="7128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К десятичным дробям математики пришли в разные времена в Азии и Евро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Целую часть от дробной отделяли в Китае особым знаком «дянь» (точка). Большое внимание дробям уделял средне-азиатский учёный аль-Коши. В Европе дроби были «открыты» нидерландским математиком и инженером С. Стев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В России впервые изложил учение о десятичных дробях Леонтий Магницкий в своей «Арифметик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7636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95280" y="189000"/>
            <a:ext cx="5329080" cy="63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ет отметить, что раздел арифметики о дробях долгое время был одним из наиболее трудных.                   Недаром у немцев сохранилась поговорка: «Попасть в дроби», что означало – зайти в безвыходное 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италось, что тот, кто не знает дробей, не знает и арифмет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cs5862.vk.me/g27297113/a_16dbe66a.jpg"/>
          <p:cNvPicPr/>
          <p:nvPr/>
        </p:nvPicPr>
        <p:blipFill>
          <a:blip r:embed="rId1"/>
          <a:stretch/>
        </p:blipFill>
        <p:spPr>
          <a:xfrm>
            <a:off x="7732800" y="5516640"/>
            <a:ext cx="1411200" cy="134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s://pravorub.ru/upload/content/2011/08/29/file_33c6261264a903395865928ed517592f_matematika.jpg"/>
          <p:cNvPicPr/>
          <p:nvPr/>
        </p:nvPicPr>
        <p:blipFill>
          <a:blip r:embed="rId2"/>
          <a:stretch/>
        </p:blipFill>
        <p:spPr>
          <a:xfrm>
            <a:off x="0" y="0"/>
            <a:ext cx="26463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187280" y="798120"/>
            <a:ext cx="763272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sto MT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alisto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sto MT"/>
              </a:rPr>
              <a:t>Дроби возникли из практических нужд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sto MT"/>
              </a:rPr>
              <a:t>2. Задачи трехвековой давности актуальны и сейчас. Их решение требует немалой смекалки, сообразительности и умения рассужд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sto MT"/>
              </a:rPr>
              <a:t>3. Старинные меры нужно знать не только для развития своего кругозора, но и потому что без прошлого невозможно будущ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j0234043"/>
          <p:cNvPicPr/>
          <p:nvPr/>
        </p:nvPicPr>
        <p:blipFill>
          <a:blip r:embed="rId2"/>
          <a:stretch/>
        </p:blipFill>
        <p:spPr>
          <a:xfrm>
            <a:off x="7475400" y="404640"/>
            <a:ext cx="13860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1116000" y="1700280"/>
            <a:ext cx="67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Calisto MT"/>
              </a:rPr>
              <a:t>Исследовательская работа групп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Calisto MT"/>
              </a:rPr>
              <a:t>«Валеологов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i?id=598782127-26-72&amp;n=21"/>
          <p:cNvPicPr/>
          <p:nvPr/>
        </p:nvPicPr>
        <p:blipFill>
          <a:blip r:embed="rId2"/>
          <a:stretch/>
        </p:blipFill>
        <p:spPr>
          <a:xfrm>
            <a:off x="7270920" y="765000"/>
            <a:ext cx="1873080" cy="149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i?id=101834523-22-72&amp;n=21"/>
          <p:cNvPicPr/>
          <p:nvPr/>
        </p:nvPicPr>
        <p:blipFill>
          <a:blip r:embed="rId3"/>
          <a:stretch/>
        </p:blipFill>
        <p:spPr>
          <a:xfrm>
            <a:off x="468360" y="4508640"/>
            <a:ext cx="23302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25а"/>
          <p:cNvPicPr/>
          <p:nvPr/>
        </p:nvPicPr>
        <p:blipFill>
          <a:blip r:embed="rId1"/>
          <a:stretch/>
        </p:blipFill>
        <p:spPr>
          <a:xfrm>
            <a:off x="-18108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1979640" y="54936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Calisto MT"/>
              </a:rPr>
              <a:t>Есть ли дроби в нашей жизн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11280" y="2276640"/>
            <a:ext cx="676908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Calisto MT"/>
              </a:rPr>
              <a:t>Цели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Узнать, где используются десятичные дроб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быту и в работе людей разных профес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Составить примерный режим дня для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5-6 классов с использованием десят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Составить примерное меню для ученика 5-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класса с использованием десятичных дроб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1403280" y="1341360"/>
            <a:ext cx="7561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sto MT"/>
              </a:rPr>
              <a:t>Был проведен опрос среди  детей, находящихся на лечении ,для выявления, где используются десятичные дроби в быту и в работе людей разных профес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sto MT"/>
              </a:rPr>
              <a:t>После чего проанализировали получ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sto MT"/>
              </a:rPr>
              <a:t>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Calisto MT"/>
              </a:rPr>
              <a:t>Отве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sto MT"/>
              </a:rPr>
              <a:t>● </a:t>
            </a:r>
            <a:r>
              <a:rPr b="1" i="1" lang="ru-RU" sz="2400" spc="-1" strike="noStrike">
                <a:solidFill>
                  <a:srgbClr val="000000"/>
                </a:solidFill>
                <a:latin typeface="Calisto MT"/>
              </a:rPr>
              <a:t>Десятичные дроби нужны швее для снятия ме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692360" y="692280"/>
            <a:ext cx="67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908000" y="6206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Calisto MT"/>
              </a:rPr>
              <a:t>Для ответа 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1" descr="C:\Users\ОЛЬГА\ЕВА\швея.jpg"/>
          <p:cNvPicPr/>
          <p:nvPr/>
        </p:nvPicPr>
        <p:blipFill>
          <a:blip r:embed="rId2"/>
          <a:stretch/>
        </p:blipFill>
        <p:spPr>
          <a:xfrm>
            <a:off x="4211640" y="5238720"/>
            <a:ext cx="12668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721800" cy="76946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1" descr="http://dic.academic.ru/pictures/wiki/files/50/220px-Boiler_man.jpg"/>
          <p:cNvPicPr/>
          <p:nvPr/>
        </p:nvPicPr>
        <p:blipFill>
          <a:blip r:embed="rId2"/>
          <a:stretch/>
        </p:blipFill>
        <p:spPr>
          <a:xfrm>
            <a:off x="3995640" y="2708280"/>
            <a:ext cx="1533600" cy="11523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9" descr="C:\Users\ОЛЬГА\ЕВА\200px-GMAW.welding.af.ncs.jpg"/>
          <p:cNvPicPr/>
          <p:nvPr/>
        </p:nvPicPr>
        <p:blipFill>
          <a:blip r:embed="rId3"/>
          <a:stretch/>
        </p:blipFill>
        <p:spPr>
          <a:xfrm>
            <a:off x="4140360" y="5373720"/>
            <a:ext cx="1218960" cy="13618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1476360" y="1629000"/>
            <a:ext cx="76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Тем, кто работает оператором теплосетей, нужны десятичные дроби для повышения и понижения темп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093680" y="4086360"/>
            <a:ext cx="772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Сварщикам десятичные дроби нужны для измерения длины сваренной трубы и ширины сварочного ш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1093680" y="4500000"/>
            <a:ext cx="80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7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6" descr="C:\Users\ОЛЬГА\ЕВА\повар.jpg"/>
          <p:cNvPicPr/>
          <p:nvPr/>
        </p:nvPicPr>
        <p:blipFill>
          <a:blip r:embed="rId2"/>
          <a:stretch/>
        </p:blipFill>
        <p:spPr>
          <a:xfrm>
            <a:off x="1547640" y="981000"/>
            <a:ext cx="1347840" cy="17272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C:\Users\ОЛЬГА\ЕВА\парикмахер.jpg"/>
          <p:cNvPicPr/>
          <p:nvPr/>
        </p:nvPicPr>
        <p:blipFill>
          <a:blip r:embed="rId3"/>
          <a:stretch/>
        </p:blipFill>
        <p:spPr>
          <a:xfrm>
            <a:off x="6300720" y="3357720"/>
            <a:ext cx="1486080" cy="1904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2987640" y="925200"/>
            <a:ext cx="61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ru-RU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Повара применяют десятичные дроби для составления мен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395280" y="3078720"/>
            <a:ext cx="58323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Парикмахер применяет десятичные дроби для приготовления раствор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покраски волос и для завивки</a:t>
            </a:r>
            <a:r>
              <a:rPr b="1" i="1" lang="ru-RU" sz="1100" spc="-1" strike="noStrike">
                <a:solidFill>
                  <a:srgbClr val="000000"/>
                </a:solidFill>
                <a:latin typeface="Calisto MT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195640" y="58467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В кулинарии при приготовлении блюд по рецеп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6" descr="http://t2.gstatic.com/images?q=tbn:ANd9GcTbk3w-QX8Ygfal-7PVeasZb8Q6j-FDAQ46bStz-7Pr8onSvPP_ejrLguQ"/>
          <p:cNvPicPr/>
          <p:nvPr/>
        </p:nvPicPr>
        <p:blipFill>
          <a:blip r:embed="rId4"/>
          <a:stretch/>
        </p:blipFill>
        <p:spPr>
          <a:xfrm>
            <a:off x="755640" y="4886280"/>
            <a:ext cx="1324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25а"/>
          <p:cNvPicPr/>
          <p:nvPr/>
        </p:nvPicPr>
        <p:blipFill>
          <a:blip r:embed="rId1"/>
          <a:stretch/>
        </p:blipFill>
        <p:spPr>
          <a:xfrm>
            <a:off x="0" y="-243000"/>
            <a:ext cx="9561600" cy="7479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7" descr="http://t3.gstatic.com/images?q=tbn:ANd9GcRbYn65pSEX6Tf-Dgxb6HB68ELCtNTmDLVmxg5-TWFzKiTxsetpovLj7ucv"/>
          <p:cNvPicPr/>
          <p:nvPr/>
        </p:nvPicPr>
        <p:blipFill>
          <a:blip r:embed="rId2"/>
          <a:stretch/>
        </p:blipFill>
        <p:spPr>
          <a:xfrm>
            <a:off x="1476360" y="333360"/>
            <a:ext cx="1257480" cy="1752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" descr="C:\Users\ОЛЬГА\ЕВА\бухгалтер.jpg"/>
          <p:cNvPicPr/>
          <p:nvPr/>
        </p:nvPicPr>
        <p:blipFill>
          <a:blip r:embed="rId3"/>
          <a:stretch/>
        </p:blipFill>
        <p:spPr>
          <a:xfrm>
            <a:off x="611280" y="2421000"/>
            <a:ext cx="1085760" cy="15429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C:\Users\ОЛЬГА\ЕВА\строитель.jpg"/>
          <p:cNvPicPr/>
          <p:nvPr/>
        </p:nvPicPr>
        <p:blipFill>
          <a:blip r:embed="rId4"/>
          <a:stretch/>
        </p:blipFill>
        <p:spPr>
          <a:xfrm>
            <a:off x="7020000" y="2852640"/>
            <a:ext cx="1517400" cy="1944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8"/>
          <p:cNvSpPr/>
          <p:nvPr/>
        </p:nvSpPr>
        <p:spPr>
          <a:xfrm>
            <a:off x="3203640" y="403560"/>
            <a:ext cx="576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В магазине при взвешивании товар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2050920" y="2329560"/>
            <a:ext cx="74916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Экономисты и бухгалтеры используют десятичные дроби для составления отчетов, расчето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50920" y="3951360"/>
            <a:ext cx="49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Строители используют десятичные дроби для составления см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Для расчета количества обоев, плитки, ламената и т.д. п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ремонте  кварти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http://cs620622.vk.me/v620622207/1e9a7/n-rNDLbe3-U.jpg"/>
          <p:cNvPicPr/>
          <p:nvPr/>
        </p:nvPicPr>
        <p:blipFill>
          <a:blip r:embed="rId5"/>
          <a:stretch/>
        </p:blipFill>
        <p:spPr>
          <a:xfrm>
            <a:off x="4427640" y="4797360"/>
            <a:ext cx="2441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835280" y="1195200"/>
            <a:ext cx="69865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Calibri"/>
              </a:rPr>
              <a:t>Краткая аннотация проект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 </a:t>
            </a: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"Математика и здоровье"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едназначен для учащихся 5-6 классов. Цель данного проекта – исследовать применение дробей в области математики, биологии, экологии, медиц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 flipV="1">
            <a:off x="1187280" y="5799600"/>
            <a:ext cx="566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1187280" y="4005360"/>
            <a:ext cx="64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Calibri"/>
              </a:rPr>
              <a:t>Проблем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Зачем возникли дроб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Есть ли дроби в нашей жизн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Как знания дробей могут повлиять на нашу жизнь?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2050920" y="549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Calisto MT"/>
              </a:rPr>
              <a:t>Исслед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692360" y="1266840"/>
            <a:ext cx="698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тям 11-15 лет на каждый килограмм своей массы необходимо употреблять в день: белков – 1,8 г, жиров -1,8 г, углеводов – 7,8 г. Посчитайте приближенно до граммов сколько должен употреблять ежедневно белков, жиров и углеводов мальчик 11 лет, масса которого равна 36,9 к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826920" y="4304160"/>
            <a:ext cx="705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Белков – 66,4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Жиров – 66,4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Углеводов – 287,8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2050920" y="549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Calisto MT"/>
              </a:rPr>
              <a:t>Исслед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692360" y="1203120"/>
            <a:ext cx="698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ебные занятия в школе занимают 25% времени суток. Продолжительность ночного сна должно быть в 1,5 раза больше времени, проводимого в школе, не менее 1/16 части суток должен составлять активный отдых на свежем воздухе. Подготовка домашнего задания должна занимать 5/18 от времени, отведенного на учебные занятия. Досуг составляет около 1,8 времени от времени приготовления уроков дома. Время провождения около телевизора не должно превышать 1/6 части вашего досуг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84360" y="4364280"/>
            <a:ext cx="70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Сон – 9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Занятия в школе – 6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гулка – 1час 30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одготовка дом задания – 1 час 40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тдых – 3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Телевизор – 30 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1476360" y="47628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Calisto MT"/>
              </a:rPr>
              <a:t>Примерный режим дня школьник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.00 – Подъ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.00-7.30 – Утренняя гимнастика, водные процедуры, уборка пост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уа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.30-7-50 – Утренний завт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.50-8.20 – Дорога в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8.30-14.40 – Занятия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0.00 – Горячий завтрак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3.00-14.00 – Горячий обед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4.40-14.50 – Дорога из школы до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5.00-15.30 – отд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5.30-16.30 – Прогулка и игры на свежем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6.30-16.50 – Пол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7.00-18.10 – Приготовление домашн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8.10-19.00 – Прогулка на свежем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9.00-19.20 – Уж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9.20-20.30 – Свободны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0.30-21.00 – Приготовление ко с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1.00-7.00 --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25а"/>
          <p:cNvPicPr/>
          <p:nvPr/>
        </p:nvPicPr>
        <p:blipFill>
          <a:blip r:embed="rId1"/>
          <a:stretch/>
        </p:blipFill>
        <p:spPr>
          <a:xfrm>
            <a:off x="395280" y="26028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755640" y="1341360"/>
            <a:ext cx="7920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. Каждодневное меню должно состоять из нужных и полезных продуктов, доли которых определяются дие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2. Постоянное употребление продуктов быстрого приготовления приводит к тяжелым заболева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3. Режим питания должен быть постоянным, чтобы организм успевал перерабатывать пищу, не голодал и не перенасыща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4. Режим дня строится на основе биоритмов человека и нужен для того, чтобы не уставать и быть всегда в тону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5. Продолжительность суток состоит из множества частей: сон, питание, учеба, различные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6. Десятичные дроби постоянно встречаются в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411280" y="765000"/>
            <a:ext cx="48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sto MT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i?id=594648682-19-72&amp;n=21"/>
          <p:cNvPicPr/>
          <p:nvPr/>
        </p:nvPicPr>
        <p:blipFill>
          <a:blip r:embed="rId2"/>
          <a:stretch/>
        </p:blipFill>
        <p:spPr>
          <a:xfrm>
            <a:off x="7734240" y="189000"/>
            <a:ext cx="15638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1116000" y="22050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0000"/>
                </a:solidFill>
                <a:latin typeface="Calisto MT"/>
              </a:rPr>
              <a:t>Спасибо за внимание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i?id=463045361-36-72&amp;n=21"/>
          <p:cNvPicPr/>
          <p:nvPr/>
        </p:nvPicPr>
        <p:blipFill>
          <a:blip r:embed="rId2"/>
          <a:stretch/>
        </p:blipFill>
        <p:spPr>
          <a:xfrm>
            <a:off x="3203640" y="4149720"/>
            <a:ext cx="33130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1403280" y="2039400"/>
            <a:ext cx="7201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Работа ведется двумя группами:</a:t>
            </a:r>
            <a:r>
              <a:rPr b="0" i="1" lang="ru-RU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"Историки"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зучают историческое происхождение дроби, слова "дробь" и дробной чер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"Валеологи"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оверяют наличие дробей в режиме дня и рационе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BD18201_"/>
          <p:cNvPicPr/>
          <p:nvPr/>
        </p:nvPicPr>
        <p:blipFill>
          <a:blip r:embed="rId2"/>
          <a:stretch/>
        </p:blipFill>
        <p:spPr>
          <a:xfrm>
            <a:off x="2050920" y="501480"/>
            <a:ext cx="4897440" cy="6356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2195640" y="1484280"/>
            <a:ext cx="3600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Monotype Corsiva"/>
              </a:rPr>
              <a:t>И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Monotype Corsiva"/>
              </a:rPr>
              <a:t>истори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Monotype Corsiva"/>
              </a:rPr>
              <a:t>дроб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j0305509"/>
          <p:cNvPicPr/>
          <p:nvPr/>
        </p:nvPicPr>
        <p:blipFill>
          <a:blip r:embed="rId3"/>
          <a:stretch/>
        </p:blipFill>
        <p:spPr>
          <a:xfrm>
            <a:off x="5651640" y="3284640"/>
            <a:ext cx="1830240" cy="14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468360" y="907920"/>
            <a:ext cx="8805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Calisto MT"/>
              </a:rPr>
              <a:t>Результаты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646200" y="2060640"/>
            <a:ext cx="84978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sto MT"/>
              </a:rPr>
              <a:t>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sto MT"/>
              </a:rPr>
              <a:t>С древних времен людям приходилось не только считать предметы, но и измерять длину, время, площадь, вести расчеты за купленные или проданные тов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alisto MT"/>
              </a:rPr>
              <a:t>Не всегда результат измерения или стоимость товара удавалось выразить натуральным числом. Приходилось учитывать и части, доли меры. Так появились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sto MT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"/>
          <p:cNvSpPr/>
          <p:nvPr/>
        </p:nvSpPr>
        <p:spPr>
          <a:xfrm>
            <a:off x="2832120" y="3244680"/>
            <a:ext cx="34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4452120" y="324468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666]"/>
          <p:cNvPicPr/>
          <p:nvPr/>
        </p:nvPicPr>
        <p:blipFill>
          <a:blip r:embed="rId2"/>
          <a:stretch/>
        </p:blipFill>
        <p:spPr>
          <a:xfrm>
            <a:off x="7524720" y="5661000"/>
            <a:ext cx="432000" cy="7938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9"/>
          <p:cNvSpPr/>
          <p:nvPr/>
        </p:nvSpPr>
        <p:spPr>
          <a:xfrm>
            <a:off x="611280" y="573264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ервой дробью, наверное, была дроб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yyy"/>
          <p:cNvPicPr/>
          <p:nvPr/>
        </p:nvPicPr>
        <p:blipFill>
          <a:blip r:embed="rId1"/>
          <a:srcRect l="10132" t="0" r="22397" b="4642"/>
          <a:stretch/>
        </p:blipFill>
        <p:spPr>
          <a:xfrm>
            <a:off x="7451640" y="2781360"/>
            <a:ext cx="1440000" cy="387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j0239169"/>
          <p:cNvPicPr/>
          <p:nvPr/>
        </p:nvPicPr>
        <p:blipFill>
          <a:blip r:embed="rId2"/>
          <a:stretch/>
        </p:blipFill>
        <p:spPr>
          <a:xfrm>
            <a:off x="0" y="115920"/>
            <a:ext cx="1508040" cy="1743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8"/>
          <p:cNvSpPr/>
          <p:nvPr/>
        </p:nvSpPr>
        <p:spPr>
          <a:xfrm>
            <a:off x="1547640" y="-18360"/>
            <a:ext cx="7272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В Древнем Египте некоторые дроби имели свои особые назва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а именно, часто возникающие на практике 1/2, 1/3, 2/3, 1/4, 3/4, 1/6 и 1/8. Кроме того, египтяне умели оперировать с  дробью 1/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–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их поэтому иногда также называю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египетски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; эти дроби имели свое написание: вытянутый горизонтальный овальчик и под ним обозначение знаменат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8"/>
          <p:cNvSpPr/>
          <p:nvPr/>
        </p:nvSpPr>
        <p:spPr>
          <a:xfrm>
            <a:off x="0" y="400536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них также были специальные символы для дробей 1/2, 2/3 и 3/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0" descr="C:\Users\Семья\Desktop\IMG_5063.JPG"/>
          <p:cNvPicPr/>
          <p:nvPr/>
        </p:nvPicPr>
        <p:blipFill>
          <a:blip r:embed="rId3"/>
          <a:stretch/>
        </p:blipFill>
        <p:spPr>
          <a:xfrm>
            <a:off x="826920" y="1700280"/>
            <a:ext cx="6048720" cy="2233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C:\Users\Семья\Desktop\IMG_5061.JPG"/>
          <p:cNvPicPr/>
          <p:nvPr/>
        </p:nvPicPr>
        <p:blipFill>
          <a:blip r:embed="rId4"/>
          <a:stretch/>
        </p:blipFill>
        <p:spPr>
          <a:xfrm>
            <a:off x="1042920" y="4389480"/>
            <a:ext cx="525780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50920" y="188640"/>
            <a:ext cx="8075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В Древнем Китае вместо черты ставили точку:  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ндийцы записывали так :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древнем Вавилоне предпочитали постоянный знаменатель, равный 60-ти. Шестидесятеричными дробями, унаследованными от Вавилона, пользовались греческие и арабские математики и астрономы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авилонская математика оказала влияние на греческую математику. Следы вавилонской шестидесятеричной системы счисления удержались в современной науке при измерении времени и углов. До наших дней сохранилось деление часа на 60 мин., минуты на 60 с, окружности на 360 градусов, градуса на 60 мин., минуты на 60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666]"/>
          <p:cNvPicPr/>
          <p:nvPr/>
        </p:nvPicPr>
        <p:blipFill>
          <a:blip r:embed="rId1"/>
          <a:stretch/>
        </p:blipFill>
        <p:spPr>
          <a:xfrm>
            <a:off x="7093080" y="0"/>
            <a:ext cx="550800" cy="11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666]"/>
          <p:cNvPicPr/>
          <p:nvPr/>
        </p:nvPicPr>
        <p:blipFill>
          <a:blip r:embed="rId2"/>
          <a:stretch/>
        </p:blipFill>
        <p:spPr>
          <a:xfrm>
            <a:off x="7885080" y="115920"/>
            <a:ext cx="506520" cy="1092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666]"/>
          <p:cNvPicPr/>
          <p:nvPr/>
        </p:nvPicPr>
        <p:blipFill>
          <a:blip r:embed="rId3"/>
          <a:stretch/>
        </p:blipFill>
        <p:spPr>
          <a:xfrm>
            <a:off x="4284720" y="692280"/>
            <a:ext cx="47448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971640" y="476280"/>
            <a:ext cx="7920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осмотрите, как записывалась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есятичная дробь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5162" t="5436" r="9210" b="17815"/>
          <a:stretch/>
        </p:blipFill>
        <p:spPr>
          <a:xfrm>
            <a:off x="1547640" y="2924280"/>
            <a:ext cx="5977080" cy="27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j0234043"/>
          <p:cNvPicPr/>
          <p:nvPr/>
        </p:nvPicPr>
        <p:blipFill>
          <a:blip r:embed="rId2"/>
          <a:stretch/>
        </p:blipFill>
        <p:spPr>
          <a:xfrm>
            <a:off x="7308720" y="4221000"/>
            <a:ext cx="1697040" cy="229248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7164360" y="1484280"/>
            <a:ext cx="100980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0,1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619280" y="4508640"/>
            <a:ext cx="5688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роби на Руси называли ДОЛ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зже ЛОМАНН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старых руководствах наход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едующие названия дроб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24000" y="115920"/>
            <a:ext cx="4679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5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1" lang="ru-RU" sz="10500" spc="-1" strike="noStrike">
                <a:solidFill>
                  <a:srgbClr val="0099ff"/>
                </a:solidFill>
                <a:latin typeface="Comic Sans MS"/>
              </a:rPr>
              <a:t>р</a:t>
            </a:r>
            <a:r>
              <a:rPr b="1" lang="ru-RU" sz="10500" spc="-1" strike="noStrike">
                <a:solidFill>
                  <a:srgbClr val="808080"/>
                </a:solidFill>
                <a:latin typeface="Comic Sans MS"/>
              </a:rPr>
              <a:t>о</a:t>
            </a:r>
            <a:r>
              <a:rPr b="1" lang="ru-RU" sz="10500" spc="-1" strike="noStrike">
                <a:solidFill>
                  <a:srgbClr val="009999"/>
                </a:solidFill>
                <a:latin typeface="Comic Sans MS"/>
              </a:rPr>
              <a:t>б</a:t>
            </a:r>
            <a:r>
              <a:rPr b="1" lang="ru-RU" sz="10500" spc="-1" strike="noStrike">
                <a:solidFill>
                  <a:srgbClr val="99cc00"/>
                </a:solidFill>
                <a:latin typeface="Comic Sans MS"/>
              </a:rPr>
              <a:t>и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771640" y="1484280"/>
            <a:ext cx="2519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500" spc="-1" strike="noStrike">
                <a:solidFill>
                  <a:srgbClr val="ff3399"/>
                </a:solidFill>
                <a:latin typeface="Comic Sans MS"/>
              </a:rPr>
              <a:t>н</a:t>
            </a:r>
            <a:r>
              <a:rPr b="1" lang="ru-RU" sz="10500" spc="-1" strike="noStrike">
                <a:solidFill>
                  <a:srgbClr val="9900cc"/>
                </a:solidFill>
                <a:latin typeface="Comic Sans MS"/>
              </a:rPr>
              <a:t>а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211640" y="2492280"/>
            <a:ext cx="56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66ff"/>
                </a:solidFill>
                <a:latin typeface="Monotype Corsiva"/>
              </a:rPr>
              <a:t>уси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UN14"/>
          <p:cNvPicPr/>
          <p:nvPr/>
        </p:nvPicPr>
        <p:blipFill>
          <a:blip r:embed="rId1"/>
          <a:stretch/>
        </p:blipFill>
        <p:spPr>
          <a:xfrm>
            <a:off x="2050920" y="549360"/>
            <a:ext cx="1428840" cy="1238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j0267126"/>
          <p:cNvPicPr/>
          <p:nvPr/>
        </p:nvPicPr>
        <p:blipFill>
          <a:blip r:embed="rId2"/>
          <a:stretch/>
        </p:blipFill>
        <p:spPr>
          <a:xfrm>
            <a:off x="4932360" y="1628640"/>
            <a:ext cx="1724040" cy="23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2:21:03Z</dcterms:created>
  <dc:creator>Customer</dc:creator>
  <dc:description/>
  <dc:language>en-US</dc:language>
  <cp:lastModifiedBy>Семья</cp:lastModifiedBy>
  <dcterms:modified xsi:type="dcterms:W3CDTF">2016-02-24T20:19:09Z</dcterms:modified>
  <cp:revision>34</cp:revision>
  <dc:subject/>
  <dc:title>Слайд 1</dc:title>
</cp:coreProperties>
</file>