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4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EF06B-1B0C-4699-BC66-AA2ADD83E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FD31B-BA56-4B73-A7B5-BE36D52F3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8A726-66FF-4A03-A227-EC3429F83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F9776-FF46-4886-8BF4-910846ED1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B5B1E4-3C9A-44B9-87A8-31E6E28C7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4DD7EA-5C2E-48AF-AEA3-5D46D9A64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1DC858-1EFB-4FFD-9A7A-D1368DD48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E9675F-E0D7-4A5D-940A-D74EABA93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1AEB8D-56A3-4B4E-A1EC-D04C611DF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C56ACD-3A57-478A-B86D-E1102C43C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5A309C-D690-48AD-B5A8-918800F48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08452-410A-490E-ADED-B466E74E6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A1CAD6-7ABC-40F5-B30D-D6E356FE8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78811A-0C78-41A4-AC9E-D1C61D0CF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2A64EA-3C5D-409C-AC48-693CEA62E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00076F-6003-46C3-942F-C549D76A3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596E86-42D1-40B9-B280-4C6126A85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B9317-BC83-4F66-8B63-50E08072F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60612-9A37-442A-90F8-D914F993A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F1291-F736-442E-899B-1664AF4C9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A0046-4018-4A9B-9F29-6E1DF9009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29F6A-9080-4007-ADAB-F8AAC7048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EDC05-F5A1-4C18-9013-FFDF9658E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4921C-D587-4FA5-9C32-0DBD0EB07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C9871-6514-4B05-860D-3A269BB3CF4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7DDFE-37D1-4478-9C6B-65532658B992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5"/>
          <p:cNvSpPr/>
          <p:nvPr/>
        </p:nvSpPr>
        <p:spPr>
          <a:xfrm>
            <a:off x="0" y="0"/>
            <a:ext cx="8610480" cy="65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272fe"/>
                </a:solidFill>
                <a:latin typeface="Times New Roman"/>
              </a:rPr>
              <a:t>МБОУ «Средняя общеобразовательная школа № 2»  г. Мензелинск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33cc"/>
                </a:solidFill>
                <a:latin typeface="Times New Roman"/>
              </a:rPr>
              <a:t>Моя   будущая  </a:t>
            </a:r>
            <a:endParaRPr b="0" lang="en-US" sz="9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33cc"/>
                </a:solidFill>
                <a:latin typeface="Times New Roman"/>
              </a:rPr>
              <a:t>Профессия</a:t>
            </a:r>
            <a:endParaRPr b="0" lang="en-US" sz="9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Box 1"/>
          <p:cNvSpPr/>
          <p:nvPr/>
        </p:nvSpPr>
        <p:spPr>
          <a:xfrm>
            <a:off x="457200" y="380880"/>
            <a:ext cx="8001000" cy="61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ahoma"/>
              </a:rPr>
              <a:t>Выбор  профессии сложный  и ответственный  шаг в  жизни  в  каждого человека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66cc"/>
                </a:solidFill>
                <a:latin typeface="Tahoma"/>
              </a:rPr>
              <a:t>Правильно  выбрать  профессию  -  значит   найти свое  место  в  жизни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ahoma"/>
              </a:rPr>
              <a:t>Посмотрите!  Посмотрите!</a:t>
            </a:r>
            <a:br>
              <a:rPr sz="3600"/>
            </a:br>
            <a:r>
              <a:rPr b="1" lang="ru-RU" sz="3600" spc="-1" strike="noStrike">
                <a:solidFill>
                  <a:srgbClr val="ff0000"/>
                </a:solidFill>
                <a:latin typeface="Tahoma"/>
              </a:rPr>
              <a:t>Я  пускаю  пузыри!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Содержимое 5" descr="CIMG0018.JPG"/>
          <p:cNvPicPr/>
          <p:nvPr/>
        </p:nvPicPr>
        <p:blipFill>
          <a:blip r:embed="rId1"/>
          <a:stretch/>
        </p:blipFill>
        <p:spPr>
          <a:xfrm>
            <a:off x="380880" y="1600200"/>
            <a:ext cx="4038840" cy="3790800"/>
          </a:xfrm>
          <a:prstGeom prst="rect">
            <a:avLst/>
          </a:prstGeom>
          <a:ln w="0">
            <a:noFill/>
          </a:ln>
        </p:spPr>
      </p:pic>
      <p:pic>
        <p:nvPicPr>
          <p:cNvPr id="100" name="Содержимое 6" descr="CIMG0017.JPG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387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Рисунок 1" descr="CIMG002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TextBox 2"/>
          <p:cNvSpPr/>
          <p:nvPr/>
        </p:nvSpPr>
        <p:spPr>
          <a:xfrm>
            <a:off x="2895480" y="304920"/>
            <a:ext cx="5943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ahoma"/>
              </a:rPr>
              <a:t>  </a:t>
            </a:r>
            <a:r>
              <a:rPr b="1" lang="ru-RU" sz="4000" spc="-1" strike="noStrike">
                <a:solidFill>
                  <a:srgbClr val="ff0000"/>
                </a:solidFill>
                <a:latin typeface="Tahoma"/>
              </a:rPr>
              <a:t>Я  богатая  шарами.            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TextBox 3"/>
          <p:cNvSpPr/>
          <p:nvPr/>
        </p:nvSpPr>
        <p:spPr>
          <a:xfrm>
            <a:off x="5715000" y="1066680"/>
            <a:ext cx="26398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66ff"/>
                </a:solidFill>
                <a:latin typeface="Tahoma"/>
              </a:rPr>
              <a:t>Ими   я делюс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66ff"/>
                </a:solidFill>
                <a:latin typeface="Tahoma"/>
              </a:rPr>
              <a:t>с  друзьями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291960"/>
            <a:ext cx="86868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ahoma"/>
              </a:rPr>
              <a:t>Мыльные  пузыри – это  тонкая  пленка  мыльной  воды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Содержимое 6" descr="CIMG0053.JPG"/>
          <p:cNvPicPr/>
          <p:nvPr/>
        </p:nvPicPr>
        <p:blipFill>
          <a:blip r:embed="rId1"/>
          <a:stretch/>
        </p:blipFill>
        <p:spPr>
          <a:xfrm>
            <a:off x="1828800" y="1905120"/>
            <a:ext cx="54864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ahoma"/>
              </a:rPr>
              <a:t>В интернете  я нашла  разные  способы   изготовления  мыльных  пузырей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7" name="Содержимое 7" descr="CIMG0046.JPG"/>
          <p:cNvPicPr/>
          <p:nvPr/>
        </p:nvPicPr>
        <p:blipFill>
          <a:blip r:embed="rId1"/>
          <a:stretch/>
        </p:blipFill>
        <p:spPr>
          <a:xfrm>
            <a:off x="1828800" y="2057400"/>
            <a:ext cx="54864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ahoma"/>
              </a:rPr>
              <a:t>1 опыт.   С  помощью  терки  натерла  мыло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9" name="Содержимое 3" descr="CIMG0004.JPG"/>
          <p:cNvPicPr/>
          <p:nvPr/>
        </p:nvPicPr>
        <p:blipFill>
          <a:blip r:embed="rId1"/>
          <a:stretch/>
        </p:blipFill>
        <p:spPr>
          <a:xfrm>
            <a:off x="1143000" y="1905120"/>
            <a:ext cx="693432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ahoma"/>
              </a:rPr>
              <a:t>Можно  использовать  твердое   мыло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Содержимое 3" descr="CIMG0005.JPG"/>
          <p:cNvPicPr/>
          <p:nvPr/>
        </p:nvPicPr>
        <p:blipFill>
          <a:blip r:embed="rId1"/>
          <a:stretch/>
        </p:blipFill>
        <p:spPr>
          <a:xfrm>
            <a:off x="914400" y="1905120"/>
            <a:ext cx="739152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ahoma"/>
              </a:rPr>
              <a:t>Мыло  заливаю   кипятком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3" name="Содержимое 3" descr="CIMG0007.JPG"/>
          <p:cNvPicPr/>
          <p:nvPr/>
        </p:nvPicPr>
        <p:blipFill>
          <a:blip r:embed="rId1"/>
          <a:stretch/>
        </p:blipFill>
        <p:spPr>
          <a:xfrm>
            <a:off x="1828800" y="2286000"/>
            <a:ext cx="59436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ahoma"/>
              </a:rPr>
              <a:t>Размешиваю  до  его  растворения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5" name="Содержимое 3" descr="CIMG0009.JPG"/>
          <p:cNvPicPr/>
          <p:nvPr/>
        </p:nvPicPr>
        <p:blipFill>
          <a:blip r:embed="rId1"/>
          <a:stretch/>
        </p:blipFill>
        <p:spPr>
          <a:xfrm>
            <a:off x="2286000" y="2286000"/>
            <a:ext cx="57150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ahoma"/>
              </a:rPr>
              <a:t>Добавляю  1  столовую ложку  сахара  (для  прочности пузырей)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7" name="Содержимое 3" descr="CIMG0049.JPG"/>
          <p:cNvPicPr/>
          <p:nvPr/>
        </p:nvPicPr>
        <p:blipFill>
          <a:blip r:embed="rId1"/>
          <a:stretch/>
        </p:blipFill>
        <p:spPr>
          <a:xfrm>
            <a:off x="1828800" y="2057400"/>
            <a:ext cx="54864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Box 1"/>
          <p:cNvSpPr/>
          <p:nvPr/>
        </p:nvSpPr>
        <p:spPr>
          <a:xfrm>
            <a:off x="457200" y="533520"/>
            <a:ext cx="83059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ahoma"/>
              </a:rPr>
              <a:t>Про  иного  человека  говорят: 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ahoma"/>
              </a:rPr>
              <a:t>«Ну  он  просто   артист»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66ff"/>
                </a:solidFill>
                <a:latin typeface="Tahoma"/>
              </a:rPr>
              <a:t>Люди такого  склада, как правило, веселы,  находчивы, раскованы,  энергичны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ahoma"/>
              </a:rPr>
              <a:t>Они  с детских  лет  являются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ahoma"/>
              </a:rPr>
              <a:t>«душой  компании»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66cc"/>
                </a:solidFill>
                <a:latin typeface="Tahoma"/>
              </a:rPr>
              <a:t>Из  них  «вырастают»  массовики  затейники. 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ahoma"/>
              </a:rPr>
              <a:t>Раствор  хорошо размешиваю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9" name="Содержимое 3" descr="CIMG0010.JPG"/>
          <p:cNvPicPr/>
          <p:nvPr/>
        </p:nvPicPr>
        <p:blipFill>
          <a:blip r:embed="rId1"/>
          <a:stretch/>
        </p:blipFill>
        <p:spPr>
          <a:xfrm>
            <a:off x="1828800" y="2362320"/>
            <a:ext cx="60199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ahoma"/>
              </a:rPr>
              <a:t>Получились   мыльные  пузыри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1" name="Содержимое 3" descr="CIMG0012.JPG"/>
          <p:cNvPicPr/>
          <p:nvPr/>
        </p:nvPicPr>
        <p:blipFill>
          <a:blip r:embed="rId1"/>
          <a:stretch/>
        </p:blipFill>
        <p:spPr>
          <a:xfrm>
            <a:off x="1828800" y="2209680"/>
            <a:ext cx="586728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Получить мыльные  пузыри в  домашних  условиях  - интереснейшее заняти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3" name="Содержимое 3" descr="CIMG0024.JPG"/>
          <p:cNvPicPr/>
          <p:nvPr/>
        </p:nvPicPr>
        <p:blipFill>
          <a:blip r:embed="rId1"/>
          <a:stretch/>
        </p:blipFill>
        <p:spPr>
          <a:xfrm>
            <a:off x="1828800" y="2362320"/>
            <a:ext cx="61722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ahoma"/>
              </a:rPr>
              <a:t>Выдувая мыльные  пузыри  поднимается  настроение, забываются  все  проблемы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5" name="Содержимое 3" descr="CIMG0030.JPG"/>
          <p:cNvPicPr/>
          <p:nvPr/>
        </p:nvPicPr>
        <p:blipFill>
          <a:blip r:embed="rId1"/>
          <a:stretch/>
        </p:blipFill>
        <p:spPr>
          <a:xfrm>
            <a:off x="1828800" y="2362320"/>
            <a:ext cx="54864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ahoma"/>
              </a:rPr>
              <a:t>Хорошо  разрабатываются  легкие. Все это  благотворно  влияет  на  здоровье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7" name="Содержимое 3" descr="CIMG0031.JPG"/>
          <p:cNvPicPr/>
          <p:nvPr/>
        </p:nvPicPr>
        <p:blipFill>
          <a:blip r:embed="rId1"/>
          <a:stretch/>
        </p:blipFill>
        <p:spPr>
          <a:xfrm>
            <a:off x="1828800" y="2514600"/>
            <a:ext cx="594360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Рисунок 1" descr="м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174080"/>
          </a:xfrm>
          <a:prstGeom prst="rect">
            <a:avLst/>
          </a:prstGeom>
          <a:ln w="0">
            <a:noFill/>
          </a:ln>
        </p:spPr>
      </p:pic>
      <p:sp>
        <p:nvSpPr>
          <p:cNvPr id="129" name="TextBox 2"/>
          <p:cNvSpPr/>
          <p:nvPr/>
        </p:nvSpPr>
        <p:spPr>
          <a:xfrm>
            <a:off x="103320" y="380880"/>
            <a:ext cx="8981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ru-RU" sz="6600" spc="-1" strike="noStrike">
                <a:solidFill>
                  <a:srgbClr val="ff0000"/>
                </a:solidFill>
                <a:latin typeface="Tahoma"/>
              </a:rPr>
              <a:t>Мыльные  пузыри -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TextBox 3"/>
          <p:cNvSpPr/>
          <p:nvPr/>
        </p:nvSpPr>
        <p:spPr>
          <a:xfrm>
            <a:off x="990720" y="5334120"/>
            <a:ext cx="769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00"/>
                </a:solidFill>
                <a:latin typeface="Tahoma"/>
              </a:rPr>
              <a:t>чудо  природы.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Рисунок 2" descr="CIMG001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2" name="TextBox 3"/>
          <p:cNvSpPr/>
          <p:nvPr/>
        </p:nvSpPr>
        <p:spPr>
          <a:xfrm>
            <a:off x="21960" y="304920"/>
            <a:ext cx="884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ahoma"/>
              </a:rPr>
              <a:t>  </a:t>
            </a:r>
            <a:r>
              <a:rPr b="1" lang="ru-RU" sz="3600" spc="-1" strike="noStrike">
                <a:solidFill>
                  <a:srgbClr val="ff0000"/>
                </a:solidFill>
                <a:latin typeface="Tahoma"/>
              </a:rPr>
              <a:t>Мыльные  пузыри одна  из  самых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ru-RU" sz="3600" spc="-1" strike="noStrike">
                <a:solidFill>
                  <a:srgbClr val="ff0000"/>
                </a:solidFill>
                <a:latin typeface="Tahoma"/>
              </a:rPr>
              <a:t>любимых  детских  забав</a:t>
            </a:r>
            <a:r>
              <a:rPr b="1" lang="ru-RU" sz="1800" spc="-1" strike="noStrike">
                <a:solidFill>
                  <a:srgbClr val="ff0000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Рисунок 1" descr="CIMG002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TextBox 2"/>
          <p:cNvSpPr/>
          <p:nvPr/>
        </p:nvSpPr>
        <p:spPr>
          <a:xfrm>
            <a:off x="0" y="304920"/>
            <a:ext cx="39625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ahoma"/>
              </a:rPr>
              <a:t>Если  хотите 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ahoma"/>
              </a:rPr>
              <a:t>праздничного  настроения   - 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TextBox 3"/>
          <p:cNvSpPr/>
          <p:nvPr/>
        </p:nvSpPr>
        <p:spPr>
          <a:xfrm>
            <a:off x="74520" y="5638680"/>
            <a:ext cx="905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ahoma"/>
              </a:rPr>
              <a:t>доверьтесь  профессионалам!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Box 1"/>
          <p:cNvSpPr/>
          <p:nvPr/>
        </p:nvSpPr>
        <p:spPr>
          <a:xfrm>
            <a:off x="914400" y="1143000"/>
            <a:ext cx="7467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Проект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подготовили   и   защитили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TextBox 2"/>
          <p:cNvSpPr/>
          <p:nvPr/>
        </p:nvSpPr>
        <p:spPr>
          <a:xfrm>
            <a:off x="457200" y="4191120"/>
            <a:ext cx="9140760" cy="21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читель – консультант -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алиуллина  Зульфия  Рафаиловн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ченица  1 Б  класса  -  Маврина  Ксения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2013 – 2014 уч.год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Box 1"/>
          <p:cNvSpPr/>
          <p:nvPr/>
        </p:nvSpPr>
        <p:spPr>
          <a:xfrm>
            <a:off x="609480" y="1600200"/>
            <a:ext cx="72392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Tahoma"/>
              </a:rPr>
              <a:t>Спасибо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Tahoma"/>
              </a:rPr>
              <a:t>за   внимание </a:t>
            </a:r>
            <a:r>
              <a:rPr b="0" lang="ru-RU" sz="6000" spc="-1" strike="noStrike">
                <a:solidFill>
                  <a:srgbClr val="ff0000"/>
                </a:solidFill>
                <a:latin typeface="Tahoma"/>
              </a:rPr>
              <a:t>!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Box 1"/>
          <p:cNvSpPr/>
          <p:nvPr/>
        </p:nvSpPr>
        <p:spPr>
          <a:xfrm>
            <a:off x="0" y="1066680"/>
            <a:ext cx="914400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ffff"/>
                </a:solidFill>
                <a:latin typeface="Tahoma"/>
              </a:rPr>
              <a:t>Массовик - затейник: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ffff"/>
                </a:solidFill>
                <a:latin typeface="Tahoma"/>
              </a:rPr>
              <a:t>как  подарить  настроение.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Прямоугольник 1"/>
          <p:cNvSpPr/>
          <p:nvPr/>
        </p:nvSpPr>
        <p:spPr>
          <a:xfrm>
            <a:off x="1219320" y="380880"/>
            <a:ext cx="723888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66ff"/>
                </a:solidFill>
                <a:latin typeface="Tahoma"/>
              </a:rPr>
              <a:t>Цель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66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66ff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ff66ff"/>
                </a:solidFill>
                <a:latin typeface="Tahoma"/>
              </a:rPr>
              <a:t>Создавать условия  для формирования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66ff"/>
                </a:solidFill>
                <a:latin typeface="Tahoma"/>
              </a:rPr>
              <a:t>представления о мире  профессий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66ff"/>
                </a:solidFill>
                <a:latin typeface="Tahoma"/>
              </a:rPr>
              <a:t>Развивать  познавательный интерес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66ff"/>
                </a:solidFill>
                <a:latin typeface="Tahoma"/>
              </a:rPr>
              <a:t>Творческую деятельность,  расширять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66ff"/>
                </a:solidFill>
                <a:latin typeface="Tahoma"/>
              </a:rPr>
              <a:t>представление о любимо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66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66ff"/>
                </a:solidFill>
                <a:latin typeface="Tahoma"/>
              </a:rPr>
              <a:t>детской   игре    в  мыльные  пузыр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buClr>
                <a:srgbClr val="ff66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66ff"/>
                </a:solidFill>
                <a:latin typeface="Tahoma"/>
              </a:rPr>
              <a:t>Воспитывать уважительное отношение к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buClr>
                <a:srgbClr val="ff66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66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66ff"/>
                </a:solidFill>
                <a:latin typeface="Tahoma"/>
              </a:rPr>
              <a:t>людям разных профессий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Box 2"/>
          <p:cNvSpPr/>
          <p:nvPr/>
        </p:nvSpPr>
        <p:spPr>
          <a:xfrm>
            <a:off x="990720" y="380880"/>
            <a:ext cx="744696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ahoma"/>
              </a:rPr>
              <a:t>Раз,  два,  три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ahoma"/>
              </a:rPr>
              <a:t>Раз, два,  три –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ahoma"/>
              </a:rPr>
              <a:t>Я  пускаю  пузыри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ahoma"/>
              </a:rPr>
              <a:t>Мыльные,  воздушные,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ahoma"/>
              </a:rPr>
              <a:t>Ветерку  послушные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ahoma"/>
              </a:rPr>
              <a:t>Раз,   два,  три,  четыре,  пять,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ahoma"/>
              </a:rPr>
              <a:t>Пузыри  летят  опять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ahoma"/>
              </a:rPr>
              <a:t>Над  домами, над  лесами,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ahoma"/>
              </a:rPr>
              <a:t>Над  зелеными  садами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ahoma"/>
              </a:rPr>
              <a:t>Я  пускаю  пузыри,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ahoma"/>
              </a:rPr>
              <a:t>Мама,  мама,  посмотри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Рисунок 2" descr="CIMG003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0" name="Пузыри.mp3" descr=""/>
          <p:cNvPicPr/>
          <p:nvPr/>
        </p:nvPicPr>
        <p:blipFill>
          <a:blip r:embed="rId2"/>
          <a:stretch/>
        </p:blipFill>
        <p:spPr>
          <a:xfrm>
            <a:off x="8610480" y="6248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10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" dur="128803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Рисунок 1" descr="м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TextBox 2"/>
          <p:cNvSpPr/>
          <p:nvPr/>
        </p:nvSpPr>
        <p:spPr>
          <a:xfrm>
            <a:off x="762120" y="533520"/>
            <a:ext cx="77724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dffbd"/>
                </a:solidFill>
                <a:latin typeface="Tahoma"/>
              </a:rPr>
              <a:t>Летящие  по  воздуху  переливающиеся  всеми  цветами  радуги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dffbd"/>
                </a:solidFill>
                <a:latin typeface="Tahoma"/>
              </a:rPr>
              <a:t>прозрачные шары. 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dffbd"/>
                </a:solidFill>
                <a:latin typeface="Tahoma"/>
              </a:rPr>
              <a:t>Что  это?  Ну,  конечно,  каждый  знает  ответ -  это  мыльные  пузыри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Рисунок 2" descr="м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TextBox 3"/>
          <p:cNvSpPr/>
          <p:nvPr/>
        </p:nvSpPr>
        <p:spPr>
          <a:xfrm>
            <a:off x="609480" y="457200"/>
            <a:ext cx="784872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66ff"/>
                </a:solidFill>
                <a:latin typeface="Tahoma"/>
              </a:rPr>
              <a:t>Умеете  ли  вы  выдувать  мыльные  пузыри?  Их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66ff"/>
                </a:solidFill>
                <a:latin typeface="Tahoma"/>
              </a:rPr>
              <a:t>Можно  выдуть  большими и маленькими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66ff"/>
                </a:solidFill>
                <a:latin typeface="Tahoma"/>
              </a:rPr>
              <a:t>А  еще  можно  сделать  их  разноцветными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Рисунок 1" descr="м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TextBox 2"/>
          <p:cNvSpPr/>
          <p:nvPr/>
        </p:nvSpPr>
        <p:spPr>
          <a:xfrm>
            <a:off x="533520" y="914400"/>
            <a:ext cx="754380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ahoma"/>
              </a:rPr>
              <a:t>Мыльные  пузыри  -  пожалуй,  самое  восхитительное  и самое  изысканное явление  природы.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ShellyAllegroC"/>
              </a:rPr>
              <a:t>                  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ShellyAllegroC"/>
              </a:rPr>
              <a:t>Марк  Твен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ОЕМ</dc:creator>
  <dc:description/>
  <dc:language>en-US</dc:language>
  <cp:lastModifiedBy>ОЕМ</cp:lastModifiedBy>
  <dcterms:modified xsi:type="dcterms:W3CDTF">2017-01-16T17:45:46Z</dcterms:modified>
  <cp:revision>3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