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46CB-97FD-4B22-900C-AB4F112639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C25E-194A-4894-95E3-1CC4729DC9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452-6715-4623-BD9E-C9E9919A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32F-65F5-4C72-9639-7C1E14BB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561-1CD6-4AA8-9587-4D7B3C68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F45-AA48-4402-AD7E-7B10A3EE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6224-0D05-4AD3-B4D5-7AAE6E59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14BA-7307-4B36-AB1A-1775CD3B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AFD7-02A3-45CC-994A-05F671AC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3B6F-BE14-4EFF-B2DA-E40BE0DB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21B3-1D77-4E9F-8A04-FBDC0666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E26E-CA14-4296-8DEF-242059D8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3F6B-2F53-4378-AB97-A7683E78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F96-E4F5-4018-A5DB-D6484C66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04B5-9715-4B17-A1C2-5B58742E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4C70-9B7C-4A5F-8E3E-6E248D42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445D-DB52-4926-A071-ADB2017E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66ED-5AB1-49D2-ABAA-D0050D52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A45A-FC90-443E-832D-891A42EE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CF8-64A4-4F91-AD40-3C6D4291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9FD-E5C6-4671-BED5-43B7436E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14B-865D-4407-812E-5ED6F25A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8F2-7CC8-48CF-96A5-6E64A714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B7C-65A1-4F76-86DF-7135365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C78-84AF-43AB-B98C-F77366C5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1C0-F51A-47A6-9905-E12E437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6A2A-2BA0-471B-8844-FD9F1D9658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3AF6-831B-4F01-9183-B9FB68B711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1280" y="1052280"/>
            <a:ext cx="583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русского язы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в 3 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68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: «Обстоятельст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МК «Школа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XI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511520" y="5229360"/>
            <a:ext cx="428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Дейч Татья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Гальбштадт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Всем 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Закончите предлож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643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ГЛАВНЫЕ ЧЛ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116000" y="256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ЛЕЖАЩЕЕ и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971640" y="3645000"/>
            <a:ext cx="76438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ВТОРОСТЕПЕННЫ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ма исследования: </a:t>
            </a: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БСТОЯТЕЛЬ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61128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бъект исследования: </a:t>
            </a:r>
            <a:r>
              <a:rPr b="0" i="1" lang="ru-RU" sz="4000" spc="-1" strike="noStrike">
                <a:solidFill>
                  <a:srgbClr val="c00000"/>
                </a:solidFill>
                <a:latin typeface="Arial Black"/>
              </a:rPr>
              <a:t>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684360" y="343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едмет исследования: </a:t>
            </a:r>
            <a:r>
              <a:rPr b="0" i="1" lang="ru-RU" sz="3600" spc="-1" strike="noStrike">
                <a:solidFill>
                  <a:srgbClr val="c00000"/>
                </a:solidFill>
                <a:latin typeface="Arial Black"/>
              </a:rPr>
              <a:t>ВТОРОСТЕПЕННЫЙ ЧЛЕН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620640" y="502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Метод исследования: </a:t>
            </a:r>
            <a:r>
              <a:rPr b="0" i="1" lang="ru-RU" sz="4000" spc="-1" strike="noStrike">
                <a:solidFill>
                  <a:srgbClr val="c00000"/>
                </a:solidFill>
                <a:latin typeface="Arial Black"/>
              </a:rPr>
              <a:t>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826920" y="907920"/>
          <a:ext cx="7777440" cy="2935440"/>
        </p:xfrm>
        <a:graphic>
          <a:graphicData uri="http://schemas.openxmlformats.org/drawingml/2006/table">
            <a:tbl>
              <a:tblPr/>
              <a:tblGrid>
                <a:gridCol w="1224000"/>
                <a:gridCol w="1909800"/>
                <a:gridCol w="2363760"/>
                <a:gridCol w="1074960"/>
                <a:gridCol w="1204920"/>
              </a:tblGrid>
              <a:tr h="98136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ого члена пред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какие вопросы отвечае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обозначае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подчёркиваетс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й частью речи выражен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0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Прямоугольник 5" descr=""/>
          <p:cNvPicPr/>
          <p:nvPr/>
        </p:nvPicPr>
        <p:blipFill>
          <a:blip r:embed="rId1"/>
          <a:stretch/>
        </p:blipFill>
        <p:spPr>
          <a:xfrm>
            <a:off x="817560" y="2316240"/>
            <a:ext cx="1273320" cy="7444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6" descr=""/>
          <p:cNvPicPr/>
          <p:nvPr/>
        </p:nvPicPr>
        <p:blipFill>
          <a:blip r:embed="rId2"/>
          <a:stretch/>
        </p:blipFill>
        <p:spPr>
          <a:xfrm>
            <a:off x="2322360" y="1792440"/>
            <a:ext cx="13590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Заучим вмест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68360" y="1628280"/>
            <a:ext cx="4607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вопросы: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де? ког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ак? откуда?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у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стоятельства всег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м дадут ответ. Да –да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зачем?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же дай вопрос ем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5"/>
          <p:cNvSpPr/>
          <p:nvPr/>
        </p:nvSpPr>
        <p:spPr>
          <a:xfrm>
            <a:off x="4572000" y="1484280"/>
            <a:ext cx="4103640" cy="432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027600" cy="374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3024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826920" y="907920"/>
          <a:ext cx="7777440" cy="2935440"/>
        </p:xfrm>
        <a:graphic>
          <a:graphicData uri="http://schemas.openxmlformats.org/drawingml/2006/table">
            <a:tbl>
              <a:tblPr/>
              <a:tblGrid>
                <a:gridCol w="1224000"/>
                <a:gridCol w="1909800"/>
                <a:gridCol w="2363760"/>
                <a:gridCol w="1074960"/>
                <a:gridCol w="1204920"/>
              </a:tblGrid>
              <a:tr h="98136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ого члена пред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какие вопросы отвечае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обозначае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подчёркиваетс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й частью речи выражен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0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Прямоугольник 5" descr=""/>
          <p:cNvPicPr/>
          <p:nvPr/>
        </p:nvPicPr>
        <p:blipFill>
          <a:blip r:embed="rId1"/>
          <a:stretch/>
        </p:blipFill>
        <p:spPr>
          <a:xfrm>
            <a:off x="817560" y="2316240"/>
            <a:ext cx="1273320" cy="7444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7" descr=""/>
          <p:cNvPicPr/>
          <p:nvPr/>
        </p:nvPicPr>
        <p:blipFill>
          <a:blip r:embed="rId2"/>
          <a:stretch/>
        </p:blipFill>
        <p:spPr>
          <a:xfrm>
            <a:off x="3992400" y="1798560"/>
            <a:ext cx="1554480" cy="1992240"/>
          </a:xfrm>
          <a:prstGeom prst="rect">
            <a:avLst/>
          </a:prstGeom>
          <a:ln w="0">
            <a:noFill/>
          </a:ln>
        </p:spPr>
      </p:pic>
      <p:grpSp>
        <p:nvGrpSpPr>
          <p:cNvPr id="115" name="Группа 18"/>
          <p:cNvGrpSpPr/>
          <p:nvPr/>
        </p:nvGrpSpPr>
        <p:grpSpPr>
          <a:xfrm>
            <a:off x="6372360" y="2637000"/>
            <a:ext cx="1008000" cy="144360"/>
            <a:chOff x="6372360" y="2637000"/>
            <a:chExt cx="1008000" cy="144360"/>
          </a:xfrm>
        </p:grpSpPr>
        <p:grpSp>
          <p:nvGrpSpPr>
            <p:cNvPr id="116" name="Группа 11"/>
            <p:cNvGrpSpPr/>
            <p:nvPr/>
          </p:nvGrpSpPr>
          <p:grpSpPr>
            <a:xfrm>
              <a:off x="6372360" y="2637000"/>
              <a:ext cx="303480" cy="144360"/>
              <a:chOff x="6372360" y="2637000"/>
              <a:chExt cx="303480" cy="144360"/>
            </a:xfrm>
          </p:grpSpPr>
          <p:sp>
            <p:nvSpPr>
              <p:cNvPr id="117" name="Прямая соединительная линия 9"/>
              <p:cNvSpPr/>
              <p:nvPr/>
            </p:nvSpPr>
            <p:spPr>
              <a:xfrm>
                <a:off x="6372360" y="2754720"/>
                <a:ext cx="16308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" name="Прямоугольник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512760" y="2637000"/>
                <a:ext cx="163080" cy="14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" name="Группа 12"/>
            <p:cNvGrpSpPr/>
            <p:nvPr/>
          </p:nvGrpSpPr>
          <p:grpSpPr>
            <a:xfrm>
              <a:off x="6711480" y="2637000"/>
              <a:ext cx="290880" cy="144360"/>
              <a:chOff x="6711480" y="2637000"/>
              <a:chExt cx="290880" cy="144360"/>
            </a:xfrm>
          </p:grpSpPr>
          <p:sp>
            <p:nvSpPr>
              <p:cNvPr id="120" name="Прямая соединительная линия 13"/>
              <p:cNvSpPr/>
              <p:nvPr/>
            </p:nvSpPr>
            <p:spPr>
              <a:xfrm>
                <a:off x="6711480" y="2754720"/>
                <a:ext cx="16128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" name="Прямоугольник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841080" y="2637000"/>
                <a:ext cx="161280" cy="14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Группа 15"/>
            <p:cNvGrpSpPr/>
            <p:nvPr/>
          </p:nvGrpSpPr>
          <p:grpSpPr>
            <a:xfrm>
              <a:off x="7089480" y="2637000"/>
              <a:ext cx="290880" cy="144360"/>
              <a:chOff x="7089480" y="2637000"/>
              <a:chExt cx="290880" cy="144360"/>
            </a:xfrm>
          </p:grpSpPr>
          <p:sp>
            <p:nvSpPr>
              <p:cNvPr id="123" name="Прямая соединительная линия 16"/>
              <p:cNvSpPr/>
              <p:nvPr/>
            </p:nvSpPr>
            <p:spPr>
              <a:xfrm>
                <a:off x="7089480" y="2754720"/>
                <a:ext cx="16092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" name="Прямоугольник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7219080" y="2637000"/>
                <a:ext cx="161280" cy="14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5" name="Прямоугольник 15" descr=""/>
          <p:cNvPicPr/>
          <p:nvPr/>
        </p:nvPicPr>
        <p:blipFill>
          <a:blip r:embed="rId6"/>
          <a:stretch/>
        </p:blipFill>
        <p:spPr>
          <a:xfrm>
            <a:off x="2322360" y="1792440"/>
            <a:ext cx="13590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Закончите предлож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643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ГЛАВНЫЕ ЧЛ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116000" y="256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ЛЕЖАЩЕЕ и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971640" y="3645000"/>
            <a:ext cx="76438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ВТОРОСТЕПЕННЫ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476360" y="4797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БСТОЯТЕЛЬ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614960" y="2350800"/>
            <a:ext cx="62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таблицу, стр. 89, упр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Дмитрий Каленюк</cp:lastModifiedBy>
  <dcterms:modified xsi:type="dcterms:W3CDTF">2017-01-16T13:30:28Z</dcterms:modified>
  <cp:revision>29</cp:revision>
  <dc:subject/>
  <dc:title>Слайд 1</dc:title>
</cp:coreProperties>
</file>