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CCBB-09ED-487C-B0F5-D99045972C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B8C0-5A4A-4524-BBA8-CB3BDE512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EB62-35F1-4C75-86CA-F15BB0E7B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58C-1397-4A3F-A86F-407C77DD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3C06-567C-4495-A7FA-9AFEB4EC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764-FACA-42CD-AEBB-3437B05C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83A7-E8B0-4AD7-AA4D-2231429B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12F5-644A-47EE-95FA-582481A9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AE49-4E88-442C-B36B-0761F96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AA1B-E14F-433B-8D18-8A62FF83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A2BBD-9EE7-4D5A-AFB0-647D002E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B16C-5383-4269-B692-8F1415EE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BB31-8570-4600-A30F-C7CF3EC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702-AA33-44FC-8772-211DC177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443CA-1247-4351-B140-E8963F43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7844-DC5A-4486-88B0-B04CD146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E14F-A22F-4E2A-95CE-1F865F9E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03A3-1BEE-4C2B-ABAD-A991564A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AEA4-3ACE-4C22-8C8E-17B8178A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7B66-EFE1-4FF3-8872-A333CC29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0E2-0EB6-407B-AF6C-F0A964C9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60B-1A70-42EA-97D2-BF960B61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90C-485B-4627-9ECD-8A8C285B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006-767A-4324-8DBC-1E2EDE7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1B43-74BC-433C-A376-975CAE4C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A2C4-512A-49DB-95FF-45FB5107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2E5E-A4E5-4F6D-A011-57557E3E3B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402C-5D5A-40BB-B917-448177479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 3 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 «Обстоятель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МК «Шко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X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4511520" y="5229360"/>
            <a:ext cx="428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Дейч Татья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Гальбштадт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ем 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 исследования: </a:t>
            </a: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11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Объект исследования: </a:t>
            </a:r>
            <a:r>
              <a:rPr b="0" i="1" lang="ru-RU" sz="4000" spc="-1" strike="noStrike">
                <a:solidFill>
                  <a:srgbClr val="c00000"/>
                </a:solidFill>
                <a:latin typeface="Arial Black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684360" y="343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едмет исследования: </a:t>
            </a:r>
            <a:r>
              <a:rPr b="0" i="1" lang="ru-RU" sz="3600" spc="-1" strike="noStrike">
                <a:solidFill>
                  <a:srgbClr val="c00000"/>
                </a:solidFill>
                <a:latin typeface="Arial Black"/>
              </a:rPr>
              <a:t>ВТОРОСТЕПЕННЫЙ ЧЛЕН ПРЕДЛО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Заголовок 1"/>
          <p:cNvSpPr/>
          <p:nvPr/>
        </p:nvSpPr>
        <p:spPr>
          <a:xfrm>
            <a:off x="620640" y="502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Метод исследования: </a:t>
            </a:r>
            <a:r>
              <a:rPr b="0" i="1" lang="ru-RU" sz="4000" spc="-1" strike="noStrike">
                <a:solidFill>
                  <a:srgbClr val="c00000"/>
                </a:solidFill>
                <a:latin typeface="Arial Black"/>
              </a:rPr>
              <a:t>Наблю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826920" y="907920"/>
          <a:ext cx="7777440" cy="2935440"/>
        </p:xfrm>
        <a:graphic>
          <a:graphicData uri="http://schemas.openxmlformats.org/drawingml/2006/table">
            <a:tbl>
              <a:tblPr/>
              <a:tblGrid>
                <a:gridCol w="1224000"/>
                <a:gridCol w="1909800"/>
                <a:gridCol w="2363760"/>
                <a:gridCol w="1074960"/>
                <a:gridCol w="1204920"/>
              </a:tblGrid>
              <a:tr h="9813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ого члена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подчёркивае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 частью речи выражен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Прямоугольник 5" descr=""/>
          <p:cNvPicPr/>
          <p:nvPr/>
        </p:nvPicPr>
        <p:blipFill>
          <a:blip r:embed="rId1"/>
          <a:stretch/>
        </p:blipFill>
        <p:spPr>
          <a:xfrm>
            <a:off x="817560" y="2316240"/>
            <a:ext cx="1273320" cy="74448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6" descr=""/>
          <p:cNvPicPr/>
          <p:nvPr/>
        </p:nvPicPr>
        <p:blipFill>
          <a:blip r:embed="rId2"/>
          <a:stretch/>
        </p:blipFill>
        <p:spPr>
          <a:xfrm>
            <a:off x="2322360" y="1792440"/>
            <a:ext cx="13590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учим вмест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268360" y="1628280"/>
            <a:ext cx="46072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 вопросы: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де? ко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ак? откуда?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у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стоятельства всег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ам дадут ответ. Да –да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зачем?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оже дай вопрос ем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5"/>
          <p:cNvSpPr/>
          <p:nvPr/>
        </p:nvSpPr>
        <p:spPr>
          <a:xfrm>
            <a:off x="4572000" y="1484280"/>
            <a:ext cx="4103640" cy="432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02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024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26920" y="907920"/>
          <a:ext cx="7777440" cy="2935440"/>
        </p:xfrm>
        <a:graphic>
          <a:graphicData uri="http://schemas.openxmlformats.org/drawingml/2006/table">
            <a:tbl>
              <a:tblPr/>
              <a:tblGrid>
                <a:gridCol w="1224000"/>
                <a:gridCol w="1909800"/>
                <a:gridCol w="2363760"/>
                <a:gridCol w="1074960"/>
                <a:gridCol w="1204920"/>
              </a:tblGrid>
              <a:tr h="98136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ого члена пред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 какие вопросы отве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обозначает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подчёркиваетс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ой частью речи выражено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0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  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Black"/>
                          <a:ea typeface="Calibri"/>
                        </a:rPr>
                        <a:t>_______________ действ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3" name="Прямоугольник 5" descr=""/>
          <p:cNvPicPr/>
          <p:nvPr/>
        </p:nvPicPr>
        <p:blipFill>
          <a:blip r:embed="rId1"/>
          <a:stretch/>
        </p:blipFill>
        <p:spPr>
          <a:xfrm>
            <a:off x="817560" y="2316240"/>
            <a:ext cx="1273320" cy="744480"/>
          </a:xfrm>
          <a:prstGeom prst="rect">
            <a:avLst/>
          </a:prstGeom>
          <a:ln w="0">
            <a:noFill/>
          </a:ln>
        </p:spPr>
      </p:pic>
      <p:pic>
        <p:nvPicPr>
          <p:cNvPr id="114" name="Прямоугольник 7" descr=""/>
          <p:cNvPicPr/>
          <p:nvPr/>
        </p:nvPicPr>
        <p:blipFill>
          <a:blip r:embed="rId2"/>
          <a:stretch/>
        </p:blipFill>
        <p:spPr>
          <a:xfrm>
            <a:off x="3992400" y="1798560"/>
            <a:ext cx="1554480" cy="1992240"/>
          </a:xfrm>
          <a:prstGeom prst="rect">
            <a:avLst/>
          </a:prstGeom>
          <a:ln w="0">
            <a:noFill/>
          </a:ln>
        </p:spPr>
      </p:pic>
      <p:grpSp>
        <p:nvGrpSpPr>
          <p:cNvPr id="115" name="Группа 18"/>
          <p:cNvGrpSpPr/>
          <p:nvPr/>
        </p:nvGrpSpPr>
        <p:grpSpPr>
          <a:xfrm>
            <a:off x="6372360" y="2637000"/>
            <a:ext cx="1008000" cy="144360"/>
            <a:chOff x="6372360" y="2637000"/>
            <a:chExt cx="1008000" cy="144360"/>
          </a:xfrm>
        </p:grpSpPr>
        <p:grpSp>
          <p:nvGrpSpPr>
            <p:cNvPr id="116" name="Группа 11"/>
            <p:cNvGrpSpPr/>
            <p:nvPr/>
          </p:nvGrpSpPr>
          <p:grpSpPr>
            <a:xfrm>
              <a:off x="6372360" y="2637000"/>
              <a:ext cx="303480" cy="144360"/>
              <a:chOff x="6372360" y="2637000"/>
              <a:chExt cx="303480" cy="144360"/>
            </a:xfrm>
          </p:grpSpPr>
          <p:sp>
            <p:nvSpPr>
              <p:cNvPr id="117" name="Прямая соединительная линия 9"/>
              <p:cNvSpPr/>
              <p:nvPr/>
            </p:nvSpPr>
            <p:spPr>
              <a:xfrm>
                <a:off x="6372360" y="2754720"/>
                <a:ext cx="16308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" name="Прямоугольник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512760" y="2637000"/>
                <a:ext cx="16308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Группа 12"/>
            <p:cNvGrpSpPr/>
            <p:nvPr/>
          </p:nvGrpSpPr>
          <p:grpSpPr>
            <a:xfrm>
              <a:off x="6711480" y="2637000"/>
              <a:ext cx="290880" cy="144360"/>
              <a:chOff x="6711480" y="2637000"/>
              <a:chExt cx="290880" cy="144360"/>
            </a:xfrm>
          </p:grpSpPr>
          <p:sp>
            <p:nvSpPr>
              <p:cNvPr id="120" name="Прямая соединительная линия 13"/>
              <p:cNvSpPr/>
              <p:nvPr/>
            </p:nvSpPr>
            <p:spPr>
              <a:xfrm>
                <a:off x="6711480" y="2754720"/>
                <a:ext cx="16128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1" name="Прямоугольник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841080" y="2637000"/>
                <a:ext cx="161280" cy="144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Группа 15"/>
            <p:cNvGrpSpPr/>
            <p:nvPr/>
          </p:nvGrpSpPr>
          <p:grpSpPr>
            <a:xfrm>
              <a:off x="7089480" y="2637000"/>
              <a:ext cx="290880" cy="144360"/>
              <a:chOff x="7089480" y="2637000"/>
              <a:chExt cx="290880" cy="144360"/>
            </a:xfrm>
          </p:grpSpPr>
          <p:sp>
            <p:nvSpPr>
              <p:cNvPr id="123" name="Прямая соединительная линия 16"/>
              <p:cNvSpPr/>
              <p:nvPr/>
            </p:nvSpPr>
            <p:spPr>
              <a:xfrm>
                <a:off x="7089480" y="2754720"/>
                <a:ext cx="16092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Прямоугольник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7219080" y="2637000"/>
                <a:ext cx="161280" cy="14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5" name="Прямоугольник 15" descr=""/>
          <p:cNvPicPr/>
          <p:nvPr/>
        </p:nvPicPr>
        <p:blipFill>
          <a:blip r:embed="rId6"/>
          <a:stretch/>
        </p:blipFill>
        <p:spPr>
          <a:xfrm>
            <a:off x="2322360" y="1792440"/>
            <a:ext cx="135900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476360" y="4797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СТОЯТЕЛЬ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614960" y="2350800"/>
            <a:ext cx="629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таблицу, стр. 89, упр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Дмитрий Каленюк</cp:lastModifiedBy>
  <dcterms:modified xsi:type="dcterms:W3CDTF">2017-01-16T13:30:28Z</dcterms:modified>
  <cp:revision>29</cp:revision>
  <dc:subject/>
  <dc:title>Слайд 1</dc:title>
</cp:coreProperties>
</file>