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gif" ContentType="image/gif"/>
  <Override PartName="/ppt/media/image14.png" ContentType="image/pn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CF83A-26B8-4B5B-944C-8DFBC8530F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303F-6150-428E-AC7A-8CF22716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600D5-9693-477B-A366-25A0D743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18F0F-275D-4FDB-B9EC-60861BCC9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13AC-5986-4D3D-866B-D70B5CB8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9B9F0-EB69-4661-AD94-D5257117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5714B-0586-40F8-9088-2A2E02DD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0E9F8-3D64-4D01-A974-9DD1FC03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AE0B-660B-44B3-AE38-378DC5FD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8F02C-A253-4A05-9AFF-7E5AE5E4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213DD-929F-433A-A5CF-20C6A2E4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ACAD-A031-434E-B71A-C8A54B0E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02BA96-E181-4520-86F7-4FBE1658262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00080" y="857160"/>
            <a:ext cx="7929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Урок –практикум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по культуре речи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«О терпеливый наш язык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7760" y="4857840"/>
            <a:ext cx="391464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Book Antiqua"/>
              </a:rPr>
              <a:t>10 кла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1680" y="3857760"/>
            <a:ext cx="2790720" cy="25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57200" y="-316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Пути решения проблемы отрицательного влияния СМИ на речевую культуру лю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4200" y="1285920"/>
            <a:ext cx="8572680" cy="59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овать цензурный комитет, который бы пропускал вс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водить серьёзный набор кадров в С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писать письмо на телеканал Интер  с предложением запретить некоторые телепередачи, оказывающие негативное влияние на подрастающее поко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имательнее относиться к выбору современных шлягеров, обладающих бедным содержанием и множеством ошиб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должать изучение норм языка на уроках, внимательнее относиться к своей речи и речи окружающих, корректно исправлять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14720" y="274680"/>
            <a:ext cx="64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43080" y="1285920"/>
            <a:ext cx="654372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 algn="just">
              <a:lnSpc>
                <a:spcPct val="15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Повторить теоретический материал по теме «Культура речи и языковая норм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 algn="just">
              <a:lnSpc>
                <a:spcPct val="150000"/>
              </a:lnSpc>
              <a:buClr>
                <a:srgbClr val="ffffff"/>
              </a:buClr>
              <a:buFont typeface="Book Antiqua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  <a:ea typeface="Calibri"/>
              </a:rPr>
              <a:t>Выполнить задания А1 –А2 (варианты 1-10 КИМов по русскому языку).</a:t>
            </a:r>
            <a:r>
              <a:rPr b="1" i="1" lang="ru-RU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4200" y="0"/>
            <a:ext cx="1670040" cy="167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ДОЛЖНЫ ХОРОШО ЗНАТЬ ЯЗЫ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УМЕТЬ ВЛАДЕТЬ ЕГО БОГАТСТВ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СОБЛЮДАТЬ ПРАВИЛА КУЛЬТУРЫ РЕ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ВОСПИТЫВАТЬ ЧУВСТВО ОТВЕТСТВЕ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ЗА СВОЙ ЯЗЫК 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ЧУВСТВО УВАЖЕНИЯ К КУЛЬТУРН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Book Antiqua"/>
              </a:rPr>
              <a:t>ПРОШЛОМУ  РУССКОГО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-28440" y="0"/>
            <a:ext cx="9171000" cy="6859440"/>
            <a:chOff x="-28440" y="0"/>
            <a:chExt cx="9171000" cy="6859440"/>
          </a:xfrm>
        </p:grpSpPr>
        <p:sp>
          <p:nvSpPr>
            <p:cNvPr id="78" name=""/>
            <p:cNvSpPr/>
            <p:nvPr/>
          </p:nvSpPr>
          <p:spPr>
            <a:xfrm>
              <a:off x="-28440" y="0"/>
              <a:ext cx="9171000" cy="685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2643120" y="1428840"/>
            <a:ext cx="5416560" cy="4641840"/>
            <a:chOff x="2643120" y="1428840"/>
            <a:chExt cx="5416560" cy="4641840"/>
          </a:xfrm>
        </p:grpSpPr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2643120" y="1428840"/>
              <a:ext cx="5416560" cy="46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2643120" y="1428840"/>
              <a:ext cx="541656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928800" y="785880"/>
            <a:ext cx="7191360" cy="5019480"/>
            <a:chOff x="928800" y="785880"/>
            <a:chExt cx="7191360" cy="5019480"/>
          </a:xfrm>
        </p:grpSpPr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928800" y="785880"/>
              <a:ext cx="719136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928800" y="785880"/>
              <a:ext cx="7191360" cy="50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0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2590920" cy="321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715000" y="285840"/>
            <a:ext cx="2854440" cy="3357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1500120" y="2928960"/>
            <a:ext cx="2852640" cy="3525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857840" y="2928960"/>
            <a:ext cx="2781360" cy="35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Васильевич 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5840" y="2357280"/>
            <a:ext cx="2878200" cy="392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571760" y="785880"/>
            <a:ext cx="7072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«...великолепие испанског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живость французс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крепкость немецког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Book Antiqua"/>
              </a:rPr>
              <a:t>нежность итальянского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0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571680"/>
            <a:ext cx="3809880" cy="492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71680" y="785880"/>
            <a:ext cx="3327120" cy="56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0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44053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00280" y="2357280"/>
            <a:ext cx="535788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ш язы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заслужил 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бережное к себе отноше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 всенародную з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Б.Васил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8760" y="714240"/>
            <a:ext cx="289224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fill="hold">
                      <p:stCondLst>
                        <p:cond delay="0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14720" y="357120"/>
            <a:ext cx="6715080" cy="63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just">
              <a:lnSpc>
                <a:spcPct val="150000"/>
              </a:lnSpc>
              <a:spcBef>
                <a:spcPts val="675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6 октября 2009 года 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оскве состоялась конференция </a:t>
            </a:r>
            <a:r>
              <a:rPr b="1" i="1" lang="ru-RU" sz="27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«Языковая культура»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а которой были оглашены цифры, вызывающие опасение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1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селения РФ употребляет бранную лексику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00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8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ворит на компьютерном языке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лишь </a:t>
            </a:r>
            <a:r>
              <a:rPr b="1" i="1" lang="ru-RU" sz="27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%</a:t>
            </a:r>
            <a:r>
              <a:rPr b="1" i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оворит на чистом литературном языке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14640" cy="210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86080" y="1643040"/>
            <a:ext cx="44053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4200" y="274680"/>
            <a:ext cx="85726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Book Antiqua"/>
              </a:rPr>
              <a:t>Норма языковая </a:t>
            </a:r>
            <a:br>
              <a:rPr sz="3200"/>
            </a:br>
            <a:r>
              <a:rPr b="1" i="1" lang="ru-RU" sz="2400" spc="-1" strike="noStrike">
                <a:solidFill>
                  <a:srgbClr val="ffff00"/>
                </a:solidFill>
                <a:latin typeface="Book Antiqua"/>
              </a:rPr>
              <a:t>(литературная норма или норма литературного язы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1285920"/>
            <a:ext cx="85723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34272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единообразное, общепризнанное, образцовое употребление единиц языка (слов, словосочетаний, предложений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сть как письменной, так и устной речи определяется соответствием её языковой н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3427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 защищает литературный язык от потока диалектных, просторечных и жаргонных явлений, помогает ему сохранить свою целостность, что необходимо для выполнения им своей основной функции – культур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08:41:05Z</dcterms:created>
  <dc:creator>Дюша</dc:creator>
  <dc:description/>
  <dc:language>en-US</dc:language>
  <cp:lastModifiedBy>Дюша</cp:lastModifiedBy>
  <dcterms:modified xsi:type="dcterms:W3CDTF">2010-11-18T03:13:28Z</dcterms:modified>
  <cp:revision>60</cp:revision>
  <dc:subject/>
  <dc:title>Слайд 1</dc:title>
</cp:coreProperties>
</file>