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gif" ContentType="image/gif"/>
  <Override PartName="/ppt/media/image14.png" ContentType="image/pn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D055B-6886-42CA-A65B-8AEB1A4627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0BED-7B39-4250-9771-D9725622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1FC77-8207-4F27-A742-DBB7AD35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18A4-E813-4784-A15E-47AF7D16B1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B7F1E-E663-4A71-8C9F-3B303406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99454-6534-44CD-AC8B-941FCA86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609E5-A7F2-4143-9782-26F927A3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5D0AD-AD16-44AE-8A56-BCEA065F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6DD46-CA23-48E1-B517-D446904B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D1357-10C4-4D08-B565-68C92C56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CF1F7-375D-45BC-A8D3-E73913E9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F32C4-5E64-4A50-AF43-18D8069B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B8626A-7BA0-43D4-81DF-988D153683A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00080" y="857160"/>
            <a:ext cx="7929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ook Antiqua"/>
              </a:rPr>
              <a:t>Урок –практикум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Book Antiqua"/>
              </a:rPr>
              <a:t>по культуре речи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Book Antiqua"/>
              </a:rPr>
              <a:t>«О терпеливый наш язык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7760" y="4857840"/>
            <a:ext cx="39146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ook Antiqua"/>
              </a:rPr>
              <a:t>10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71680" y="3857760"/>
            <a:ext cx="2790720" cy="25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-316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Пути решения проблемы отрицательного влияния СМИ на речевую культуру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4200" y="1285920"/>
            <a:ext cx="8572680" cy="59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овать цензурный комитет, который бы пропускал вс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одить серьёзный набор кадров в С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сать письмо на телеканал Интер  с предложением запретить некоторые телепередачи, оказывающие негативное влияние на подрастающее поко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имательнее относиться к выбору современных шлягеров, обладающих бедным содержанием и множеством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олжать изучение норм языка на уроках, внимательнее относиться к своей речи и речи окружающих, корректно исправлять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14720" y="274680"/>
            <a:ext cx="647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43080" y="1285920"/>
            <a:ext cx="654372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2640" indent="-512640" algn="just">
              <a:lnSpc>
                <a:spcPct val="15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Повторить теоретический материал по теме «Культура речи и языковая норм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 algn="just">
              <a:lnSpc>
                <a:spcPct val="15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 Antiqua"/>
                <a:ea typeface="Calibri"/>
              </a:rPr>
              <a:t>Выполнить задания А1 –А2 (варианты 1-10 КИМов по русскому языку).</a:t>
            </a:r>
            <a:r>
              <a:rPr b="1" i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14200" y="0"/>
            <a:ext cx="1670040" cy="16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ДОЛЖНЫ ХОРОШО ЗНАТЬ ЯЗЫ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УМЕТЬ ВЛАДЕТЬ ЕГО БОГАТСТВ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СОБЛЮДАТЬ ПРАВИЛА КУЛЬТУРЫ 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ВОСПИТЫВАТЬ ЧУВСТВО ОТВЕТ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ЗА СВОЙ ЯЗЫК 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ЧУВСТВО УВАЖЕНИЯ К КУЛЬТУР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ПРОШЛОМУ  РУССКОГО НА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-28440" y="0"/>
            <a:ext cx="9171000" cy="6859440"/>
            <a:chOff x="-28440" y="0"/>
            <a:chExt cx="9171000" cy="6859440"/>
          </a:xfrm>
        </p:grpSpPr>
        <p:sp>
          <p:nvSpPr>
            <p:cNvPr id="78" name=""/>
            <p:cNvSpPr/>
            <p:nvPr/>
          </p:nvSpPr>
          <p:spPr>
            <a:xfrm>
              <a:off x="-28440" y="0"/>
              <a:ext cx="9171000" cy="68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643120" y="1428840"/>
            <a:ext cx="5416560" cy="4641840"/>
            <a:chOff x="2643120" y="1428840"/>
            <a:chExt cx="5416560" cy="4641840"/>
          </a:xfrm>
        </p:grpSpPr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2643120" y="1428840"/>
              <a:ext cx="5416560" cy="46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643120" y="1428840"/>
              <a:ext cx="541656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928800" y="785880"/>
            <a:ext cx="7191360" cy="5019480"/>
            <a:chOff x="928800" y="785880"/>
            <a:chExt cx="7191360" cy="501948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928800" y="785880"/>
              <a:ext cx="7191360" cy="50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928800" y="785880"/>
              <a:ext cx="7191360" cy="50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dur="indefinite" fill="hold">
                      <p:stCondLst>
                        <p:cond delay="0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2590920" cy="321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5715000" y="285840"/>
            <a:ext cx="2854440" cy="33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500120" y="2928960"/>
            <a:ext cx="2852640" cy="3525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857840" y="2928960"/>
            <a:ext cx="2781360" cy="35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5840" y="2357280"/>
            <a:ext cx="2878200" cy="392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571760" y="785880"/>
            <a:ext cx="707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«...великолепие испанск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живость французско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крепкость немецко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нежность итальянского.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0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571680"/>
            <a:ext cx="3809880" cy="492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71680" y="785880"/>
            <a:ext cx="332712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0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86080" y="1643040"/>
            <a:ext cx="44053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00280" y="2357280"/>
            <a:ext cx="5357880" cy="37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ш язы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заслужил пра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бережное к себе отнош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всенародную з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Б.Васил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8760" y="714240"/>
            <a:ext cx="2892240" cy="38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dur="indefinite" fill="hold">
                      <p:stCondLst>
                        <p:cond delay="0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14720" y="357120"/>
            <a:ext cx="671508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just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6 октября 2009 года 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оскве состоялась конференция </a:t>
            </a:r>
            <a:r>
              <a:rPr b="1" i="1" lang="ru-RU" sz="27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Языковая культура»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а которой были оглашены цифры, вызывающие опасение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5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1%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селения РФ употребляет бранную лексику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5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%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оворит на компьютерном языке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5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лишь </a:t>
            </a:r>
            <a:r>
              <a:rPr b="1" i="1" lang="ru-RU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%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оворит на чистом литературном языке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14640" cy="21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86080" y="1643040"/>
            <a:ext cx="44053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4200" y="274680"/>
            <a:ext cx="85726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Book Antiqua"/>
              </a:rPr>
              <a:t>Норма языковая </a:t>
            </a:r>
            <a:br>
              <a:rPr sz="3200"/>
            </a:br>
            <a:r>
              <a:rPr b="1" i="1" lang="ru-RU" sz="2400" spc="-1" strike="noStrike">
                <a:solidFill>
                  <a:srgbClr val="ffff00"/>
                </a:solidFill>
                <a:latin typeface="Book Antiqua"/>
              </a:rPr>
              <a:t>(литературная норма или норма литературного язы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5840" y="1285920"/>
            <a:ext cx="8572320" cy="52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3427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единообразное, общепризнанное, образцовое употребление единиц языка (слов, словосочетаний, предложени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сть как письменной, так и устной речи определяется соответствием её языковой нор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 защищает литературный язык от потока диалектных, просторечных и жаргонных явлений, помогает ему сохранить свою целостность, что необходимо для выполнения им своей основной функции – культур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8:41:05Z</dcterms:created>
  <dc:creator>Дюша</dc:creator>
  <dc:description/>
  <dc:language>en-US</dc:language>
  <cp:lastModifiedBy>Дюша</cp:lastModifiedBy>
  <dcterms:modified xsi:type="dcterms:W3CDTF">2010-11-18T03:13:28Z</dcterms:modified>
  <cp:revision>60</cp:revision>
  <dc:subject/>
  <dc:title>Слайд 1</dc:title>
</cp:coreProperties>
</file>