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7BC-4D1F-4CE2-A09C-87D2E88A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273-C329-4654-9C63-187877FD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DE0-A218-4FD7-9FEE-F635878B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F16-244B-4CFB-A89D-8410BC2A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07D1-FA60-4D38-A749-268E606A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4D93-569D-4EEC-A446-34092B45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4604-3879-4BBE-9750-BC64D77D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1539-2EF4-4B96-AFE1-915C662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EC0-16F8-4EBF-A004-57A0C1E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4F5-E580-4692-97AF-78E2E597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221F-410F-4001-B5AA-FCD2196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9D9-8D85-4C3D-9F22-CC4AC85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0644-79C1-49B0-93FA-F52C561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0C2-EAA9-4EC6-B303-1A8EE44D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A2BB-1BED-4856-9096-260B6C64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E9B6-3BE7-4CA9-9E88-317CBF38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6913-623F-4917-BB53-6F925D0E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8F-DED1-4FF8-BBB0-3990173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138-E70E-416F-9D27-21838663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BB-2A81-4C05-8F6C-923386FC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1A5-1AFE-4EAB-8F8E-DE3BF0B9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6E2-0F49-4BD6-A44A-B4962B5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325-7ECC-4C4D-9103-E9E5BC9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56B-366D-4BDC-9BCB-2A06259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3FDB-05BB-4C66-BF48-DA3A43CF55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5D09-0053-44D5-9E79-DBF156810A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719280"/>
            <a:ext cx="7619760" cy="541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1280" y="1413000"/>
            <a:ext cx="51134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аралимпийские игр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гби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0560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стольный тенни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104840"/>
            <a:ext cx="79441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213520" cy="521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зюд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елоспорт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91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ехтов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9004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ребл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очч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930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рек Зарипо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95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рат Ром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82920" cy="451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4084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Анна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апожнико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0364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ерия Шаб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166920" cy="381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5751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82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ралимпийский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            девиз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«Дух в движении»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мелость, равенство, решимость, вдохновение –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от ценности паралимпийского движения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68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Паралимпиада – это спортивные соревнования для людей с ограниченными возможностями здоровья.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09960" cy="20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6938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20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Спасибо 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оздатель паралимпийских иг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юдвиг Гуттма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9765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вая паралимпиада прошла в Риме в 1960 год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307692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15 паралимпийские игры в Рио-де-Жанейр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105080" cy="42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32720" y="3357720"/>
            <a:ext cx="12366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Паралимпиада в Рио-де-Жанейро собрала спортсменов из 176 стран.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   В играх было представлено 22 вида спорта:  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баскетбол на колясках; велоспорт; голбол; дзюдо; легкая атлетика; парусный спорт; плавание; регби на колясках; теннис на колясках; фехтование на колясках; футбол 7 на 7 и 5 на 5; академическая гребля; бочча; волейбол сидя; гребля на каноэ и байдарках; конный спорт; настольный теннис; пауэрлифтинг; пулевая стрельба; стрельба из лука; триатлон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3384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утбо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6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олбо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362240"/>
            <a:ext cx="77043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в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4:24:20Z</dcterms:created>
  <dc:creator>DJ_Diesel</dc:creator>
  <dc:description/>
  <dc:language>en-US</dc:language>
  <cp:lastModifiedBy>DJ_Diesel</cp:lastModifiedBy>
  <dcterms:modified xsi:type="dcterms:W3CDTF">2016-10-30T18:50:14Z</dcterms:modified>
  <cp:revision>5</cp:revision>
  <dc:subject/>
  <dc:title>Паралимпийские игры</dc:title>
</cp:coreProperties>
</file>