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22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4.gif" ContentType="image/gif"/>
  <Override PartName="/ppt/media/image16.jpeg" ContentType="image/jpeg"/>
  <Override PartName="/ppt/media/image21.png" ContentType="image/png"/>
  <Override PartName="/ppt/media/image20.png" ContentType="image/pn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F530-2BAC-4833-805F-1811B2054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0D7A-BFF3-4F3A-AF13-F2F6525A3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BCE0-7C32-4885-B2AC-7EC330192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674E-A3D3-47A1-B4B7-18C30DE5C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F9A68-EFD5-469C-BC67-0BB4A8CC0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5335E-3C98-4D78-91E0-D2C552682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85661-9507-407A-A952-F6BED5B50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19E76-1229-4897-BB35-3E1436093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FE032-2C4C-4E3C-B7A6-58E3DB857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2F7D5-1160-4200-8E1D-9D4E450ED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0783F-9EB9-4961-8D22-40453055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874F-6A7E-4A34-8B7F-C6C88BC5A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FB0F1-C4D5-4EBC-B497-917EFB60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3DF22-2328-452D-BAEB-A9FE83BB6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7A05D-4D98-4382-8F04-9846753AB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44CB9-1E32-4421-9BD6-513FE5216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2E9AC-8E30-4255-98B7-DAE8765C6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3DD7-57C9-4234-A28A-173043F66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D2E9-9003-4179-A163-0591C43F0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A6ED-BA3E-41AB-B71C-1D9519F71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89C0-A3F2-4642-99AF-01B110372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A667-661A-4C21-8245-5C802CC2D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D2C9-C6A0-42FB-8ED8-B929E016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1437-8272-4292-83D2-1C6651AB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0E38F-BCC2-4E4B-B3E2-3D5E548D3C5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F53AC-8CEC-4CB2-AE04-747623789F5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62120" y="719280"/>
            <a:ext cx="7619760" cy="54194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51280" y="1413000"/>
            <a:ext cx="511344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Паралимпийские игры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Регби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84360" y="1125360"/>
            <a:ext cx="7905600" cy="491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Настольный теннис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39640" y="1104840"/>
            <a:ext cx="7944120" cy="47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050920" y="765000"/>
            <a:ext cx="5213520" cy="52135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Дзюдо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Велоспорт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971640" y="1413000"/>
            <a:ext cx="6991200" cy="46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Фехтование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7790040" cy="49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Гребля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201080" cy="48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Бочч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7993080" cy="49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6633"/>
                </a:solidFill>
                <a:latin typeface="Garamond"/>
              </a:rPr>
              <a:t>Ирек Зарипов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195640" y="5300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арат Роман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3382920" cy="45165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292720" y="620640"/>
            <a:ext cx="3408480" cy="44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Анна </a:t>
            </a:r>
            <a:br>
              <a:rPr sz="5000"/>
            </a:b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Сапожникова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3203640" y="5516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алерия Шабал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68360" y="2276640"/>
            <a:ext cx="3166920" cy="38163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716360" y="620640"/>
            <a:ext cx="3575160" cy="44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835280" y="981000"/>
            <a:ext cx="820872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                          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Паралимпийский </a:t>
            </a:r>
            <a:br>
              <a:rPr sz="3800"/>
            </a:b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                                     девиз</a:t>
            </a:r>
            <a:br>
              <a:rPr sz="3800"/>
            </a:b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                         «Дух в движении»</a:t>
            </a:r>
            <a:br>
              <a:rPr sz="3800"/>
            </a:br>
            <a:br>
              <a:rPr sz="3800"/>
            </a:br>
            <a:br>
              <a:rPr sz="3800"/>
            </a:b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Смелость, равенство, решимость, вдохновение – </a:t>
            </a:r>
            <a:br>
              <a:rPr sz="3800"/>
            </a:b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вот ценности паралимпийского движения!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31928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71640" y="1125360"/>
            <a:ext cx="76896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  </a:t>
            </a: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Паралимпиада – это спортивные соревнования для людей с ограниченными возможностями здоровья. 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332000" y="4365720"/>
            <a:ext cx="3009960" cy="20476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292720" y="4292640"/>
            <a:ext cx="2693880" cy="20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9640" y="1125360"/>
            <a:ext cx="8229600" cy="20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33"/>
                </a:solidFill>
                <a:latin typeface="Garamond"/>
              </a:rPr>
              <a:t>Спасибо !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771640" y="2349360"/>
            <a:ext cx="3456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Создатель паралимпийских игр</a:t>
            </a:r>
            <a:br>
              <a:rPr sz="3800"/>
            </a:b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Людвиг Гуттман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700360" y="1989000"/>
            <a:ext cx="3976560" cy="39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Первая паралимпиада прошла в Риме в 1960 году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55640" y="1773360"/>
            <a:ext cx="7632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724360" y="333360"/>
            <a:ext cx="3076920" cy="3240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494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15 паралимпийские игры в Рио-де-Жанейро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11280" y="333360"/>
            <a:ext cx="4105080" cy="4248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6732720" y="3357720"/>
            <a:ext cx="1236600" cy="17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36280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33"/>
                </a:solidFill>
                <a:latin typeface="Garamond"/>
              </a:rPr>
              <a:t>      </a:t>
            </a:r>
            <a:r>
              <a:rPr b="0" lang="en-US" sz="2500" spc="-1" strike="noStrike">
                <a:solidFill>
                  <a:srgbClr val="006633"/>
                </a:solidFill>
                <a:latin typeface="Garamond"/>
              </a:rPr>
              <a:t>Паралимпиада в Рио-де-Жанейро собрала спортсменов из 176 стран.</a:t>
            </a:r>
            <a:br>
              <a:rPr sz="2500"/>
            </a:br>
            <a:r>
              <a:rPr b="0" lang="en-US" sz="2500" spc="-1" strike="noStrike">
                <a:solidFill>
                  <a:srgbClr val="006633"/>
                </a:solidFill>
                <a:latin typeface="Garamond"/>
              </a:rPr>
              <a:t>     В играх было представлено 22 вида спорта:  </a:t>
            </a:r>
            <a:br>
              <a:rPr sz="2500"/>
            </a:br>
            <a:r>
              <a:rPr b="0" lang="en-US" sz="2500" spc="-1" strike="noStrike">
                <a:solidFill>
                  <a:srgbClr val="006633"/>
                </a:solidFill>
                <a:latin typeface="Garamond"/>
              </a:rPr>
              <a:t>баскетбол на колясках; велоспорт; голбол; дзюдо; легкая атлетика; парусный спорт; плавание; регби на колясках; теннис на колясках; фехтование на колясках; футбол 7 на 7 и 5 на 5; академическая гребля; бочча; волейбол сидя; гребля на каноэ и байдарках; конный спорт; настольный теннис; пауэрлифтинг; пулевая стрельба; стрельба из лука; триатлон.</a:t>
            </a:r>
            <a:endParaRPr b="0" lang="en-US" sz="25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987640" y="4076640"/>
            <a:ext cx="3384720" cy="23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Футбол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813600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Голбол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00000" y="1362240"/>
            <a:ext cx="7704360" cy="43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Плавание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632720" cy="46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30T14:24:20Z</dcterms:created>
  <dc:creator>DJ_Diesel</dc:creator>
  <dc:description/>
  <dc:language>en-US</dc:language>
  <cp:lastModifiedBy>DJ_Diesel</cp:lastModifiedBy>
  <dcterms:modified xsi:type="dcterms:W3CDTF">2016-10-30T18:50:14Z</dcterms:modified>
  <cp:revision>5</cp:revision>
  <dc:subject/>
  <dc:title>Паралимпийские игры</dc:title>
</cp:coreProperties>
</file>