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0B4-F181-407D-98D4-0DEF64D3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7FB-CD98-4611-8931-90D667E9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3A73-0E7C-4D82-B11F-78D425281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1E3-2779-4387-AC42-8F8BD99B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EFA5-2FA8-4978-8496-928D5DA83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C922-4BBB-47BF-9B15-B432F4BA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A7BF-BE6A-4653-8876-752F4470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18A7-3A27-4886-820A-B853771E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DC393-B5F9-4D75-B587-DF9A53DD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3E40-04FC-4EF5-A911-1864021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236A-3228-48FB-8DD0-5F160A2C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D79-7948-404F-A5BD-00A549FC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7821-695C-401E-BD7C-671738B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49B5-2DF7-4DBB-91B6-0A0201DA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0811-E110-4EE2-8C72-276B1337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1D6A-958C-4EFE-B0B6-F74B9A0F9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25A2-F75F-4574-9C10-604273FD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90B1A-5208-467B-B932-5C947EF9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141A-A247-4C9D-A62B-FF024DC7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13681-BDE5-4205-85B2-36D97B06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2F5B-D5FB-41A4-B339-538C6B4A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787F6-BA74-4FE7-B5FC-C2D6AE66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6C00-434A-4E5A-B158-E97CCF6A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10744-ED09-468A-ACDD-5BE45E64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5664-03D2-4E26-AA88-2E915D2F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0195F-6E5B-444A-912C-C55D44CE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CB88E-09E6-4315-B6E8-B2C8F023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19922-682D-4E59-832E-8B586AA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D82B-3124-4B9C-AA69-14B31566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7947C-D480-48D8-9FF2-090747EF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E6749-A7A4-40AB-9D02-BBE4FB664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E2418-DF7D-4CFA-A1BD-6616B37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6B4A7-71BF-413C-B90D-EA7372C0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958-57B2-4CBC-912F-948B9C72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4CB73-8E8E-4F0A-B6B6-E561D66C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D32D-AD54-4684-8C9C-4BE243E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76FD6-951C-4580-8C0E-AD0F502F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33118-D783-4858-9856-8418923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468A-0CDD-4A9D-8E80-0FD19FFC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EB8E-9992-4DBA-B4E2-5FB7B581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4AD2F-448E-4852-B931-B38299A81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AADBB-9473-4F6E-A5F3-5A66C6C8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F2069-0841-4230-94E0-CEBFB2DD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4B32D-02C8-4906-B61B-0D6314C1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CBE2-42E6-4EBD-B2E4-73EB4B57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B40DB-7011-41FC-9D9C-3AC88DCE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04417-3CF6-41F0-89FC-0D8A763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27C81-7CA2-4256-ADC7-4F9AE35F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49692-C8D4-42C4-9805-2231468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4BAFA-6F6D-4321-8F60-03377C94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19BC-E665-43B6-8AB4-EB2018EF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45459-97AF-45A6-81E7-24600A6E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2F066-BDA2-4293-92C8-95341237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37C90-2573-4D95-8BBA-7F17EE49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F3489-8FFA-4173-BFD3-A59703EB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299-2B10-4B0A-8966-45FB6054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D65BB-BC76-4B8C-BA97-E2095E0A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1C2-7CCF-4F1A-8E07-7D638651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44E-7E95-4B11-9D19-FD50D491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17D-84E1-4869-BA81-4ED73BF0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52B7-5983-4594-B646-D0BA444852D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5FBC-4F26-435B-83D2-035224FF0A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2B25-610D-47F7-ABAA-6BDD593B00E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4C8-EB49-4738-8672-3803556CCB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998f"/>
            </a:gs>
            <a:gs pos="100000">
              <a:srgbClr val="f0e9d8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476A-3B1E-4C1F-A47A-CF02778402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2428920" y="4714560"/>
            <a:ext cx="6400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Яковлева Н. И.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уководитель М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учителей начальных класс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500040" y="150012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Результаты  реализации ФГОС начального общего образования: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достижения, риски, пути преодолен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2643120" y="61437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8 августа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85840" y="215640"/>
            <a:ext cx="8572320" cy="58140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иски и проблемы при введен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285840" y="96804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иски на уровне общества (родителя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  Субъективный, личностный опыт (игнорирующий новые вызовы, социальные условия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Необходимость поддерживать новые виды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"/>
          <p:cNvSpPr/>
          <p:nvPr/>
        </p:nvSpPr>
        <p:spPr>
          <a:xfrm>
            <a:off x="357120" y="285768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иски на уровне администрации О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Управленческая некомпетентность при введении ФГ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Недостаточность условий для введения Ф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428760" y="4429080"/>
            <a:ext cx="8715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Риски на региональном уровн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1. Увеличение документооборо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2. Недостаточность финансирования введения ФГ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3. Отсутствие механизмов оценки реализации ФГОС НО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Желаем творческих успехов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в новом учебном году!</a:t>
            </a:r>
            <a:endParaRPr b="0" lang="en-US" sz="48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59" name="Рисунок 3" descr="Tulips.jpg"/>
          <p:cNvPicPr/>
          <p:nvPr/>
        </p:nvPicPr>
        <p:blipFill>
          <a:blip r:embed="rId1"/>
          <a:stretch/>
        </p:blipFill>
        <p:spPr>
          <a:xfrm>
            <a:off x="2286000" y="321480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1000080" y="857160"/>
            <a:ext cx="6858000" cy="173988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Фундаментальная идея ФГОС: человек нового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571680" y="3214800"/>
            <a:ext cx="7929360" cy="338580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Миссия школы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школа должна подготовить учащегося для будущего, научить моделировать, проектировать завтрашний д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3214800" y="285840"/>
            <a:ext cx="2355840" cy="64260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mbria"/>
              </a:rPr>
              <a:t>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"/>
          <p:cNvSpPr/>
          <p:nvPr/>
        </p:nvSpPr>
        <p:spPr>
          <a:xfrm>
            <a:off x="357120" y="742680"/>
            <a:ext cx="85726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1.Привести нормативную базу, локальные акты школы в соответствие с требованиями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2.Разработать ООП Н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3.Определить модель организации образовательного процесса, обеспечивающую организацию внеурочной деятельности обучаю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4.Обеспечить повышение квалификации всех учителей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5.Обеспечить кадровые, финансовые, материально-технические и иные условия реализации ООП НОО в соответствии с требованиями 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500040" y="290160"/>
            <a:ext cx="8215200" cy="106884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едварительные  итоги работы школы по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"/>
          <p:cNvSpPr/>
          <p:nvPr/>
        </p:nvSpPr>
        <p:spPr>
          <a:xfrm flipV="1" rot="10800000">
            <a:off x="285840" y="1069920"/>
            <a:ext cx="88581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Администрация  школы привела нормативную базу, локальные акты школы в соответствие с требованиями ФГ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Школа обеспечена материально-техническими условиями в соответствии с поступающим финансированием, укомплектована кад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 flipV="1" rot="10800000">
            <a:off x="285840" y="3455640"/>
            <a:ext cx="82152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Педагогический коллектив работает по ООП НОО. Основная программа  корректируется  перед новым учебным годом, учитывая опыт работы в прошедшем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214200" y="4073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428760" y="543096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500040" y="290160"/>
            <a:ext cx="8215200" cy="106884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едварительные  итоги работы школы по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 flipV="1" rot="10800000">
            <a:off x="285840" y="22780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357120" y="1365480"/>
            <a:ext cx="82868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4. Поэтапно проведено повышение квалификации всех учителей начальных клас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5. Определена модель организации образовательного проце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357120" y="4409280"/>
            <a:ext cx="75726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Cambria"/>
                <a:ea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уществляется организация внеурочной деятельности обучающихся</a:t>
            </a:r>
            <a:r>
              <a:rPr b="0" lang="ru-RU" sz="1200" spc="-1" strike="noStrike">
                <a:solidFill>
                  <a:srgbClr val="000000"/>
                </a:solidFill>
                <a:latin typeface="Cambri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рямоугольник 1"/>
          <p:cNvSpPr/>
          <p:nvPr/>
        </p:nvSpPr>
        <p:spPr>
          <a:xfrm>
            <a:off x="428760" y="142920"/>
            <a:ext cx="8358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оличественный состав преподавателей, организующих внеурочную деятельность, составляет 16 человек.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начальных классов - 2 чел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средней школы- 4 чел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дополнительного образования школы – 1 чел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едагоги дополнительного образования других организаций (социальных партнеров) – 9 чел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Диаграмма 2" descr=""/>
          <p:cNvPicPr/>
          <p:nvPr/>
        </p:nvPicPr>
        <p:blipFill>
          <a:blip r:embed="rId1"/>
          <a:stretch/>
        </p:blipFill>
        <p:spPr>
          <a:xfrm>
            <a:off x="1000080" y="2357280"/>
            <a:ext cx="7572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428760" y="276120"/>
            <a:ext cx="8429400" cy="247032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течение учебного года учащиеся 1-3 классов приняли участие в следующих мероприят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42960" y="1714680"/>
          <a:ext cx="7929720" cy="4643280"/>
        </p:xfrm>
        <a:graphic>
          <a:graphicData uri="http://schemas.openxmlformats.org/drawingml/2006/table">
            <a:tbl>
              <a:tblPr/>
              <a:tblGrid>
                <a:gridCol w="712800"/>
                <a:gridCol w="4573440"/>
                <a:gridCol w="26434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Мероприят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Количе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екты, акции, фестивали, конкурсы, мастер-клас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иблиотечные уроки (библиотека им. Белинског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здники, спортивные состяз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ездки, экскурсии, посещение театр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642960" y="1500120"/>
          <a:ext cx="8215200" cy="5083200"/>
        </p:xfrm>
        <a:graphic>
          <a:graphicData uri="http://schemas.openxmlformats.org/drawingml/2006/table">
            <a:tbl>
              <a:tblPr/>
              <a:tblGrid>
                <a:gridCol w="500040"/>
                <a:gridCol w="2243160"/>
                <a:gridCol w="1366920"/>
                <a:gridCol w="1368360"/>
                <a:gridCol w="1368360"/>
                <a:gridCol w="136836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ень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йо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дународ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ртив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Шко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уницип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теллектуа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d9c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ион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серосси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ждународ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Rectangle 1"/>
          <p:cNvSpPr/>
          <p:nvPr/>
        </p:nvSpPr>
        <p:spPr>
          <a:xfrm>
            <a:off x="1736640" y="145080"/>
            <a:ext cx="6200640" cy="82548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равнительная таблица динам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ия учащихся 1-4 классов в конкурс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357120" y="-28080"/>
            <a:ext cx="8358120" cy="1068840"/>
          </a:xfrm>
          <a:prstGeom prst="rect">
            <a:avLst/>
          </a:prstGeom>
          <a:gradFill rotWithShape="0">
            <a:gsLst>
              <a:gs pos="0">
                <a:srgbClr val="ff9c8e"/>
              </a:gs>
              <a:gs pos="100000">
                <a:srgbClr val="ffe3df"/>
              </a:gs>
            </a:gsLst>
            <a:lin ang="16200000"/>
          </a:gradFill>
          <a:ln w="9360">
            <a:solidFill>
              <a:srgbClr val="d3441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иски и проблемы при введении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357120" y="1197000"/>
            <a:ext cx="8572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Риски на уровне педагог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1. Технологическая неготовность учителя к работе в рамках ФГОС:   реализовывать новые виды деятельности (деятельностный подход), формировать УУД (для достижения новых – метапредметных и личностных результатов), вводить новую систему оценки знаний.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2. Ориентация на традиционную результативность (ориентация на ЗУНы при игнорировании метапредметных и личностных результат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3. Игнорирование внеучебных видов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09:28:26Z</dcterms:created>
  <dc:creator>Виталий</dc:creator>
  <dc:description/>
  <dc:language>en-US</dc:language>
  <cp:lastModifiedBy>Виталий</cp:lastModifiedBy>
  <dcterms:modified xsi:type="dcterms:W3CDTF">2014-08-27T12:28:34Z</dcterms:modified>
  <cp:revision>12</cp:revision>
  <dc:subject/>
  <dc:title>Слайд 1</dc:title>
</cp:coreProperties>
</file>