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D08B-94B3-4658-845A-65AD7D64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4BE-05E4-4646-8BE4-29158FF4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7A3-E277-47CA-A3F1-B0A6B6DE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715-94F1-4A9D-A4F3-3A39EA51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89D8-85D0-43E5-B9D2-91150092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EF5E-B8D2-4DF5-AA10-B3F764B2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D78C-96C9-45CF-B701-65B72839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4154-94B7-4E96-BAE1-26C8271B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1E8E-9609-47D6-9F34-3C939A55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6811-CF92-4DE8-978C-4E015DB1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A0E7-21B8-4910-985C-A7C7C28F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4677-9EFA-44C0-8ED0-FB5B7A22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7C83-0F6F-4D09-9A09-C5EED4E6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5514-A246-4F56-95B2-F79CF2D8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AC7B-4EB7-426B-B29A-388BCA6A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CEFE-65D9-4BB1-A9BF-72EA9DBE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D893-9504-4F6E-8711-B757C930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C1385-6235-4271-B90B-508FF511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DB37B-4279-4023-97B5-D9F6E653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B4EB3-9140-4D3E-95C8-61543091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EC3DD-3339-436B-9205-54A4F162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7CF2F-8766-4097-A73A-D451577C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1E2-F6BB-4190-99DD-9F9A0A2A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E4AFC-3347-4BA6-80D3-2CDF336E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C224F-95EC-4480-8C28-B0BBDD11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F47CF-F2C2-47B3-B21B-58E072E5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F07E3-8C66-4DAE-BCBC-882A85F7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B11D4-044A-4785-BC75-1C021130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13AB6-7415-4082-8086-38F0CCBC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23392-2B22-4A35-8384-DAF1067F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4406B-37AA-4D54-B85D-E0C4E172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592C3-BBBD-4B0D-8127-C92D23D9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0C60B-7A58-4129-96B0-AB9ECC68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5861-1B4B-429E-AC66-EBC097E7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5B3E5-4975-4AB2-B837-C04EFE62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28988-51D5-4457-B9A1-5C7F1EC0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6284C-29D7-4769-A7D3-2BEC76AA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8EDE3-DC89-4AD3-9C67-858579D7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EA777-767C-4120-83F1-75537D8F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C2EBF-E408-4DF3-A0A1-39E3CDF5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B89E1-D6C4-495F-B1EA-D47F01F2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F1C3F-0525-4C4F-8011-FC45CC2B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00703-2B82-4714-BA10-369DB325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C8082-B3FF-4C52-BA99-44F77F37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EAB0-2D46-4044-84BB-5EB1BF95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F9013-D624-433F-92C9-9D32650A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4A14E-0420-4125-A282-B27DC606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6B69D-46B4-41E8-9E70-0E554F35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85B65-30BD-4417-BB2B-2C808DB6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510D2-3325-4338-A5D9-EBF44C14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56D37-F992-4E17-95DE-BED6FA6A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AE86E-F310-440A-BAA9-E2A745C6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DB0B5-7FCF-462C-93F7-4FD8BCE0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C7D85-2A7D-47A7-8074-AE542450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6C184-1C8E-4542-BD53-A53DCF0C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BF27-DF0E-4306-8DC4-FF9DA977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B0B2C-430F-44F9-A45F-25532441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1918-1129-4C88-B19B-0A5AAF3F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198F-451B-47CA-8152-5A19C991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DB9D-173B-4F06-8DEC-D989582E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998f"/>
            </a:gs>
            <a:gs pos="100000">
              <a:srgbClr val="f0e9d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1150-FC19-4AF7-96E2-47CA3E0E73E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998f"/>
            </a:gs>
            <a:gs pos="100000">
              <a:srgbClr val="f0e9d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EECE-3C3D-4D18-BE78-6F2E58E6AA6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998f"/>
            </a:gs>
            <a:gs pos="100000">
              <a:srgbClr val="f0e9d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1784-8B49-4215-AE44-35BC69D975F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998f"/>
            </a:gs>
            <a:gs pos="100000">
              <a:srgbClr val="f0e9d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CCDA-D4B4-4BF1-A833-7780F81DEF2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998f"/>
            </a:gs>
            <a:gs pos="100000">
              <a:srgbClr val="f0e9d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8CF7-6E15-4A81-8B30-4CC739694FC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2428920" y="4714560"/>
            <a:ext cx="64008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Яковлева Н. И.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уководитель МО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чителей начальных класс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500040" y="150012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Результаты  реализации ФГОС начального общего образования: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достижения, риски, пути преодоле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2643120" y="614376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8 августа 201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85840" y="215640"/>
            <a:ext cx="8572320" cy="581400"/>
          </a:xfrm>
          <a:prstGeom prst="rect">
            <a:avLst/>
          </a:prstGeom>
          <a:gradFill rotWithShape="0">
            <a:gsLst>
              <a:gs pos="0">
                <a:srgbClr val="ff9c8e"/>
              </a:gs>
              <a:gs pos="100000">
                <a:srgbClr val="ffe3df"/>
              </a:gs>
            </a:gsLst>
            <a:lin ang="16200000"/>
          </a:gradFill>
          <a:ln w="9360">
            <a:solidFill>
              <a:srgbClr val="d3441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  <a:ea typeface="Times New Roman"/>
              </a:rPr>
              <a:t>Риски и проблемы при введении 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285840" y="96804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Риски на уровне общества (родителя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  Субъективный, личностный опыт (игнорирующий новые вызовы, социальные условия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. Необходимость поддерживать новые виды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357120" y="285768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Риски на уровне администрации О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Управленческая некомпетентность при введении ФГО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. Недостаточность условий для введения ФГ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4"/>
          <p:cNvSpPr/>
          <p:nvPr/>
        </p:nvSpPr>
        <p:spPr>
          <a:xfrm>
            <a:off x="428760" y="4429080"/>
            <a:ext cx="871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Риски на региональном уров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 Увеличение документообор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. Недостаточность финансирования введения ФГО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3. Отсутствие механизмов оценки реализации ФГОС НО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Желаем творческих успехов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 в новом учебном году!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9" name="Рисунок 3" descr="Tulips.jpg"/>
          <p:cNvPicPr/>
          <p:nvPr/>
        </p:nvPicPr>
        <p:blipFill>
          <a:blip r:embed="rId1"/>
          <a:stretch/>
        </p:blipFill>
        <p:spPr>
          <a:xfrm>
            <a:off x="2286000" y="3214800"/>
            <a:ext cx="44766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1000080" y="857160"/>
            <a:ext cx="6858000" cy="1739880"/>
          </a:xfrm>
          <a:prstGeom prst="rect">
            <a:avLst/>
          </a:prstGeom>
          <a:gradFill rotWithShape="0">
            <a:gsLst>
              <a:gs pos="0">
                <a:srgbClr val="ff9c8e"/>
              </a:gs>
              <a:gs pos="100000">
                <a:srgbClr val="ffe3df"/>
              </a:gs>
            </a:gsLst>
            <a:lin ang="16200000"/>
          </a:gradFill>
          <a:ln w="9360">
            <a:solidFill>
              <a:srgbClr val="d3441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Фундаментальная идея ФГОС: человек нового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3"/>
          <p:cNvSpPr/>
          <p:nvPr/>
        </p:nvSpPr>
        <p:spPr>
          <a:xfrm>
            <a:off x="571680" y="3214800"/>
            <a:ext cx="7929360" cy="3385800"/>
          </a:xfrm>
          <a:prstGeom prst="rect">
            <a:avLst/>
          </a:prstGeom>
          <a:gradFill rotWithShape="0">
            <a:gsLst>
              <a:gs pos="0">
                <a:srgbClr val="ff9c8e"/>
              </a:gs>
              <a:gs pos="100000">
                <a:srgbClr val="ffe3df"/>
              </a:gs>
            </a:gsLst>
            <a:lin ang="16200000"/>
          </a:gradFill>
          <a:ln w="9360">
            <a:solidFill>
              <a:srgbClr val="d3441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Миссия школы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школа должна подготовить учащегося для будущего, научить моделировать, проектировать завтрашний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3214800" y="285840"/>
            <a:ext cx="2355840" cy="642600"/>
          </a:xfrm>
          <a:prstGeom prst="rect">
            <a:avLst/>
          </a:prstGeom>
          <a:gradFill rotWithShape="0">
            <a:gsLst>
              <a:gs pos="0">
                <a:srgbClr val="ff9c8e"/>
              </a:gs>
              <a:gs pos="100000">
                <a:srgbClr val="ffe3df"/>
              </a:gs>
            </a:gsLst>
            <a:lin ang="16200000"/>
          </a:gradFill>
          <a:ln w="9360">
            <a:solidFill>
              <a:srgbClr val="d3441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Задач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"/>
          <p:cNvSpPr/>
          <p:nvPr/>
        </p:nvSpPr>
        <p:spPr>
          <a:xfrm>
            <a:off x="357120" y="742680"/>
            <a:ext cx="8572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1.Привести нормативную базу, локальные акты школы в соответствие с требованиями ФГ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2.Разработать ООП НО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3.Определить модель организации образовательного процесса, обеспечивающую организацию внеурочной деятельности обучаю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4.Обеспечить повышение квалификации всех учителей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5.Обеспечить кадровые, финансовые, материально-технические и иные условия реализации ООП НОО в соответствии с требованиями ФГ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500040" y="290160"/>
            <a:ext cx="8215200" cy="1068840"/>
          </a:xfrm>
          <a:prstGeom prst="rect">
            <a:avLst/>
          </a:prstGeom>
          <a:gradFill rotWithShape="0">
            <a:gsLst>
              <a:gs pos="0">
                <a:srgbClr val="ff9c8e"/>
              </a:gs>
              <a:gs pos="100000">
                <a:srgbClr val="ffe3df"/>
              </a:gs>
            </a:gsLst>
            <a:lin ang="16200000"/>
          </a:gradFill>
          <a:ln w="9360">
            <a:solidFill>
              <a:srgbClr val="d3441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  <a:ea typeface="Times New Roman"/>
              </a:rPr>
              <a:t>Предварительные  итоги работы школы по 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 flipV="1" rot="10800000">
            <a:off x="285840" y="1069920"/>
            <a:ext cx="88581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Администрация  школы привела нормативную базу, локальные акты школы в соответствие с требованиями ФГ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Школа обеспечена материально-техническими условиями в соответствии с поступающим финансированием, укомплектована кад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 flipV="1" rot="10800000">
            <a:off x="285840" y="3455640"/>
            <a:ext cx="82152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Педагогический коллектив работает по ООП НОО. Основная программа  корректируется  перед новым учебным годом, учитывая опыт работы в прошедшем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14200" y="4073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28760" y="543096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"/>
          <p:cNvSpPr/>
          <p:nvPr/>
        </p:nvSpPr>
        <p:spPr>
          <a:xfrm>
            <a:off x="500040" y="290160"/>
            <a:ext cx="8215200" cy="1068840"/>
          </a:xfrm>
          <a:prstGeom prst="rect">
            <a:avLst/>
          </a:prstGeom>
          <a:gradFill rotWithShape="0">
            <a:gsLst>
              <a:gs pos="0">
                <a:srgbClr val="ff9c8e"/>
              </a:gs>
              <a:gs pos="100000">
                <a:srgbClr val="ffe3df"/>
              </a:gs>
            </a:gsLst>
            <a:lin ang="16200000"/>
          </a:gradFill>
          <a:ln w="9360">
            <a:solidFill>
              <a:srgbClr val="d3441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  <a:ea typeface="Times New Roman"/>
              </a:rPr>
              <a:t>Предварительные  итоги работы школы по 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 flipV="1" rot="10800000">
            <a:off x="285840" y="227808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357120" y="1365480"/>
            <a:ext cx="82868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4. Поэтапно проведено повышение квалификации всех учителей начальных клас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5. Определена модель организации образовательн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357120" y="4409280"/>
            <a:ext cx="7572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6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Осуществляется организация внеурочной деятельности обучающихся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1"/>
          <p:cNvSpPr/>
          <p:nvPr/>
        </p:nvSpPr>
        <p:spPr>
          <a:xfrm>
            <a:off x="428760" y="142920"/>
            <a:ext cx="8358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Количественный состав преподавателей, организующих внеурочную деятельность, составляет 16 человек. Из 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едагоги начальных классов - 2 чел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едагоги средней школы- 4 чел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едагоги дополнительного образования школы – 1 чел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едагоги дополнительного образования других организаций (социальных партнеров) – 9 чел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Диаграмма 2" descr=""/>
          <p:cNvPicPr/>
          <p:nvPr/>
        </p:nvPicPr>
        <p:blipFill>
          <a:blip r:embed="rId1"/>
          <a:stretch/>
        </p:blipFill>
        <p:spPr>
          <a:xfrm>
            <a:off x="1000080" y="2357280"/>
            <a:ext cx="75726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428760" y="276120"/>
            <a:ext cx="8429400" cy="2470320"/>
          </a:xfrm>
          <a:prstGeom prst="rect">
            <a:avLst/>
          </a:prstGeom>
          <a:gradFill rotWithShape="0">
            <a:gsLst>
              <a:gs pos="0">
                <a:srgbClr val="ff9c8e"/>
              </a:gs>
              <a:gs pos="100000">
                <a:srgbClr val="ffe3df"/>
              </a:gs>
            </a:gsLst>
            <a:lin ang="16200000"/>
          </a:gradFill>
          <a:ln w="9360">
            <a:solidFill>
              <a:srgbClr val="d3441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течение учебного года учащиеся 1-3 классов приняли участие в следующих мероприятия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42960" y="1714680"/>
          <a:ext cx="7929720" cy="4643280"/>
        </p:xfrm>
        <a:graphic>
          <a:graphicData uri="http://schemas.openxmlformats.org/drawingml/2006/table">
            <a:tbl>
              <a:tblPr/>
              <a:tblGrid>
                <a:gridCol w="712800"/>
                <a:gridCol w="4573440"/>
                <a:gridCol w="26434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Мероприят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Количест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екты, акции, фестивали, конкурсы, мастер-клас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блиотечные уроки (библиотека им. Белинског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здники, спортивные состяз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ездки, экскурсии, посещение театр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642960" y="1500120"/>
          <a:ext cx="8215200" cy="5083200"/>
        </p:xfrm>
        <a:graphic>
          <a:graphicData uri="http://schemas.openxmlformats.org/drawingml/2006/table">
            <a:tbl>
              <a:tblPr/>
              <a:tblGrid>
                <a:gridCol w="500040"/>
                <a:gridCol w="2243160"/>
                <a:gridCol w="1366920"/>
                <a:gridCol w="1368360"/>
                <a:gridCol w="1368360"/>
                <a:gridCol w="136836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 конкур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1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2-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3-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ор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d9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йон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иона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россий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ждународ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р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d9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ниципа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теллекту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d9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иона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россий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ждународ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Rectangle 1"/>
          <p:cNvSpPr/>
          <p:nvPr/>
        </p:nvSpPr>
        <p:spPr>
          <a:xfrm>
            <a:off x="1736640" y="145080"/>
            <a:ext cx="6200640" cy="825480"/>
          </a:xfrm>
          <a:prstGeom prst="rect">
            <a:avLst/>
          </a:prstGeom>
          <a:gradFill rotWithShape="0">
            <a:gsLst>
              <a:gs pos="0">
                <a:srgbClr val="ff9c8e"/>
              </a:gs>
              <a:gs pos="100000">
                <a:srgbClr val="ffe3df"/>
              </a:gs>
            </a:gsLst>
            <a:lin ang="16200000"/>
          </a:gradFill>
          <a:ln w="9360">
            <a:solidFill>
              <a:srgbClr val="d3441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авнительная таблица дина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ия учащихся 1-4 классов в конкур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357120" y="-28080"/>
            <a:ext cx="8358120" cy="1068840"/>
          </a:xfrm>
          <a:prstGeom prst="rect">
            <a:avLst/>
          </a:prstGeom>
          <a:gradFill rotWithShape="0">
            <a:gsLst>
              <a:gs pos="0">
                <a:srgbClr val="ff9c8e"/>
              </a:gs>
              <a:gs pos="100000">
                <a:srgbClr val="ffe3df"/>
              </a:gs>
            </a:gsLst>
            <a:lin ang="16200000"/>
          </a:gradFill>
          <a:ln w="9360">
            <a:solidFill>
              <a:srgbClr val="d3441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  <a:ea typeface="Times New Roman"/>
              </a:rPr>
              <a:t>Риски и проблемы при введении 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357120" y="1197000"/>
            <a:ext cx="85726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Риски на уровне педагог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1. Технологическая неготовность учителя к работе в рамках ФГОС:   реализовывать новые виды деятельности (деятельностный подход), формировать УУД (для достижения новых – метапредметных и личностных результатов), вводить новую систему оценки знаний.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2. Ориентация на традиционную результативность (ориентация на ЗУНы при игнорировании метапредметных и личностных результат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3. Игнорирование внеучебных видов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7T09:28:26Z</dcterms:created>
  <dc:creator>Виталий</dc:creator>
  <dc:description/>
  <dc:language>en-US</dc:language>
  <cp:lastModifiedBy>Виталий</cp:lastModifiedBy>
  <dcterms:modified xsi:type="dcterms:W3CDTF">2014-08-27T12:28:34Z</dcterms:modified>
  <cp:revision>12</cp:revision>
  <dc:subject/>
  <dc:title>Слайд 1</dc:title>
</cp:coreProperties>
</file>