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2A82-6409-4E77-8436-0D8C2DADE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064B-F2B1-41ED-A25A-975DCDF48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111C-F37A-4BB9-A650-064CDA9F6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1B55-7BBA-4644-AAED-17E76C89B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A2E3-BEC8-4F1F-AE13-2CC3FE974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A738-B113-4A75-88FE-FD49483D7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6EEF-005F-4975-B179-9CBFDEDE9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8ED9-1269-42D4-80F2-76AC28862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3DAF-70EF-4976-8988-586EABA99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DD68-7A25-43CA-8C5F-FC69945C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B1E1-47BE-41CF-B061-C83F2759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64F3-3F3A-4283-B8BF-EB895DA7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807B1-7117-4772-8BEF-EDF7F7CD44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8840" y="1294560"/>
            <a:ext cx="3486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А.С. Пушкин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«Песнь 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вещем Олеге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с Игорем"/>
          <p:cNvPicPr/>
          <p:nvPr/>
        </p:nvPicPr>
        <p:blipFill>
          <a:blip r:embed="rId1"/>
          <a:stretch/>
        </p:blipFill>
        <p:spPr>
          <a:xfrm>
            <a:off x="5257800" y="457200"/>
            <a:ext cx="332424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62120" y="730080"/>
            <a:ext cx="761976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7925040" cy="55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62120" y="1033560"/>
            <a:ext cx="761976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14400" y="917640"/>
            <a:ext cx="731520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62120" y="533520"/>
            <a:ext cx="51051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ле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ещий Олег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др.-рус. Ольгъ, умер в 912 г.) — варяг, князь новгородский (с 879) и киевский (с 882). Нередко рассматривается как основатель Древнерусского государ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летописи приводится его прозвищ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Вещ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то есть знающий будущее, провидящий будущее.Назван так сразу по возвращении из похода 907 года на Визант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800px-Pokhod_Olega_v_Tsargrad"/>
          <p:cNvPicPr/>
          <p:nvPr/>
        </p:nvPicPr>
        <p:blipFill>
          <a:blip r:embed="rId1"/>
          <a:stretch/>
        </p:blipFill>
        <p:spPr>
          <a:xfrm>
            <a:off x="4267080" y="3429000"/>
            <a:ext cx="42674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6000" y="38592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исхождение Оле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762120"/>
            <a:ext cx="23112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летописях имеются две версии биографии Олега: традиционная, изложенная в «Повести временных лет», и по Новгородской первой летописи, сохранившей фрагменты не дошедшего до нас более раннего летописного свода, с путаницей в хронолог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0_3596e_cd7e3e64_L"/>
          <p:cNvPicPr/>
          <p:nvPr/>
        </p:nvPicPr>
        <p:blipFill>
          <a:blip r:embed="rId1"/>
          <a:stretch/>
        </p:blipFill>
        <p:spPr>
          <a:xfrm>
            <a:off x="914400" y="1143000"/>
            <a:ext cx="403236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14400" y="762120"/>
            <a:ext cx="4038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882 Олег предпринял удачные пох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Смоленск и Любе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ле этого он по Днепру спустился к Киеву, где князьями были соплеменники Рюрика, варяги Аскольд и Дир. Олег заманил их к своим ладьям и объявил и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Вы неста кнѧзѧ ни роду кнѧжѧ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 азъ єсмь роду кнѧжѧ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Олег показывает Игоря Аскольду и Диру"/>
          <p:cNvPicPr/>
          <p:nvPr/>
        </p:nvPicPr>
        <p:blipFill>
          <a:blip r:embed="rId1"/>
          <a:stretch/>
        </p:blipFill>
        <p:spPr>
          <a:xfrm>
            <a:off x="5181480" y="685800"/>
            <a:ext cx="32450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810000"/>
            <a:ext cx="82324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Баллада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 -  стихотворение, изображающее  события фантастического или героического характера .  Черты, характерные балладе:  в балладах поэты часто обращались к историческому прошлому; таинственный, иногда  фантастический ход событий, обилие средств  художественной выразительност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2120" y="731880"/>
            <a:ext cx="7172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Хозары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– народ, живший некогда в южно – русских степях и нападавший на Древнюю Ру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рон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одежда из металлических пластинок или коле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у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бог грома и молнии у древних славя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еч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сраж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ризн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похоронный обряд у древних славя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екир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боевой топорик с длинной рукоят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4360" y="609480"/>
            <a:ext cx="42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ллюстрации к «Песне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828800" y="380880"/>
            <a:ext cx="44244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6476760" cy="60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6-11-07T10:12:35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