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E9C4-D65A-4176-A03C-B288F7DA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E42F-B75F-4B32-881E-C8D8BF20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6AF-F5B8-4AE7-8D5F-DE7B7BAF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B6A-6EED-4211-83F3-1007E4F6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0548-A4A9-4462-B689-C2C83F88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88F-89F2-407D-827D-3EFCB7C9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3F5B-DAC0-4618-B46B-C07C21B1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E8C1-DDE4-4114-A549-12006866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2240-FD5B-4727-98F3-FAB47AD2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4CA6-AE6C-49A7-ADA2-985635E6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B69-DBDA-454E-9BA7-6F88D046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54E2-4297-4745-AAEC-ED1A4EBE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9840-17E0-4C44-9325-4FB6C7D68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840" y="1294560"/>
            <a:ext cx="3486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.С. Пушки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«Песнь 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ещем Олеге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с Игорем"/>
          <p:cNvPicPr/>
          <p:nvPr/>
        </p:nvPicPr>
        <p:blipFill>
          <a:blip r:embed="rId1"/>
          <a:stretch/>
        </p:blipFill>
        <p:spPr>
          <a:xfrm>
            <a:off x="5257800" y="457200"/>
            <a:ext cx="3324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730080"/>
            <a:ext cx="76197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792504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033560"/>
            <a:ext cx="76197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14400" y="917640"/>
            <a:ext cx="73152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533520"/>
            <a:ext cx="5105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ле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щий Оле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др.-рус. Ольгъ, умер в 912 г.) — варяг, князь новгородский (с 879) и киевский (с 882). Нередко рассматривается как основатель Древнерусского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летописи приводится его прозвищ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ещ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то есть знающий будущее, провидящий будущее.Назван так сразу по возвращении из похода 907 года на Визан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800px-Pokhod_Olega_v_Tsargrad"/>
          <p:cNvPicPr/>
          <p:nvPr/>
        </p:nvPicPr>
        <p:blipFill>
          <a:blip r:embed="rId1"/>
          <a:stretch/>
        </p:blipFill>
        <p:spPr>
          <a:xfrm>
            <a:off x="4267080" y="3429000"/>
            <a:ext cx="426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6000" y="385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схождение Ол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762120"/>
            <a:ext cx="2311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летописях имеются две версии биографии Олега: традиционная, изложенная в «Повести временных лет», и по Новгородской первой летописи, сохранившей фрагменты не дошедшего до нас более раннего летописного свода, с путаницей в хро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0_3596e_cd7e3e64_L"/>
          <p:cNvPicPr/>
          <p:nvPr/>
        </p:nvPicPr>
        <p:blipFill>
          <a:blip r:embed="rId1"/>
          <a:stretch/>
        </p:blipFill>
        <p:spPr>
          <a:xfrm>
            <a:off x="914400" y="1143000"/>
            <a:ext cx="40323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76212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882 Олег предпринял удачные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моленск и Любе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этого он по Днепру спустился к Киеву, где князьями были соплеменники Рюрика, варяги Аскольд и Дир. Олег заманил их к своим ладьям и объявил 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ы неста кнѧзѧ ни роду кнѧжѧ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азъ єсмь роду кнѧжѧ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Олег показывает Игоря Аскольду и Диру"/>
          <p:cNvPicPr/>
          <p:nvPr/>
        </p:nvPicPr>
        <p:blipFill>
          <a:blip r:embed="rId1"/>
          <a:stretch/>
        </p:blipFill>
        <p:spPr>
          <a:xfrm>
            <a:off x="5181480" y="685800"/>
            <a:ext cx="324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3520" y="810000"/>
            <a:ext cx="8232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аллад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 -  стихотворение, изображающее  события фантастического или героического характера .  Черты, характерные балладе:  в балладах поэты часто обращались к историческому прошлому; таинственный, иногда  фантастический ход событий, обилие средств  художественной вырази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731880"/>
            <a:ext cx="7172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озар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народ, живший некогда в южно – русских степях и нападавший на Древнюю Ру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рон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одежда из металлических пластинок или коле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у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г грома и молнии у древних слав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ч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изн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похоронный обряд у древних славя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ки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оевой топорик с длинной рукоя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4360" y="609480"/>
            <a:ext cx="42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люстрации к «Песн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828800" y="380880"/>
            <a:ext cx="44244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647676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1-07T10:12:3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