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884760" y="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4080" cy="342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54BB5-A568-4CB9-903B-F148F4817C4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773C8-1EAE-4C7F-97F4-7AF1D1E7107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CE1A0-FCFF-47D0-9EF4-B7BD66B006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18CB7D-046E-4755-B360-1EB40502EA4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D002B-AD2D-4B09-8BA7-253AE2E158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6F898C-F911-459B-B76C-5E42AF12DAA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4F310-C8FF-40EA-AA44-CFB06A528E4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8331-168A-40DE-A310-4C1BE2423D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2640" cy="3422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B065A-B059-4F0C-B957-CEC86E53EE1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82431-CF90-44BE-B233-4BC60922BB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82FA4-360A-4BD0-B9B9-ACD08815E49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D690B-83A0-46B7-A804-76A9C3F8BB9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3F47E-7734-443E-B12D-774C1EDCFAA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1"/>
          <p:cNvSpPr/>
          <p:nvPr/>
        </p:nvSpPr>
        <p:spPr>
          <a:xfrm>
            <a:off x="3884760" y="8685360"/>
            <a:ext cx="29638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C81CC-AE97-4030-9122-4E128BDA82E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A862B-561B-42C9-8C9B-CA244829641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8D670-88C8-4E4D-835B-26F8C6481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680" y="392184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A0A1B-3F49-4B32-B4BB-CAFE018C0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04361-A87F-48A4-8058-66CE02076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456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67800" y="152352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68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456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67800" y="3921840"/>
            <a:ext cx="274536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BCAD-B925-4716-BD6D-AF78543F1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3416E-2F8B-41FA-9E38-D6F5CE83D3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1E4D-46B0-49DC-ACF7-966C19C5A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11E3-063F-4991-8E26-2B6B25BD0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F933A-52EE-4C4B-86DD-AAC0CB1FD3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680" y="-122400"/>
            <a:ext cx="8526240" cy="50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FC220-2312-4C44-A536-5C01119CC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6A36-B09B-4EC2-905A-BD9D780B9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2184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81C3-3163-41B1-AFB8-3C4A8B84A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523520"/>
            <a:ext cx="416052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21840"/>
            <a:ext cx="8526240" cy="218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F8A5-7F4D-4F71-A891-14B4BB969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a5d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1b58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5791320" y="6399360"/>
            <a:ext cx="30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04920" y="6410160"/>
            <a:ext cx="3581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152280" y="1276200"/>
            <a:ext cx="8832960" cy="1800"/>
          </a:xfrm>
          <a:prstGeom prst="line">
            <a:avLst/>
          </a:prstGeom>
          <a:ln w="9360">
            <a:solidFill>
              <a:srgbClr val="164c6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1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164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4343400" y="1038240"/>
            <a:ext cx="449280" cy="433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0919C-29F4-4D8C-8515-F11C60BFBA7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301680" y="1523520"/>
            <a:ext cx="852624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6.jpeg"/><Relationship Id="rId4" Type="http://schemas.openxmlformats.org/officeDocument/2006/relationships/image" Target="../media/image12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1"/>
          <p:cNvSpPr/>
          <p:nvPr/>
        </p:nvSpPr>
        <p:spPr>
          <a:xfrm>
            <a:off x="380880" y="216000"/>
            <a:ext cx="83203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Урок по предмету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ОКРУЖАЮЩИЙ МИР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Georgia"/>
              </a:rPr>
              <a:t>1 клас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833400" y="379440"/>
            <a:ext cx="730260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БОУ СОШ с.Тарлык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14240" y="4429080"/>
            <a:ext cx="2249640" cy="1771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248000" y="4576680"/>
            <a:ext cx="460872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итель начальных классов Топина Евгения Александровна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55640" y="231840"/>
            <a:ext cx="1787400" cy="2241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6638760" y="2647800"/>
            <a:ext cx="2229120" cy="206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3"/>
          <a:stretch/>
        </p:blipFill>
        <p:spPr>
          <a:xfrm>
            <a:off x="360360" y="2725560"/>
            <a:ext cx="2457360" cy="1810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4"/>
          <a:stretch/>
        </p:blipFill>
        <p:spPr>
          <a:xfrm>
            <a:off x="6429240" y="357120"/>
            <a:ext cx="2319480" cy="17607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 flipH="1">
            <a:off x="214200" y="35712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946240" y="358920"/>
            <a:ext cx="4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 flipH="1">
            <a:off x="5915880" y="358920"/>
            <a:ext cx="4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-5040" y="257184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071880" y="3071880"/>
            <a:ext cx="4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072120" y="26431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2542320" y="510840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Южно-Сахалинск и окрестности. - Форум Филателист.ru - все о филателии и марках"/>
          <p:cNvPicPr/>
          <p:nvPr/>
        </p:nvPicPr>
        <p:blipFill>
          <a:blip r:embed="rId5"/>
          <a:stretch/>
        </p:blipFill>
        <p:spPr>
          <a:xfrm>
            <a:off x="3513240" y="2714760"/>
            <a:ext cx="2401920" cy="180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Заборы из профнастила. Профнастил для забора"/>
          <p:cNvPicPr/>
          <p:nvPr/>
        </p:nvPicPr>
        <p:blipFill>
          <a:blip r:embed="rId6"/>
          <a:stretch/>
        </p:blipFill>
        <p:spPr>
          <a:xfrm>
            <a:off x="3151080" y="4714920"/>
            <a:ext cx="2979720" cy="1809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0" descr=""/>
          <p:cNvPicPr/>
          <p:nvPr/>
        </p:nvPicPr>
        <p:blipFill>
          <a:blip r:embed="rId7"/>
          <a:stretch/>
        </p:blipFill>
        <p:spPr>
          <a:xfrm>
            <a:off x="3357720" y="587520"/>
            <a:ext cx="2557440" cy="188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амятник почтовым голубям в Москве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7" name="Picture 5" descr="Памятники всего мира - Памятник голубям в Москве"/>
          <p:cNvPicPr/>
          <p:nvPr/>
        </p:nvPicPr>
        <p:blipFill>
          <a:blip r:embed="rId1"/>
          <a:stretch/>
        </p:blipFill>
        <p:spPr>
          <a:xfrm>
            <a:off x="1042920" y="1557360"/>
            <a:ext cx="669780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ИСЬМА С ФРОН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99" name="Picture 2" descr="Орловская правда: Жди меня."/>
          <p:cNvPicPr/>
          <p:nvPr/>
        </p:nvPicPr>
        <p:blipFill>
          <a:blip r:embed="rId1"/>
          <a:stretch/>
        </p:blipFill>
        <p:spPr>
          <a:xfrm>
            <a:off x="1763640" y="1916280"/>
            <a:ext cx="5905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Arial"/>
              </a:rPr>
              <a:t>ПОЧТОВЫЕ МАРК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101" name="Picture 8" descr="Минкомсвязь РФ"/>
          <p:cNvPicPr/>
          <p:nvPr/>
        </p:nvPicPr>
        <p:blipFill>
          <a:blip r:embed="rId1"/>
          <a:stretch/>
        </p:blipFill>
        <p:spPr>
          <a:xfrm>
            <a:off x="5796000" y="1413000"/>
            <a:ext cx="3186000" cy="2087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Российский тигр - Детский сайт Затеево"/>
          <p:cNvPicPr/>
          <p:nvPr/>
        </p:nvPicPr>
        <p:blipFill>
          <a:blip r:embed="rId2"/>
          <a:stretch/>
        </p:blipFill>
        <p:spPr>
          <a:xfrm>
            <a:off x="65160" y="4005360"/>
            <a:ext cx="3227400" cy="2409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Атомный ледокол &quot;Ленин&quot; - Филателия - форум филателистов. Филфорум."/>
          <p:cNvPicPr/>
          <p:nvPr/>
        </p:nvPicPr>
        <p:blipFill>
          <a:blip r:embed="rId3"/>
          <a:stretch/>
        </p:blipFill>
        <p:spPr>
          <a:xfrm>
            <a:off x="5781600" y="3860640"/>
            <a:ext cx="3200400" cy="2365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FullCollection - сайт коллекционеров: 885 Яблоко."/>
          <p:cNvPicPr/>
          <p:nvPr/>
        </p:nvPicPr>
        <p:blipFill>
          <a:blip r:embed="rId4"/>
          <a:stretch/>
        </p:blipFill>
        <p:spPr>
          <a:xfrm>
            <a:off x="3400560" y="162396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8" descr="Путин и Винни Пух на почтовых марках . Бабр в Усолье"/>
          <p:cNvPicPr/>
          <p:nvPr/>
        </p:nvPicPr>
        <p:blipFill>
          <a:blip r:embed="rId5"/>
          <a:stretch/>
        </p:blipFill>
        <p:spPr>
          <a:xfrm>
            <a:off x="108000" y="1484280"/>
            <a:ext cx="3168720" cy="237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0" descr="Роза `Утро Москвы`. Почта СССР, 1978, 2к - Почтовая марка - Филателия"/>
          <p:cNvPicPr/>
          <p:nvPr/>
        </p:nvPicPr>
        <p:blipFill>
          <a:blip r:embed="rId6"/>
          <a:stretch/>
        </p:blipFill>
        <p:spPr>
          <a:xfrm>
            <a:off x="3084480" y="4095720"/>
            <a:ext cx="269388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2565000"/>
            <a:ext cx="7772400" cy="32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ПИСЬМО-ЭТО КУСОЧЕК ДУШИ, ПОЛОЖИШЬ ЕГО В КОНВЕРТ И ОТПРАВИШЬ АДРЕСАТУ.</a:t>
            </a:r>
            <a:br>
              <a:rPr sz="4000"/>
            </a:br>
            <a:r>
              <a:rPr b="1" lang="ru-RU" sz="4000" spc="-1" strike="noStrike">
                <a:solidFill>
                  <a:srgbClr val="7b9899"/>
                </a:solidFill>
                <a:latin typeface="Georgia"/>
              </a:rPr>
              <a:t>(С.ЕСЕНИН)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1773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пиграф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Как  путешествует  письм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928880" y="1785960"/>
            <a:ext cx="60721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1392120" y="339840"/>
            <a:ext cx="63835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й ящик на почте.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Платный почтовый ящик (e-mail). Преимущества. Где создать."/>
          <p:cNvPicPr/>
          <p:nvPr/>
        </p:nvPicPr>
        <p:blipFill>
          <a:blip r:embed="rId1"/>
          <a:stretch/>
        </p:blipFill>
        <p:spPr>
          <a:xfrm>
            <a:off x="1547640" y="170028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Раздача Почты 2014"/>
          <p:cNvPicPr/>
          <p:nvPr/>
        </p:nvPicPr>
        <p:blipFill>
          <a:blip r:embed="rId1"/>
          <a:stretch/>
        </p:blipFill>
        <p:spPr>
          <a:xfrm>
            <a:off x="1979640" y="1916280"/>
            <a:ext cx="5040360" cy="36003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й мешок с письмам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Стопки писем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3" name="Picture 5" descr="Мальчик из интерната четыре года ждал возвращения домой - Общество KP.UA"/>
          <p:cNvPicPr/>
          <p:nvPr/>
        </p:nvPicPr>
        <p:blipFill>
          <a:blip r:embed="rId1"/>
          <a:stretch/>
        </p:blipFill>
        <p:spPr>
          <a:xfrm>
            <a:off x="1908000" y="1903320"/>
            <a:ext cx="532800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амолёт и поез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2340000" y="1989000"/>
            <a:ext cx="460836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01680" y="22536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Georgia"/>
              </a:rPr>
              <a:t>Самолёт и бага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5" descr="Южно-Сахалинск и окрестности. - Форум Филателист.ru - все о филателии и марках"/>
          <p:cNvPicPr/>
          <p:nvPr/>
        </p:nvPicPr>
        <p:blipFill>
          <a:blip r:embed="rId1"/>
          <a:stretch/>
        </p:blipFill>
        <p:spPr>
          <a:xfrm>
            <a:off x="1521000" y="1700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ая сумк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79" name="Picture 4" descr="Кто она- полным полна, С почтальоном путь-дорогу Делит вместе: Носит вести И худеет понемногу. - Картинка 44 - Как путешествует"/>
          <p:cNvPicPr/>
          <p:nvPr/>
        </p:nvPicPr>
        <p:blipFill>
          <a:blip r:embed="rId1"/>
          <a:stretch/>
        </p:blipFill>
        <p:spPr>
          <a:xfrm>
            <a:off x="1547640" y="1700280"/>
            <a:ext cx="59040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-122400"/>
            <a:ext cx="8526240" cy="10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Почтовые ящики на двер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81" name="Picture 2" descr="Заборы из профнастила. Профнастил для забора"/>
          <p:cNvPicPr/>
          <p:nvPr/>
        </p:nvPicPr>
        <p:blipFill>
          <a:blip r:embed="rId1"/>
          <a:stretch/>
        </p:blipFill>
        <p:spPr>
          <a:xfrm>
            <a:off x="1692360" y="1773360"/>
            <a:ext cx="5688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1T20:08:19Z</dcterms:created>
  <dc:creator>Zver</dc:creator>
  <dc:description/>
  <dc:language>en-US</dc:language>
  <cp:lastModifiedBy>Класс-1</cp:lastModifiedBy>
  <dcterms:modified xsi:type="dcterms:W3CDTF">2014-12-02T06:23:43Z</dcterms:modified>
  <cp:revision>81</cp:revision>
  <dc:subject/>
  <dc:title>Слайд 1</dc:title>
</cp:coreProperties>
</file>