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B6E7B-BB76-458F-A3E2-CE51771E95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F2F96-B5CB-45E7-86C0-371AC627F19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67825-14C3-4F63-974D-184AB3ADC86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E955A-F48E-4CC2-AFE2-ED1F967F75E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3DA41-1915-4ECF-BD2F-DDA3A253477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053D8-2446-4F3E-964E-63D160683D4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13C6C-80AE-44DA-AF6C-03645278516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09C2D-FDB7-45C1-A0BE-AE223A0950A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43659-B0A7-42FA-A46F-3C91604788F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6BCED-C138-4029-8825-56B65D9830E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D0C54-F479-4891-866C-C8E8E9545A2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8E091-54F9-4DAE-BEA6-2504CFA4CCB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72EA0-92A1-47E9-8A4B-00C6E44C7FE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31CAA-9C01-44E4-BB3B-333287D8D5F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27C0E-0F74-46A8-AA93-898DCDCF0FD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EFD0B-0526-40F0-A85E-307A2B7F6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2624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680" y="3921840"/>
            <a:ext cx="852624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A51D-2205-45E5-AD04-FDAE6E390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052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640" y="1523520"/>
            <a:ext cx="416052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21840"/>
            <a:ext cx="416052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0640" y="3921840"/>
            <a:ext cx="416052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6FAB-581A-4B48-899A-229EE262F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53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4560" y="1523520"/>
            <a:ext cx="27453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67800" y="1523520"/>
            <a:ext cx="27453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680" y="3921840"/>
            <a:ext cx="27453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4560" y="3921840"/>
            <a:ext cx="27453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67800" y="3921840"/>
            <a:ext cx="27453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9ECA-EE97-47EC-BE60-F851937E21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262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2CE9-9818-4BCA-8361-01D49CE59C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262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0F63-8075-4750-A25B-D37FFCA43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052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523520"/>
            <a:ext cx="416052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0BF5-855C-4E2D-AD0E-53325029F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18CAE-EE02-49F8-ADF3-1061EBFA1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-122400"/>
            <a:ext cx="8526240" cy="50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5CDE-6D93-4616-82F3-AF9ADE13C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052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1523520"/>
            <a:ext cx="416052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21840"/>
            <a:ext cx="416052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1503-FB91-4B16-8DD3-7770B58EE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052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640" y="1523520"/>
            <a:ext cx="416052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0640" y="3921840"/>
            <a:ext cx="416052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E190-258A-4EFE-8AE1-0B4D2A7DA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052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640" y="1523520"/>
            <a:ext cx="416052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21840"/>
            <a:ext cx="852624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9DD5-A372-473D-83CA-D043340CB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a5d8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5791320" y="639936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304920" y="6410160"/>
            <a:ext cx="3581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164c6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Oval 1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sldNum" idx="1"/>
          </p:nvPr>
        </p:nvSpPr>
        <p:spPr>
          <a:xfrm>
            <a:off x="4343400" y="1038240"/>
            <a:ext cx="449280" cy="43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68D5D-2BCA-4FAA-A769-5D766DD8756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262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image" Target="../media/image12.jpeg"/><Relationship Id="rId5" Type="http://schemas.openxmlformats.org/officeDocument/2006/relationships/image" Target="../media/image7.jpeg"/><Relationship Id="rId6" Type="http://schemas.openxmlformats.org/officeDocument/2006/relationships/image" Target="../media/image9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380880" y="216000"/>
            <a:ext cx="83203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Урок по предмету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ОКРУЖАЮЩИЙ МИР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1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833400" y="379440"/>
            <a:ext cx="7302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БОУ СОШ с.Тарлык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714240" y="4429080"/>
            <a:ext cx="2249640" cy="1771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4248000" y="4576680"/>
            <a:ext cx="460872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читель начальных классов Топина Евгения Александровн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55640" y="231840"/>
            <a:ext cx="1787400" cy="2241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6638760" y="2647800"/>
            <a:ext cx="2229120" cy="2067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360360" y="2725560"/>
            <a:ext cx="2457360" cy="1810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4"/>
          <a:stretch/>
        </p:blipFill>
        <p:spPr>
          <a:xfrm>
            <a:off x="6429240" y="357120"/>
            <a:ext cx="2319480" cy="1760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 flipH="1">
            <a:off x="214200" y="3571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2946240" y="358920"/>
            <a:ext cx="4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 flipH="1">
            <a:off x="5915880" y="3589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-5040" y="25718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3071880" y="307188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6072120" y="2643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2542320" y="510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" descr="Южно-Сахалинск и окрестности. - Форум Филателист.ru - все о филателии и марках"/>
          <p:cNvPicPr/>
          <p:nvPr/>
        </p:nvPicPr>
        <p:blipFill>
          <a:blip r:embed="rId5"/>
          <a:stretch/>
        </p:blipFill>
        <p:spPr>
          <a:xfrm>
            <a:off x="3513240" y="2714760"/>
            <a:ext cx="2401920" cy="180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Заборы из профнастила. Профнастил для забора"/>
          <p:cNvPicPr/>
          <p:nvPr/>
        </p:nvPicPr>
        <p:blipFill>
          <a:blip r:embed="rId6"/>
          <a:stretch/>
        </p:blipFill>
        <p:spPr>
          <a:xfrm>
            <a:off x="3151080" y="4714920"/>
            <a:ext cx="2979720" cy="1809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"/>
          <p:cNvPicPr/>
          <p:nvPr/>
        </p:nvPicPr>
        <p:blipFill>
          <a:blip r:embed="rId7"/>
          <a:stretch/>
        </p:blipFill>
        <p:spPr>
          <a:xfrm>
            <a:off x="3357720" y="587520"/>
            <a:ext cx="2557440" cy="188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Arial"/>
              </a:rPr>
              <a:t>Памятник почтовым голубям в Москв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97" name="Picture 5" descr="Памятники всего мира - Памятник голубям в Москве"/>
          <p:cNvPicPr/>
          <p:nvPr/>
        </p:nvPicPr>
        <p:blipFill>
          <a:blip r:embed="rId1"/>
          <a:stretch/>
        </p:blipFill>
        <p:spPr>
          <a:xfrm>
            <a:off x="1042920" y="1557360"/>
            <a:ext cx="669780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ИСЬМА С ФРОН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99" name="Picture 2" descr="Орловская правда: Жди меня."/>
          <p:cNvPicPr/>
          <p:nvPr/>
        </p:nvPicPr>
        <p:blipFill>
          <a:blip r:embed="rId1"/>
          <a:stretch/>
        </p:blipFill>
        <p:spPr>
          <a:xfrm>
            <a:off x="1763640" y="1916280"/>
            <a:ext cx="5905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Arial"/>
              </a:rPr>
              <a:t>ПОЧТОВЫЕ МАРК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101" name="Picture 8" descr="Минкомсвязь РФ"/>
          <p:cNvPicPr/>
          <p:nvPr/>
        </p:nvPicPr>
        <p:blipFill>
          <a:blip r:embed="rId1"/>
          <a:stretch/>
        </p:blipFill>
        <p:spPr>
          <a:xfrm>
            <a:off x="5796000" y="1413000"/>
            <a:ext cx="3186000" cy="208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Российский тигр - Детский сайт Затеево"/>
          <p:cNvPicPr/>
          <p:nvPr/>
        </p:nvPicPr>
        <p:blipFill>
          <a:blip r:embed="rId2"/>
          <a:stretch/>
        </p:blipFill>
        <p:spPr>
          <a:xfrm>
            <a:off x="65160" y="4005360"/>
            <a:ext cx="3227400" cy="2409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Атомный ледокол &quot;Ленин&quot; - Филателия - форум филателистов. Филфорум."/>
          <p:cNvPicPr/>
          <p:nvPr/>
        </p:nvPicPr>
        <p:blipFill>
          <a:blip r:embed="rId3"/>
          <a:stretch/>
        </p:blipFill>
        <p:spPr>
          <a:xfrm>
            <a:off x="5781600" y="3860640"/>
            <a:ext cx="3200400" cy="2365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FullCollection - сайт коллекционеров: 885 Яблоко."/>
          <p:cNvPicPr/>
          <p:nvPr/>
        </p:nvPicPr>
        <p:blipFill>
          <a:blip r:embed="rId4"/>
          <a:stretch/>
        </p:blipFill>
        <p:spPr>
          <a:xfrm>
            <a:off x="3400560" y="162396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Путин и Винни Пух на почтовых марках . Бабр в Усолье"/>
          <p:cNvPicPr/>
          <p:nvPr/>
        </p:nvPicPr>
        <p:blipFill>
          <a:blip r:embed="rId5"/>
          <a:stretch/>
        </p:blipFill>
        <p:spPr>
          <a:xfrm>
            <a:off x="108000" y="148428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0" descr="Роза `Утро Москвы`. Почта СССР, 1978, 2к - Почтовая марка - Филателия"/>
          <p:cNvPicPr/>
          <p:nvPr/>
        </p:nvPicPr>
        <p:blipFill>
          <a:blip r:embed="rId6"/>
          <a:stretch/>
        </p:blipFill>
        <p:spPr>
          <a:xfrm>
            <a:off x="3084480" y="4095720"/>
            <a:ext cx="269388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2565000"/>
            <a:ext cx="7772400" cy="32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b9899"/>
                </a:solidFill>
                <a:latin typeface="Georgia"/>
              </a:rPr>
              <a:t>ПИСЬМО-ЭТО КУСОЧЕК ДУШИ, ПОЛОЖИШЬ ЕГО В КОНВЕРТ И ОТПРАВИШЬ АДРЕСАТУ.</a:t>
            </a:r>
            <a:br>
              <a:rPr sz="4000"/>
            </a:br>
            <a:r>
              <a:rPr b="1" lang="ru-RU" sz="4000" spc="-1" strike="noStrike">
                <a:solidFill>
                  <a:srgbClr val="7b9899"/>
                </a:solidFill>
                <a:latin typeface="Georgia"/>
              </a:rPr>
              <a:t>(С.ЕСЕНИН)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1773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пиграф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301680" y="22536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Как  путешествует  письмо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928880" y="1785960"/>
            <a:ext cx="607212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1392120" y="339840"/>
            <a:ext cx="638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чтовый ящик на почте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Платный почтовый ящик (e-mail). Преимущества. Где создать."/>
          <p:cNvPicPr/>
          <p:nvPr/>
        </p:nvPicPr>
        <p:blipFill>
          <a:blip r:embed="rId1"/>
          <a:stretch/>
        </p:blipFill>
        <p:spPr>
          <a:xfrm>
            <a:off x="1547640" y="1700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Раздача Почты 2014"/>
          <p:cNvPicPr/>
          <p:nvPr/>
        </p:nvPicPr>
        <p:blipFill>
          <a:blip r:embed="rId1"/>
          <a:stretch/>
        </p:blipFill>
        <p:spPr>
          <a:xfrm>
            <a:off x="1979640" y="1916280"/>
            <a:ext cx="5040360" cy="36003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чтовый мешок с письмам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Стопки писем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3" name="Picture 5" descr="Мальчик из интерната четыре года ждал возвращения домой - Общество KP.UA"/>
          <p:cNvPicPr/>
          <p:nvPr/>
        </p:nvPicPr>
        <p:blipFill>
          <a:blip r:embed="rId1"/>
          <a:stretch/>
        </p:blipFill>
        <p:spPr>
          <a:xfrm>
            <a:off x="1908000" y="1903320"/>
            <a:ext cx="5328000" cy="38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301680" y="22536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Самолёт и поез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460836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01680" y="22536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Самолёт и бага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5" descr="Южно-Сахалинск и окрестности. - Форум Филателист.ru - все о филателии и марках"/>
          <p:cNvPicPr/>
          <p:nvPr/>
        </p:nvPicPr>
        <p:blipFill>
          <a:blip r:embed="rId1"/>
          <a:stretch/>
        </p:blipFill>
        <p:spPr>
          <a:xfrm>
            <a:off x="1521000" y="1700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чтовая сум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9" name="Picture 4" descr="Кто она- полным полна, С почтальоном путь-дорогу Делит вместе: Носит вести И худеет понемногу. - Картинка 44 - Как путешествует"/>
          <p:cNvPicPr/>
          <p:nvPr/>
        </p:nvPicPr>
        <p:blipFill>
          <a:blip r:embed="rId1"/>
          <a:stretch/>
        </p:blipFill>
        <p:spPr>
          <a:xfrm>
            <a:off x="1547640" y="1700280"/>
            <a:ext cx="590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чтовые ящики на двер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81" name="Picture 2" descr="Заборы из профнастила. Профнастил для забора"/>
          <p:cNvPicPr/>
          <p:nvPr/>
        </p:nvPicPr>
        <p:blipFill>
          <a:blip r:embed="rId1"/>
          <a:stretch/>
        </p:blipFill>
        <p:spPr>
          <a:xfrm>
            <a:off x="1692360" y="1773360"/>
            <a:ext cx="5688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20:08:19Z</dcterms:created>
  <dc:creator>Zver</dc:creator>
  <dc:description/>
  <dc:language>en-US</dc:language>
  <cp:lastModifiedBy>Класс-1</cp:lastModifiedBy>
  <dcterms:modified xsi:type="dcterms:W3CDTF">2014-12-02T06:23:43Z</dcterms:modified>
  <cp:revision>81</cp:revision>
  <dc:subject/>
  <dc:title>Слайд 1</dc:title>
</cp:coreProperties>
</file>