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77F7-E9B8-4463-94AD-1E021BA6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1A91-46CF-4299-B017-22E47844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51FC-9B7B-4998-90B4-11964696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3A9E-67BE-4AA7-87C0-5F063FBA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C2A5-756C-41B0-AD66-05140B66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72A0-3672-4E86-B225-ED1ED231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075E-76DA-4732-8384-E701141F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0116-CB8F-4EB9-81FD-AB83DD20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938D-92FB-449A-9A6E-9F8EAF8E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CDF-9593-4246-BE96-E09BC8D8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B514-18E2-4CDC-87B7-90300FE0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30D-C6D1-4315-92E8-7F0B892A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BB73-5C8F-4687-8D5E-CC3B04B08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26920" y="907920"/>
            <a:ext cx="76676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менение  свойств </a:t>
            </a:r>
            <a:endParaRPr b="0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0099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вадратичной </a:t>
            </a:r>
            <a:endParaRPr b="0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0099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ункции при решении</a:t>
            </a:r>
            <a:endParaRPr b="0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0099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авнений и неравенств</a:t>
            </a:r>
            <a:endParaRPr b="0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0099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 параметрами</a:t>
            </a:r>
            <a:endParaRPr b="0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0099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8332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 каких значениях параметра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ни квадратного уравнения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х</a:t>
            </a:r>
            <a:r>
              <a:rPr b="1" lang="en-US" sz="20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+ (а + 1)х + 3 = 0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лежат по разные стороны от числа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6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мотрим функцию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= х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+ (а + 1)х +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(2)&lt;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(2)=4+2a+2+3=2a+9&l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a&lt;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&lt;–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a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–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–4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каких значениях параметра 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а корня квадратного уравнен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(2–a)x</a:t>
            </a:r>
            <a:r>
              <a:rPr b="1" lang="en-US" sz="24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-3ax+2a=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больш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смотрим функцию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= (2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24000" y="2852640"/>
                <a:ext cx="10206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M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D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B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den>
                              </m:f>
                              <m:r>
                                <m:t xml:space="preserve">&gt;</m:t>
                              </m:r>
                              <m:r>
                                <m:t xml:space="preserve">M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700360" y="2924280"/>
                <a:ext cx="215892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a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  <m:r>
                                        <m:t xml:space="preserve">a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9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  <m:r>
                                <m:t xml:space="preserve">a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</m:den>
                              </m:f>
                              <m:r>
                                <m:t xml:space="preserve">&gt;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;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867280" y="2997360"/>
                <a:ext cx="1368720" cy="11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+</m:t>
                                  </m:r>
                                  <m:f>
                                    <m:num>
                                      <m:r>
                                        <m:t xml:space="preserve">a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  <m:r>
                                <m:t xml:space="preserve">a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50920" y="4365720"/>
                <a:ext cx="11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a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  <m:r>
                                <m:t xml:space="preserve">)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6</m:t>
                                  </m:r>
                                  <m:r>
                                    <m:t xml:space="preserve">a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</m:den>
                              </m:f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771640" y="4437000"/>
                <a:ext cx="140976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;</m:t>
                                  </m:r>
                                  <m:r>
                                    <m:t xml:space="preserve">2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∞</m:t>
                                  </m:r>
                                  <m:r>
                                    <m:t xml:space="preserve">;</m:t>
                                  </m:r>
                                  <m:r>
                                    <m:t xml:space="preserve">0</m:t>
                                  </m:r>
                                </m:e>
                              </m:d>
                              <m:r>
                                <m:t xml:space="preserve">∪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  <m:r>
                                    <m:t xml:space="preserve">;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∞</m:t>
                                  </m:r>
                                </m:e>
                              </m:d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7</m:t>
                                  </m:r>
                                  <m:r>
                                    <m:t xml:space="preserve">a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</m:den>
                              </m:f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508720" y="4437000"/>
                <a:ext cx="14097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;</m:t>
                                  </m:r>
                                  <m:r>
                                    <m:t xml:space="preserve">2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∞</m:t>
                                  </m:r>
                                  <m:r>
                                    <m:t xml:space="preserve">;</m:t>
                                  </m:r>
                                  <m:r>
                                    <m:t xml:space="preserve">0</m:t>
                                  </m:r>
                                </m:e>
                              </m:d>
                              <m:r>
                                <m:t xml:space="preserve">∪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  <m:r>
                                    <m:t xml:space="preserve">;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∞</m:t>
                                  </m:r>
                                </m:e>
                              </m:d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</m:num>
                                    <m:den>
                                      <m:r>
                                        <m:t xml:space="preserve">7</m:t>
                                      </m:r>
                                    </m:den>
                                  </m:f>
                                  <m:r>
                                    <m:t xml:space="preserve">;</m:t>
                                  </m:r>
                                  <m:r>
                                    <m:t xml:space="preserve">2</m:t>
                                  </m:r>
                                </m:e>
                              </m:d>
                              <m:r>
                                <m:t xml:space="preserve">;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684360" y="558900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ешений н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твет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Решений н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47640" y="3357720"/>
            <a:ext cx="936720" cy="287280"/>
          </a:xfrm>
          <a:prstGeom prst="leftRightArrow">
            <a:avLst>
              <a:gd name="adj1" fmla="val 50000"/>
              <a:gd name="adj2" fmla="val 649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3429000"/>
            <a:ext cx="936360" cy="287280"/>
          </a:xfrm>
          <a:prstGeom prst="leftRightArrow">
            <a:avLst>
              <a:gd name="adj1" fmla="val 50000"/>
              <a:gd name="adj2" fmla="val 648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80360" y="3429000"/>
            <a:ext cx="936720" cy="287280"/>
          </a:xfrm>
          <a:prstGeom prst="leftRightArrow">
            <a:avLst>
              <a:gd name="adj1" fmla="val 50000"/>
              <a:gd name="adj2" fmla="val 649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19280" y="4724280"/>
            <a:ext cx="936720" cy="287280"/>
          </a:xfrm>
          <a:prstGeom prst="leftRightArrow">
            <a:avLst>
              <a:gd name="adj1" fmla="val 50000"/>
              <a:gd name="adj2" fmla="val 649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56000" y="4724280"/>
            <a:ext cx="936720" cy="287280"/>
          </a:xfrm>
          <a:prstGeom prst="leftRightArrow">
            <a:avLst>
              <a:gd name="adj1" fmla="val 50000"/>
              <a:gd name="adj2" fmla="val 649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все значения параметра 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а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и которых оба корня квадратного уравнения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- 6ax+(2-2a+9a</a:t>
            </a:r>
            <a:r>
              <a:rPr b="1" lang="en-US" sz="24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)=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больш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мотрим функцию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(2-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79280" y="2997360"/>
                <a:ext cx="13384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M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D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B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den>
                              </m:f>
                              <m:r>
                                <m:t xml:space="preserve">&gt;</m:t>
                              </m:r>
                              <m:r>
                                <m:t xml:space="preserve">M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050920" y="3213000"/>
                <a:ext cx="223380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r>
                                <m:t xml:space="preserve">9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6</m:t>
                                  </m:r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&gt;</m:t>
                              </m:r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572000" y="3284640"/>
                <a:ext cx="201600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7164360" y="3284640"/>
                <a:ext cx="180036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∞</m:t>
                                  </m:r>
                                  <m:r>
                                    <m:t xml:space="preserve">;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r>
                                <m:t xml:space="preserve">∪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</m:num>
                                    <m:den>
                                      <m:r>
                                        <m:t xml:space="preserve">9</m:t>
                                      </m:r>
                                    </m:den>
                                  </m:f>
                                  <m:r>
                                    <m:t xml:space="preserve">;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∞</m:t>
                                  </m:r>
                                </m:e>
                              </m:d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6448680" y="4997880"/>
            <a:ext cx="45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04000" y="4840200"/>
                <a:ext cx="7542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908000" y="5661000"/>
                <a:ext cx="12240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990360" y="590544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47640" y="3933720"/>
            <a:ext cx="432000" cy="144720"/>
          </a:xfrm>
          <a:prstGeom prst="leftRightArrow">
            <a:avLst>
              <a:gd name="adj1" fmla="val 50000"/>
              <a:gd name="adj2" fmla="val 594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40360" y="3933720"/>
            <a:ext cx="431640" cy="144720"/>
          </a:xfrm>
          <a:prstGeom prst="leftRightArrow">
            <a:avLst>
              <a:gd name="adj1" fmla="val 50000"/>
              <a:gd name="adj2" fmla="val 59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32720" y="3933720"/>
            <a:ext cx="431640" cy="144720"/>
          </a:xfrm>
          <a:prstGeom prst="leftRightArrow">
            <a:avLst>
              <a:gd name="adj1" fmla="val 50000"/>
              <a:gd name="adj2" fmla="val 59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йти все значения параметра </a:t>
            </a: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оторых оба корня квадратного уравне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20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+4ax+(1-2a+4a</a:t>
            </a:r>
            <a:r>
              <a:rPr b="1" lang="en-US" sz="20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)=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меньш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мотрим функцию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(1-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0" y="2971800"/>
                <a:ext cx="8096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M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D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B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den>
                              </m:f>
                              <m:r>
                                <m:t xml:space="preserve">&lt;</m:t>
                              </m:r>
                              <m:r>
                                <m:t xml:space="preserve">M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340000" y="3068640"/>
                <a:ext cx="187308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>
                                <m:t xml:space="preserve">8</m:t>
                              </m:r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4</m:t>
                                  </m:r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&lt;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5651640" y="3213000"/>
                <a:ext cx="13809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∞</m:t>
                                  </m:r>
                                  <m:r>
                                    <m:t xml:space="preserve">;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  <m:r>
                                <m:t xml:space="preserve">∪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;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∞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&gt;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1187280" y="573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10040" y="35377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411280" y="5661000"/>
                <a:ext cx="10083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1187280" y="3429000"/>
            <a:ext cx="649440" cy="142920"/>
          </a:xfrm>
          <a:prstGeom prst="leftRightArrow">
            <a:avLst>
              <a:gd name="adj1" fmla="val 50000"/>
              <a:gd name="adj2" fmla="val 904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16360" y="3429000"/>
            <a:ext cx="649440" cy="142920"/>
          </a:xfrm>
          <a:prstGeom prst="leftRightArrow">
            <a:avLst>
              <a:gd name="adj1" fmla="val 50000"/>
              <a:gd name="adj2" fmla="val 904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09120" y="2377800"/>
            <a:ext cx="801684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.Найти все значения параметра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, при которых оба корня квадратного урав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1" lang="en-US" sz="1600" spc="-1" strike="noStrike">
                <a:solidFill>
                  <a:srgbClr val="009999"/>
                </a:solidFill>
                <a:latin typeface="Tahoma"/>
              </a:rPr>
              <a:t>x</a:t>
            </a:r>
            <a:r>
              <a:rPr b="1" lang="ru-RU" sz="1600" spc="-1" strike="noStrike" baseline="30000">
                <a:solidFill>
                  <a:srgbClr val="009999"/>
                </a:solidFill>
                <a:latin typeface="Tahoma"/>
              </a:rPr>
              <a:t>2</a:t>
            </a:r>
            <a:r>
              <a:rPr b="1" lang="ru-RU" sz="1600" spc="-1" strike="noStrike">
                <a:solidFill>
                  <a:srgbClr val="009999"/>
                </a:solidFill>
                <a:latin typeface="Tahoma"/>
              </a:rPr>
              <a:t>-6</a:t>
            </a:r>
            <a:r>
              <a:rPr b="1" lang="en-US" sz="1600" spc="-1" strike="noStrike">
                <a:solidFill>
                  <a:srgbClr val="009999"/>
                </a:solidFill>
                <a:latin typeface="Tahoma"/>
              </a:rPr>
              <a:t>kx</a:t>
            </a:r>
            <a:r>
              <a:rPr b="1" lang="ru-RU" sz="1600" spc="-1" strike="noStrike">
                <a:solidFill>
                  <a:srgbClr val="009999"/>
                </a:solidFill>
                <a:latin typeface="Tahoma"/>
              </a:rPr>
              <a:t>+(2-2</a:t>
            </a:r>
            <a:r>
              <a:rPr b="1" lang="en-US" sz="1600" spc="-1" strike="noStrike">
                <a:solidFill>
                  <a:srgbClr val="009999"/>
                </a:solidFill>
                <a:latin typeface="Tahoma"/>
              </a:rPr>
              <a:t>k</a:t>
            </a:r>
            <a:r>
              <a:rPr b="1" lang="ru-RU" sz="1600" spc="-1" strike="noStrike">
                <a:solidFill>
                  <a:srgbClr val="009999"/>
                </a:solidFill>
                <a:latin typeface="Tahoma"/>
              </a:rPr>
              <a:t>+9</a:t>
            </a:r>
            <a:r>
              <a:rPr b="1" lang="en-US" sz="1600" spc="-1" strike="noStrike">
                <a:solidFill>
                  <a:srgbClr val="009999"/>
                </a:solidFill>
                <a:latin typeface="Tahoma"/>
              </a:rPr>
              <a:t>k</a:t>
            </a:r>
            <a:r>
              <a:rPr b="1" lang="ru-RU" sz="1600" spc="-1" strike="noStrike">
                <a:solidFill>
                  <a:srgbClr val="009999"/>
                </a:solidFill>
                <a:latin typeface="Tahoma"/>
              </a:rPr>
              <a:t>2)=0</a:t>
            </a: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еньше 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2.Найти все значения параметра а, которых оба корня квадратного уравн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1" lang="en-US" sz="1400" spc="-1" strike="noStrike">
                <a:solidFill>
                  <a:srgbClr val="009999"/>
                </a:solidFill>
                <a:latin typeface="Tahoma"/>
              </a:rPr>
              <a:t>(1+a)x</a:t>
            </a:r>
            <a:r>
              <a:rPr b="1" lang="en-US" sz="1400" spc="-1" strike="noStrike" baseline="30000">
                <a:solidFill>
                  <a:srgbClr val="009999"/>
                </a:solidFill>
                <a:latin typeface="Tahoma"/>
              </a:rPr>
              <a:t>2</a:t>
            </a:r>
            <a:r>
              <a:rPr b="1" lang="en-US" sz="1400" spc="-1" strike="noStrike">
                <a:solidFill>
                  <a:srgbClr val="009999"/>
                </a:solidFill>
                <a:latin typeface="Tahoma"/>
              </a:rPr>
              <a:t>–3ax+4a=0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больше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3.Найти все значения параметра а, при которых число 3 лежит между корня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вадратного уравнения </a:t>
            </a:r>
            <a:r>
              <a:rPr b="1" lang="en-US" sz="1600" spc="-1" strike="noStrike">
                <a:solidFill>
                  <a:srgbClr val="009999"/>
                </a:solidFill>
                <a:latin typeface="Tahoma"/>
              </a:rPr>
              <a:t>x</a:t>
            </a:r>
            <a:r>
              <a:rPr b="1" lang="ru-RU" sz="1600" spc="-1" strike="noStrike" baseline="30000">
                <a:solidFill>
                  <a:srgbClr val="009999"/>
                </a:solidFill>
                <a:latin typeface="Tahoma"/>
              </a:rPr>
              <a:t>2</a:t>
            </a:r>
            <a:r>
              <a:rPr b="1" lang="ru-RU" sz="1600" spc="-1" strike="noStrike">
                <a:solidFill>
                  <a:srgbClr val="009999"/>
                </a:solidFill>
                <a:latin typeface="Tahoma"/>
              </a:rPr>
              <a:t>+</a:t>
            </a:r>
            <a:r>
              <a:rPr b="1" lang="en-US" sz="1600" spc="-1" strike="noStrike">
                <a:solidFill>
                  <a:srgbClr val="009999"/>
                </a:solidFill>
                <a:latin typeface="Tahoma"/>
              </a:rPr>
              <a:t>ax</a:t>
            </a:r>
            <a:r>
              <a:rPr b="1" lang="ru-RU" sz="1600" spc="-1" strike="noStrike">
                <a:solidFill>
                  <a:srgbClr val="009999"/>
                </a:solidFill>
                <a:latin typeface="Tahoma"/>
              </a:rPr>
              <a:t>–1=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979640" y="476280"/>
            <a:ext cx="60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е задание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0" y="1413000"/>
                <a:ext cx="889308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" name=""/>
          <p:cNvGrpSpPr/>
          <p:nvPr/>
        </p:nvGrpSpPr>
        <p:grpSpPr>
          <a:xfrm>
            <a:off x="2627280" y="2000160"/>
            <a:ext cx="4015800" cy="5929560"/>
            <a:chOff x="2627280" y="2000160"/>
            <a:chExt cx="4015800" cy="5929560"/>
          </a:xfrm>
        </p:grpSpPr>
        <p:sp>
          <p:nvSpPr>
            <p:cNvPr id="45" name=""/>
            <p:cNvSpPr/>
            <p:nvPr/>
          </p:nvSpPr>
          <p:spPr>
            <a:xfrm flipH="1">
              <a:off x="4882680" y="4289040"/>
              <a:ext cx="1760400" cy="36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36680" y="4289040"/>
              <a:ext cx="1650960" cy="36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2627280" y="2000160"/>
              <a:ext cx="3960720" cy="4524480"/>
              <a:chOff x="2627280" y="2000160"/>
              <a:chExt cx="3960720" cy="4524480"/>
            </a:xfrm>
          </p:grpSpPr>
          <p:sp>
            <p:nvSpPr>
              <p:cNvPr id="48" name=""/>
              <p:cNvSpPr/>
              <p:nvPr/>
            </p:nvSpPr>
            <p:spPr>
              <a:xfrm flipV="1">
                <a:off x="4607640" y="2781360"/>
                <a:ext cx="0" cy="374328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627280" y="4756680"/>
                <a:ext cx="3960720" cy="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2846880" y="2000160"/>
                <a:ext cx="1532520" cy="3223080"/>
                <a:chOff x="2846880" y="2000160"/>
                <a:chExt cx="1532520" cy="3223080"/>
              </a:xfrm>
            </p:grpSpPr>
            <p:sp>
              <p:nvSpPr>
                <p:cNvPr id="51" name=""/>
                <p:cNvSpPr/>
                <p:nvPr/>
              </p:nvSpPr>
              <p:spPr>
                <a:xfrm flipH="1" flipV="1">
                  <a:off x="2854800" y="1999800"/>
                  <a:ext cx="1524240" cy="3223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 flipV="1">
                  <a:off x="2846880" y="1999800"/>
                  <a:ext cx="1429920" cy="3223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763640" y="-244800"/>
            <a:ext cx="5257440" cy="8210880"/>
            <a:chOff x="1763640" y="-244800"/>
            <a:chExt cx="5257440" cy="8210880"/>
          </a:xfrm>
        </p:grpSpPr>
        <p:sp>
          <p:nvSpPr>
            <p:cNvPr id="54" name=""/>
            <p:cNvSpPr/>
            <p:nvPr/>
          </p:nvSpPr>
          <p:spPr>
            <a:xfrm flipH="1">
              <a:off x="4716360" y="2924280"/>
              <a:ext cx="2304720" cy="504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86560" y="2924280"/>
              <a:ext cx="2161440" cy="504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1763640" y="-244800"/>
              <a:ext cx="5184720" cy="6264720"/>
              <a:chOff x="1763640" y="-244800"/>
              <a:chExt cx="5184720" cy="6264720"/>
            </a:xfrm>
          </p:grpSpPr>
          <p:sp>
            <p:nvSpPr>
              <p:cNvPr id="57" name=""/>
              <p:cNvSpPr/>
              <p:nvPr/>
            </p:nvSpPr>
            <p:spPr>
              <a:xfrm flipV="1">
                <a:off x="4356000" y="836640"/>
                <a:ext cx="0" cy="518328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63640" y="3571920"/>
                <a:ext cx="5184720" cy="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" name=""/>
              <p:cNvGrpSpPr/>
              <p:nvPr/>
            </p:nvGrpSpPr>
            <p:grpSpPr>
              <a:xfrm>
                <a:off x="2051280" y="-244800"/>
                <a:ext cx="2007360" cy="4463640"/>
                <a:chOff x="2051280" y="-244800"/>
                <a:chExt cx="2007360" cy="4463640"/>
              </a:xfrm>
            </p:grpSpPr>
            <p:sp>
              <p:nvSpPr>
                <p:cNvPr id="60" name=""/>
                <p:cNvSpPr/>
                <p:nvPr/>
              </p:nvSpPr>
              <p:spPr>
                <a:xfrm flipH="1" flipV="1">
                  <a:off x="2061000" y="-244800"/>
                  <a:ext cx="1996920" cy="446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flipV="1">
                  <a:off x="2051280" y="-245160"/>
                  <a:ext cx="1872720" cy="446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" name=""/>
          <p:cNvSpPr/>
          <p:nvPr/>
        </p:nvSpPr>
        <p:spPr>
          <a:xfrm>
            <a:off x="2050920" y="3537000"/>
            <a:ext cx="73080" cy="73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10160" y="364500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Rockwell Extra Bold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5440" y="350028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Rockwell Extra Bold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7840" y="3537000"/>
            <a:ext cx="73080" cy="73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1763640" y="-244800"/>
            <a:ext cx="5257440" cy="8210880"/>
            <a:chOff x="1763640" y="-244800"/>
            <a:chExt cx="5257440" cy="8210880"/>
          </a:xfrm>
        </p:grpSpPr>
        <p:sp>
          <p:nvSpPr>
            <p:cNvPr id="67" name=""/>
            <p:cNvSpPr/>
            <p:nvPr/>
          </p:nvSpPr>
          <p:spPr>
            <a:xfrm flipH="1">
              <a:off x="4716360" y="2924280"/>
              <a:ext cx="2304720" cy="504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86560" y="2924280"/>
              <a:ext cx="2161440" cy="504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1763640" y="-244800"/>
              <a:ext cx="5184720" cy="6264720"/>
              <a:chOff x="1763640" y="-244800"/>
              <a:chExt cx="5184720" cy="6264720"/>
            </a:xfrm>
          </p:grpSpPr>
          <p:sp>
            <p:nvSpPr>
              <p:cNvPr id="70" name=""/>
              <p:cNvSpPr/>
              <p:nvPr/>
            </p:nvSpPr>
            <p:spPr>
              <a:xfrm flipV="1">
                <a:off x="4356000" y="836640"/>
                <a:ext cx="0" cy="518328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63640" y="3571920"/>
                <a:ext cx="5184720" cy="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051280" y="-244800"/>
                <a:ext cx="2007360" cy="4463640"/>
                <a:chOff x="2051280" y="-244800"/>
                <a:chExt cx="2007360" cy="4463640"/>
              </a:xfrm>
            </p:grpSpPr>
            <p:sp>
              <p:nvSpPr>
                <p:cNvPr id="73" name=""/>
                <p:cNvSpPr/>
                <p:nvPr/>
              </p:nvSpPr>
              <p:spPr>
                <a:xfrm flipH="1" flipV="1">
                  <a:off x="2061000" y="-244800"/>
                  <a:ext cx="1996920" cy="446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V="1">
                  <a:off x="2051280" y="-245160"/>
                  <a:ext cx="1872720" cy="446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5" name=""/>
          <p:cNvSpPr/>
          <p:nvPr/>
        </p:nvSpPr>
        <p:spPr>
          <a:xfrm>
            <a:off x="2916360" y="3537000"/>
            <a:ext cx="73080" cy="73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3800" y="357336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Rockwell Extra Bold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53800" y="357336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Rockwell Extra Bold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96000" y="3537000"/>
            <a:ext cx="73080" cy="73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1763640" y="-244800"/>
            <a:ext cx="5257440" cy="8210880"/>
            <a:chOff x="1763640" y="-244800"/>
            <a:chExt cx="5257440" cy="8210880"/>
          </a:xfrm>
        </p:grpSpPr>
        <p:sp>
          <p:nvSpPr>
            <p:cNvPr id="80" name=""/>
            <p:cNvSpPr/>
            <p:nvPr/>
          </p:nvSpPr>
          <p:spPr>
            <a:xfrm flipH="1">
              <a:off x="4716360" y="2924280"/>
              <a:ext cx="2304720" cy="504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86560" y="2924280"/>
              <a:ext cx="2161440" cy="504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1763640" y="-244800"/>
              <a:ext cx="5184720" cy="6264720"/>
              <a:chOff x="1763640" y="-244800"/>
              <a:chExt cx="5184720" cy="6264720"/>
            </a:xfrm>
          </p:grpSpPr>
          <p:sp>
            <p:nvSpPr>
              <p:cNvPr id="83" name=""/>
              <p:cNvSpPr/>
              <p:nvPr/>
            </p:nvSpPr>
            <p:spPr>
              <a:xfrm flipV="1">
                <a:off x="4356000" y="836640"/>
                <a:ext cx="0" cy="518328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763640" y="3571920"/>
                <a:ext cx="5184720" cy="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"/>
              <p:cNvGrpSpPr/>
              <p:nvPr/>
            </p:nvGrpSpPr>
            <p:grpSpPr>
              <a:xfrm>
                <a:off x="2051280" y="-244800"/>
                <a:ext cx="2007360" cy="4463640"/>
                <a:chOff x="2051280" y="-244800"/>
                <a:chExt cx="2007360" cy="4463640"/>
              </a:xfrm>
            </p:grpSpPr>
            <p:sp>
              <p:nvSpPr>
                <p:cNvPr id="86" name=""/>
                <p:cNvSpPr/>
                <p:nvPr/>
              </p:nvSpPr>
              <p:spPr>
                <a:xfrm flipH="1" flipV="1">
                  <a:off x="2061000" y="-244800"/>
                  <a:ext cx="1996920" cy="446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V="1">
                  <a:off x="2051280" y="-245160"/>
                  <a:ext cx="1872720" cy="446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8" name=""/>
          <p:cNvSpPr/>
          <p:nvPr/>
        </p:nvSpPr>
        <p:spPr>
          <a:xfrm>
            <a:off x="3851280" y="3537000"/>
            <a:ext cx="73080" cy="73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10520" y="357336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Rockwell Extra Bold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90160" y="321300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Rockwell Extra Bold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32720" y="3537000"/>
            <a:ext cx="72720" cy="73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085840" y="3525840"/>
            <a:ext cx="73080" cy="73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10160" y="357336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Rockwell Extra Bold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18520" y="314172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Rockwell Extra Bold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59280" y="3525840"/>
            <a:ext cx="73080" cy="73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22560" y="2637000"/>
            <a:ext cx="0" cy="9000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94200" y="3573360"/>
            <a:ext cx="0" cy="5032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87640" y="3573360"/>
            <a:ext cx="0" cy="6476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2924280"/>
            <a:ext cx="0" cy="6490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771640" y="3068640"/>
                <a:ext cx="4003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580000" y="3645000"/>
                <a:ext cx="466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2" name=""/>
          <p:cNvGrpSpPr/>
          <p:nvPr/>
        </p:nvGrpSpPr>
        <p:grpSpPr>
          <a:xfrm>
            <a:off x="1763640" y="-259200"/>
            <a:ext cx="5480280" cy="8210880"/>
            <a:chOff x="1763640" y="-259200"/>
            <a:chExt cx="5480280" cy="8210880"/>
          </a:xfrm>
        </p:grpSpPr>
        <p:grpSp>
          <p:nvGrpSpPr>
            <p:cNvPr id="103" name=""/>
            <p:cNvGrpSpPr/>
            <p:nvPr/>
          </p:nvGrpSpPr>
          <p:grpSpPr>
            <a:xfrm>
              <a:off x="1763640" y="-259200"/>
              <a:ext cx="5480280" cy="8210880"/>
              <a:chOff x="1763640" y="-259200"/>
              <a:chExt cx="5480280" cy="821088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1763640" y="-259200"/>
                <a:ext cx="5480280" cy="8210880"/>
                <a:chOff x="1763640" y="-259200"/>
                <a:chExt cx="5480280" cy="8210880"/>
              </a:xfrm>
            </p:grpSpPr>
            <p:grpSp>
              <p:nvGrpSpPr>
                <p:cNvPr id="105" name=""/>
                <p:cNvGrpSpPr/>
                <p:nvPr/>
              </p:nvGrpSpPr>
              <p:grpSpPr>
                <a:xfrm>
                  <a:off x="1763640" y="-259200"/>
                  <a:ext cx="5480280" cy="8210880"/>
                  <a:chOff x="1763640" y="-259200"/>
                  <a:chExt cx="5480280" cy="8210880"/>
                </a:xfrm>
              </p:grpSpPr>
              <p:grpSp>
                <p:nvGrpSpPr>
                  <p:cNvPr id="106" name=""/>
                  <p:cNvGrpSpPr/>
                  <p:nvPr/>
                </p:nvGrpSpPr>
                <p:grpSpPr>
                  <a:xfrm>
                    <a:off x="1763640" y="-259200"/>
                    <a:ext cx="5480280" cy="8210880"/>
                    <a:chOff x="1763640" y="-259200"/>
                    <a:chExt cx="5480280" cy="8210880"/>
                  </a:xfrm>
                </p:grpSpPr>
                <p:grpSp>
                  <p:nvGrpSpPr>
                    <p:cNvPr id="107" name=""/>
                    <p:cNvGrpSpPr/>
                    <p:nvPr/>
                  </p:nvGrpSpPr>
                  <p:grpSpPr>
                    <a:xfrm>
                      <a:off x="1763640" y="-259200"/>
                      <a:ext cx="5257440" cy="8210880"/>
                      <a:chOff x="1763640" y="-259200"/>
                      <a:chExt cx="5257440" cy="8210880"/>
                    </a:xfrm>
                  </p:grpSpPr>
                  <p:grpSp>
                    <p:nvGrpSpPr>
                      <p:cNvPr id="108" name=""/>
                      <p:cNvGrpSpPr/>
                      <p:nvPr/>
                    </p:nvGrpSpPr>
                    <p:grpSpPr>
                      <a:xfrm>
                        <a:off x="1763640" y="-259200"/>
                        <a:ext cx="5257440" cy="8210880"/>
                        <a:chOff x="1763640" y="-259200"/>
                        <a:chExt cx="5257440" cy="8210880"/>
                      </a:xfrm>
                    </p:grpSpPr>
                    <p:grpSp>
                      <p:nvGrpSpPr>
                        <p:cNvPr id="109" name=""/>
                        <p:cNvGrpSpPr/>
                        <p:nvPr/>
                      </p:nvGrpSpPr>
                      <p:grpSpPr>
                        <a:xfrm>
                          <a:off x="1763640" y="-259200"/>
                          <a:ext cx="5257440" cy="8210880"/>
                          <a:chOff x="1763640" y="-259200"/>
                          <a:chExt cx="5257440" cy="8210880"/>
                        </a:xfrm>
                      </p:grpSpPr>
                      <p:sp>
                        <p:nvSpPr>
                          <p:cNvPr id="110" name=""/>
                          <p:cNvSpPr/>
                          <p:nvPr/>
                        </p:nvSpPr>
                        <p:spPr>
                          <a:xfrm flipH="1">
                            <a:off x="4716360" y="2909880"/>
                            <a:ext cx="2304720" cy="5041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" name=""/>
                          <p:cNvSpPr/>
                          <p:nvPr/>
                        </p:nvSpPr>
                        <p:spPr>
                          <a:xfrm>
                            <a:off x="4786560" y="2909880"/>
                            <a:ext cx="2161440" cy="5041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12" name=""/>
                          <p:cNvGrpSpPr/>
                          <p:nvPr/>
                        </p:nvGrpSpPr>
                        <p:grpSpPr>
                          <a:xfrm>
                            <a:off x="1763640" y="-259200"/>
                            <a:ext cx="5184720" cy="6264720"/>
                            <a:chOff x="1763640" y="-259200"/>
                            <a:chExt cx="5184720" cy="6264720"/>
                          </a:xfrm>
                        </p:grpSpPr>
                        <p:sp>
                          <p:nvSpPr>
                            <p:cNvPr id="113" name=""/>
                            <p:cNvSpPr/>
                            <p:nvPr/>
                          </p:nvSpPr>
                          <p:spPr>
                            <a:xfrm flipV="1">
                              <a:off x="4356000" y="822240"/>
                              <a:ext cx="0" cy="518328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3366ff"/>
                              </a:solidFill>
                              <a:miter/>
                              <a:tailEnd len="med" type="stealth" w="lg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4" name=""/>
                            <p:cNvSpPr/>
                            <p:nvPr/>
                          </p:nvSpPr>
                          <p:spPr>
                            <a:xfrm>
                              <a:off x="1763640" y="3557520"/>
                              <a:ext cx="5184720" cy="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3366ff"/>
                              </a:solidFill>
                              <a:miter/>
                              <a:tailEnd len="med" type="stealth" w="lg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115" name=""/>
                            <p:cNvGrpSpPr/>
                            <p:nvPr/>
                          </p:nvGrpSpPr>
                          <p:grpSpPr>
                            <a:xfrm>
                              <a:off x="2051280" y="-259200"/>
                              <a:ext cx="2007360" cy="4463640"/>
                              <a:chOff x="2051280" y="-259200"/>
                              <a:chExt cx="2007360" cy="4463640"/>
                            </a:xfrm>
                          </p:grpSpPr>
                          <p:sp>
                            <p:nvSpPr>
                              <p:cNvPr id="116" name=""/>
                              <p:cNvSpPr/>
                              <p:nvPr/>
                            </p:nvSpPr>
                            <p:spPr>
                              <a:xfrm flipH="1" flipV="1">
                                <a:off x="2061000" y="-259200"/>
                                <a:ext cx="1996920" cy="446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stroke="0" w="21600" h="21600">
                                    <a:moveTo>
                                      <a:pt x="10800" y="0"/>
                                    </a:moveTo>
                                    <a:arcTo wR="10800" hR="10800" stAng="-5400000" swAng="5400000"/>
                                    <a:lnTo>
                                      <a:pt x="10800" y="10800"/>
                                    </a:lnTo>
                                    <a:close/>
                                  </a:path>
                                  <a:path fill="none" w="21600" h="21600">
                                    <a:moveTo>
                                      <a:pt x="10800" y="0"/>
                                    </a:moveTo>
                                    <a:arcTo wR="10800" hR="10800" stAng="-5400000" swAng="5400000"/>
                                  </a:path>
                                </a:pathLst>
                              </a:custGeom>
                              <a:noFill/>
                              <a:ln w="38160">
                                <a:solidFill>
                                  <a:srgbClr val="ff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7" name=""/>
                              <p:cNvSpPr/>
                              <p:nvPr/>
                            </p:nvSpPr>
                            <p:spPr>
                              <a:xfrm flipV="1">
                                <a:off x="2051280" y="-259560"/>
                                <a:ext cx="1872720" cy="446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stroke="0" w="21600" h="21600">
                                    <a:moveTo>
                                      <a:pt x="10800" y="0"/>
                                    </a:moveTo>
                                    <a:arcTo wR="10800" hR="10800" stAng="-5400000" swAng="5400000"/>
                                    <a:lnTo>
                                      <a:pt x="10800" y="10800"/>
                                    </a:lnTo>
                                    <a:close/>
                                  </a:path>
                                  <a:path fill="none" w="21600" h="21600">
                                    <a:moveTo>
                                      <a:pt x="10800" y="0"/>
                                    </a:moveTo>
                                    <a:arcTo wR="10800" hR="10800" stAng="-5400000" swAng="5400000"/>
                                  </a:path>
                                </a:pathLst>
                              </a:custGeom>
                              <a:noFill/>
                              <a:ln w="38160">
                                <a:solidFill>
                                  <a:srgbClr val="ff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sp>
                      <p:nvSpPr>
                        <p:cNvPr id="118" name=""/>
                        <p:cNvSpPr/>
                        <p:nvPr/>
                      </p:nvSpPr>
                      <p:spPr>
                        <a:xfrm>
                          <a:off x="4338000" y="620640"/>
                          <a:ext cx="31032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Y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19" name=""/>
                      <p:cNvSpPr/>
                      <p:nvPr/>
                    </p:nvSpPr>
                    <p:spPr>
                      <a:xfrm>
                        <a:off x="4329000" y="3286080"/>
                        <a:ext cx="35892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O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6928920" y="3429000"/>
                      <a:ext cx="3150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1" name=""/>
                  <p:cNvSpPr/>
                  <p:nvPr/>
                </p:nvSpPr>
                <p:spPr>
                  <a:xfrm>
                    <a:off x="2174400" y="3429000"/>
                    <a:ext cx="300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ahoma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" name=""/>
                <p:cNvSpPr/>
                <p:nvPr/>
              </p:nvSpPr>
              <p:spPr>
                <a:xfrm>
                  <a:off x="3544200" y="3502080"/>
                  <a:ext cx="3772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>
                <a:off x="4985640" y="3502080"/>
                <a:ext cx="377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6568560" y="3213000"/>
              <a:ext cx="37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700360" y="3525840"/>
            <a:ext cx="73080" cy="73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86520" y="321300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Rockwell Extra Bold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86880" y="364500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Rockwell Extra Bold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350028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22560" y="3573360"/>
            <a:ext cx="0" cy="6112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924280"/>
            <a:ext cx="0" cy="6490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771640" y="2997360"/>
                <a:ext cx="466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580000" y="3645000"/>
                <a:ext cx="468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733840" y="3573360"/>
            <a:ext cx="0" cy="5032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261120" y="3068280"/>
            <a:ext cx="0" cy="468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763640" y="-259200"/>
            <a:ext cx="5429880" cy="8210880"/>
            <a:chOff x="1763640" y="-259200"/>
            <a:chExt cx="5429880" cy="8210880"/>
          </a:xfrm>
        </p:grpSpPr>
        <p:grpSp>
          <p:nvGrpSpPr>
            <p:cNvPr id="136" name=""/>
            <p:cNvGrpSpPr/>
            <p:nvPr/>
          </p:nvGrpSpPr>
          <p:grpSpPr>
            <a:xfrm>
              <a:off x="1763640" y="-259200"/>
              <a:ext cx="5429880" cy="8210880"/>
              <a:chOff x="1763640" y="-259200"/>
              <a:chExt cx="5429880" cy="821088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1763640" y="-259200"/>
                <a:ext cx="5429880" cy="8210880"/>
                <a:chOff x="1763640" y="-259200"/>
                <a:chExt cx="5429880" cy="8210880"/>
              </a:xfrm>
            </p:grpSpPr>
            <p:grpSp>
              <p:nvGrpSpPr>
                <p:cNvPr id="138" name=""/>
                <p:cNvGrpSpPr/>
                <p:nvPr/>
              </p:nvGrpSpPr>
              <p:grpSpPr>
                <a:xfrm>
                  <a:off x="1763640" y="-259200"/>
                  <a:ext cx="5429880" cy="8210880"/>
                  <a:chOff x="1763640" y="-259200"/>
                  <a:chExt cx="5429880" cy="8210880"/>
                </a:xfrm>
              </p:grpSpPr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1763640" y="-259200"/>
                    <a:ext cx="5429880" cy="8210880"/>
                    <a:chOff x="1763640" y="-259200"/>
                    <a:chExt cx="5429880" cy="8210880"/>
                  </a:xfrm>
                </p:grpSpPr>
                <p:grpSp>
                  <p:nvGrpSpPr>
                    <p:cNvPr id="140" name=""/>
                    <p:cNvGrpSpPr/>
                    <p:nvPr/>
                  </p:nvGrpSpPr>
                  <p:grpSpPr>
                    <a:xfrm>
                      <a:off x="1763640" y="-259200"/>
                      <a:ext cx="5257440" cy="8210880"/>
                      <a:chOff x="1763640" y="-259200"/>
                      <a:chExt cx="5257440" cy="8210880"/>
                    </a:xfrm>
                  </p:grpSpPr>
                  <p:grpSp>
                    <p:nvGrpSpPr>
                      <p:cNvPr id="141" name=""/>
                      <p:cNvGrpSpPr/>
                      <p:nvPr/>
                    </p:nvGrpSpPr>
                    <p:grpSpPr>
                      <a:xfrm>
                        <a:off x="1763640" y="-259200"/>
                        <a:ext cx="5257440" cy="8210880"/>
                        <a:chOff x="1763640" y="-259200"/>
                        <a:chExt cx="5257440" cy="8210880"/>
                      </a:xfrm>
                    </p:grpSpPr>
                    <p:grpSp>
                      <p:nvGrpSpPr>
                        <p:cNvPr id="142" name=""/>
                        <p:cNvGrpSpPr/>
                        <p:nvPr/>
                      </p:nvGrpSpPr>
                      <p:grpSpPr>
                        <a:xfrm>
                          <a:off x="1763640" y="-259200"/>
                          <a:ext cx="5257440" cy="8210880"/>
                          <a:chOff x="1763640" y="-259200"/>
                          <a:chExt cx="5257440" cy="8210880"/>
                        </a:xfrm>
                      </p:grpSpPr>
                      <p:sp>
                        <p:nvSpPr>
                          <p:cNvPr id="143" name=""/>
                          <p:cNvSpPr/>
                          <p:nvPr/>
                        </p:nvSpPr>
                        <p:spPr>
                          <a:xfrm flipH="1">
                            <a:off x="4716360" y="2909880"/>
                            <a:ext cx="2304720" cy="5041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4" name=""/>
                          <p:cNvSpPr/>
                          <p:nvPr/>
                        </p:nvSpPr>
                        <p:spPr>
                          <a:xfrm>
                            <a:off x="4786560" y="2909880"/>
                            <a:ext cx="2161440" cy="5041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45" name=""/>
                          <p:cNvGrpSpPr/>
                          <p:nvPr/>
                        </p:nvGrpSpPr>
                        <p:grpSpPr>
                          <a:xfrm>
                            <a:off x="1763640" y="-259200"/>
                            <a:ext cx="5184720" cy="6264720"/>
                            <a:chOff x="1763640" y="-259200"/>
                            <a:chExt cx="5184720" cy="6264720"/>
                          </a:xfrm>
                        </p:grpSpPr>
                        <p:sp>
                          <p:nvSpPr>
                            <p:cNvPr id="146" name=""/>
                            <p:cNvSpPr/>
                            <p:nvPr/>
                          </p:nvSpPr>
                          <p:spPr>
                            <a:xfrm flipV="1">
                              <a:off x="4356000" y="822240"/>
                              <a:ext cx="0" cy="518328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3366ff"/>
                              </a:solidFill>
                              <a:miter/>
                              <a:tailEnd len="med" type="stealth" w="lg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7" name=""/>
                            <p:cNvSpPr/>
                            <p:nvPr/>
                          </p:nvSpPr>
                          <p:spPr>
                            <a:xfrm>
                              <a:off x="1763640" y="3557520"/>
                              <a:ext cx="5184720" cy="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3366ff"/>
                              </a:solidFill>
                              <a:miter/>
                              <a:tailEnd len="med" type="stealth" w="lg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148" name=""/>
                            <p:cNvGrpSpPr/>
                            <p:nvPr/>
                          </p:nvGrpSpPr>
                          <p:grpSpPr>
                            <a:xfrm>
                              <a:off x="2051280" y="-259200"/>
                              <a:ext cx="2007360" cy="4463640"/>
                              <a:chOff x="2051280" y="-259200"/>
                              <a:chExt cx="2007360" cy="4463640"/>
                            </a:xfrm>
                          </p:grpSpPr>
                          <p:sp>
                            <p:nvSpPr>
                              <p:cNvPr id="149" name=""/>
                              <p:cNvSpPr/>
                              <p:nvPr/>
                            </p:nvSpPr>
                            <p:spPr>
                              <a:xfrm flipH="1" flipV="1">
                                <a:off x="2061000" y="-259200"/>
                                <a:ext cx="1996920" cy="446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stroke="0" w="21600" h="21600">
                                    <a:moveTo>
                                      <a:pt x="10800" y="0"/>
                                    </a:moveTo>
                                    <a:arcTo wR="10800" hR="10800" stAng="-5400000" swAng="5400000"/>
                                    <a:lnTo>
                                      <a:pt x="10800" y="10800"/>
                                    </a:lnTo>
                                    <a:close/>
                                  </a:path>
                                  <a:path fill="none" w="21600" h="21600">
                                    <a:moveTo>
                                      <a:pt x="10800" y="0"/>
                                    </a:moveTo>
                                    <a:arcTo wR="10800" hR="10800" stAng="-5400000" swAng="5400000"/>
                                  </a:path>
                                </a:pathLst>
                              </a:custGeom>
                              <a:noFill/>
                              <a:ln w="38160">
                                <a:solidFill>
                                  <a:srgbClr val="ff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0" name=""/>
                              <p:cNvSpPr/>
                              <p:nvPr/>
                            </p:nvSpPr>
                            <p:spPr>
                              <a:xfrm flipV="1">
                                <a:off x="2051280" y="-259560"/>
                                <a:ext cx="1872720" cy="446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stroke="0" w="21600" h="21600">
                                    <a:moveTo>
                                      <a:pt x="10800" y="0"/>
                                    </a:moveTo>
                                    <a:arcTo wR="10800" hR="10800" stAng="-5400000" swAng="5400000"/>
                                    <a:lnTo>
                                      <a:pt x="10800" y="10800"/>
                                    </a:lnTo>
                                    <a:close/>
                                  </a:path>
                                  <a:path fill="none" w="21600" h="21600">
                                    <a:moveTo>
                                      <a:pt x="10800" y="0"/>
                                    </a:moveTo>
                                    <a:arcTo wR="10800" hR="10800" stAng="-5400000" swAng="5400000"/>
                                  </a:path>
                                </a:pathLst>
                              </a:custGeom>
                              <a:noFill/>
                              <a:ln w="38160">
                                <a:solidFill>
                                  <a:srgbClr val="ff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sp>
                      <p:nvSpPr>
                        <p:cNvPr id="151" name=""/>
                        <p:cNvSpPr/>
                        <p:nvPr/>
                      </p:nvSpPr>
                      <p:spPr>
                        <a:xfrm>
                          <a:off x="4415400" y="620640"/>
                          <a:ext cx="32400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Y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52" name=""/>
                      <p:cNvSpPr/>
                      <p:nvPr/>
                    </p:nvSpPr>
                    <p:spPr>
                      <a:xfrm>
                        <a:off x="4334760" y="3213000"/>
                        <a:ext cx="36216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O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6860520" y="3286080"/>
                      <a:ext cx="3330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4" name=""/>
                  <p:cNvSpPr/>
                  <p:nvPr/>
                </p:nvSpPr>
                <p:spPr>
                  <a:xfrm>
                    <a:off x="3541320" y="3502080"/>
                    <a:ext cx="300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ahoma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5" name=""/>
                <p:cNvSpPr/>
                <p:nvPr/>
              </p:nvSpPr>
              <p:spPr>
                <a:xfrm>
                  <a:off x="2101680" y="328608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4768200" y="3502080"/>
                <a:ext cx="377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6497280" y="3213000"/>
              <a:ext cx="37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14920" y="3525840"/>
            <a:ext cx="72720" cy="73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37440" y="357336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Rockwell Extra Bold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34880" y="350028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Rockwell Extra Bold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69080" y="3525840"/>
            <a:ext cx="73080" cy="73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771640" y="3068640"/>
                <a:ext cx="4003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651640" y="3573360"/>
                <a:ext cx="4014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 flipV="1">
            <a:off x="3851280" y="2781360"/>
            <a:ext cx="0" cy="7920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04000" y="3573360"/>
            <a:ext cx="0" cy="5032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3573360"/>
            <a:ext cx="0" cy="6476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2924280"/>
            <a:ext cx="0" cy="6490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763640" y="-259200"/>
            <a:ext cx="5554800" cy="8210880"/>
            <a:chOff x="1763640" y="-259200"/>
            <a:chExt cx="5554800" cy="8210880"/>
          </a:xfrm>
        </p:grpSpPr>
        <p:grpSp>
          <p:nvGrpSpPr>
            <p:cNvPr id="169" name=""/>
            <p:cNvGrpSpPr/>
            <p:nvPr/>
          </p:nvGrpSpPr>
          <p:grpSpPr>
            <a:xfrm>
              <a:off x="1763640" y="-259200"/>
              <a:ext cx="5554800" cy="8210880"/>
              <a:chOff x="1763640" y="-259200"/>
              <a:chExt cx="5554800" cy="821088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1763640" y="-259200"/>
                <a:ext cx="5554800" cy="8210880"/>
                <a:chOff x="1763640" y="-259200"/>
                <a:chExt cx="5554800" cy="8210880"/>
              </a:xfrm>
            </p:grpSpPr>
            <p:grpSp>
              <p:nvGrpSpPr>
                <p:cNvPr id="171" name=""/>
                <p:cNvGrpSpPr/>
                <p:nvPr/>
              </p:nvGrpSpPr>
              <p:grpSpPr>
                <a:xfrm>
                  <a:off x="1763640" y="-259200"/>
                  <a:ext cx="5554800" cy="8210880"/>
                  <a:chOff x="1763640" y="-259200"/>
                  <a:chExt cx="5554800" cy="8210880"/>
                </a:xfrm>
              </p:grpSpPr>
              <p:grpSp>
                <p:nvGrpSpPr>
                  <p:cNvPr id="172" name=""/>
                  <p:cNvGrpSpPr/>
                  <p:nvPr/>
                </p:nvGrpSpPr>
                <p:grpSpPr>
                  <a:xfrm>
                    <a:off x="1763640" y="-259200"/>
                    <a:ext cx="5554800" cy="8210880"/>
                    <a:chOff x="1763640" y="-259200"/>
                    <a:chExt cx="5554800" cy="8210880"/>
                  </a:xfrm>
                </p:grpSpPr>
                <p:grpSp>
                  <p:nvGrpSpPr>
                    <p:cNvPr id="173" name=""/>
                    <p:cNvGrpSpPr/>
                    <p:nvPr/>
                  </p:nvGrpSpPr>
                  <p:grpSpPr>
                    <a:xfrm>
                      <a:off x="1763640" y="-259200"/>
                      <a:ext cx="5257440" cy="8210880"/>
                      <a:chOff x="1763640" y="-259200"/>
                      <a:chExt cx="5257440" cy="8210880"/>
                    </a:xfrm>
                  </p:grpSpPr>
                  <p:grpSp>
                    <p:nvGrpSpPr>
                      <p:cNvPr id="174" name=""/>
                      <p:cNvGrpSpPr/>
                      <p:nvPr/>
                    </p:nvGrpSpPr>
                    <p:grpSpPr>
                      <a:xfrm>
                        <a:off x="1763640" y="-259200"/>
                        <a:ext cx="5257440" cy="8210880"/>
                        <a:chOff x="1763640" y="-259200"/>
                        <a:chExt cx="5257440" cy="8210880"/>
                      </a:xfrm>
                    </p:grpSpPr>
                    <p:grpSp>
                      <p:nvGrpSpPr>
                        <p:cNvPr id="175" name=""/>
                        <p:cNvGrpSpPr/>
                        <p:nvPr/>
                      </p:nvGrpSpPr>
                      <p:grpSpPr>
                        <a:xfrm>
                          <a:off x="1763640" y="-259200"/>
                          <a:ext cx="5257440" cy="8210880"/>
                          <a:chOff x="1763640" y="-259200"/>
                          <a:chExt cx="5257440" cy="8210880"/>
                        </a:xfrm>
                      </p:grpSpPr>
                      <p:sp>
                        <p:nvSpPr>
                          <p:cNvPr id="176" name=""/>
                          <p:cNvSpPr/>
                          <p:nvPr/>
                        </p:nvSpPr>
                        <p:spPr>
                          <a:xfrm flipH="1">
                            <a:off x="4716360" y="2909880"/>
                            <a:ext cx="2304720" cy="5041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7" name=""/>
                          <p:cNvSpPr/>
                          <p:nvPr/>
                        </p:nvSpPr>
                        <p:spPr>
                          <a:xfrm>
                            <a:off x="4786560" y="2909880"/>
                            <a:ext cx="2161440" cy="5041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78" name=""/>
                          <p:cNvGrpSpPr/>
                          <p:nvPr/>
                        </p:nvGrpSpPr>
                        <p:grpSpPr>
                          <a:xfrm>
                            <a:off x="1763640" y="-259200"/>
                            <a:ext cx="5184720" cy="6264720"/>
                            <a:chOff x="1763640" y="-259200"/>
                            <a:chExt cx="5184720" cy="6264720"/>
                          </a:xfrm>
                        </p:grpSpPr>
                        <p:sp>
                          <p:nvSpPr>
                            <p:cNvPr id="179" name=""/>
                            <p:cNvSpPr/>
                            <p:nvPr/>
                          </p:nvSpPr>
                          <p:spPr>
                            <a:xfrm flipV="1">
                              <a:off x="4356000" y="822240"/>
                              <a:ext cx="0" cy="518328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3366ff"/>
                              </a:solidFill>
                              <a:miter/>
                              <a:tailEnd len="med" type="stealth" w="lg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0" name=""/>
                            <p:cNvSpPr/>
                            <p:nvPr/>
                          </p:nvSpPr>
                          <p:spPr>
                            <a:xfrm>
                              <a:off x="1763640" y="3557520"/>
                              <a:ext cx="5184720" cy="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3366ff"/>
                              </a:solidFill>
                              <a:miter/>
                              <a:tailEnd len="med" type="stealth" w="lg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181" name=""/>
                            <p:cNvGrpSpPr/>
                            <p:nvPr/>
                          </p:nvGrpSpPr>
                          <p:grpSpPr>
                            <a:xfrm>
                              <a:off x="2051280" y="-259200"/>
                              <a:ext cx="2007360" cy="4463640"/>
                              <a:chOff x="2051280" y="-259200"/>
                              <a:chExt cx="2007360" cy="4463640"/>
                            </a:xfrm>
                          </p:grpSpPr>
                          <p:sp>
                            <p:nvSpPr>
                              <p:cNvPr id="182" name=""/>
                              <p:cNvSpPr/>
                              <p:nvPr/>
                            </p:nvSpPr>
                            <p:spPr>
                              <a:xfrm flipH="1" flipV="1">
                                <a:off x="2061000" y="-259200"/>
                                <a:ext cx="1996920" cy="446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stroke="0" w="21600" h="21600">
                                    <a:moveTo>
                                      <a:pt x="10800" y="0"/>
                                    </a:moveTo>
                                    <a:arcTo wR="10800" hR="10800" stAng="-5400000" swAng="5400000"/>
                                    <a:lnTo>
                                      <a:pt x="10800" y="10800"/>
                                    </a:lnTo>
                                    <a:close/>
                                  </a:path>
                                  <a:path fill="none" w="21600" h="21600">
                                    <a:moveTo>
                                      <a:pt x="10800" y="0"/>
                                    </a:moveTo>
                                    <a:arcTo wR="10800" hR="10800" stAng="-5400000" swAng="5400000"/>
                                  </a:path>
                                </a:pathLst>
                              </a:custGeom>
                              <a:noFill/>
                              <a:ln w="38160">
                                <a:solidFill>
                                  <a:srgbClr val="ff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3" name=""/>
                              <p:cNvSpPr/>
                              <p:nvPr/>
                            </p:nvSpPr>
                            <p:spPr>
                              <a:xfrm flipV="1">
                                <a:off x="2051280" y="-259560"/>
                                <a:ext cx="1872720" cy="446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stroke="0" w="21600" h="21600">
                                    <a:moveTo>
                                      <a:pt x="10800" y="0"/>
                                    </a:moveTo>
                                    <a:arcTo wR="10800" hR="10800" stAng="-5400000" swAng="5400000"/>
                                    <a:lnTo>
                                      <a:pt x="10800" y="10800"/>
                                    </a:lnTo>
                                    <a:close/>
                                  </a:path>
                                  <a:path fill="none" w="21600" h="21600">
                                    <a:moveTo>
                                      <a:pt x="10800" y="0"/>
                                    </a:moveTo>
                                    <a:arcTo wR="10800" hR="10800" stAng="-5400000" swAng="5400000"/>
                                  </a:path>
                                </a:pathLst>
                              </a:custGeom>
                              <a:noFill/>
                              <a:ln w="38160">
                                <a:solidFill>
                                  <a:srgbClr val="ff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 rot="10800000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>
                          <a:off x="4411080" y="620640"/>
                          <a:ext cx="31032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Y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4329000" y="3213000"/>
                        <a:ext cx="35892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O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7005240" y="328608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7" name=""/>
                  <p:cNvSpPr/>
                  <p:nvPr/>
                </p:nvSpPr>
                <p:spPr>
                  <a:xfrm>
                    <a:off x="2177640" y="3357360"/>
                    <a:ext cx="37728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ahoma"/>
                      </a:rPr>
                      <a:t>x</a:t>
                    </a:r>
                    <a:r>
                      <a:rPr b="0" lang="en-US" sz="1800" spc="-1" strike="noStrike" baseline="-25000">
                        <a:solidFill>
                          <a:srgbClr val="000000"/>
                        </a:solidFill>
                        <a:latin typeface="Tahoma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8" name=""/>
                <p:cNvSpPr/>
                <p:nvPr/>
              </p:nvSpPr>
              <p:spPr>
                <a:xfrm>
                  <a:off x="3617280" y="3213000"/>
                  <a:ext cx="3772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4912920" y="3286080"/>
                <a:ext cx="377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6497280" y="3213000"/>
              <a:ext cx="37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395280" y="476280"/>
          <a:ext cx="8424720" cy="5256000"/>
        </p:xfrm>
        <a:graphic>
          <a:graphicData uri="http://schemas.openxmlformats.org/drawingml/2006/table">
            <a:tbl>
              <a:tblPr/>
              <a:tblGrid>
                <a:gridCol w="2808360"/>
                <a:gridCol w="2952720"/>
                <a:gridCol w="2663640"/>
              </a:tblGrid>
              <a:tr h="52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а корня квадратного уравнен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</a:rPr>
                        <a:t>больше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аданного числа </a:t>
                      </a: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М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гда и только тогда, когда имеет место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а корня квадратного уравнен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</a:rPr>
                        <a:t>меньше</a:t>
                      </a: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ного числа </a:t>
                      </a: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М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тогда и только тогда, когда имеет место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ное число М лежит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между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рням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гда и только тогда, когда имеет место  неравен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(M)&lt;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84360" y="1268280"/>
                <a:ext cx="24476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564000" y="1268280"/>
                <a:ext cx="2160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372360" y="1268280"/>
                <a:ext cx="23050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852480" y="3213000"/>
                <a:ext cx="172080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M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D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B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den>
                              </m:f>
                              <m:r>
                                <m:t xml:space="preserve">&gt;</m:t>
                              </m:r>
                              <m:r>
                                <m:t xml:space="preserve">M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492360" y="3284640"/>
                <a:ext cx="159408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M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D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B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den>
                              </m:f>
                              <m:r>
                                <m:t xml:space="preserve">&lt;</m:t>
                              </m:r>
                              <m:r>
                                <m:t xml:space="preserve">M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0:34:28Z</dcterms:created>
  <dc:creator>.</dc:creator>
  <dc:description/>
  <dc:language>en-US</dc:language>
  <cp:lastModifiedBy>Светлана</cp:lastModifiedBy>
  <dcterms:modified xsi:type="dcterms:W3CDTF">2009-02-10T21:05:23Z</dcterms:modified>
  <cp:revision>15</cp:revision>
  <dc:subject/>
  <dc:title>Слайд 1</dc:title>
</cp:coreProperties>
</file>