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jpeg" ContentType="image/jpeg"/>
  <Override PartName="/ppt/media/image15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7.png" ContentType="image/pn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4C7-E8D0-4426-9864-4B6D1BF1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4959-66E7-4C7A-B5DF-21132A07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6F7-97E8-44A8-825E-80626D01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469-746A-454D-8C2F-DC90D4D2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2FB9-8828-47E0-AEE9-6FF025BE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DAA-E184-432B-9652-C613DFDE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C6A-37EA-49EB-8A2F-435FBB4E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1C89-9204-40DA-81B7-8C1A47DA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045-221E-4370-950D-CDF457BA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F58C-9C4B-4C4F-9256-B2E793C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3FD1-A950-433C-A9CA-B283BE35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58FF-087F-4B0B-A11E-22BB5664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2914-E53C-46B0-85AD-1860239C700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одительское собрание :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«О подготовке к единым государственным экзаменам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дготовьте различные варианты тестовых заданий по предмету (сейчас существует множество различных сборников тестовых заданий). Большое значение имеет тренаж ребенка именно по тестированию, ведь эта форма отличается от привычных ему письменных и устных экзамен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Заранее во время тренировки по тестовым заданиям приучайте ребенка ориентироваться во времени и уметь его распределять. Тогда у ребенка будет навык умения концентрироваться на протяжении всего тестирования, что придаст ему спокойствие и снимет излишнюю тревожность. Если ребенок не носит часов, обязательно дайте ему часы на экзамен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кануне экзамена обеспечьте ребенку полноценный отдых, он должен отдохнуть и как следует высп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K:\школа\кл.рук\егэ\9.png"/>
          <p:cNvPicPr/>
          <p:nvPr/>
        </p:nvPicPr>
        <p:blipFill>
          <a:blip r:embed="rId2"/>
          <a:stretch/>
        </p:blipFill>
        <p:spPr>
          <a:xfrm>
            <a:off x="3962520" y="4419720"/>
            <a:ext cx="380052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головок 1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229600" cy="154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обежать глазами весь тест, чтобы увидеть, какого типа задания в нем содержатся, это поможет настроиться на работу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нимательно прочитать вопрос до конца и понять его смысл (характерная ошибка во время тестирования - не дочитав до конца, по первым словам уже предполагают ответ и торопятся его вписать)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сли не знаешь ответа на вопрос или не уверен, пропусти его и отметь, чтобы потом к нему вернуться;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если не смог в течение отведенного времени ответить на вопрос, есть смысл положиться на свою интуицию и указать наиболее вероятный вариант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70" name="Содержимое 6" descr="LDCU5CA3SRUDXCAPIUSUYCABYTNEUCATZ1IK4CAZB18S1CAWJT2ZFCA88EA38CA6H3VK2CAZ8W0BWCA32B8Q9CA7UHCM6CAQ8JKF8CADD15PSCA84YV1ACAFXI9ZTCAMDUBQSCAL9T9H4CAKAJJIECACPP6O5.jpg"/>
          <p:cNvPicPr/>
          <p:nvPr/>
        </p:nvPicPr>
        <p:blipFill>
          <a:blip r:embed="rId2"/>
          <a:stretch/>
        </p:blipFill>
        <p:spPr>
          <a:xfrm>
            <a:off x="301680" y="1996920"/>
            <a:ext cx="2935080" cy="2648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3533760" y="1676160"/>
            <a:ext cx="5308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се участники ЕГЭ должны явиться в ППЭ в день и время, указанные в пропуске, имея при себе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опус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 ЕГЭ (заполненный и зарегистрированный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документ,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достоверяющий личность (свидетельство о рождении не является таким документом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гелевую или капиллярную ручку с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черными чернила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ополнительные устройства и материалы, которые можно использовать по отдельным предмета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опровождении организатора пройти в аудиторию, взяв с собой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ольк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аспорт, пропуск, ручку и разрешенные для использования дополнит.материа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нять место, указанное организатором, меняться местами без указания организаторов запреще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C:\Users\Семья\Desktop\000355.jpg"/>
          <p:cNvPicPr/>
          <p:nvPr/>
        </p:nvPicPr>
        <p:blipFill>
          <a:blip r:embed="rId2"/>
          <a:stretch/>
        </p:blipFill>
        <p:spPr>
          <a:xfrm>
            <a:off x="357120" y="142884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Users\Семья\Desktop\0000000712.jpg"/>
          <p:cNvPicPr/>
          <p:nvPr/>
        </p:nvPicPr>
        <p:blipFill>
          <a:blip r:embed="rId3"/>
          <a:stretch/>
        </p:blipFill>
        <p:spPr>
          <a:xfrm>
            <a:off x="1285920" y="4143240"/>
            <a:ext cx="361944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905280" y="1676160"/>
            <a:ext cx="4937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нимательно прослушать инструктаж, проводимый организаторами в аудитор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Обратить внимание на целостность упаковки материал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лучить от организаторов запечатанные индивидуальные паке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лучить от организаторов черновик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Содержимое 5" descr="38767CAFZBM9ACAS4R67YCAPXEKLXCAAPN3G7CAPH70TVCAJRO4OVCAOZP5LNCA16BZ9TCAQWK55VCAI32HLCCAH0HPTYCAHQSZKJCA88MDIUCAKP44E1CA0QLUX4CA9WJG7SCA8ZQFZYCA5DDSPQCA013MSF.jpg"/>
          <p:cNvPicPr/>
          <p:nvPr/>
        </p:nvPicPr>
        <p:blipFill>
          <a:blip r:embed="rId2"/>
          <a:stretch/>
        </p:blipFill>
        <p:spPr>
          <a:xfrm>
            <a:off x="0" y="1676520"/>
            <a:ext cx="3732120" cy="2819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4" descr="L351RCAHXAZ88CAS8YOVACAKM40T2CA723BTHCAMZT48TCAHVUM26CA0D3CR4CADZ7Q69CA57DHJLCAX1MJJNCALUSEU8CAJ8VG9RCAJC0TU7CA8VUCMSCAWM84NTCAZUHXSLCAZQF374CA73HX4BCAIRG68G.jpg"/>
          <p:cNvPicPr/>
          <p:nvPr/>
        </p:nvPicPr>
        <p:blipFill>
          <a:blip r:embed="rId2"/>
          <a:stretch/>
        </p:blipFill>
        <p:spPr>
          <a:xfrm>
            <a:off x="538200" y="2421000"/>
            <a:ext cx="3992400" cy="2811240"/>
          </a:xfrm>
          <a:prstGeom prst="rect">
            <a:avLst/>
          </a:prstGeom>
          <a:ln w="57240">
            <a:solidFill>
              <a:srgbClr val="0000a4"/>
            </a:solidFill>
            <a:miter/>
          </a:ln>
        </p:spPr>
      </p:pic>
      <p:sp>
        <p:nvSpPr>
          <p:cNvPr id="81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скрыть по указанию организаторов индивидуальные пакет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оверить количество бланков ЕГЭ и КИМов в индивидуальном пакете и отсутствие в них полиграфических дефектов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Содержимое 8" descr="8V4CFCAL26TQQCA0VO8RWCA51OJTICA1IAFX6CAQKJGVUCA4MW958CAEBGV3LCABZ1GI7CA1117Q7CAAFCEHGCAW51B4ECA2BO4BRCA6P8EZNCACYZVIUCAK3PGK0CA9ZF5DBCAA8LNEKCAKL7022CA8D5CPD.jpg"/>
          <p:cNvPicPr/>
          <p:nvPr/>
        </p:nvPicPr>
        <p:blipFill>
          <a:blip r:embed="rId2"/>
          <a:stretch/>
        </p:blipFill>
        <p:spPr>
          <a:xfrm>
            <a:off x="571680" y="1285920"/>
            <a:ext cx="3085920" cy="28814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844520" y="158904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гово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ания с мес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сажи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мен любыми материалами и предмет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ние мобильными телефонами и иными средствами связи, любыми электронно-вычислительными устройств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ьзование справочными материалами кроме тех, которые указаны  Рособрнадз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ждение по ППЭ во время экзамена без сопровожд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Содержимое 4" descr="V3COCCADLIWERCA1FR5Z3CA9II0L3CACMRIDPCAYVS3NCCAOTAAUJCAY9DKBVCAWGS72TCA29F06JCA0CJ5ZOCA3V474FCAZNJF0ACA2JRE5QCAI8PQVACAG3EAKYCA11RV4MCA7NBZOVCANUZTHMCA3FU4L3.jpg"/>
          <p:cNvPicPr/>
          <p:nvPr/>
        </p:nvPicPr>
        <p:blipFill>
          <a:blip r:embed="rId3"/>
          <a:stretch/>
        </p:blipFill>
        <p:spPr>
          <a:xfrm>
            <a:off x="1928880" y="4286160"/>
            <a:ext cx="2643120" cy="2316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4" descr="0A35XCAF3SWJICAB9R9FVCAA2QOSOCATUIM2JCADR260JCAWK4PE6CAVZX1PYCAVDW8OLCAQKH8CYCA3A750FCAMR2GWNCAPVOX1XCA33PNCOCA643JJSCAINV0U8CA82EGR6CANWDVCPCA1VCBDUCA1NXT7H.jpg"/>
          <p:cNvPicPr/>
          <p:nvPr/>
        </p:nvPicPr>
        <p:blipFill>
          <a:blip r:embed="rId2"/>
          <a:stretch/>
        </p:blipFill>
        <p:spPr>
          <a:xfrm>
            <a:off x="28584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857400" y="1600200"/>
            <a:ext cx="50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Сдать все материалы организатором в аудитор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ри сдаче материалов предъявить организаторам свой пропуск, на котором организатор фиксирует количество сданных бланков, ставит свою подпись, печать учреждения, в котором проводился экзамен, либо штамп «Бланки ЕГЭ сданы»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649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о указанию организаторов покинуть аудитори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4" descr="BU6B0CABGE3NXCAE0LY7VCAHTKPG6CAMWWZRUCAWRG38OCAY1J39PCAA0ID6FCAF20KXNCA5JZ285CATRX3HWCAXKALOECAPRAEW2CAJ4WMHNCATNTJTRCAPS0PW5CAGOGKGGCAT59YGNCA44NODCCA07VCT8.jpg"/>
          <p:cNvPicPr/>
          <p:nvPr/>
        </p:nvPicPr>
        <p:blipFill>
          <a:blip r:embed="rId2"/>
          <a:stretch/>
        </p:blipFill>
        <p:spPr>
          <a:xfrm>
            <a:off x="301680" y="2817720"/>
            <a:ext cx="3306600" cy="1687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830400" y="1676160"/>
            <a:ext cx="5011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астнику ЕГЭ выдается свидетельство о результатах ЕГЭ, в котором указываю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мил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чество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9520" indent="-299520">
              <a:spcBef>
                <a:spcPts val="700"/>
              </a:spcBef>
              <a:buClr>
                <a:srgbClr val="ffcc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ультаты сдачи им ЕГЭ по предметам в текущем го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Заголовок 1" descr=""/>
          <p:cNvPicPr/>
          <p:nvPr/>
        </p:nvPicPr>
        <p:blipFill>
          <a:blip r:embed="rId1"/>
          <a:stretch/>
        </p:blipFill>
        <p:spPr>
          <a:xfrm>
            <a:off x="457200" y="-6480"/>
            <a:ext cx="8229600" cy="1067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2860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ладением информации о процессе проведения экзаме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ниманием и поддержкой, любовью и верой в его сил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кажитесь от упреков, доверяйте ребен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ли школьник хочет работать под музыку, не надо этому препятствовать, только договоритесь, чтобы это была музыка без с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частием в подготовке в ЕГЭ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судите, какой учебный материал нужно повторить. Вместе составьте план подготовк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месте определите, "жаворонок" выпускник или "сова". Если "жаворонок" - основная подготовка проводится днем, если "сова" - вечер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ведите репетицию письменного экзамена (ЕГЭ). Установите продолжительность пробного экзамена (3 или 4 часа), организуйте условия для работы, при которых выпускник не будет отвлекаться. Помогите исправить ошибки и обсудите, почему они возник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рганизацией режима (именно наиболее эффективно распорядиться временем и силами при подготовке к ЕГЭ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 время подготовки ребенок регулярно должен делать короткие перерывы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говоритесь с ребенком, что вечером накануне экзамена он раньше прекратит подготовку, сходит на прогулку и ляжет спать воврем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908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4" descr="BU6B0CABGE3NXCAE0LY7VCAHTKPG6CAMWWZRUCAWRG38OCAY1J39PCAA0ID6FCAF20KXNCA5JZ285CATRX3HWCAXKALOECAPRAEW2CAJ4WMHNCATNTJTRCAPS0PW5CAGOGKGGCAT59YGNCA44NODCCA07VCT8.jpg"/>
          <p:cNvPicPr/>
          <p:nvPr/>
        </p:nvPicPr>
        <p:blipFill>
          <a:blip r:embed="rId2"/>
          <a:stretch/>
        </p:blipFill>
        <p:spPr>
          <a:xfrm>
            <a:off x="301680" y="2817720"/>
            <a:ext cx="3306600" cy="1687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830400" y="1676160"/>
            <a:ext cx="501156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свидетельстве не указываются те предметы, по которым участник ЕГЭ набрал количество баллов ниже минимального количества баллов, установленного Рособрнадзором по данному предмет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63680" y="317520"/>
            <a:ext cx="8229600" cy="5815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2" descr=""/>
          <p:cNvPicPr/>
          <p:nvPr/>
        </p:nvPicPr>
        <p:blipFill>
          <a:blip r:embed="rId1"/>
          <a:stretch/>
        </p:blipFill>
        <p:spPr>
          <a:xfrm>
            <a:off x="463680" y="24444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ый день я становлюсь все лучше и луч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чувствую себя уверенным, счастливы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полон радости и оптимиз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чувствую себя спокойно и расслаблен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здоров и силе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способен добиться всего, чего захоч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нравлюсь людям, люди хорошо воспринимают мен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 достигну успех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 меня все получит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4" descr="Sokolov"/>
          <p:cNvPicPr/>
          <p:nvPr/>
        </p:nvPicPr>
        <p:blipFill>
          <a:blip r:embed="rId2"/>
          <a:stretch/>
        </p:blipFill>
        <p:spPr>
          <a:xfrm>
            <a:off x="6372360" y="465300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152280" y="231840"/>
            <a:ext cx="7851960" cy="1779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2133360"/>
            <a:ext cx="78487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ово "экзамен" переводится с латинского как "испытание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2" descr="K:\школа\кл.рук\егэ\11.png"/>
          <p:cNvPicPr/>
          <p:nvPr/>
        </p:nvPicPr>
        <p:blipFill>
          <a:blip r:embed="rId2"/>
          <a:stretch/>
        </p:blipFill>
        <p:spPr>
          <a:xfrm>
            <a:off x="3886200" y="4343400"/>
            <a:ext cx="3790800" cy="162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тревожьтесь о количестве баллов, которые ребенок получит на экзамене, и не критикуйте ребенка после экзамена. Внушайте ребенку мысль, что количество баллов не является совершенным измерением его возможнос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K:\школа\кл.рук\егэ\10.png"/>
          <p:cNvPicPr/>
          <p:nvPr/>
        </p:nvPicPr>
        <p:blipFill>
          <a:blip r:embed="rId2"/>
          <a:stretch/>
        </p:blipFill>
        <p:spPr>
          <a:xfrm>
            <a:off x="4419720" y="4648320"/>
            <a:ext cx="380052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повышайте тревожность ребенка накануне экзаменов - это может отрицательно сказаться на результате тестирования. Ребенку всегда передается волнение родителей, и если взрослые в ответственный момент могут справиться со своими эмоциями, то ребенок в силу возрастных особенностей может эмоционально "сорваться"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бадривайте детей, хвалите их за то, что они делают хорош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ышайте их уверенность в себе, так как чем больше ребенок боится неудачи, тем более вероятности допущения ошиб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K:\школа\кл.рук\егэ\5.png"/>
          <p:cNvPicPr/>
          <p:nvPr/>
        </p:nvPicPr>
        <p:blipFill>
          <a:blip r:embed="rId2"/>
          <a:stretch/>
        </p:blipFill>
        <p:spPr>
          <a:xfrm>
            <a:off x="3809880" y="4572000"/>
            <a:ext cx="3810240" cy="164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йте за самочувствием ребенка, никто, кроме Вас, не сможет вовремя заметить и предотвратить ухудшение состояние ребенка, связанное с переутомл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йте режим подготовки ребенка, не допускайте перегрузок, объясните ему, что он обязательно должен чередовать занятия с отдых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ратите внимание на питание ребенка: во время интенсивного умственного напряжения ему необходима питательная и разнообразная пища и сбалансированный комплекс витаминов. Такие продукты, как рыба, творог, орехи, курага и т.д. стимулируют работу головного мозг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омогите детям распределить темы подготовки по дням.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знакомьте ребенка с методикой подготовки к экзаменам. Не имеет смысла зазубривать весь фактический материал, достаточно просмотреть ключевые моменты и уловить смысл и логику материала. Очень полезно делать краткие схематические выписки и таблицы, упорядочивая изучаемый материал по плану. Если он не умеет, покажите ему, как это делается на практике. Основные формулы и определения можно выписать на листочках и повесить над письменным столом, над кроватью, в столовой и т.д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mul</dc:creator>
  <dc:description/>
  <dc:language>en-US</dc:language>
  <cp:lastModifiedBy>rimulishka@mail.ru</cp:lastModifiedBy>
  <dcterms:modified xsi:type="dcterms:W3CDTF">2017-01-16T14:02:44Z</dcterms:modified>
  <cp:revision>6</cp:revision>
  <dc:subject/>
  <dc:title>Слайд 1</dc:title>
</cp:coreProperties>
</file>