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4EF9-68D7-43F8-AE30-0072DC3F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B2D-CC01-4DCA-B8AF-D9ED0FBC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13C-95DD-4D6E-8F28-A5A69E65E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ACF-563C-45DD-8E1E-AEE0BE94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596D-F0A4-4072-825E-683F89AA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27F-1E73-456D-BBC4-EEA4148EB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E47B-9C66-43F6-A601-655F9E85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9F2-2926-4D5D-A751-D0D21DE0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B834-E529-4A77-A4EE-0C28758B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BCAB-2B3C-45DA-B72B-A7B52300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90F-AC4B-4689-A937-CBD1E749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65F5-2398-4BC3-8CD7-2F7BCC2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8EC3-CCAD-4251-851C-72E822778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_ccd27_42c2db74_M.jpg"/>
          <p:cNvPicPr/>
          <p:nvPr/>
        </p:nvPicPr>
        <p:blipFill>
          <a:blip r:embed="rId1"/>
          <a:srcRect l="2331" t="4172" r="2734" b="312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Открытый урок</a:t>
            </a:r>
            <a:br>
              <a:rPr sz="7200"/>
            </a:b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Семья </a:t>
            </a:r>
            <a:br>
              <a:rPr sz="7200"/>
            </a:br>
            <a:r>
              <a:rPr b="1" i="1" lang="ru-RU" sz="4800" spc="-1" strike="noStrike">
                <a:solidFill>
                  <a:srgbClr val="1f497d"/>
                </a:solidFill>
                <a:latin typeface="Calibri"/>
              </a:rPr>
              <a:t>подготовила Бугровая Н.Н.</a:t>
            </a:r>
            <a:br>
              <a:rPr sz="7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6120" y="285840"/>
            <a:ext cx="50292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c00000"/>
                </a:solidFill>
                <a:latin typeface="Calibri"/>
              </a:rPr>
              <a:t>Православие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285840" y="135684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емья в православии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менуется малой Церковью. Семья – это школа любви. Учиться любить здесь могут все - и папа, и мама, и дети. Невозможно любить Бога, если не умеешь любить того, кого видишь каждый день- человека, и тем    более члена семьи. Брак считается одним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из таинств, в которых Сам Бог благословляет  любящих друг друг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5" descr="images (4).jpg"/>
          <p:cNvPicPr/>
          <p:nvPr/>
        </p:nvPicPr>
        <p:blipFill>
          <a:blip r:embed="rId2"/>
          <a:srcRect l="17220" t="0" r="16229" b="0"/>
          <a:stretch/>
        </p:blipFill>
        <p:spPr>
          <a:xfrm>
            <a:off x="142920" y="142920"/>
            <a:ext cx="295740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7ced67c0d648122bcae10129de981341_XL.jpg"/>
          <p:cNvPicPr/>
          <p:nvPr/>
        </p:nvPicPr>
        <p:blipFill>
          <a:blip r:embed="rId2"/>
          <a:srcRect l="10125" t="4850" r="7467" b="4850"/>
          <a:stretch/>
        </p:blipFill>
        <p:spPr>
          <a:xfrm>
            <a:off x="158760" y="260280"/>
            <a:ext cx="4545000" cy="64087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204695.jpg"/>
          <p:cNvPicPr/>
          <p:nvPr/>
        </p:nvPicPr>
        <p:blipFill>
          <a:blip r:embed="rId3"/>
          <a:srcRect l="18116" t="0" r="7732" b="10318"/>
          <a:stretch/>
        </p:blipFill>
        <p:spPr>
          <a:xfrm>
            <a:off x="4788000" y="115920"/>
            <a:ext cx="4093920" cy="6473880"/>
          </a:xfrm>
          <a:prstGeom prst="rect">
            <a:avLst/>
          </a:prstGeom>
          <a:ln w="0">
            <a:noFill/>
          </a:ln>
        </p:spPr>
      </p:pic>
      <p:pic>
        <p:nvPicPr>
          <p:cNvPr id="71" name="neposedy_-_pyotr_i_fevroniya_(zaycev.net).mp3" descr=""/>
          <p:cNvPicPr/>
          <p:nvPr/>
        </p:nvPicPr>
        <p:blipFill>
          <a:blip r:embed="rId4"/>
          <a:stretch/>
        </p:blipFill>
        <p:spPr>
          <a:xfrm>
            <a:off x="8459640" y="6165720"/>
            <a:ext cx="30492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616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1" descr="скачанные файлы (1).jpg"/>
          <p:cNvPicPr/>
          <p:nvPr/>
        </p:nvPicPr>
        <p:blipFill>
          <a:blip r:embed="rId1"/>
          <a:stretch/>
        </p:blipFill>
        <p:spPr>
          <a:xfrm>
            <a:off x="357120" y="111240"/>
            <a:ext cx="4429080" cy="33177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3" descr="rza9.jpg"/>
          <p:cNvPicPr/>
          <p:nvPr/>
        </p:nvPicPr>
        <p:blipFill>
          <a:blip r:embed="rId2"/>
          <a:srcRect l="5156" t="0" r="12315" b="0"/>
          <a:stretch/>
        </p:blipFill>
        <p:spPr>
          <a:xfrm>
            <a:off x="285840" y="3500280"/>
            <a:ext cx="4572000" cy="31212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solnet-ee-m01n.jpg"/>
          <p:cNvPicPr/>
          <p:nvPr/>
        </p:nvPicPr>
        <p:blipFill>
          <a:blip r:embed="rId3"/>
          <a:stretch/>
        </p:blipFill>
        <p:spPr>
          <a:xfrm>
            <a:off x="5214960" y="214200"/>
            <a:ext cx="3265560" cy="31672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6" descr="medal1.jpg"/>
          <p:cNvPicPr/>
          <p:nvPr/>
        </p:nvPicPr>
        <p:blipFill>
          <a:blip r:embed="rId4"/>
          <a:stretch/>
        </p:blipFill>
        <p:spPr>
          <a:xfrm>
            <a:off x="5357880" y="3500280"/>
            <a:ext cx="3119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14800" y="213840"/>
            <a:ext cx="528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Calibri"/>
              </a:rPr>
              <a:t>Исла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0040" y="1356840"/>
            <a:ext cx="84297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рак – это обязательст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д Бого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 многочисленное потомство – знак божьего благословения. Огромное значение в исламе  придается  почитанию родителей, уважительному  к ним отношению. С особым уважением мусульмане относятся к женщин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4" descr="images (5).jpg"/>
          <p:cNvPicPr/>
          <p:nvPr/>
        </p:nvPicPr>
        <p:blipFill>
          <a:blip r:embed="rId2"/>
          <a:srcRect l="0" t="0" r="7108" b="-638"/>
          <a:stretch/>
        </p:blipFill>
        <p:spPr>
          <a:xfrm>
            <a:off x="142920" y="142920"/>
            <a:ext cx="23637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292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Calibri"/>
              </a:rPr>
              <a:t>«Рай находится под ногами наших матерей» </a:t>
            </a:r>
            <a:br>
              <a:rPr sz="54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Пророк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                 Мухаммад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7" descr="darbinjan_serjozha_na_8_marta_mami_moej_glaza.jpg"/>
          <p:cNvPicPr/>
          <p:nvPr/>
        </p:nvPicPr>
        <p:blipFill>
          <a:blip r:embed="rId2"/>
          <a:srcRect l="13389" t="1317" r="7758" b="1317"/>
          <a:stretch/>
        </p:blipFill>
        <p:spPr>
          <a:xfrm>
            <a:off x="133200" y="2924280"/>
            <a:ext cx="4446720" cy="36003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0" descr="d6bab941-21e5-11e4-a63d-001999e10e06_afbabe57-2539-11e4-b832-001999e10e06.jpeg"/>
          <p:cNvPicPr/>
          <p:nvPr/>
        </p:nvPicPr>
        <p:blipFill>
          <a:blip r:embed="rId3"/>
          <a:srcRect l="4641" t="9539" r="6153" b="15927"/>
          <a:stretch/>
        </p:blipFill>
        <p:spPr>
          <a:xfrm>
            <a:off x="4836960" y="3933720"/>
            <a:ext cx="41277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9920" y="285480"/>
            <a:ext cx="5100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Иудаиз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56800" y="171432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ья- это величайша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ценност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иудаизме брак и рождение детей одна из главнейших заповедей. В заповедях, полученных Моисеем от Бога на горе Синай, говорится, что надо чтить отца и мать свою,  сохранять верность в брак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images (7).jpg"/>
          <p:cNvPicPr/>
          <p:nvPr/>
        </p:nvPicPr>
        <p:blipFill>
          <a:blip r:embed="rId2"/>
          <a:stretch/>
        </p:blipFill>
        <p:spPr>
          <a:xfrm>
            <a:off x="214200" y="214200"/>
            <a:ext cx="264348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57720" y="285840"/>
            <a:ext cx="51717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Calibri"/>
              </a:rPr>
              <a:t>Буддизм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28440" y="135720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Семья – одна из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ажнейших ценностей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рак заключается не только для счастья двоих, но и ради интересов общины. Одно из главных назначений семьи- это ответственность и забота о детях, о родителях, о монахах. Материнская любовь воспринимается в буддизме как идеал человеческих взаимоотношений</a:t>
            </a:r>
            <a:r>
              <a:rPr b="0" lang="ru-RU" sz="34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скачанные файлы (3).jpg"/>
          <p:cNvPicPr/>
          <p:nvPr/>
        </p:nvPicPr>
        <p:blipFill>
          <a:blip r:embed="rId2"/>
          <a:stretch/>
        </p:blipFill>
        <p:spPr>
          <a:xfrm>
            <a:off x="214200" y="14292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85880" y="14292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Пословицы о семье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2560" y="642600"/>
            <a:ext cx="8715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На что и клад , коли в семье лад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b050"/>
                </a:solidFill>
                <a:latin typeface="Calibri"/>
              </a:rPr>
              <a:t>В семье и каша гуще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 недружной семье добро не бывае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Calibri"/>
              </a:rPr>
              <a:t>Когда семья вместе, так и душа на месте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04a7b"/>
                </a:solidFill>
                <a:latin typeface="Calibri"/>
              </a:rPr>
              <a:t>Дом согревает не печь, а любовь и согласие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70c0"/>
                </a:solidFill>
                <a:latin typeface="Calibri"/>
              </a:rPr>
              <a:t>Кто родителей почитает, тот навеки не погибает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2060"/>
                </a:solidFill>
                <a:latin typeface="Calibri"/>
              </a:rPr>
              <a:t>Не будет в семье добра, коли в семье вражда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7933c"/>
                </a:solidFill>
                <a:latin typeface="Calibri"/>
              </a:rPr>
              <a:t>В семье разлад, так и дому не рад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Фишбоу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Равнобедренный треугольник 5"/>
          <p:cNvSpPr/>
          <p:nvPr/>
        </p:nvSpPr>
        <p:spPr>
          <a:xfrm rot="16200000">
            <a:off x="-482400" y="1911240"/>
            <a:ext cx="4214880" cy="28209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1357200" y="2357280"/>
            <a:ext cx="192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ка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ностях основывается семья в традиционных рели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8"/>
          <p:cNvSpPr/>
          <p:nvPr/>
        </p:nvSpPr>
        <p:spPr>
          <a:xfrm>
            <a:off x="3000240" y="3214800"/>
            <a:ext cx="4071960" cy="144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10"/>
          <p:cNvSpPr/>
          <p:nvPr/>
        </p:nvSpPr>
        <p:spPr>
          <a:xfrm flipV="1">
            <a:off x="3142440" y="1785600"/>
            <a:ext cx="1143000" cy="142884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1"/>
          <p:cNvSpPr/>
          <p:nvPr/>
        </p:nvSpPr>
        <p:spPr>
          <a:xfrm flipV="1">
            <a:off x="421416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2"/>
          <p:cNvSpPr/>
          <p:nvPr/>
        </p:nvSpPr>
        <p:spPr>
          <a:xfrm flipV="1">
            <a:off x="535716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3"/>
          <p:cNvSpPr/>
          <p:nvPr/>
        </p:nvSpPr>
        <p:spPr>
          <a:xfrm flipV="1">
            <a:off x="6428520" y="1714680"/>
            <a:ext cx="1143000" cy="142848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5"/>
          <p:cNvSpPr/>
          <p:nvPr/>
        </p:nvSpPr>
        <p:spPr>
          <a:xfrm>
            <a:off x="314316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16"/>
          <p:cNvSpPr/>
          <p:nvPr/>
        </p:nvSpPr>
        <p:spPr>
          <a:xfrm>
            <a:off x="421488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17"/>
          <p:cNvSpPr/>
          <p:nvPr/>
        </p:nvSpPr>
        <p:spPr>
          <a:xfrm>
            <a:off x="5357880" y="3214800"/>
            <a:ext cx="100008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8"/>
          <p:cNvSpPr/>
          <p:nvPr/>
        </p:nvSpPr>
        <p:spPr>
          <a:xfrm>
            <a:off x="6428520" y="3214800"/>
            <a:ext cx="1000440" cy="1500120"/>
          </a:xfrm>
          <a:prstGeom prst="line">
            <a:avLst/>
          </a:prstGeom>
          <a:ln w="76320">
            <a:solidFill>
              <a:srgbClr val="46aa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Равнобедренный треугольник 19"/>
          <p:cNvSpPr/>
          <p:nvPr/>
        </p:nvSpPr>
        <p:spPr>
          <a:xfrm rot="16200000">
            <a:off x="6643440" y="2285280"/>
            <a:ext cx="2786040" cy="1928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4" descr="0_ccd27_42c2db74_M.jpg"/>
          <p:cNvPicPr/>
          <p:nvPr/>
        </p:nvPicPr>
        <p:blipFill>
          <a:blip r:embed="rId1"/>
          <a:srcRect l="2494" t="3548" r="2494" b="4475"/>
          <a:stretch/>
        </p:blipFill>
        <p:spPr>
          <a:xfrm>
            <a:off x="0" y="0"/>
            <a:ext cx="90835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285840" y="35712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бы ни жил человек, ему все равно требуется семья... Семью не заменишь ни деньгами, ни карьерой, ни друзьями.... Семья — как элемент пазла: найдешь недостающий кусочек, и картинка жизни сложится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2714760" y="5143680"/>
            <a:ext cx="350028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4" descr="0_ccd27_42c2db74_M.jpg"/>
          <p:cNvPicPr/>
          <p:nvPr/>
        </p:nvPicPr>
        <p:blipFill>
          <a:blip r:embed="rId1"/>
          <a:srcRect l="2331" t="4172" r="2734" b="3120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Каждое маленькое открытие ведет тебя на вершину знаний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2" descr="0_ccd27_42c2db74_M.jpg"/>
          <p:cNvPicPr/>
          <p:nvPr/>
        </p:nvPicPr>
        <p:blipFill>
          <a:blip r:embed="rId1"/>
          <a:srcRect l="2494" t="4011" r="5001" b="401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Pazly-1.jpg"/>
          <p:cNvPicPr/>
          <p:nvPr/>
        </p:nvPicPr>
        <p:blipFill>
          <a:blip r:embed="rId2"/>
          <a:srcRect l="5536" t="1250" r="2582" b="3442"/>
          <a:stretch/>
        </p:blipFill>
        <p:spPr>
          <a:xfrm>
            <a:off x="714240" y="142920"/>
            <a:ext cx="757260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РЕФЛЕКСИ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7120" y="1499760"/>
            <a:ext cx="8137440" cy="442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0000"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Папа и мама для меня самые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Calibri"/>
              </a:rPr>
              <a:t>Я доверяю свои тайны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7933c"/>
                </a:solidFill>
                <a:latin typeface="Calibri"/>
              </a:rPr>
              <a:t>Я люблю свою бабушку за 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53735"/>
                </a:solidFill>
                <a:latin typeface="Calibri"/>
              </a:rPr>
              <a:t>Свою семью я считаю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alibri"/>
              </a:rPr>
              <a:t>Родным хочу пожела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28760" y="500040"/>
            <a:ext cx="8215200" cy="350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Calibri"/>
              </a:rPr>
              <a:t>Любая дорога начинается с первых шагов, здание с фундамента, а человек становится человеком только в </a:t>
            </a: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емь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C:\Documents and Settings\lenovo\Рабочий стол\Семья фото\Фотографии\mpj040964100001.jpg"/>
          <p:cNvPicPr/>
          <p:nvPr/>
        </p:nvPicPr>
        <p:blipFill>
          <a:blip r:embed="rId2"/>
          <a:stretch/>
        </p:blipFill>
        <p:spPr>
          <a:xfrm>
            <a:off x="3071880" y="400068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Содержимое 3" descr="0_ccd27_42c2db74_M.jpg"/>
          <p:cNvPicPr/>
          <p:nvPr/>
        </p:nvPicPr>
        <p:blipFill>
          <a:blip r:embed="rId1"/>
          <a:srcRect l="2494" t="3726" r="2494" b="4279"/>
          <a:stretch/>
        </p:blipFill>
        <p:spPr>
          <a:xfrm>
            <a:off x="0" y="-214200"/>
            <a:ext cx="9144000" cy="70722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8760" y="213840"/>
            <a:ext cx="8215200" cy="471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1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 Придумать эмблему своей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600" spc="-1" strike="noStrike">
                <a:solidFill>
                  <a:srgbClr val="00b050"/>
                </a:solidFill>
                <a:latin typeface="Calibri"/>
              </a:rPr>
              <a:t>2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 Создать заповеди своей семь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3 уровень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- Составить устный рассказ о фамилии своей семьи</a:t>
            </a: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http://cs21.babysfera.ru/2/a/f/0/83004728.m.jpeg"/>
          <p:cNvPicPr/>
          <p:nvPr/>
        </p:nvPicPr>
        <p:blipFill>
          <a:blip r:embed="rId2"/>
          <a:srcRect l="4167" t="1839" r="2083" b="6250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125" name="Содержимое 2"/>
          <p:cNvSpPr/>
          <p:nvPr/>
        </p:nvSpPr>
        <p:spPr>
          <a:xfrm>
            <a:off x="2858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за урок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4" descr="0_ccd27_42c2db74_M.jpg"/>
          <p:cNvPicPr/>
          <p:nvPr/>
        </p:nvPicPr>
        <p:blipFill>
          <a:blip r:embed="rId1"/>
          <a:srcRect l="2331" t="3120" r="2154" b="41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3" descr="скачанные файлы.jpg"/>
          <p:cNvPicPr/>
          <p:nvPr/>
        </p:nvPicPr>
        <p:blipFill>
          <a:blip r:embed="rId2"/>
          <a:stretch/>
        </p:blipFill>
        <p:spPr>
          <a:xfrm>
            <a:off x="873000" y="785880"/>
            <a:ext cx="735516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6" descr="0_ccd27_42c2db74_M.jpg"/>
          <p:cNvPicPr/>
          <p:nvPr/>
        </p:nvPicPr>
        <p:blipFill>
          <a:blip r:embed="rId1"/>
          <a:srcRect l="3112" t="3120" r="2154" b="31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1214280" y="1143000"/>
            <a:ext cx="6572520" cy="3998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2428920" y="5214960"/>
            <a:ext cx="400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Calibri"/>
              </a:rPr>
              <a:t>Разгадайте ребу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0_ccd27_42c2db74_M.jpg"/>
          <p:cNvPicPr/>
          <p:nvPr/>
        </p:nvPicPr>
        <p:blipFill>
          <a:blip r:embed="rId1"/>
          <a:srcRect l="2331" t="3120" r="2154" b="3120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0" y="1428840"/>
            <a:ext cx="9043920" cy="521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714240" y="0"/>
            <a:ext cx="792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omic Sans MS"/>
              </a:rPr>
              <a:t>Подберите слова – ассоциации к слову СЕМ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428760" y="285840"/>
            <a:ext cx="82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Comic Sans MS"/>
              </a:rPr>
              <a:t>Как вы думаете, на какие вопросы нам предстоит ответить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1500120" y="3159000"/>
            <a:ext cx="55720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395280" y="183960"/>
            <a:ext cx="8497800" cy="64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1. Уточним, что такое сем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2. Узнаем, как религии мира относятся к семье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Calibri"/>
              </a:rPr>
              <a:t>3. Попробуем разобраться, какая она, счастливая семья, и что  мы можем сделать для сохранения  своей семьи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142920" y="285840"/>
            <a:ext cx="89298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alibri"/>
                <a:ea typeface="Times New Roman"/>
              </a:rPr>
              <a:t>СЕМЬЯ</a:t>
            </a:r>
            <a:r>
              <a:rPr b="1" i="1" lang="ru-RU" sz="6000" spc="-1" strike="noStrike">
                <a:solidFill>
                  <a:srgbClr val="7030a0"/>
                </a:solidFill>
                <a:latin typeface="Calibri"/>
                <a:ea typeface="Times New Roman"/>
              </a:rPr>
              <a:t>- 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  <a:ea typeface="Times New Roman"/>
              </a:rPr>
              <a:t>группа людей, состоящая из родителей, детей, внуков и ближних родственников, живущих вмест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428920" y="4643280"/>
            <a:ext cx="36432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0_ccd27_42c2db74_M.jpg"/>
          <p:cNvPicPr/>
          <p:nvPr/>
        </p:nvPicPr>
        <p:blipFill>
          <a:blip r:embed="rId1"/>
          <a:srcRect l="2494" t="4011" r="2494" b="40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1404813119_ltym-ctvmb.jpg"/>
          <p:cNvPicPr/>
          <p:nvPr/>
        </p:nvPicPr>
        <p:blipFill>
          <a:blip r:embed="rId2"/>
          <a:stretch/>
        </p:blipFill>
        <p:spPr>
          <a:xfrm>
            <a:off x="324000" y="152280"/>
            <a:ext cx="8624880" cy="650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Pack by SPecialiST</cp:lastModifiedBy>
  <dcterms:modified xsi:type="dcterms:W3CDTF">2017-01-14T18:05:07Z</dcterms:modified>
  <cp:revision>135</cp:revision>
  <dc:subject/>
  <dc:title>30 ноября 2011 г.  Урок по теме:</dc:title>
</cp:coreProperties>
</file>