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7BC-6795-4327-ACD1-C69ACBC4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872-A988-4F97-BC02-19D7E409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E664-9AD8-45DF-B371-09AAD1D1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AB7-9DF8-402B-B5CE-F3AE3760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FEC-13CB-474C-A871-5E40F0DF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6DC-B0D4-4579-8868-19B36BE1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757-4332-4D69-9C9D-DF551D69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131-C7E1-42DB-90D0-CB0F5CCB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3699-679E-4AE8-A8DA-F35CADDA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213-4A1F-450E-A702-D37DABF4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27AA-713A-4330-BFDD-0CFFBF6B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F66-3954-4173-9BCF-B0022639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DE65-AD81-4AD7-88DF-433B8E29DE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0_ccd27_42c2db74_M.jpg"/>
          <p:cNvPicPr/>
          <p:nvPr/>
        </p:nvPicPr>
        <p:blipFill>
          <a:blip r:embed="rId1"/>
          <a:srcRect l="2331" t="4172" r="2734" b="3120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Открытый урок</a:t>
            </a:r>
            <a:br>
              <a:rPr sz="7200"/>
            </a:b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Семья </a:t>
            </a:r>
            <a:br>
              <a:rPr sz="7200"/>
            </a:br>
            <a:r>
              <a:rPr b="1" i="1" lang="ru-RU" sz="4800" spc="-1" strike="noStrike">
                <a:solidFill>
                  <a:srgbClr val="1f497d"/>
                </a:solidFill>
                <a:latin typeface="Calibri"/>
              </a:rPr>
              <a:t>подготовила Бугровая Н.Н.</a:t>
            </a:r>
            <a:br>
              <a:rPr sz="7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0_ccd27_42c2db74_M.jpg"/>
          <p:cNvPicPr/>
          <p:nvPr/>
        </p:nvPicPr>
        <p:blipFill>
          <a:blip r:embed="rId1"/>
          <a:srcRect l="2494" t="3548" r="2494" b="44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86120" y="285840"/>
            <a:ext cx="50292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Православие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85840" y="135684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Семья в православии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именуется малой Церковью. Семья – это школа любви. Учиться любить здесь могут все - и папа, и мама, и дети. Невозможно любить Бога, если не умеешь любить того, кого видишь каждый день- человека, и тем    более члена семьи. Брак считается одним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из таинств, в которых Сам Бог благословляет  любящих друг друга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5" descr="images (4).jpg"/>
          <p:cNvPicPr/>
          <p:nvPr/>
        </p:nvPicPr>
        <p:blipFill>
          <a:blip r:embed="rId2"/>
          <a:srcRect l="17220" t="0" r="16229" b="0"/>
          <a:stretch/>
        </p:blipFill>
        <p:spPr>
          <a:xfrm>
            <a:off x="142920" y="142920"/>
            <a:ext cx="29574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0_ccd27_42c2db74_M.jpg"/>
          <p:cNvPicPr/>
          <p:nvPr/>
        </p:nvPicPr>
        <p:blipFill>
          <a:blip r:embed="rId1"/>
          <a:srcRect l="2494" t="4011" r="2494" b="40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7ced67c0d648122bcae10129de981341_XL.jpg"/>
          <p:cNvPicPr/>
          <p:nvPr/>
        </p:nvPicPr>
        <p:blipFill>
          <a:blip r:embed="rId2"/>
          <a:srcRect l="10125" t="4850" r="7467" b="4850"/>
          <a:stretch/>
        </p:blipFill>
        <p:spPr>
          <a:xfrm>
            <a:off x="158760" y="260280"/>
            <a:ext cx="4545000" cy="64087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204695.jpg"/>
          <p:cNvPicPr/>
          <p:nvPr/>
        </p:nvPicPr>
        <p:blipFill>
          <a:blip r:embed="rId3"/>
          <a:srcRect l="18116" t="0" r="7732" b="10318"/>
          <a:stretch/>
        </p:blipFill>
        <p:spPr>
          <a:xfrm>
            <a:off x="4788000" y="115920"/>
            <a:ext cx="4093920" cy="6473880"/>
          </a:xfrm>
          <a:prstGeom prst="rect">
            <a:avLst/>
          </a:prstGeom>
          <a:ln w="0">
            <a:noFill/>
          </a:ln>
        </p:spPr>
      </p:pic>
      <p:pic>
        <p:nvPicPr>
          <p:cNvPr id="71" name="neposedy_-_pyotr_i_fevroniya_(zaycev.net).mp3" descr=""/>
          <p:cNvPicPr/>
          <p:nvPr/>
        </p:nvPicPr>
        <p:blipFill>
          <a:blip r:embed="rId4"/>
          <a:stretch/>
        </p:blipFill>
        <p:spPr>
          <a:xfrm>
            <a:off x="8459640" y="6165720"/>
            <a:ext cx="30492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616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скачанные файлы (1).jpg"/>
          <p:cNvPicPr/>
          <p:nvPr/>
        </p:nvPicPr>
        <p:blipFill>
          <a:blip r:embed="rId1"/>
          <a:stretch/>
        </p:blipFill>
        <p:spPr>
          <a:xfrm>
            <a:off x="357120" y="111240"/>
            <a:ext cx="4429080" cy="33177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rza9.jpg"/>
          <p:cNvPicPr/>
          <p:nvPr/>
        </p:nvPicPr>
        <p:blipFill>
          <a:blip r:embed="rId2"/>
          <a:srcRect l="5156" t="0" r="12315" b="0"/>
          <a:stretch/>
        </p:blipFill>
        <p:spPr>
          <a:xfrm>
            <a:off x="285840" y="3500280"/>
            <a:ext cx="4572000" cy="31212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solnet-ee-m01n.jpg"/>
          <p:cNvPicPr/>
          <p:nvPr/>
        </p:nvPicPr>
        <p:blipFill>
          <a:blip r:embed="rId3"/>
          <a:stretch/>
        </p:blipFill>
        <p:spPr>
          <a:xfrm>
            <a:off x="5214960" y="214200"/>
            <a:ext cx="3265560" cy="31672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medal1.jpg"/>
          <p:cNvPicPr/>
          <p:nvPr/>
        </p:nvPicPr>
        <p:blipFill>
          <a:blip r:embed="rId4"/>
          <a:stretch/>
        </p:blipFill>
        <p:spPr>
          <a:xfrm>
            <a:off x="5357880" y="3500280"/>
            <a:ext cx="3119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0_ccd27_42c2db74_M.jpg"/>
          <p:cNvPicPr/>
          <p:nvPr/>
        </p:nvPicPr>
        <p:blipFill>
          <a:blip r:embed="rId1"/>
          <a:srcRect l="2494" t="3548" r="2494" b="44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14800" y="213840"/>
            <a:ext cx="528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b050"/>
                </a:solidFill>
                <a:latin typeface="Calibri"/>
              </a:rPr>
              <a:t>Ислам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00040" y="1356840"/>
            <a:ext cx="8429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рак – это обязательств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ед Бого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 многочисленное потомство – знак божьего благословения. Огромное значение в исламе  придается  почитанию родителей, уважительному  к ним отношению. С особым уважением мусульмане относятся к женщин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4" descr="images (5).jpg"/>
          <p:cNvPicPr/>
          <p:nvPr/>
        </p:nvPicPr>
        <p:blipFill>
          <a:blip r:embed="rId2"/>
          <a:srcRect l="0" t="0" r="7108" b="-638"/>
          <a:stretch/>
        </p:blipFill>
        <p:spPr>
          <a:xfrm>
            <a:off x="142920" y="142920"/>
            <a:ext cx="23637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0_ccd27_42c2db74_M.jpg"/>
          <p:cNvPicPr/>
          <p:nvPr/>
        </p:nvPicPr>
        <p:blipFill>
          <a:blip r:embed="rId1"/>
          <a:srcRect l="2494" t="3548" r="2494" b="44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6292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«Рай находится под ногами наших матерей» </a:t>
            </a:r>
            <a:br>
              <a:rPr sz="54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Пророк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Мухаммад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7" descr="darbinjan_serjozha_na_8_marta_mami_moej_glaza.jpg"/>
          <p:cNvPicPr/>
          <p:nvPr/>
        </p:nvPicPr>
        <p:blipFill>
          <a:blip r:embed="rId2"/>
          <a:srcRect l="13389" t="1317" r="7758" b="1317"/>
          <a:stretch/>
        </p:blipFill>
        <p:spPr>
          <a:xfrm>
            <a:off x="133200" y="2924280"/>
            <a:ext cx="4446720" cy="3600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d6bab941-21e5-11e4-a63d-001999e10e06_afbabe57-2539-11e4-b832-001999e10e06.jpeg"/>
          <p:cNvPicPr/>
          <p:nvPr/>
        </p:nvPicPr>
        <p:blipFill>
          <a:blip r:embed="rId3"/>
          <a:srcRect l="4641" t="9539" r="6153" b="15927"/>
          <a:stretch/>
        </p:blipFill>
        <p:spPr>
          <a:xfrm>
            <a:off x="4836960" y="3933720"/>
            <a:ext cx="4127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0_ccd27_42c2db74_M.jpg"/>
          <p:cNvPicPr/>
          <p:nvPr/>
        </p:nvPicPr>
        <p:blipFill>
          <a:blip r:embed="rId1"/>
          <a:srcRect l="2494" t="3548" r="2494" b="44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99920" y="285480"/>
            <a:ext cx="5100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7030a0"/>
                </a:solidFill>
                <a:latin typeface="Calibri"/>
              </a:rPr>
              <a:t>Иудаиз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56800" y="1714320"/>
            <a:ext cx="8001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мья- это величайша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нность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иудаизме брак и рождение детей одна из главнейших заповедей. В заповедях, полученных Моисеем от Бога на горе Синай, говорится, что надо чтить отца и мать свою,  сохранять верность в брак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4" descr="images (7).jpg"/>
          <p:cNvPicPr/>
          <p:nvPr/>
        </p:nvPicPr>
        <p:blipFill>
          <a:blip r:embed="rId2"/>
          <a:stretch/>
        </p:blipFill>
        <p:spPr>
          <a:xfrm>
            <a:off x="214200" y="214200"/>
            <a:ext cx="26434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0_ccd27_42c2db74_M.jpg"/>
          <p:cNvPicPr/>
          <p:nvPr/>
        </p:nvPicPr>
        <p:blipFill>
          <a:blip r:embed="rId1"/>
          <a:srcRect l="2494" t="3548" r="2494" b="44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57720" y="285840"/>
            <a:ext cx="51717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Calibri"/>
              </a:rPr>
              <a:t>Буддизм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28440" y="135720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Семья – одна из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Важнейших ценностей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Брак заключается не только для счастья двоих, но и ради интересов общины. Одно из главных назначений семьи- это ответственность и забота о детях, о родителях, о монахах. Материнская любовь воспринимается в буддизме как идеал человеческих взаимоотношений</a:t>
            </a:r>
            <a:r>
              <a:rPr b="0" lang="ru-RU" sz="34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4" descr="скачанные файлы (3).jpg"/>
          <p:cNvPicPr/>
          <p:nvPr/>
        </p:nvPicPr>
        <p:blipFill>
          <a:blip r:embed="rId2"/>
          <a:stretch/>
        </p:blipFill>
        <p:spPr>
          <a:xfrm>
            <a:off x="214200" y="14292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0_ccd27_42c2db74_M.jpg"/>
          <p:cNvPicPr/>
          <p:nvPr/>
        </p:nvPicPr>
        <p:blipFill>
          <a:blip r:embed="rId1"/>
          <a:srcRect l="2494" t="4011" r="2494" b="40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85880" y="1429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Пословицы о семье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2560" y="642600"/>
            <a:ext cx="87152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</a:rPr>
              <a:t>На что и клад , коли в семье лад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b050"/>
                </a:solidFill>
                <a:latin typeface="Calibri"/>
              </a:rPr>
              <a:t>В семье и каша гуще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В недружной семье добро не бывает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Calibri"/>
              </a:rPr>
              <a:t>Когда семья вместе, так и душа на месте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604a7b"/>
                </a:solidFill>
                <a:latin typeface="Calibri"/>
              </a:rPr>
              <a:t>Дом согревает не печь, а любовь и согласие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70c0"/>
                </a:solidFill>
                <a:latin typeface="Calibri"/>
              </a:rPr>
              <a:t>Кто родителей почитает, тот навеки не погибает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</a:rPr>
              <a:t>Не будет в семье добра, коли в семье вражда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77933c"/>
                </a:solidFill>
                <a:latin typeface="Calibri"/>
              </a:rPr>
              <a:t>В семье разлад, так и дому не рад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0_ccd27_42c2db74_M.jpg"/>
          <p:cNvPicPr/>
          <p:nvPr/>
        </p:nvPicPr>
        <p:blipFill>
          <a:blip r:embed="rId1"/>
          <a:srcRect l="2494" t="3726" r="2494" b="42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Calibri"/>
              </a:rPr>
              <a:t>Фишбоу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Равнобедренный треугольник 5"/>
          <p:cNvSpPr/>
          <p:nvPr/>
        </p:nvSpPr>
        <p:spPr>
          <a:xfrm rot="16200000">
            <a:off x="-482400" y="1911240"/>
            <a:ext cx="4214880" cy="2820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357200" y="2357280"/>
            <a:ext cx="1928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ностях основывается семья в традиционных религ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8"/>
          <p:cNvSpPr/>
          <p:nvPr/>
        </p:nvSpPr>
        <p:spPr>
          <a:xfrm>
            <a:off x="3000240" y="3214800"/>
            <a:ext cx="4071960" cy="1440"/>
          </a:xfrm>
          <a:prstGeom prst="line">
            <a:avLst/>
          </a:prstGeom>
          <a:ln w="7632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0"/>
          <p:cNvSpPr/>
          <p:nvPr/>
        </p:nvSpPr>
        <p:spPr>
          <a:xfrm flipV="1">
            <a:off x="3142440" y="1785600"/>
            <a:ext cx="1143000" cy="1428840"/>
          </a:xfrm>
          <a:prstGeom prst="line">
            <a:avLst/>
          </a:prstGeom>
          <a:ln w="7632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1"/>
          <p:cNvSpPr/>
          <p:nvPr/>
        </p:nvSpPr>
        <p:spPr>
          <a:xfrm flipV="1">
            <a:off x="4214160" y="1714680"/>
            <a:ext cx="1143000" cy="1428480"/>
          </a:xfrm>
          <a:prstGeom prst="line">
            <a:avLst/>
          </a:prstGeom>
          <a:ln w="7632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2"/>
          <p:cNvSpPr/>
          <p:nvPr/>
        </p:nvSpPr>
        <p:spPr>
          <a:xfrm flipV="1">
            <a:off x="5357160" y="1714680"/>
            <a:ext cx="1143000" cy="1428480"/>
          </a:xfrm>
          <a:prstGeom prst="line">
            <a:avLst/>
          </a:prstGeom>
          <a:ln w="7632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3"/>
          <p:cNvSpPr/>
          <p:nvPr/>
        </p:nvSpPr>
        <p:spPr>
          <a:xfrm flipV="1">
            <a:off x="6428520" y="1714680"/>
            <a:ext cx="1143000" cy="1428480"/>
          </a:xfrm>
          <a:prstGeom prst="line">
            <a:avLst/>
          </a:prstGeom>
          <a:ln w="7632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5"/>
          <p:cNvSpPr/>
          <p:nvPr/>
        </p:nvSpPr>
        <p:spPr>
          <a:xfrm>
            <a:off x="3143160" y="3214800"/>
            <a:ext cx="1000080" cy="1500120"/>
          </a:xfrm>
          <a:prstGeom prst="line">
            <a:avLst/>
          </a:prstGeom>
          <a:ln w="7632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6"/>
          <p:cNvSpPr/>
          <p:nvPr/>
        </p:nvSpPr>
        <p:spPr>
          <a:xfrm>
            <a:off x="4214880" y="3214800"/>
            <a:ext cx="1000080" cy="1500120"/>
          </a:xfrm>
          <a:prstGeom prst="line">
            <a:avLst/>
          </a:prstGeom>
          <a:ln w="7632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7"/>
          <p:cNvSpPr/>
          <p:nvPr/>
        </p:nvSpPr>
        <p:spPr>
          <a:xfrm>
            <a:off x="5357880" y="3214800"/>
            <a:ext cx="1000080" cy="1500120"/>
          </a:xfrm>
          <a:prstGeom prst="line">
            <a:avLst/>
          </a:prstGeom>
          <a:ln w="7632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8"/>
          <p:cNvSpPr/>
          <p:nvPr/>
        </p:nvSpPr>
        <p:spPr>
          <a:xfrm>
            <a:off x="6428520" y="3214800"/>
            <a:ext cx="1000440" cy="1500120"/>
          </a:xfrm>
          <a:prstGeom prst="line">
            <a:avLst/>
          </a:prstGeom>
          <a:ln w="7632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Равнобедренный треугольник 19"/>
          <p:cNvSpPr/>
          <p:nvPr/>
        </p:nvSpPr>
        <p:spPr>
          <a:xfrm rot="16200000">
            <a:off x="6643440" y="2285280"/>
            <a:ext cx="2786040" cy="1928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4" descr="0_ccd27_42c2db74_M.jpg"/>
          <p:cNvPicPr/>
          <p:nvPr/>
        </p:nvPicPr>
        <p:blipFill>
          <a:blip r:embed="rId1"/>
          <a:srcRect l="2494" t="3548" r="2494" b="4475"/>
          <a:stretch/>
        </p:blipFill>
        <p:spPr>
          <a:xfrm>
            <a:off x="0" y="0"/>
            <a:ext cx="90835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5840" y="35712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к бы ни жил человек, ему все равно требуется семья... Семью не заменишь ни деньгами, ни карьерой, ни друзьями.... Семья — как элемент пазла: найдешь недостающий кусочек, и картинка жизни сложится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2714760" y="5143680"/>
            <a:ext cx="350028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0_ccd27_42c2db74_M.jpg"/>
          <p:cNvPicPr/>
          <p:nvPr/>
        </p:nvPicPr>
        <p:blipFill>
          <a:blip r:embed="rId1"/>
          <a:srcRect l="2331" t="4172" r="2734" b="3120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Каждое маленькое открытие ведет тебя на вершину знаний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0_ccd27_42c2db74_M.jpg"/>
          <p:cNvPicPr/>
          <p:nvPr/>
        </p:nvPicPr>
        <p:blipFill>
          <a:blip r:embed="rId1"/>
          <a:srcRect l="2494" t="4011" r="5001" b="401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" descr="Pazly-1.jpg"/>
          <p:cNvPicPr/>
          <p:nvPr/>
        </p:nvPicPr>
        <p:blipFill>
          <a:blip r:embed="rId2"/>
          <a:srcRect l="5536" t="1250" r="2582" b="3442"/>
          <a:stretch/>
        </p:blipFill>
        <p:spPr>
          <a:xfrm>
            <a:off x="714240" y="142920"/>
            <a:ext cx="75726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3" descr="0_ccd27_42c2db74_M.jpg"/>
          <p:cNvPicPr/>
          <p:nvPr/>
        </p:nvPicPr>
        <p:blipFill>
          <a:blip r:embed="rId1"/>
          <a:srcRect l="2494" t="3726" r="2494" b="42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Calibri"/>
              </a:rPr>
              <a:t>РЕФЛЕКС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7120" y="1499760"/>
            <a:ext cx="8137440" cy="44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0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апа и мама для меня самые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Calibri"/>
              </a:rPr>
              <a:t>Я доверяю свои тайны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7933c"/>
                </a:solidFill>
                <a:latin typeface="Calibri"/>
              </a:rPr>
              <a:t>Я люблю свою бабушку за 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Calibri"/>
              </a:rPr>
              <a:t>Свою семью я считаю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Родным хочу пожелать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одержимое 3" descr="0_ccd27_42c2db74_M.jpg"/>
          <p:cNvPicPr/>
          <p:nvPr/>
        </p:nvPicPr>
        <p:blipFill>
          <a:blip r:embed="rId1"/>
          <a:srcRect l="2494" t="3726" r="2494" b="4279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28760" y="500040"/>
            <a:ext cx="8215200" cy="350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Calibri"/>
              </a:rPr>
              <a:t>Любая дорога начинается с первых шагов, здание с фундамента, а человек становится человеком только в 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семь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Documents and Settings\lenovo\Рабочий стол\Семья фото\Фотографии\mpj040964100001.jpg"/>
          <p:cNvPicPr/>
          <p:nvPr/>
        </p:nvPicPr>
        <p:blipFill>
          <a:blip r:embed="rId2"/>
          <a:stretch/>
        </p:blipFill>
        <p:spPr>
          <a:xfrm>
            <a:off x="3071880" y="400068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Содержимое 3" descr="0_ccd27_42c2db74_M.jpg"/>
          <p:cNvPicPr/>
          <p:nvPr/>
        </p:nvPicPr>
        <p:blipFill>
          <a:blip r:embed="rId1"/>
          <a:srcRect l="2494" t="3726" r="2494" b="4279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28760" y="213840"/>
            <a:ext cx="821520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1 уровень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-  Придумать эмблему своей семь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b050"/>
                </a:solidFill>
                <a:latin typeface="Calibri"/>
              </a:rPr>
              <a:t>2 уровень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-  Создать заповеди своей семь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3 уровень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- Составить устный рассказ о фамилии своей семьи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://cs21.babysfera.ru/2/a/f/0/83004728.m.jpeg"/>
          <p:cNvPicPr/>
          <p:nvPr/>
        </p:nvPicPr>
        <p:blipFill>
          <a:blip r:embed="rId2"/>
          <a:srcRect l="4167" t="1839" r="2083" b="6250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25" name="Содержимое 2"/>
          <p:cNvSpPr/>
          <p:nvPr/>
        </p:nvSpPr>
        <p:spPr>
          <a:xfrm>
            <a:off x="2858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за урок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0_ccd27_42c2db74_M.jpg"/>
          <p:cNvPicPr/>
          <p:nvPr/>
        </p:nvPicPr>
        <p:blipFill>
          <a:blip r:embed="rId1"/>
          <a:srcRect l="2331" t="3120" r="2154" b="41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скачанные файлы.jpg"/>
          <p:cNvPicPr/>
          <p:nvPr/>
        </p:nvPicPr>
        <p:blipFill>
          <a:blip r:embed="rId2"/>
          <a:stretch/>
        </p:blipFill>
        <p:spPr>
          <a:xfrm>
            <a:off x="873000" y="785880"/>
            <a:ext cx="73551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6" descr="0_ccd27_42c2db74_M.jpg"/>
          <p:cNvPicPr/>
          <p:nvPr/>
        </p:nvPicPr>
        <p:blipFill>
          <a:blip r:embed="rId1"/>
          <a:srcRect l="3112" t="3120" r="2154" b="31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1214280" y="1143000"/>
            <a:ext cx="6572520" cy="399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2428920" y="5214960"/>
            <a:ext cx="400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omic Sans MS"/>
              </a:rPr>
              <a:t>СЕМЬ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f497d"/>
                </a:solidFill>
                <a:latin typeface="Calibri"/>
              </a:rPr>
              <a:t>Разгадайте ребу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0_ccd27_42c2db74_M.jpg"/>
          <p:cNvPicPr/>
          <p:nvPr/>
        </p:nvPicPr>
        <p:blipFill>
          <a:blip r:embed="rId1"/>
          <a:srcRect l="2331" t="3120" r="2154" b="3120"/>
          <a:stretch/>
        </p:blipFill>
        <p:spPr>
          <a:xfrm>
            <a:off x="19080" y="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0" y="1428840"/>
            <a:ext cx="9043920" cy="5214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714240" y="0"/>
            <a:ext cx="792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Подберите слова – ассоциации к слову СЕМ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0_ccd27_42c2db74_M.jpg"/>
          <p:cNvPicPr/>
          <p:nvPr/>
        </p:nvPicPr>
        <p:blipFill>
          <a:blip r:embed="rId1"/>
          <a:srcRect l="2494" t="4011" r="2494" b="40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428760" y="285840"/>
            <a:ext cx="8286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Как вы думаете, на какие вопросы нам предстоит ответить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500120" y="3159000"/>
            <a:ext cx="55720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0_ccd27_42c2db74_M.jpg"/>
          <p:cNvPicPr/>
          <p:nvPr/>
        </p:nvPicPr>
        <p:blipFill>
          <a:blip r:embed="rId1"/>
          <a:srcRect l="2494" t="4011" r="2494" b="40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395280" y="183960"/>
            <a:ext cx="849780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1. Уточним, что такое сем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2. Узнаем, как религии мира относятся к семье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3. Попробуем разобраться, какая она, счастливая семья, и что  мы можем сделать для сохранения  своей семь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0_ccd27_42c2db74_M.jpg"/>
          <p:cNvPicPr/>
          <p:nvPr/>
        </p:nvPicPr>
        <p:blipFill>
          <a:blip r:embed="rId1"/>
          <a:srcRect l="2494" t="4011" r="2494" b="40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142920" y="285840"/>
            <a:ext cx="8929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  <a:ea typeface="Times New Roman"/>
              </a:rPr>
              <a:t>СЕМЬЯ</a:t>
            </a:r>
            <a:r>
              <a:rPr b="1" i="1" lang="ru-RU" sz="6000" spc="-1" strike="noStrike">
                <a:solidFill>
                  <a:srgbClr val="7030a0"/>
                </a:solidFill>
                <a:latin typeface="Calibri"/>
                <a:ea typeface="Times New Roman"/>
              </a:rPr>
              <a:t>- </a:t>
            </a:r>
            <a:r>
              <a:rPr b="1" i="1" lang="ru-RU" sz="5400" spc="-1" strike="noStrike">
                <a:solidFill>
                  <a:srgbClr val="7030a0"/>
                </a:solidFill>
                <a:latin typeface="Calibri"/>
                <a:ea typeface="Times New Roman"/>
              </a:rPr>
              <a:t>группа людей, состоящая из родителей, детей, внуков и ближних родственников, живущих вмес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428920" y="4643280"/>
            <a:ext cx="364320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0_ccd27_42c2db74_M.jpg"/>
          <p:cNvPicPr/>
          <p:nvPr/>
        </p:nvPicPr>
        <p:blipFill>
          <a:blip r:embed="rId1"/>
          <a:srcRect l="2494" t="4011" r="2494" b="40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1404813119_ltym-ctvmb.jpg"/>
          <p:cNvPicPr/>
          <p:nvPr/>
        </p:nvPicPr>
        <p:blipFill>
          <a:blip r:embed="rId2"/>
          <a:stretch/>
        </p:blipFill>
        <p:spPr>
          <a:xfrm>
            <a:off x="324000" y="152280"/>
            <a:ext cx="8624880" cy="650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SPecialiST</cp:lastModifiedBy>
  <dcterms:modified xsi:type="dcterms:W3CDTF">2017-01-14T18:05:07Z</dcterms:modified>
  <cp:revision>135</cp:revision>
  <dc:subject/>
  <dc:title>30 ноября 2011 г.  Урок по теме:</dc:title>
</cp:coreProperties>
</file>