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0.png" ContentType="image/pn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755AA-10BE-4D7C-86A5-B9326D19F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8AE04-C3DA-445D-970F-464F9081E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3C091-E314-403E-BF4F-B3CEC41C2C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B5BAB5-A251-4BD3-825A-75737029F5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C9543A-3654-4EC9-8D16-59563199B5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0DC895-404A-42C6-A4E3-2DCCD1DA3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17351C-0FF5-4952-87A3-BF00B4E0F1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1E4F8D-5532-4095-869B-02885EAA6A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B88FF6-F9A2-4BF0-9B45-E303CF8CE3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EC22BA-B19B-4E1A-8C3E-2BFA1661F0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B9E21E-6FDB-45FD-A5CE-E1103F2E4E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DF93E2E-BDF1-4868-A806-C113EC2EBF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3C10C-9C86-45E3-A990-24BF55D3A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5EA925-67E6-4938-858C-0F68260728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2E21D8-1113-4D54-A6CB-BD29746A1A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5D1B79-67C7-4433-9474-034F8A78F5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F9CDE4-C693-45A5-B081-FBC9DE02E4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721025-ADCA-4BB4-A125-59FB3731B2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B9DF0E-061B-406A-B764-DEE73E9697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5D2F7D-3BC2-4F14-A249-7F5587EC61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48928D-E27E-42E2-915C-B2B1489277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3E7541-B88C-471D-AF50-F40B025595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BAFB7A3-54E0-4328-9CF9-6A8FB027AB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98E24-4DA1-4A3B-BAF1-AA41CAAC8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BC18AF-32E0-4749-BE15-5BE71A3C68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E13060-58DE-41A5-963E-8F432942FF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6EC6E6-42A5-4E83-B236-9BCDDECCF4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69DEC3-C910-4F82-AB1A-F38998CD3D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329B5B-7EDB-460B-AE24-547D6406D1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3A0403-9235-4CF3-BA32-7162DFD506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24B459-640F-48A8-ABAE-604116C8AA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81ED08-A249-4880-8511-99491D449E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84954A-21E8-4295-A95A-0205FFA645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991960-7C99-4669-A47A-18CEC0D289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5601AF-4E98-47C5-BAEF-A7CBBAE9FF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06E92D-2F18-4824-BC13-B145A7A87E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E02110-DCD1-43CA-82A0-43789D94A4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7FE32B-B1F5-4AA4-9804-3BF5BBEDE2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F40BB3-9646-40BC-984F-FC801539DC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AB4919-0095-4888-B5B2-AF681240F1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2035AE-64D3-41CF-8194-2C55ADB8F4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EEF879-E75B-444A-95B1-C806D37D37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7FA74A-5CD6-46D2-B69A-07F496675E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60CD1E-0204-4196-8D3C-CE39299526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AA8977-9C8D-49C7-8611-2AE9180195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1CE9DB-1C85-499F-978B-CFF7C72C06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94586F-4555-426F-A2D0-6FB137FACE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04DE64-D63D-4E8B-BEDA-172E372E69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D6EBEF-5085-4198-88AE-F6EB7A0F6D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7ECA4A-FFBB-4283-BD6C-788AC1148B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E9E9EE-340B-4150-92C1-0411F767F61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953E25E-ED7E-48A6-9B77-8F55C53CCF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2C1FD4-302D-49B0-B233-DCDD30AE38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38D0DA-B7F0-47FC-8E85-3C1EBB5DBA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6EA467-BFDD-4B21-B11E-CB5B5B1712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C8E5B2-C3CD-4DA5-AF3E-725EB285DD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40BDB-9EF8-48D5-99B7-EB2CF31810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49E0E47-1E45-4416-BD62-09C6D32250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3997F7-0132-4510-B297-5624DE83F1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5E84F3-B780-4315-B85D-0C2C2447ED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3E642F-D8B1-4B6B-9351-BD579BA84A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6A2AA9-89BA-4D06-AAD5-A14BE70E27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67BA5D2-1407-46DF-B53E-025CC2BADCB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C563E86-98F8-4E11-95A0-D4A9AC7AA52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01C02-9484-4EFB-8616-1045F6776B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4EC85-8C0B-49FC-8DEC-0D7FDA00BD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673492-2BB5-4D62-9658-363F7D30C4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D0210-AEB7-4EF6-8E67-08695C9C4F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F195-2D2A-4823-9CE3-49120B9B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E807F-3C8E-43A3-80C0-C7BD0CC518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37EF0-1194-4919-85AB-4B9120B627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192576-4025-4D51-9C9F-D9360F7A08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FB4E37-9D2F-4244-AA11-C8D27AEC7FB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D8C501-059E-48DE-9F1B-727C4EDED2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FA0539-86C6-4483-A34E-60FF4E7943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56F7E-D099-4261-B6F1-A163B2DA8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30F28-6291-4861-BDA1-A2F29DE8A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C431D-745C-4620-BF2F-AAFED7BE8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46B62-6560-4BCC-AAF4-93B660B10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C38D9-DBD7-488C-A5FD-E863F8602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BB1B2-510B-460F-B28C-AA349B529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50C0E-AED3-4640-BD07-2598FCBD0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6A0DDA-470F-436A-9729-282A09927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219BB-B966-4B66-9DB2-0F95E9EBE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C64EA8-A674-4D5C-BD48-326C7EECF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F741F-149E-4434-8375-3AB8A0A12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70CBAA-EB22-48DE-BC86-E70D39B98E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4C1EF3-FFAF-4501-BEE0-F84620C41C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3E7F88-3975-49C1-916B-1D5E7BBD6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1D03F-C9F7-4D2E-A627-4F145FC06D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9D1AF-DE93-4811-9C96-938D15B0D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8C006-E502-49D7-A7EA-BCD01AA5C1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B9E770-A720-4FDC-B374-476C772DD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C579F9-1AA6-481A-B5AD-3DF9979E8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85E39-DDE7-46A9-88DA-44058DE36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D559C-72AC-4026-94D8-CEDEF8F69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3771E-AF9B-4C4F-A74E-1DE086E6A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480307-C6C9-4F92-822D-DBBA0528F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CF71E8-FFFF-459A-A1FF-8F6F0C0249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3F551-0135-4C90-9E10-F2985E8E8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3D5A55-4EAE-423F-856F-BC90B3040A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110F8-85F1-46BA-93DB-77C212CFB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789113-154B-4258-A679-7ACB8035F6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7DE044-98CE-43D6-A03C-389C8D2F0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BE0975-4156-4C60-AFA8-472F3F804B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61D0E-71D8-429B-A8F2-98CE9A522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A73C29-FA94-4B96-8FC7-80A12B13CE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CC57B-55CA-4A26-9F99-6E9DDB476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826E5-6046-4D2F-902E-BC44424A4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95D9CF-288A-41C7-9FFE-7593ACEA4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81360-DB46-4CB5-B8AC-3CF010864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9C7A88-2E98-4FE8-8AE7-84CCA7BF3A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41C9-4658-45C5-A45E-B7EC4E93C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7F6F82-8B08-4925-8A16-5D4FA12309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30274-4478-45E5-AC29-DEF79FC87E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562D01-CAC5-4EBC-BBDE-3903B602C4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B0D0B1-0961-465A-A045-824487E1D7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EE2B6F-C0BB-4314-8CAE-1A40742938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2BFC2-8293-4D18-8CE9-AE9217074F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90BA6-B08B-444C-A8FD-26ADD152C6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91F5D-A077-4652-A813-794B85EEB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A0A37-A60F-4334-9AD4-02347AC13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02CAE-2A9B-41EE-9B4C-8BC45DD84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4F2DD-FDD1-4163-9E22-838D7C637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EAD64-B0FD-4DE2-903A-21580EEEB9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4079AF-8ABB-44FF-8411-552DD09325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FDE79A-7816-4499-A961-F2EC051EFA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654CFA-3B3A-4A7E-BFDA-C2E3445236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9A0254-330A-4A79-8306-6768AF9AD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970CE-5A77-45F1-9445-5FE570118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9552B-775A-4B8F-9443-17DEC71B95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A3DAA-281C-45AC-A847-CFBB66C20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56F307-1D64-4B6D-BF6F-EE4A25DC79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34ED86-3B50-403A-AFE1-EEA95BE5F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658E-B9A2-4E86-AAE3-01D42C0A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C70B36-0136-40E6-9F5C-B27BA8DDB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93AA0-34AA-44F5-8B7D-DAC270838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83822D-9EBC-4E47-A12A-230F62F53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D594EE-B0BC-412E-9BF0-2C1869F23B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FC3ADA-EB62-42D7-A847-C1D11B78D6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3DB3BF-7250-4117-8284-3955A15988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97276-B27E-4253-9BAD-F680AB48CC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28DDA-78B0-4BD2-A722-72E307A75F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CA123-CA66-42A4-918C-F0F8B27392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5B3F2-72A7-4894-B5B5-D209E5ED6B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C0D38-04F2-4843-AEFD-28F443D3A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51DEB7-5284-403A-8FB9-D71AECFFB6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4A79C0-5EA6-415B-AA98-AF1D4EED5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01A0C-23AA-43EA-AED6-C5E57DAFC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749CF-8FE6-46B8-914A-F0C8620F6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B83127-FEB9-445C-A820-7D02A6D8F7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79D181-7064-4D84-8CA3-F575A83D39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785A54-B185-452E-BEAF-5282A17196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711091-291E-4C01-8684-F9BC2C8640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570908-1970-471E-80E4-1C48254FCF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57FDBC-942F-4F2A-BCE2-8A0577ECC5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0ACC-20F3-45AF-BA71-658C02E9D8B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7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B93A-59F7-4E6F-826E-EADD428DF68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1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176A-B73B-4CD9-A806-E011F8B581E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75E9-82B5-4386-A816-47763839DE1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9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D62E-B207-4B8A-84D6-F86E05E65AFE}"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D931-98ED-4435-AFB0-7CA51E4556A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8314-339A-4340-8511-A1C76353C3F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6621-0BDA-4A8E-B7B5-23BC0718A3E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46D9-1E99-44C9-8569-7B5C3299E45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BB07-A270-4888-BB93-7942B191275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729F-6839-4457-9B5A-C6059C42D06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AEA6-700F-473E-9129-FF1CBC4146C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F311-775F-4CEB-AE8F-1AA21678DAB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11" descr="n"/>
          <p:cNvPicPr/>
          <p:nvPr/>
        </p:nvPicPr>
        <p:blipFill>
          <a:blip r:embed="rId1"/>
          <a:srcRect l="0" t="0" r="0" b="7293"/>
          <a:stretch/>
        </p:blipFill>
        <p:spPr>
          <a:xfrm>
            <a:off x="0" y="0"/>
            <a:ext cx="9144000" cy="7000920"/>
          </a:xfrm>
          <a:prstGeom prst="rect">
            <a:avLst/>
          </a:prstGeom>
          <a:ln w="0">
            <a:noFill/>
          </a:ln>
        </p:spPr>
      </p:pic>
      <p:sp>
        <p:nvSpPr>
          <p:cNvPr id="535" name="PlaceHolder 1"/>
          <p:cNvSpPr>
            <a:spLocks noGrp="1"/>
          </p:cNvSpPr>
          <p:nvPr>
            <p:ph type="title"/>
          </p:nvPr>
        </p:nvSpPr>
        <p:spPr>
          <a:xfrm>
            <a:off x="826920" y="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onehenge</a:t>
            </a:r>
            <a:endParaRPr b="0" lang="en-US" sz="4400" spc="-1" strike="noStrike">
              <a:solidFill>
                <a:srgbClr val="ffffff"/>
              </a:solidFill>
              <a:latin typeface="Tahoma"/>
            </a:endParaRPr>
          </a:p>
        </p:txBody>
      </p:sp>
      <p:sp>
        <p:nvSpPr>
          <p:cNvPr id="536" name="PlaceHolder 2"/>
          <p:cNvSpPr>
            <a:spLocks noGrp="1"/>
          </p:cNvSpPr>
          <p:nvPr>
            <p:ph type="subTitle"/>
          </p:nvPr>
        </p:nvSpPr>
        <p:spPr>
          <a:xfrm>
            <a:off x="0" y="1916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Stonehenge, one of the great Seven Wonders </a:t>
            </a:r>
            <a:r>
              <a:rPr b="0" lang="en-US" sz="3200" spc="-1" strike="noStrike">
                <a:solidFill>
                  <a:srgbClr val="010199"/>
                </a:solidFill>
                <a:latin typeface="Tahoma"/>
              </a:rPr>
              <a:t>of</a:t>
            </a:r>
            <a:r>
              <a:rPr b="1" lang="en-US" sz="3200" spc="-1" strike="noStrike">
                <a:solidFill>
                  <a:srgbClr val="010199"/>
                </a:solidFill>
                <a:latin typeface="Tahoma"/>
              </a:rPr>
              <a:t> the World</a:t>
            </a:r>
            <a:endParaRPr b="0" lang="en-US" sz="3200" spc="-1" strike="noStrike">
              <a:solidFill>
                <a:srgbClr val="ffffff"/>
              </a:solidFill>
              <a:latin typeface="Tahoma"/>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Thanks for attention</a:t>
            </a:r>
            <a:endParaRPr b="0" lang="en-US" sz="4400" spc="-1" strike="noStrike">
              <a:solidFill>
                <a:srgbClr val="ffffff"/>
              </a:solidFill>
              <a:latin typeface="Tahoma"/>
            </a:endParaRPr>
          </a:p>
        </p:txBody>
      </p:sp>
      <p:pic>
        <p:nvPicPr>
          <p:cNvPr id="571" name="Picture 4" descr="Stonehenge"/>
          <p:cNvPicPr/>
          <p:nvPr/>
        </p:nvPicPr>
        <p:blipFill>
          <a:blip r:embed="rId1"/>
          <a:stretch/>
        </p:blipFill>
        <p:spPr>
          <a:xfrm>
            <a:off x="1835280" y="1916280"/>
            <a:ext cx="5832360" cy="4028760"/>
          </a:xfrm>
          <a:prstGeom prst="rect">
            <a:avLst/>
          </a:prstGeom>
          <a:ln w="0">
            <a:noFill/>
          </a:ln>
        </p:spPr>
      </p:pic>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at Britain</a:t>
            </a:r>
            <a:endParaRPr b="0" lang="en-US" sz="4400" spc="-1" strike="noStrike">
              <a:solidFill>
                <a:srgbClr val="ffffff"/>
              </a:solidFill>
              <a:latin typeface="Tahoma"/>
            </a:endParaRPr>
          </a:p>
        </p:txBody>
      </p:sp>
      <p:pic>
        <p:nvPicPr>
          <p:cNvPr id="538" name="Picture 7" descr="великобритания1"/>
          <p:cNvPicPr/>
          <p:nvPr/>
        </p:nvPicPr>
        <p:blipFill>
          <a:blip r:embed="rId1"/>
          <a:stretch/>
        </p:blipFill>
        <p:spPr>
          <a:xfrm>
            <a:off x="457200" y="2448000"/>
            <a:ext cx="4038480" cy="3029040"/>
          </a:xfrm>
          <a:prstGeom prst="rect">
            <a:avLst/>
          </a:prstGeom>
          <a:ln w="0">
            <a:noFill/>
          </a:ln>
        </p:spPr>
      </p:pic>
      <p:pic>
        <p:nvPicPr>
          <p:cNvPr id="539" name="Picture 8" descr="великобритания"/>
          <p:cNvPicPr/>
          <p:nvPr/>
        </p:nvPicPr>
        <p:blipFill>
          <a:blip r:embed="rId2"/>
          <a:stretch/>
        </p:blipFill>
        <p:spPr>
          <a:xfrm>
            <a:off x="5183280" y="1905120"/>
            <a:ext cx="2968560" cy="1981080"/>
          </a:xfrm>
          <a:prstGeom prst="rect">
            <a:avLst/>
          </a:prstGeom>
          <a:ln w="0">
            <a:noFill/>
          </a:ln>
        </p:spPr>
      </p:pic>
      <p:pic>
        <p:nvPicPr>
          <p:cNvPr id="540" name="Picture 13" descr="великобритания2"/>
          <p:cNvPicPr/>
          <p:nvPr/>
        </p:nvPicPr>
        <p:blipFill>
          <a:blip r:embed="rId3"/>
          <a:stretch/>
        </p:blipFill>
        <p:spPr>
          <a:xfrm>
            <a:off x="7236000" y="4653000"/>
            <a:ext cx="1485720" cy="1981080"/>
          </a:xfrm>
          <a:prstGeom prst="rect">
            <a:avLst/>
          </a:prstGeom>
          <a:ln w="0">
            <a:noFill/>
          </a:ln>
        </p:spPr>
      </p:pic>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542" name="PlaceHolder 2"/>
          <p:cNvSpPr>
            <a:spLocks noGrp="1"/>
          </p:cNvSpPr>
          <p:nvPr>
            <p:ph type="subTitle"/>
          </p:nvPr>
        </p:nvSpPr>
        <p:spPr>
          <a:xfrm>
            <a:off x="1476360" y="170028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543" name="Picture 9" descr="Безымянныйgfg"/>
          <p:cNvPicPr/>
          <p:nvPr/>
        </p:nvPicPr>
        <p:blipFill>
          <a:blip r:embed="rId1"/>
          <a:stretch/>
        </p:blipFill>
        <p:spPr>
          <a:xfrm>
            <a:off x="0" y="706320"/>
            <a:ext cx="4643280" cy="2703600"/>
          </a:xfrm>
          <a:prstGeom prst="rect">
            <a:avLst/>
          </a:prstGeom>
          <a:ln w="0">
            <a:noFill/>
          </a:ln>
        </p:spPr>
      </p:pic>
      <p:pic>
        <p:nvPicPr>
          <p:cNvPr id="544" name="Picture 11" descr="hjjjjjjjjjjjj"/>
          <p:cNvPicPr/>
          <p:nvPr/>
        </p:nvPicPr>
        <p:blipFill>
          <a:blip r:embed="rId2"/>
          <a:stretch/>
        </p:blipFill>
        <p:spPr>
          <a:xfrm>
            <a:off x="4788000" y="619200"/>
            <a:ext cx="4356000" cy="3267000"/>
          </a:xfrm>
          <a:prstGeom prst="rect">
            <a:avLst/>
          </a:prstGeom>
          <a:ln w="0">
            <a:noFill/>
          </a:ln>
        </p:spPr>
      </p:pic>
      <p:pic>
        <p:nvPicPr>
          <p:cNvPr id="545" name="Picture 12" descr="hgj"/>
          <p:cNvPicPr/>
          <p:nvPr/>
        </p:nvPicPr>
        <p:blipFill>
          <a:blip r:embed="rId3"/>
          <a:stretch/>
        </p:blipFill>
        <p:spPr>
          <a:xfrm>
            <a:off x="0" y="4038480"/>
            <a:ext cx="4572000" cy="2543400"/>
          </a:xfrm>
          <a:prstGeom prst="rect">
            <a:avLst/>
          </a:prstGeom>
          <a:ln w="0">
            <a:noFill/>
          </a:ln>
        </p:spPr>
      </p:pic>
      <p:pic>
        <p:nvPicPr>
          <p:cNvPr id="546" name="Picture 14" descr="th"/>
          <p:cNvPicPr/>
          <p:nvPr/>
        </p:nvPicPr>
        <p:blipFill>
          <a:blip r:embed="rId4"/>
          <a:stretch/>
        </p:blipFill>
        <p:spPr>
          <a:xfrm>
            <a:off x="5219640" y="4005360"/>
            <a:ext cx="3924360" cy="2630520"/>
          </a:xfrm>
          <a:prstGeom prst="rect">
            <a:avLst/>
          </a:prstGeom>
          <a:ln w="0">
            <a:noFill/>
          </a:ln>
        </p:spPr>
      </p:pic>
      <p:sp>
        <p:nvSpPr>
          <p:cNvPr id="547" name="Rectangle 17"/>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Back when Stonehenge was built people had no way of telling the time. Perhaps the Druids wished to keep records of events. Stonehenge is said by some to be one widespread sundial, a clock used in ancient times. When the sun rises it casts a shadow though an opening in the one side of Stonehenge, the day passes and the shadow move across the middle showing the druids the time of da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t situated about 3 km west of Amesbury and 13 km north of Salisbury</a:t>
            </a:r>
            <a:endParaRPr b="0" lang="en-US" sz="4000" spc="-1" strike="noStrike">
              <a:solidFill>
                <a:srgbClr val="ffffff"/>
              </a:solidFill>
              <a:latin typeface="Tahoma"/>
            </a:endParaRPr>
          </a:p>
        </p:txBody>
      </p:sp>
      <p:pic>
        <p:nvPicPr>
          <p:cNvPr id="549" name="Picture 8" descr="Безымянный"/>
          <p:cNvPicPr/>
          <p:nvPr/>
        </p:nvPicPr>
        <p:blipFill>
          <a:blip r:embed="rId1"/>
          <a:stretch/>
        </p:blipFill>
        <p:spPr>
          <a:xfrm>
            <a:off x="4464000" y="1484280"/>
            <a:ext cx="4680000" cy="5373720"/>
          </a:xfrm>
          <a:prstGeom prst="rect">
            <a:avLst/>
          </a:prstGeom>
          <a:ln w="0">
            <a:noFill/>
          </a:ln>
        </p:spPr>
      </p:pic>
      <p:sp>
        <p:nvSpPr>
          <p:cNvPr id="550" name="Rectangle 9"/>
          <p:cNvSpPr/>
          <p:nvPr/>
        </p:nvSpPr>
        <p:spPr>
          <a:xfrm>
            <a:off x="0" y="2971800"/>
            <a:ext cx="450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he Stonehendge is in a county Wiltshire, in vicinities of Salisbury. The nearest motorways – А303 and А344/360. The nearest railway stations – Salisbury and Grejtli (approximately in 16 kilometres). From London it is necessary to go from station Waterloo by train to Salisbury (1,5 hours). Further at station in Salisbury it is possible to buy the ticket for the bus in a Stonehendge.</a:t>
            </a:r>
            <a:endParaRPr b="0" lang="en-US" sz="1800" spc="-1" strike="noStrike">
              <a:solidFill>
                <a:srgbClr val="ffffff"/>
              </a:solidFill>
              <a:latin typeface="Tahoma"/>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athering place for religions</a:t>
            </a:r>
            <a:endParaRPr b="0" lang="en-US" sz="4400" spc="-1" strike="noStrike">
              <a:solidFill>
                <a:srgbClr val="ffffff"/>
              </a:solidFill>
              <a:latin typeface="Tahoma"/>
            </a:endParaRPr>
          </a:p>
        </p:txBody>
      </p:sp>
      <p:sp>
        <p:nvSpPr>
          <p:cNvPr id="5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553" name="Picture 6" descr="tytyy"/>
          <p:cNvPicPr/>
          <p:nvPr/>
        </p:nvPicPr>
        <p:blipFill>
          <a:blip r:embed="rId1"/>
          <a:stretch/>
        </p:blipFill>
        <p:spPr>
          <a:xfrm>
            <a:off x="0" y="0"/>
            <a:ext cx="9144000" cy="6858000"/>
          </a:xfrm>
          <a:prstGeom prst="rect">
            <a:avLst/>
          </a:prstGeom>
          <a:ln w="0">
            <a:noFill/>
          </a:ln>
        </p:spPr>
      </p:pic>
      <p:sp>
        <p:nvSpPr>
          <p:cNvPr id="554" name="Rectangle 14"/>
          <p:cNvSpPr/>
          <p:nvPr/>
        </p:nvSpPr>
        <p:spPr>
          <a:xfrm>
            <a:off x="1763640" y="0"/>
            <a:ext cx="540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         </a:t>
            </a:r>
            <a:r>
              <a:rPr b="1" lang="en-US" sz="2800" spc="-1" strike="noStrike">
                <a:solidFill>
                  <a:srgbClr val="010199"/>
                </a:solidFill>
                <a:latin typeface="Tahoma"/>
              </a:rPr>
              <a:t>Gathering place for religions</a:t>
            </a:r>
            <a:endParaRPr b="0" lang="en-US" sz="2800" spc="-1" strike="noStrike">
              <a:solidFill>
                <a:srgbClr val="ffffff"/>
              </a:solidFill>
              <a:latin typeface="Tahoma"/>
            </a:endParaRPr>
          </a:p>
        </p:txBody>
      </p:sp>
      <p:sp>
        <p:nvSpPr>
          <p:cNvPr id="555" name="Rectangle 16"/>
          <p:cNvSpPr/>
          <p:nvPr/>
        </p:nvSpPr>
        <p:spPr>
          <a:xfrm>
            <a:off x="3743280" y="3141720"/>
            <a:ext cx="5400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         </a:t>
            </a:r>
            <a:r>
              <a:rPr b="0" lang="en-US" sz="1800" spc="-1" strike="noStrike">
                <a:solidFill>
                  <a:srgbClr val="010199"/>
                </a:solidFill>
                <a:latin typeface="Tahoma"/>
              </a:rPr>
              <a:t>So taking in to account that Stonehenge could predict eclipses another thought is that it was just used for predicting the full moon. The full moon meant new life, so perhaps they used Stonehenge for ceremonies to worship new life.</a:t>
            </a:r>
            <a:endParaRPr b="0" lang="en-US" sz="1800" spc="-1" strike="noStrike">
              <a:solidFill>
                <a:srgbClr val="ffffff"/>
              </a:solidFill>
              <a:latin typeface="Tahoma"/>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body knows its precise purpose.</a:t>
            </a:r>
            <a:endParaRPr b="0" lang="en-US" sz="4000" spc="-1" strike="noStrike">
              <a:solidFill>
                <a:srgbClr val="ffffff"/>
              </a:solidFill>
              <a:latin typeface="Tahoma"/>
            </a:endParaRPr>
          </a:p>
        </p:txBody>
      </p:sp>
      <p:pic>
        <p:nvPicPr>
          <p:cNvPr id="557" name="Picture 9" descr="gfgfdgfg"/>
          <p:cNvPicPr/>
          <p:nvPr/>
        </p:nvPicPr>
        <p:blipFill>
          <a:blip r:embed="rId1"/>
          <a:stretch/>
        </p:blipFill>
        <p:spPr>
          <a:xfrm>
            <a:off x="852480" y="3038400"/>
            <a:ext cx="3247920" cy="1847880"/>
          </a:xfrm>
          <a:prstGeom prst="rect">
            <a:avLst/>
          </a:prstGeom>
          <a:ln w="0">
            <a:noFill/>
          </a:ln>
        </p:spPr>
      </p:pic>
      <p:pic>
        <p:nvPicPr>
          <p:cNvPr id="558" name="Picture 10" descr="fgj"/>
          <p:cNvPicPr/>
          <p:nvPr/>
        </p:nvPicPr>
        <p:blipFill>
          <a:blip r:embed="rId2"/>
          <a:stretch/>
        </p:blipFill>
        <p:spPr>
          <a:xfrm>
            <a:off x="5010120" y="2043000"/>
            <a:ext cx="3314880" cy="1704960"/>
          </a:xfrm>
          <a:prstGeom prst="rect">
            <a:avLst/>
          </a:prstGeom>
          <a:ln w="0">
            <a:noFill/>
          </a:ln>
        </p:spPr>
      </p:pic>
      <p:pic>
        <p:nvPicPr>
          <p:cNvPr id="559" name="Picture 14" descr="fgfdhghgh"/>
          <p:cNvPicPr/>
          <p:nvPr/>
        </p:nvPicPr>
        <p:blipFill>
          <a:blip r:embed="rId3"/>
          <a:stretch/>
        </p:blipFill>
        <p:spPr>
          <a:xfrm>
            <a:off x="4648320" y="4221000"/>
            <a:ext cx="4038480" cy="1614600"/>
          </a:xfrm>
          <a:prstGeom prst="rect">
            <a:avLst/>
          </a:prstGeom>
          <a:ln w="0">
            <a:noFill/>
          </a:ln>
        </p:spPr>
      </p:pic>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say that it is connected with the sun and the moon.</a:t>
            </a:r>
            <a:endParaRPr b="0" lang="en-US" sz="4000" spc="-1" strike="noStrike">
              <a:solidFill>
                <a:srgbClr val="ffffff"/>
              </a:solidFill>
              <a:latin typeface="Tahoma"/>
            </a:endParaRPr>
          </a:p>
        </p:txBody>
      </p:sp>
      <p:pic>
        <p:nvPicPr>
          <p:cNvPr id="561" name="Picture 7" descr="Безымянныйgfg"/>
          <p:cNvPicPr/>
          <p:nvPr/>
        </p:nvPicPr>
        <p:blipFill>
          <a:blip r:embed="rId1"/>
          <a:stretch/>
        </p:blipFill>
        <p:spPr>
          <a:xfrm>
            <a:off x="0" y="4122720"/>
            <a:ext cx="3240000" cy="2735280"/>
          </a:xfrm>
          <a:prstGeom prst="rect">
            <a:avLst/>
          </a:prstGeom>
          <a:ln w="0">
            <a:noFill/>
          </a:ln>
        </p:spPr>
      </p:pic>
      <p:pic>
        <p:nvPicPr>
          <p:cNvPr id="562" name="Picture 8" descr="hjjjjjjjjjjjj"/>
          <p:cNvPicPr/>
          <p:nvPr/>
        </p:nvPicPr>
        <p:blipFill>
          <a:blip r:embed="rId2"/>
          <a:stretch/>
        </p:blipFill>
        <p:spPr>
          <a:xfrm>
            <a:off x="5905440" y="2205000"/>
            <a:ext cx="3238560" cy="2428920"/>
          </a:xfrm>
          <a:prstGeom prst="rect">
            <a:avLst/>
          </a:prstGeom>
          <a:ln w="0">
            <a:noFill/>
          </a:ln>
        </p:spPr>
      </p:pic>
      <p:sp>
        <p:nvSpPr>
          <p:cNvPr id="563" name="Rectangle 9"/>
          <p:cNvSpPr/>
          <p:nvPr/>
        </p:nvSpPr>
        <p:spPr>
          <a:xfrm>
            <a:off x="0" y="25588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The moon, it has been a sight for all over time. Back long ago little was none of the reasons for an eclipses, it was thought to be a sing from the gods. In a society which worshiped gods for all the mysteries of the world, the eclipse must have been very special. The builders of Stonehenge must have been marveled at the sight of this holy event, which happened every four years. Most likely the great Stonehenge was built to be a prediction device for the eclipse. Many people have studied Stonehenge and many have found that the stones are mathematically placed to show when and eclipse might occur. "In favor of this solution - that the Aubrey holes were used as a computer are these facts: the number 56 is the smallest number that measures the swing of the moon with an over-all accuracy of better than 3 days, and lunar cycles provide the only method of long-range eclipse prediction related to the seasons of the year."</a:t>
            </a:r>
            <a:endParaRPr b="0" lang="en-US" sz="1800" spc="-1" strike="noStrike">
              <a:solidFill>
                <a:srgbClr val="ffffff"/>
              </a:solidFill>
              <a:latin typeface="Tahoma"/>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unday stone</a:t>
            </a:r>
            <a:endParaRPr b="0" lang="en-US" sz="4400" spc="-1" strike="noStrike">
              <a:solidFill>
                <a:srgbClr val="ffffff"/>
              </a:solidFill>
              <a:latin typeface="Tahoma"/>
            </a:endParaRPr>
          </a:p>
        </p:txBody>
      </p:sp>
      <p:pic>
        <p:nvPicPr>
          <p:cNvPr id="565" name="Picture 6" descr="hjjj"/>
          <p:cNvPicPr/>
          <p:nvPr/>
        </p:nvPicPr>
        <p:blipFill>
          <a:blip r:embed="rId1"/>
          <a:stretch/>
        </p:blipFill>
        <p:spPr>
          <a:xfrm>
            <a:off x="3029040" y="1905120"/>
            <a:ext cx="3703680" cy="4332240"/>
          </a:xfrm>
          <a:prstGeom prst="rect">
            <a:avLst/>
          </a:prstGeom>
          <a:ln w="0">
            <a:noFill/>
          </a:ln>
        </p:spPr>
      </p:pic>
      <p:sp>
        <p:nvSpPr>
          <p:cNvPr id="566" name="Rectangle 7"/>
          <p:cNvSpPr/>
          <p:nvPr/>
        </p:nvSpPr>
        <p:spPr>
          <a:xfrm>
            <a:off x="0" y="5942160"/>
            <a:ext cx="720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f course when researching anything you come across facts and fiction. Stories say that Stonehenge was associated with Merlin and King Arthur. </a:t>
            </a:r>
            <a:endParaRPr b="0" lang="en-US" sz="1800" spc="-1" strike="noStrike">
              <a:solidFill>
                <a:srgbClr val="ffffff"/>
              </a:solidFill>
              <a:latin typeface="Tahoma"/>
            </a:endParaRPr>
          </a:p>
        </p:txBody>
      </p:sp>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ny tourist visited it. </a:t>
            </a:r>
            <a:endParaRPr b="0" lang="en-US" sz="4400" spc="-1" strike="noStrike">
              <a:solidFill>
                <a:srgbClr val="ffffff"/>
              </a:solidFill>
              <a:latin typeface="Tahoma"/>
            </a:endParaRPr>
          </a:p>
        </p:txBody>
      </p:sp>
      <p:pic>
        <p:nvPicPr>
          <p:cNvPr id="568" name="Picture 6" descr="ауцаа"/>
          <p:cNvPicPr/>
          <p:nvPr/>
        </p:nvPicPr>
        <p:blipFill>
          <a:blip r:embed="rId1"/>
          <a:stretch/>
        </p:blipFill>
        <p:spPr>
          <a:xfrm>
            <a:off x="2340000" y="2060640"/>
            <a:ext cx="5327640" cy="4392720"/>
          </a:xfrm>
          <a:prstGeom prst="rect">
            <a:avLst/>
          </a:prstGeom>
          <a:ln w="0">
            <a:noFill/>
          </a:ln>
        </p:spPr>
      </p:pic>
      <p:sp>
        <p:nvSpPr>
          <p:cNvPr id="569" name="Rectangle 7"/>
          <p:cNvSpPr/>
          <p:nvPr/>
        </p:nvSpPr>
        <p:spPr>
          <a:xfrm>
            <a:off x="0" y="6216480"/>
            <a:ext cx="834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year people come on this place. Are interested in this place and tourists, archeologists, geographers, and simply usual people living nearby Stonehenge</a:t>
            </a:r>
            <a:endParaRPr b="0" lang="en-US" sz="1800" spc="-1" strike="noStrike">
              <a:solidFill>
                <a:srgbClr val="ffffff"/>
              </a:solidFill>
              <a:latin typeface="Tahoma"/>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8:25:46Z</dcterms:created>
  <dc:creator>User-</dc:creator>
  <dc:description/>
  <dc:language>en-US</dc:language>
  <cp:lastModifiedBy>Директор</cp:lastModifiedBy>
  <dcterms:modified xsi:type="dcterms:W3CDTF">2017-01-16T12:58:31Z</dcterms:modified>
  <cp:revision>6</cp:revision>
  <dc:subject/>
  <dc:title>Stonehenge</dc:title>
</cp:coreProperties>
</file>