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0.png" ContentType="image/png"/>
  <Override PartName="/ppt/media/image5.jpeg" ContentType="image/jpe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F388E-B891-45B0-A743-A993FB3AB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C1C99-1C2C-4210-8649-8E6147716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DDAA5B-C16F-4C01-BA8F-6EF59E7C99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201DC-EF85-4D71-8527-C62D4C4CD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747C16-CD2F-4439-89FA-73D5792CD66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C04B5E-A5A6-4E62-96B8-BF34D74E16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C0FFAB-6DE1-49B3-B7B8-5D35A93A72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44C42-A068-4AB9-ABA8-DFF47709EB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58E158-0FD3-4665-842A-AB2553057E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364A20-3624-4083-A345-72CF5DE1BA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164E7B3-6DFC-4B4D-B6C7-8AFFC85392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E1344F-288D-41CF-8D4C-0C985FFFFB8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F8F7C3-CF8A-4144-98A2-CD75A7508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EE02F17-9F30-4509-B2D3-F2F1D7D4EF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3E3B9C-EB35-4288-88B3-84B69315CB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160AE12-D3B4-4FD5-B51F-4A4D913BBA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AE62DF-FB17-4027-9301-72B6FB7C1C1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6EDAEC-A785-4871-8D20-4533472F7B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8FE046-DCD9-47C8-BA65-25AA8C48CE1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503EEB-A993-40BE-BADB-96CA6BBF237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40B333-8B1A-42DC-A23D-61734CD132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9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0DEB83-2E52-4A39-BD17-10EC8D3C11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CFF56E-584D-4FCE-AB83-0829432FA94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AA5D9D-89D4-48E4-A2D5-1EFF24E59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BA00FE-1038-42F6-A964-0067BA52AB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7CB171-4F2B-4FD9-9819-0845F64072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6BDBC6-D7F1-4AF6-9EA3-3CC512A283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19781EB-9AE5-4221-A27E-428F562218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F5439D-5845-4B54-BB07-D375A87C6A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818C49-1C99-4B75-8374-022594FFC7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8335B1-1234-48BC-A9F5-1FFB6053A8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387421-BD38-4ADC-B4B9-1BB8A076ED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6DF126-1277-45D9-8092-ED21AB8D27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97B738-31AD-438A-99F3-4605C22536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80EDA3-1EE2-4511-90D9-5C8075727A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397EAB-C62A-4B72-9676-B03E550BBA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00143C-E5F6-4972-AEA6-DFA4CD0529E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4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2083C7-72A9-4B78-B2DD-8BE9AC113E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52803DA-B427-4813-82C1-A8504EEE7B3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5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B25370-18E7-4AA6-B246-2788D76876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3B5971-9BC6-4028-A78F-B719AF77F8A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8A358A-A669-489F-B592-3123E76258F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37CBF2-2FE3-4C1F-8875-C783287698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D1E5D8C-9386-44FF-8757-3DCC41F8FE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6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857068-CBCF-4CDB-8FFF-94CA9CC3BC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8AA81A-F918-470D-8016-84A95AF9C2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48CFCF-FAEA-41B2-8BB1-CA2A80DDF0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B9F57F-8BF7-4762-B981-F740796C5A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0E6028-1F6E-4B6D-BB5F-BB5D429265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629B92-2E39-4C17-99F3-3359F18EF8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20B350F-4F32-4770-A443-99A13979EB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B7A4100-77BD-4A06-875E-9C648A23557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044F18-2DF0-4366-8B2A-7CBE67176B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5614DD-72BB-4158-9941-D40DA74F39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729718-28CC-405D-A70A-8496B73DEDB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A8B43F2-76BD-47D9-83DB-90FDFE75F0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A90041-C1D8-4D05-A221-A97B3C0B742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6E7FBD3-B277-4444-AB34-2D922A7E6FF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3DD31D1-F9E6-42D6-B4BD-FF7AD1D15C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C5C498-FF99-45FA-A5C0-B45317E7AD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9101B0D-8545-4EB0-B9B4-52145194576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6509281-2022-49C2-AD6D-480EEDCF4D5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8A4388-7801-4B11-BCE3-6053511C85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B71E096-D012-4C3A-B4C8-35743179F6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BF360D-5FF7-45EA-A892-409A77FF23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F4BD55-A436-4FF3-B172-7D17C6B6F2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3843DA-51A7-4E4B-8B7A-CC267650170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10C05A-3ECC-45D5-9CA4-2173E69B4A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73C6-1D39-4AEF-9F9A-F70FADFE2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835EA6-1F99-49AE-9346-1FC15CB84AF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D6A344-BE99-4A41-89FF-2EDC8394E4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AAD2D-8357-4683-B065-3CEDAF41819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473126-CBB0-4AC6-BC46-184D78287AC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AD464-697D-4D0B-80F8-AAD08A8A567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5A6909-D355-4D9F-85DA-C53448FF23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9"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570CBF-BA19-4EF9-B3CD-02F01ADB91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B985A8-4339-4A8F-A63C-D7F91EA706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4566B7-D909-4284-B175-E1688DEDA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F7B6D5-DCBB-4816-ACF7-168CA8085B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84B5-525F-4CDB-AE1A-74D93191B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814C1-4E9C-48C2-AF5F-3E7657B838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7C58E-455A-4D35-80BB-2B7DF1611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565BE6-FFB4-4259-A9BF-0A0C94131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DDCBD-F36F-4090-AE62-BBF8C0A51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0"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960DD-DAEA-42D2-8531-CE095E0EE1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AC0F7CE-C409-41B1-8476-D609CBDF24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88C8B-916C-41B2-AF7B-C1F66B1CF8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DDEA5D-9943-4093-8DB5-A032EF2C6D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7E31C6-5556-444F-81AA-6887177AF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0DE3AB-01E4-4C68-AFC1-3C4E2335F4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A60C1-B52D-49AA-8823-24048748D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4F4305-3002-4212-A39E-D14BE0357B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9C2D61-D5A5-471D-97B4-9698C2646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76FC17-3ACB-49B7-9C44-9C8E93A2DA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5EAEEC-7A43-4551-BF51-C3E1F1F11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1060A-1B89-467C-898B-56425FA661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C9DE1-C49D-4768-AF9B-34356B2D1D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CCB62-9113-427E-85B0-BF14A3BB0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CBAEE-73E1-4F13-9C47-DDE7849FF1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77C03-DAD7-486A-87BA-5329FBAE13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EFF267-2402-455B-927B-26E14A951B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41938-B08E-457A-BD94-2676083E6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1"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95B868-32C0-494C-AEE1-52E377615B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7D0932-470C-44B5-A9B3-7D58C60B2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B52A58-1457-4E98-98E5-4C609CE1BE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01464-2D74-4CE5-B517-DAAD37FA86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C37AFB-C57D-42DF-9978-2BD25C170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095961-7A28-4D35-AB1A-AF8849CD1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6"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5D5668-8767-4ADD-9261-A82C55A291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A54A5-6B75-41F0-AC74-072FB2E4F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2"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ACF917-F702-405E-B367-222B39A879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8"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D09A22-8628-426A-A45F-65001FC1F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F520C-43C0-4A06-9743-31D9510C3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00"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2"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4FA21-5292-492F-9CE0-C213DB9E3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E56117-E436-4828-A813-D8A1D60646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2"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152C84-E7FD-4C0D-B7DA-C13AC93833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5FC058-9C02-40A7-BD07-E6FE72C6F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D6C79A-2311-41B5-882C-DBB1C5EA75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2EDCCC-3CB4-4B31-8249-2093FCF24B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F89D57-3820-46DA-81C6-9D6183578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400ECD-2996-4D8B-9336-3DB54D1FA2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5"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4E6A8-6A59-464E-B749-5C7C59B805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1"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2B6BA-A6DD-48D0-BAAA-49E2A17A02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23A8-3E48-43D6-AFCC-AF7E145A5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3"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4"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A1C701-18C4-4FDA-9FC8-8D40FDD9F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9"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E57620-8A84-43DB-9C27-64E519DF49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41"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2"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5"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6"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1A2A5E-2233-4560-8E9F-41B9E1CC4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6DE589-A664-492A-AB25-8151A0694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3F00BA-C0D8-4990-B3A1-F9CCBB2CC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BB6E5B-DFC5-4F90-8825-9585BEEBA6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B792A6-BD74-4622-925A-0CD209FFE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A2A8D-9446-48A9-8C95-9012B5D1EF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42A282-84D7-4968-A37A-FC485E6D8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48A3E2-ED44-4D1E-B051-5D9DDF65A8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685B7-7195-4CCE-B039-175ABBC7E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57674-92BB-436D-A96C-566DD6903E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AD788D-CA84-4304-9213-CBCA4CD135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6EC48D-D469-467D-80A1-00D7ED45D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4E003D-CA0A-4350-9B3B-D2B68B1CB3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8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DB387A-D2CC-4ABF-957D-E772B9018D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F64244-E61B-4913-9E0A-81BA267836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6EE6C7-4E22-4590-A6DA-9933D066BC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7B7407-387C-4DBC-8F83-2CEC89C409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9"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84959-46B9-4F85-94CD-7D64331E2D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FFB608-4611-43DA-95B4-78C7D7A9A3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42F26-1C58-4460-9590-0F5D436B9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DB2E8E-76D3-46EE-A538-26354AF0AA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5"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49491-677C-46D3-82C2-8D2BB22ABC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D5AD70-780D-4F33-91A8-4167FE2ECF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B0A7B-E96B-471A-9C67-EBE08C3C3F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6"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DB374A-03EA-42A2-9E8F-0938DB2D83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8"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0"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C75ACE-D283-4A0E-9C70-7CC737CA66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3"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9AA9E6-D127-49B2-B497-4FF7BF384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CA42CD-F936-4443-9EA9-E0B0D0726A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DBA846-95FE-4D82-9983-72B073B311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9F2868-BB5E-4591-816C-30EA29C35E5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BB820-347E-4D50-B91A-4EF4A6F5173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2"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3"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4"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67543-35C1-4456-ACDF-2A6D147ADD1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2"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3"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4"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5"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A6AA1-A870-41EC-9AE2-849A5B62CC80}"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5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54"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64A7B-632C-463C-BEBE-0E11647D583E}"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9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5"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70BB-7987-4D97-B347-BE00BB7EED0D}"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511A-A54C-47BA-931C-CF88143D05B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F4532-ACAE-49C2-BB5C-D2B9525D803F}"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822E-85FB-4846-A667-19CB36EBF55C}"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7"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A9111-F310-46D0-A805-9B41F2296B3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08"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2ED7F-A1D3-42E5-B9C5-8F0C9AD995B5}"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4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42FC0-A96A-457B-B513-F2E9654551F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8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90"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1C8B-D1E3-43FE-9D3A-CCE80DEEE211}"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3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31"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37B3-3219-4DF9-8CDD-F2F4DF93FA24}"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4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icture 11" descr="n"/>
          <p:cNvPicPr/>
          <p:nvPr/>
        </p:nvPicPr>
        <p:blipFill>
          <a:blip r:embed="rId1"/>
          <a:srcRect l="0" t="0" r="0" b="7293"/>
          <a:stretch/>
        </p:blipFill>
        <p:spPr>
          <a:xfrm>
            <a:off x="0" y="0"/>
            <a:ext cx="9144000" cy="7000920"/>
          </a:xfrm>
          <a:prstGeom prst="rect">
            <a:avLst/>
          </a:prstGeom>
          <a:ln w="0">
            <a:noFill/>
          </a:ln>
        </p:spPr>
      </p:pic>
      <p:sp>
        <p:nvSpPr>
          <p:cNvPr id="535" name="PlaceHolder 1"/>
          <p:cNvSpPr>
            <a:spLocks noGrp="1"/>
          </p:cNvSpPr>
          <p:nvPr>
            <p:ph type="title"/>
          </p:nvPr>
        </p:nvSpPr>
        <p:spPr>
          <a:xfrm>
            <a:off x="826920" y="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tonehenge</a:t>
            </a:r>
            <a:endParaRPr b="0" lang="en-US" sz="4400" spc="-1" strike="noStrike">
              <a:solidFill>
                <a:srgbClr val="ffffff"/>
              </a:solidFill>
              <a:latin typeface="Tahoma"/>
            </a:endParaRPr>
          </a:p>
        </p:txBody>
      </p:sp>
      <p:sp>
        <p:nvSpPr>
          <p:cNvPr id="536" name="PlaceHolder 2"/>
          <p:cNvSpPr>
            <a:spLocks noGrp="1"/>
          </p:cNvSpPr>
          <p:nvPr>
            <p:ph type="subTitle"/>
          </p:nvPr>
        </p:nvSpPr>
        <p:spPr>
          <a:xfrm>
            <a:off x="0" y="19162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0199"/>
                </a:solidFill>
                <a:latin typeface="Tahoma"/>
              </a:rPr>
              <a:t>Stonehenge, one of the great Seven Wonders </a:t>
            </a:r>
            <a:r>
              <a:rPr b="0" lang="en-US" sz="3200" spc="-1" strike="noStrike">
                <a:solidFill>
                  <a:srgbClr val="010199"/>
                </a:solidFill>
                <a:latin typeface="Tahoma"/>
              </a:rPr>
              <a:t>of</a:t>
            </a:r>
            <a:r>
              <a:rPr b="1" lang="en-US" sz="3200" spc="-1" strike="noStrike">
                <a:solidFill>
                  <a:srgbClr val="010199"/>
                </a:solidFill>
                <a:latin typeface="Tahoma"/>
              </a:rPr>
              <a:t> the World</a:t>
            </a:r>
            <a:endParaRPr b="0" lang="en-US" sz="3200" spc="-1" strike="noStrike">
              <a:solidFill>
                <a:srgbClr val="ffffff"/>
              </a:solidFill>
              <a:latin typeface="Tahoma"/>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Thanks for attention</a:t>
            </a:r>
            <a:endParaRPr b="0" lang="en-US" sz="4400" spc="-1" strike="noStrike">
              <a:solidFill>
                <a:srgbClr val="ffffff"/>
              </a:solidFill>
              <a:latin typeface="Tahoma"/>
            </a:endParaRPr>
          </a:p>
        </p:txBody>
      </p:sp>
      <p:pic>
        <p:nvPicPr>
          <p:cNvPr id="571" name="Picture 4" descr="Stonehenge"/>
          <p:cNvPicPr/>
          <p:nvPr/>
        </p:nvPicPr>
        <p:blipFill>
          <a:blip r:embed="rId1"/>
          <a:stretch/>
        </p:blipFill>
        <p:spPr>
          <a:xfrm>
            <a:off x="1835280" y="1916280"/>
            <a:ext cx="5832360" cy="4028760"/>
          </a:xfrm>
          <a:prstGeom prst="rect">
            <a:avLst/>
          </a:prstGeom>
          <a:ln w="0">
            <a:noFill/>
          </a:ln>
        </p:spPr>
      </p:pic>
    </p:spTree>
  </p:cSld>
  <p:transition spd="med">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reat Britain</a:t>
            </a:r>
            <a:endParaRPr b="0" lang="en-US" sz="4400" spc="-1" strike="noStrike">
              <a:solidFill>
                <a:srgbClr val="ffffff"/>
              </a:solidFill>
              <a:latin typeface="Tahoma"/>
            </a:endParaRPr>
          </a:p>
        </p:txBody>
      </p:sp>
      <p:pic>
        <p:nvPicPr>
          <p:cNvPr id="538" name="Picture 7" descr="великобритания1"/>
          <p:cNvPicPr/>
          <p:nvPr/>
        </p:nvPicPr>
        <p:blipFill>
          <a:blip r:embed="rId1"/>
          <a:stretch/>
        </p:blipFill>
        <p:spPr>
          <a:xfrm>
            <a:off x="457200" y="2448000"/>
            <a:ext cx="4038480" cy="3029040"/>
          </a:xfrm>
          <a:prstGeom prst="rect">
            <a:avLst/>
          </a:prstGeom>
          <a:ln w="0">
            <a:noFill/>
          </a:ln>
        </p:spPr>
      </p:pic>
      <p:pic>
        <p:nvPicPr>
          <p:cNvPr id="539" name="Picture 8" descr="великобритания"/>
          <p:cNvPicPr/>
          <p:nvPr/>
        </p:nvPicPr>
        <p:blipFill>
          <a:blip r:embed="rId2"/>
          <a:stretch/>
        </p:blipFill>
        <p:spPr>
          <a:xfrm>
            <a:off x="5183280" y="1905120"/>
            <a:ext cx="2968560" cy="1981080"/>
          </a:xfrm>
          <a:prstGeom prst="rect">
            <a:avLst/>
          </a:prstGeom>
          <a:ln w="0">
            <a:noFill/>
          </a:ln>
        </p:spPr>
      </p:pic>
      <p:pic>
        <p:nvPicPr>
          <p:cNvPr id="540" name="Picture 13" descr="великобритания2"/>
          <p:cNvPicPr/>
          <p:nvPr/>
        </p:nvPicPr>
        <p:blipFill>
          <a:blip r:embed="rId3"/>
          <a:stretch/>
        </p:blipFill>
        <p:spPr>
          <a:xfrm>
            <a:off x="7236000" y="4653000"/>
            <a:ext cx="1485720" cy="1981080"/>
          </a:xfrm>
          <a:prstGeom prst="rect">
            <a:avLst/>
          </a:prstGeom>
          <a:ln w="0">
            <a:noFill/>
          </a:ln>
        </p:spPr>
      </p:pic>
    </p:spTree>
  </p:cSld>
  <p:transition spd="med">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542" name="PlaceHolder 2"/>
          <p:cNvSpPr>
            <a:spLocks noGrp="1"/>
          </p:cNvSpPr>
          <p:nvPr>
            <p:ph type="subTitle"/>
          </p:nvPr>
        </p:nvSpPr>
        <p:spPr>
          <a:xfrm>
            <a:off x="1476360" y="170028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543" name="Picture 9" descr="Безымянныйgfg"/>
          <p:cNvPicPr/>
          <p:nvPr/>
        </p:nvPicPr>
        <p:blipFill>
          <a:blip r:embed="rId1"/>
          <a:stretch/>
        </p:blipFill>
        <p:spPr>
          <a:xfrm>
            <a:off x="0" y="706320"/>
            <a:ext cx="4643280" cy="2703600"/>
          </a:xfrm>
          <a:prstGeom prst="rect">
            <a:avLst/>
          </a:prstGeom>
          <a:ln w="0">
            <a:noFill/>
          </a:ln>
        </p:spPr>
      </p:pic>
      <p:pic>
        <p:nvPicPr>
          <p:cNvPr id="544" name="Picture 11" descr="hjjjjjjjjjjjj"/>
          <p:cNvPicPr/>
          <p:nvPr/>
        </p:nvPicPr>
        <p:blipFill>
          <a:blip r:embed="rId2"/>
          <a:stretch/>
        </p:blipFill>
        <p:spPr>
          <a:xfrm>
            <a:off x="4788000" y="619200"/>
            <a:ext cx="4356000" cy="3267000"/>
          </a:xfrm>
          <a:prstGeom prst="rect">
            <a:avLst/>
          </a:prstGeom>
          <a:ln w="0">
            <a:noFill/>
          </a:ln>
        </p:spPr>
      </p:pic>
      <p:pic>
        <p:nvPicPr>
          <p:cNvPr id="545" name="Picture 12" descr="hgj"/>
          <p:cNvPicPr/>
          <p:nvPr/>
        </p:nvPicPr>
        <p:blipFill>
          <a:blip r:embed="rId3"/>
          <a:stretch/>
        </p:blipFill>
        <p:spPr>
          <a:xfrm>
            <a:off x="0" y="4038480"/>
            <a:ext cx="4572000" cy="2543400"/>
          </a:xfrm>
          <a:prstGeom prst="rect">
            <a:avLst/>
          </a:prstGeom>
          <a:ln w="0">
            <a:noFill/>
          </a:ln>
        </p:spPr>
      </p:pic>
      <p:pic>
        <p:nvPicPr>
          <p:cNvPr id="546" name="Picture 14" descr="th"/>
          <p:cNvPicPr/>
          <p:nvPr/>
        </p:nvPicPr>
        <p:blipFill>
          <a:blip r:embed="rId4"/>
          <a:stretch/>
        </p:blipFill>
        <p:spPr>
          <a:xfrm>
            <a:off x="5219640" y="4005360"/>
            <a:ext cx="3924360" cy="2630520"/>
          </a:xfrm>
          <a:prstGeom prst="rect">
            <a:avLst/>
          </a:prstGeom>
          <a:ln w="0">
            <a:noFill/>
          </a:ln>
        </p:spPr>
      </p:pic>
      <p:sp>
        <p:nvSpPr>
          <p:cNvPr id="547" name="Rectangle 17"/>
          <p:cNvSpPr/>
          <p:nvPr/>
        </p:nvSpPr>
        <p:spPr>
          <a:xfrm>
            <a:off x="0" y="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Back when Stonehenge was built people had no way of telling the time. Perhaps the Druids wished to keep records of events. Stonehenge is said by some to be one widespread sundial, a clock used in ancient times. When the sun rises it casts a shadow though an opening in the one side of Stonehenge, the day passes and the shadow move across the middle showing the druids the time of da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med">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t situated about 3 km west of Amesbury and 13 km north of Salisbury</a:t>
            </a:r>
            <a:endParaRPr b="0" lang="en-US" sz="4000" spc="-1" strike="noStrike">
              <a:solidFill>
                <a:srgbClr val="ffffff"/>
              </a:solidFill>
              <a:latin typeface="Tahoma"/>
            </a:endParaRPr>
          </a:p>
        </p:txBody>
      </p:sp>
      <p:pic>
        <p:nvPicPr>
          <p:cNvPr id="549" name="Picture 8" descr="Безымянный"/>
          <p:cNvPicPr/>
          <p:nvPr/>
        </p:nvPicPr>
        <p:blipFill>
          <a:blip r:embed="rId1"/>
          <a:stretch/>
        </p:blipFill>
        <p:spPr>
          <a:xfrm>
            <a:off x="4464000" y="1484280"/>
            <a:ext cx="4680000" cy="5373720"/>
          </a:xfrm>
          <a:prstGeom prst="rect">
            <a:avLst/>
          </a:prstGeom>
          <a:ln w="0">
            <a:noFill/>
          </a:ln>
        </p:spPr>
      </p:pic>
      <p:sp>
        <p:nvSpPr>
          <p:cNvPr id="550" name="Rectangle 9"/>
          <p:cNvSpPr/>
          <p:nvPr/>
        </p:nvSpPr>
        <p:spPr>
          <a:xfrm>
            <a:off x="0" y="2971800"/>
            <a:ext cx="450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he Stonehendge is in a county Wiltshire, in vicinities of Salisbury. The nearest motorways – А303 and А344/360. The nearest railway stations – Salisbury and Grejtli (approximately in 16 kilometres). From London it is necessary to go from station Waterloo by train to Salisbury (1,5 hours). Further at station in Salisbury it is possible to buy the ticket for the bus in a Stonehendge.</a:t>
            </a:r>
            <a:endParaRPr b="0" lang="en-US" sz="1800" spc="-1" strike="noStrike">
              <a:solidFill>
                <a:srgbClr val="ffffff"/>
              </a:solidFill>
              <a:latin typeface="Tahoma"/>
            </a:endParaRPr>
          </a:p>
        </p:txBody>
      </p:sp>
    </p:spTree>
  </p:cSld>
  <p:transition spd="med">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Gathering place for religions</a:t>
            </a:r>
            <a:endParaRPr b="0" lang="en-US" sz="4400" spc="-1" strike="noStrike">
              <a:solidFill>
                <a:srgbClr val="ffffff"/>
              </a:solidFill>
              <a:latin typeface="Tahoma"/>
            </a:endParaRPr>
          </a:p>
        </p:txBody>
      </p:sp>
      <p:sp>
        <p:nvSpPr>
          <p:cNvPr id="5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553" name="Picture 6" descr="tytyy"/>
          <p:cNvPicPr/>
          <p:nvPr/>
        </p:nvPicPr>
        <p:blipFill>
          <a:blip r:embed="rId1"/>
          <a:stretch/>
        </p:blipFill>
        <p:spPr>
          <a:xfrm>
            <a:off x="0" y="0"/>
            <a:ext cx="9144000" cy="6858000"/>
          </a:xfrm>
          <a:prstGeom prst="rect">
            <a:avLst/>
          </a:prstGeom>
          <a:ln w="0">
            <a:noFill/>
          </a:ln>
        </p:spPr>
      </p:pic>
      <p:sp>
        <p:nvSpPr>
          <p:cNvPr id="554" name="Rectangle 14"/>
          <p:cNvSpPr/>
          <p:nvPr/>
        </p:nvSpPr>
        <p:spPr>
          <a:xfrm>
            <a:off x="1763640" y="0"/>
            <a:ext cx="540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         </a:t>
            </a:r>
            <a:r>
              <a:rPr b="1" lang="en-US" sz="2800" spc="-1" strike="noStrike">
                <a:solidFill>
                  <a:srgbClr val="010199"/>
                </a:solidFill>
                <a:latin typeface="Tahoma"/>
              </a:rPr>
              <a:t>Gathering place for religions</a:t>
            </a:r>
            <a:endParaRPr b="0" lang="en-US" sz="2800" spc="-1" strike="noStrike">
              <a:solidFill>
                <a:srgbClr val="ffffff"/>
              </a:solidFill>
              <a:latin typeface="Tahoma"/>
            </a:endParaRPr>
          </a:p>
        </p:txBody>
      </p:sp>
      <p:sp>
        <p:nvSpPr>
          <p:cNvPr id="555" name="Rectangle 16"/>
          <p:cNvSpPr/>
          <p:nvPr/>
        </p:nvSpPr>
        <p:spPr>
          <a:xfrm>
            <a:off x="3743280" y="3141720"/>
            <a:ext cx="5400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10199"/>
                </a:solidFill>
                <a:latin typeface="Tahoma"/>
              </a:rPr>
              <a:t>         </a:t>
            </a:r>
            <a:r>
              <a:rPr b="0" lang="en-US" sz="1800" spc="-1" strike="noStrike">
                <a:solidFill>
                  <a:srgbClr val="010199"/>
                </a:solidFill>
                <a:latin typeface="Tahoma"/>
              </a:rPr>
              <a:t>So taking in to account that Stonehenge could predict eclipses another thought is that it was just used for predicting the full moon. The full moon meant new life, so perhaps they used Stonehenge for ceremonies to worship new life.</a:t>
            </a:r>
            <a:endParaRPr b="0" lang="en-US" sz="1800" spc="-1" strike="noStrike">
              <a:solidFill>
                <a:srgbClr val="ffffff"/>
              </a:solidFill>
              <a:latin typeface="Tahoma"/>
            </a:endParaRPr>
          </a:p>
        </p:txBody>
      </p:sp>
    </p:spTree>
  </p:cSld>
  <p:transition spd="med">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obody knows its precise purpose.</a:t>
            </a:r>
            <a:endParaRPr b="0" lang="en-US" sz="4000" spc="-1" strike="noStrike">
              <a:solidFill>
                <a:srgbClr val="ffffff"/>
              </a:solidFill>
              <a:latin typeface="Tahoma"/>
            </a:endParaRPr>
          </a:p>
        </p:txBody>
      </p:sp>
      <p:pic>
        <p:nvPicPr>
          <p:cNvPr id="557" name="Picture 9" descr="gfgfdgfg"/>
          <p:cNvPicPr/>
          <p:nvPr/>
        </p:nvPicPr>
        <p:blipFill>
          <a:blip r:embed="rId1"/>
          <a:stretch/>
        </p:blipFill>
        <p:spPr>
          <a:xfrm>
            <a:off x="852480" y="3038400"/>
            <a:ext cx="3247920" cy="1847880"/>
          </a:xfrm>
          <a:prstGeom prst="rect">
            <a:avLst/>
          </a:prstGeom>
          <a:ln w="0">
            <a:noFill/>
          </a:ln>
        </p:spPr>
      </p:pic>
      <p:pic>
        <p:nvPicPr>
          <p:cNvPr id="558" name="Picture 10" descr="fgj"/>
          <p:cNvPicPr/>
          <p:nvPr/>
        </p:nvPicPr>
        <p:blipFill>
          <a:blip r:embed="rId2"/>
          <a:stretch/>
        </p:blipFill>
        <p:spPr>
          <a:xfrm>
            <a:off x="5010120" y="2043000"/>
            <a:ext cx="3314880" cy="1704960"/>
          </a:xfrm>
          <a:prstGeom prst="rect">
            <a:avLst/>
          </a:prstGeom>
          <a:ln w="0">
            <a:noFill/>
          </a:ln>
        </p:spPr>
      </p:pic>
      <p:pic>
        <p:nvPicPr>
          <p:cNvPr id="559" name="Picture 14" descr="fgfdhghgh"/>
          <p:cNvPicPr/>
          <p:nvPr/>
        </p:nvPicPr>
        <p:blipFill>
          <a:blip r:embed="rId3"/>
          <a:stretch/>
        </p:blipFill>
        <p:spPr>
          <a:xfrm>
            <a:off x="4648320" y="4221000"/>
            <a:ext cx="4038480" cy="1614600"/>
          </a:xfrm>
          <a:prstGeom prst="rect">
            <a:avLst/>
          </a:prstGeom>
          <a:ln w="0">
            <a:noFill/>
          </a:ln>
        </p:spPr>
      </p:pic>
    </p:spTree>
  </p:cSld>
  <p:transition spd="med">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say that it is connected with the sun and the moon.</a:t>
            </a:r>
            <a:endParaRPr b="0" lang="en-US" sz="4000" spc="-1" strike="noStrike">
              <a:solidFill>
                <a:srgbClr val="ffffff"/>
              </a:solidFill>
              <a:latin typeface="Tahoma"/>
            </a:endParaRPr>
          </a:p>
        </p:txBody>
      </p:sp>
      <p:pic>
        <p:nvPicPr>
          <p:cNvPr id="561" name="Picture 7" descr="Безымянныйgfg"/>
          <p:cNvPicPr/>
          <p:nvPr/>
        </p:nvPicPr>
        <p:blipFill>
          <a:blip r:embed="rId1"/>
          <a:stretch/>
        </p:blipFill>
        <p:spPr>
          <a:xfrm>
            <a:off x="0" y="4122720"/>
            <a:ext cx="3240000" cy="2735280"/>
          </a:xfrm>
          <a:prstGeom prst="rect">
            <a:avLst/>
          </a:prstGeom>
          <a:ln w="0">
            <a:noFill/>
          </a:ln>
        </p:spPr>
      </p:pic>
      <p:pic>
        <p:nvPicPr>
          <p:cNvPr id="562" name="Picture 8" descr="hjjjjjjjjjjjj"/>
          <p:cNvPicPr/>
          <p:nvPr/>
        </p:nvPicPr>
        <p:blipFill>
          <a:blip r:embed="rId2"/>
          <a:stretch/>
        </p:blipFill>
        <p:spPr>
          <a:xfrm>
            <a:off x="5905440" y="2205000"/>
            <a:ext cx="3238560" cy="2428920"/>
          </a:xfrm>
          <a:prstGeom prst="rect">
            <a:avLst/>
          </a:prstGeom>
          <a:ln w="0">
            <a:noFill/>
          </a:ln>
        </p:spPr>
      </p:pic>
      <p:sp>
        <p:nvSpPr>
          <p:cNvPr id="563" name="Rectangle 9"/>
          <p:cNvSpPr/>
          <p:nvPr/>
        </p:nvSpPr>
        <p:spPr>
          <a:xfrm>
            <a:off x="0" y="255888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Tahoma"/>
              </a:rPr>
              <a:t>The moon, it has been a sight for all over time. Back long ago little was none of the reasons for an eclipses, it was thought to be a sing from the gods. In a society which worshiped gods for all the mysteries of the world, the eclipse must have been very special. The builders of Stonehenge must have been marveled at the sight of this holy event, which happened every four years. Most likely the great Stonehenge was built to be a prediction device for the eclipse. Many people have studied Stonehenge and many have found that the stones are mathematically placed to show when and eclipse might occur. "In favor of this solution - that the Aubrey holes were used as a computer are these facts: the number 56 is the smallest number that measures the swing of the moon with an over-all accuracy of better than 3 days, and lunar cycles provide the only method of long-range eclipse prediction related to the seasons of the year."</a:t>
            </a:r>
            <a:endParaRPr b="0" lang="en-US" sz="1800" spc="-1" strike="noStrike">
              <a:solidFill>
                <a:srgbClr val="ffffff"/>
              </a:solidFill>
              <a:latin typeface="Tahoma"/>
            </a:endParaRPr>
          </a:p>
        </p:txBody>
      </p:sp>
    </p:spTree>
  </p:cSld>
  <p:transition spd="med">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unday stone</a:t>
            </a:r>
            <a:endParaRPr b="0" lang="en-US" sz="4400" spc="-1" strike="noStrike">
              <a:solidFill>
                <a:srgbClr val="ffffff"/>
              </a:solidFill>
              <a:latin typeface="Tahoma"/>
            </a:endParaRPr>
          </a:p>
        </p:txBody>
      </p:sp>
      <p:pic>
        <p:nvPicPr>
          <p:cNvPr id="565" name="Picture 6" descr="hjjj"/>
          <p:cNvPicPr/>
          <p:nvPr/>
        </p:nvPicPr>
        <p:blipFill>
          <a:blip r:embed="rId1"/>
          <a:stretch/>
        </p:blipFill>
        <p:spPr>
          <a:xfrm>
            <a:off x="3029040" y="1905120"/>
            <a:ext cx="3703680" cy="4332240"/>
          </a:xfrm>
          <a:prstGeom prst="rect">
            <a:avLst/>
          </a:prstGeom>
          <a:ln w="0">
            <a:noFill/>
          </a:ln>
        </p:spPr>
      </p:pic>
      <p:sp>
        <p:nvSpPr>
          <p:cNvPr id="566" name="Rectangle 7"/>
          <p:cNvSpPr/>
          <p:nvPr/>
        </p:nvSpPr>
        <p:spPr>
          <a:xfrm>
            <a:off x="0" y="5942160"/>
            <a:ext cx="720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f course when researching anything you come across facts and fiction. Stories say that Stonehenge was associated with Merlin and King Arthur. </a:t>
            </a:r>
            <a:endParaRPr b="0" lang="en-US" sz="1800" spc="-1" strike="noStrike">
              <a:solidFill>
                <a:srgbClr val="ffffff"/>
              </a:solidFill>
              <a:latin typeface="Tahoma"/>
            </a:endParaRPr>
          </a:p>
        </p:txBody>
      </p:sp>
    </p:spTree>
  </p:cSld>
  <p:transition spd="med">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any tourist visited it. </a:t>
            </a:r>
            <a:endParaRPr b="0" lang="en-US" sz="4400" spc="-1" strike="noStrike">
              <a:solidFill>
                <a:srgbClr val="ffffff"/>
              </a:solidFill>
              <a:latin typeface="Tahoma"/>
            </a:endParaRPr>
          </a:p>
        </p:txBody>
      </p:sp>
      <p:pic>
        <p:nvPicPr>
          <p:cNvPr id="568" name="Picture 6" descr="ауцаа"/>
          <p:cNvPicPr/>
          <p:nvPr/>
        </p:nvPicPr>
        <p:blipFill>
          <a:blip r:embed="rId1"/>
          <a:stretch/>
        </p:blipFill>
        <p:spPr>
          <a:xfrm>
            <a:off x="2340000" y="2060640"/>
            <a:ext cx="5327640" cy="4392720"/>
          </a:xfrm>
          <a:prstGeom prst="rect">
            <a:avLst/>
          </a:prstGeom>
          <a:ln w="0">
            <a:noFill/>
          </a:ln>
        </p:spPr>
      </p:pic>
      <p:sp>
        <p:nvSpPr>
          <p:cNvPr id="569" name="Rectangle 7"/>
          <p:cNvSpPr/>
          <p:nvPr/>
        </p:nvSpPr>
        <p:spPr>
          <a:xfrm>
            <a:off x="0" y="6216480"/>
            <a:ext cx="834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year people come on this place. Are interested in this place and tourists, archeologists, geographers, and simply usual people living nearby Stonehenge</a:t>
            </a:r>
            <a:endParaRPr b="0" lang="en-US" sz="1800" spc="-1" strike="noStrike">
              <a:solidFill>
                <a:srgbClr val="ffffff"/>
              </a:solidFill>
              <a:latin typeface="Tahoma"/>
            </a:endParaRPr>
          </a:p>
        </p:txBody>
      </p:sp>
    </p:spTree>
  </p:cSld>
  <p:transition spd="med">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3T08:25:46Z</dcterms:created>
  <dc:creator>User-</dc:creator>
  <dc:description/>
  <dc:language>en-US</dc:language>
  <cp:lastModifiedBy>Директор</cp:lastModifiedBy>
  <dcterms:modified xsi:type="dcterms:W3CDTF">2017-01-16T12:58:31Z</dcterms:modified>
  <cp:revision>6</cp:revision>
  <dc:subject/>
  <dc:title>Stonehenge</dc:title>
</cp:coreProperties>
</file>