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E711-4555-4A17-B769-36242A2FE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BAF3-D61E-42D2-9D7E-21B2B5B67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9D7E-3017-4C7D-B186-A8C929C27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6C7B-F1D3-4A18-A76E-9A9AA990C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CC23-3572-469C-BB18-F7FD0D7DE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2C2A-ED12-4936-B4D3-465F9E343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8346-713A-41D9-BE9E-99BE9EC79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C7A0-C497-4A8B-B3A6-9714A15EE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A796-18A0-4C85-88A1-208C7F074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6A65-298E-4F65-A034-5B79B30A4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7F5A-7D25-47A0-AD20-E5704AF9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107C-52D4-41C2-B648-BFED5B75A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37FC5-5C69-4D55-93F1-3EF756BAF9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4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3"/>
          <p:cNvSpPr/>
          <p:nvPr/>
        </p:nvSpPr>
        <p:spPr>
          <a:xfrm>
            <a:off x="4290840" y="1023840"/>
            <a:ext cx="485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Углы, связанные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с окружностью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5770440" y="2782800"/>
            <a:ext cx="315432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ометрия, 8 класс, УМК Смирнова И.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ушина А.А., учитель математи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сеево, МБОУ «Тасеевская СОШ №2», 2016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3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5"/>
          <p:cNvSpPr/>
          <p:nvPr/>
        </p:nvSpPr>
        <p:spPr>
          <a:xfrm>
            <a:off x="2745000" y="405720"/>
            <a:ext cx="376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Центральный уго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6"/>
          <p:cNvSpPr/>
          <p:nvPr/>
        </p:nvSpPr>
        <p:spPr>
          <a:xfrm>
            <a:off x="525600" y="1309680"/>
            <a:ext cx="45306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Центральный угол – это угол в окружности с вершиной в ее центр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216400" y="1943280"/>
            <a:ext cx="3216240" cy="3141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738440" y="3527280"/>
            <a:ext cx="3369960" cy="7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5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2"/>
          <p:cNvSpPr/>
          <p:nvPr/>
        </p:nvSpPr>
        <p:spPr>
          <a:xfrm>
            <a:off x="2746440" y="405720"/>
            <a:ext cx="33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Вписанный уго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3"/>
          <p:cNvSpPr/>
          <p:nvPr/>
        </p:nvSpPr>
        <p:spPr>
          <a:xfrm>
            <a:off x="314280" y="1273320"/>
            <a:ext cx="533412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писанный угол – это угол в окружности, вершина которого лежит на окружности, а стороны пересекают эту окружн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187960" y="2382840"/>
            <a:ext cx="3595680" cy="2871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2090880" y="4800600"/>
            <a:ext cx="2725560" cy="10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5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2"/>
          <p:cNvSpPr/>
          <p:nvPr/>
        </p:nvSpPr>
        <p:spPr>
          <a:xfrm>
            <a:off x="2744280" y="405720"/>
            <a:ext cx="186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Теорем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3"/>
          <p:cNvSpPr/>
          <p:nvPr/>
        </p:nvSpPr>
        <p:spPr>
          <a:xfrm>
            <a:off x="512640" y="1098720"/>
            <a:ext cx="4691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писанный угол равен половине центрального угла, опирающегося на ту же дугу окруж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2"/>
          <p:cNvSpPr/>
          <p:nvPr/>
        </p:nvSpPr>
        <p:spPr>
          <a:xfrm>
            <a:off x="2987640" y="3463560"/>
            <a:ext cx="22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Следств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оугольник 3"/>
          <p:cNvSpPr/>
          <p:nvPr/>
        </p:nvSpPr>
        <p:spPr>
          <a:xfrm>
            <a:off x="642960" y="4083120"/>
            <a:ext cx="46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писанные углы, опирающиеся на одну и ту же дугу окружности, равн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002280" y="3746520"/>
            <a:ext cx="2552760" cy="2724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5541840" y="871560"/>
            <a:ext cx="258156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5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3"/>
          <p:cNvSpPr/>
          <p:nvPr/>
        </p:nvSpPr>
        <p:spPr>
          <a:xfrm>
            <a:off x="512640" y="1098720"/>
            <a:ext cx="4691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Вписанный угол, опирающийся на диаметр - прямо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040360" y="2205000"/>
            <a:ext cx="3487680" cy="33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5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160200" y="914400"/>
            <a:ext cx="914400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дач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йти вписанный угол, если центральный равен 60 градус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056040" y="2254320"/>
            <a:ext cx="3052800" cy="33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5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160200" y="914400"/>
            <a:ext cx="914400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дач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ентральный угол на 36 градусов больше вписанного. Найти центральный и вписанный угл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030480" y="2678040"/>
            <a:ext cx="329400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5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5856120" y="371520"/>
            <a:ext cx="30895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р. 14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2, 3, 4, 11, 13, 1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258840"/>
            <a:ext cx="5829480" cy="62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9T05:52:05Z</dcterms:created>
  <dc:creator>Михаил Горяйнов</dc:creator>
  <dc:description/>
  <dc:language>en-US</dc:language>
  <cp:lastModifiedBy>Admin</cp:lastModifiedBy>
  <dcterms:modified xsi:type="dcterms:W3CDTF">2017-01-16T01:09:22Z</dcterms:modified>
  <cp:revision>27</cp:revision>
  <dc:subject/>
  <dc:title>Презентация PowerPoint</dc:title>
</cp:coreProperties>
</file>