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D32-26D7-434C-A879-CFD548C0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3C0E-C464-4EB4-A9B4-06F21816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9D9-E286-47D9-A1D5-50FAF46E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0EE-1E58-4040-B36F-F09B8FFD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72E6-28DD-45A7-AA4C-FADC682A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124-0134-4D98-8E53-1C1979E8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A071-96BC-4FFC-9358-2C62509A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1EDB-CBBD-4B95-94E3-2F85EFCE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03C-90E0-4DAF-A531-26A918CC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28F-A8D9-4A3F-AE4F-27B55DBA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04A-B02A-48A5-AF88-D67744C3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069-63A8-4BDF-98F2-488D351D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0CDB-3C2D-4BB8-9CB7-D061A5EAB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3"/>
          <p:cNvSpPr/>
          <p:nvPr/>
        </p:nvSpPr>
        <p:spPr>
          <a:xfrm>
            <a:off x="4290840" y="1023840"/>
            <a:ext cx="48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Углы, связанны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с окружность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5770440" y="2782800"/>
            <a:ext cx="31543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ометрия, 8 класс, УМК Смирнова И.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ушина А.А., учитель математи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сеево, МБОУ «Тасеевская СОШ №2», 2016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2745000" y="405720"/>
            <a:ext cx="376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Центральный уг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525600" y="1309680"/>
            <a:ext cx="45306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нтральный угол – это угол в окружности с вершиной в ее цент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16400" y="1943280"/>
            <a:ext cx="3216240" cy="314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738440" y="3527280"/>
            <a:ext cx="3369960" cy="7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2746440" y="40572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писанный уго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314280" y="1273320"/>
            <a:ext cx="53341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писанный угол – это угол в окружности, вершина которого лежит на окружности, а стороны пересекают эту окруж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7960" y="2382840"/>
            <a:ext cx="3595680" cy="2871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090880" y="4800600"/>
            <a:ext cx="272556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2"/>
          <p:cNvSpPr/>
          <p:nvPr/>
        </p:nvSpPr>
        <p:spPr>
          <a:xfrm>
            <a:off x="2744280" y="405720"/>
            <a:ext cx="18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Теор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12640" y="1098720"/>
            <a:ext cx="4691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писанный угол равен половине центрального угла, опирающегося на ту же дугу окруж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2987640" y="346356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ледств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642960" y="4083120"/>
            <a:ext cx="46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писанные углы, опирающиеся на одну и ту же дугу окружности, рав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002280" y="3746520"/>
            <a:ext cx="2552760" cy="272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541840" y="871560"/>
            <a:ext cx="258156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512640" y="1098720"/>
            <a:ext cx="4691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писанный угол, опирающийся на диаметр - прям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040360" y="2205000"/>
            <a:ext cx="34876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60200" y="914400"/>
            <a:ext cx="91440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ти вписанный угол, если центральный равен 60 граду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56040" y="2254320"/>
            <a:ext cx="30528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160200" y="914400"/>
            <a:ext cx="914400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нтральный угол на 36 градусов больше вписанного. Найти центральный и вписанный угл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030480" y="2678040"/>
            <a:ext cx="329400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5856120" y="371520"/>
            <a:ext cx="3089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14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2, 3, 4, 11, 13, 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258840"/>
            <a:ext cx="582948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Admin</cp:lastModifiedBy>
  <dcterms:modified xsi:type="dcterms:W3CDTF">2017-01-16T01:09:22Z</dcterms:modified>
  <cp:revision>27</cp:revision>
  <dc:subject/>
  <dc:title>Презентация PowerPoint</dc:title>
</cp:coreProperties>
</file>