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DCC-6C30-4699-9A20-D544AA2C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6169-202F-4F71-BB27-767D0FB9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B6D9-86BC-48EE-90BD-CEB50C991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F41-A625-4171-AD04-310F4965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2A5C-84E4-4610-87DC-B5CC40415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5676-C5DF-412F-B7F8-837F91D6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ED74-B58E-4799-A47B-67C50916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C5A8-ABAB-48B6-8BF8-9ECDF372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4C37-D2A9-4C7D-A5F9-F2247466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5056-8795-49D9-A3A0-056DF599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7D6D-3DDC-4AF9-ABAA-99727B7C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FEC-B019-414E-9F02-601D815C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0233-0B59-440B-9782-1C660053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77A5-9123-41E3-B871-43E715F9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3094-9AA4-47EA-8D1E-2A4E2E80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3AA2-6B02-4048-818C-86B916C0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30E4-83A1-4635-B4D1-830946A5B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237-B44B-4B32-BD6D-49100250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724-AD31-4B0B-840E-6F8CEF8B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4E8-37EF-4800-A99A-596D495C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24F-A56C-40DE-9112-479592EA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999-9B17-467E-8B00-140EF330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DC9-2077-416C-853F-8C5A954B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E37-2C3E-45CB-B9F3-51A7EA96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952A-B664-49EE-B185-52F3249BA785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1781-C7C3-47C9-AD23-9E5D2D65BA69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Антон</cp:lastModifiedBy>
  <dcterms:modified xsi:type="dcterms:W3CDTF">2009-02-06T12:45:38Z</dcterms:modified>
  <cp:revision>9</cp:revision>
  <dc:subject/>
  <dc:title>22 апреля - День Земли </dc:title>
</cp:coreProperties>
</file>