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2F1-120F-49F8-AAE5-C22DA38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9D9-E635-4763-90B2-28A5B22C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103-264C-4E50-9D57-F289BD80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AD0-A9B6-40AC-8FFB-91205AC7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4FBA-0F8A-43D5-A2B5-3E5DA0E9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BE1E-ED1E-4AB4-AC4A-48066DF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26E2-A94C-4914-9CFF-EBFB382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5527-8E78-4D28-A093-43AA812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1BFA-49EB-4709-BCC1-2A66928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EEF-953E-4DAE-93F7-81D060DE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B29A-F9D7-41E3-9FAC-733935A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5A0-F31C-462D-8AF2-AFFCA8C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E304-4206-44F1-9080-7936BC3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0EB3-471C-4D03-9743-4519D3C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0286-E9B2-441A-8B2B-DCE76C18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3862-436A-471B-B349-F1361CFE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915-F79A-409F-A630-BD59E3D4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ED6-B7BC-4101-93D5-395D4CE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934-0973-4C2A-9032-06C848E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2DD-9F46-4587-BAE1-45DCA7E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233-3D15-4F05-8BE6-E33F23F6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529-3C73-43F1-BA23-F7AE932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A27-A59A-4749-8BFE-2C955E4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1E7-F2D1-432E-988B-8EC2B45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17F0-7C5B-4F43-83C7-C73F842FF243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8CF-6B2F-43A9-A82B-0EA8F3846B1B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Антон</cp:lastModifiedBy>
  <dcterms:modified xsi:type="dcterms:W3CDTF">2009-02-06T12:45:38Z</dcterms:modified>
  <cp:revision>9</cp:revision>
  <dc:subject/>
  <dc:title>22 апреля - День Земли </dc:title>
</cp:coreProperties>
</file>