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44.jpeg" ContentType="image/jpeg"/>
  <Override PartName="/ppt/media/image3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9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5.jpeg" ContentType="image/jpeg"/>
  <Override PartName="/ppt/media/image2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A9F-2EFB-4B16-8131-D2E19584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0BA-FED6-477B-9DCB-1DA1F9ED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F33C-E37A-46B7-8AC9-D17DD24E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D720-4A17-499E-8955-502DE4CF5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9DF3-25EB-4940-B8DD-DD0CD1D3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F0AB-6B84-468A-B0E4-AFC0BF20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AAD1C-EEB0-4999-92CA-64E9C720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D802-02CD-4875-A116-CC1D6AA4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43F9-64F4-47FA-9D64-B5431F88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DE8C-55AD-4085-8B81-BA352A43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A651-0F2B-46E5-AA86-2A27C3FF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BD19-F965-40B1-8C67-DB747D26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4A25-3189-4326-9A4D-6490E525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99B1-1EBD-49B6-979C-C9F08627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EADA-6B92-404F-8CE5-B6EC465D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8709-A7C4-4577-A2F5-1F5A22AA9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9EF1-9439-4EB4-A8B8-FB92C290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CF72-3DA6-438E-B92C-91014C90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4B553-A5E0-4AEA-9F62-D34DBEB7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2AEEB-D64E-4503-81B6-25DDFB32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59137-4DAB-48FA-918F-F2C9F339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054AD-7DFE-44BD-BEC6-59FF0E89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7DAE-61DF-49BA-BD41-A11213A6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0773-B42B-4F3C-80AE-A1624F1A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09E49-1BFC-49D1-8FE3-B73A9FBA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CF74-595D-4248-AE21-C1A4E793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D3897-E310-45E1-A3A2-78722B30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37CB9-FDB0-467A-B16F-3FC8A3CE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222B2-7D62-417D-A61F-ED6CC775C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F5CA1-A739-49DA-B160-B80CEF4A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CA8F7-7CFA-4204-82CA-4E5B8A9AC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E6DF2-33B3-4D09-8155-3E2D1A83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800F3-1461-4EF0-B7C0-C5556C25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D8A-5504-44EE-9541-D18C4041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377C9-BDCF-4628-BD70-9CCF34C8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C374C-EB7A-40DA-87E0-DBDBE676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B626A-5987-4AB0-9A1E-56C46F81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F876D-C0ED-4D36-AA83-307AF003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AD4E2-2F1D-4660-ABC4-58DA86C1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DF8D9-24F1-47CB-BB54-4AE480CD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1F9D0-3F5D-4CAA-951E-797DFC83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0A710-7976-4959-8851-E95BD517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4D239-7133-40D1-816C-C3FCF48F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D86-5BDC-47B5-8F67-A31FDFCE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69BC-6B78-4F0E-A51F-9D1F4569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99B0-D823-43FB-966C-1BE58944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3A14-2FE0-4496-BFCA-3747ED92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B84-66BB-42F6-8D9C-812B458D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3397B-F579-4FA9-A0F8-4A259F0BB1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1291-4E38-4035-B2A1-DB0680D7B9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28A1-2F8E-4DEF-BB76-AED5BF895D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5C75-F7AA-4185-B5DB-EC2FB6C857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ru.wikipedia.org/wiki/&#1048;&#1079;&#1086;&#1073;&#1088;&#1072;&#1078;&#1077;&#1085;&#1080;&#1077;:Coat_of_Arms_of_Khabarovsky_kray_(N2).png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9" descr="C:\Users\user\Desktop\03.jpg"/>
          <p:cNvPicPr/>
          <p:nvPr/>
        </p:nvPicPr>
        <p:blipFill>
          <a:blip r:embed="rId2"/>
          <a:stretch/>
        </p:blipFill>
        <p:spPr>
          <a:xfrm>
            <a:off x="324000" y="476280"/>
            <a:ext cx="8424720" cy="596412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2"/>
          <p:cNvSpPr/>
          <p:nvPr/>
        </p:nvSpPr>
        <p:spPr>
          <a:xfrm>
            <a:off x="2050920" y="1484280"/>
            <a:ext cx="74520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imes New Roman"/>
              </a:rPr>
              <a:t>            </a:t>
            </a:r>
            <a:r>
              <a:rPr b="1" lang="ru-RU" sz="3500" spc="-1" strike="noStrike">
                <a:solidFill>
                  <a:srgbClr val="800000"/>
                </a:solidFill>
                <a:latin typeface="Times New Roman"/>
              </a:rPr>
              <a:t>Урок Знаний на тему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800000"/>
                </a:solidFill>
                <a:latin typeface="Times New Roman"/>
              </a:rPr>
              <a:t>«С чего начинается Родина?»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4071960" y="3789360"/>
            <a:ext cx="426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оставил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Учитель МБСОУ СОШ № 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ихайлова Наталия Евгеньев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3"/>
          <p:cNvSpPr/>
          <p:nvPr/>
        </p:nvSpPr>
        <p:spPr>
          <a:xfrm>
            <a:off x="537480" y="3284640"/>
            <a:ext cx="34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Герб Российской федераци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2124000" y="4005360"/>
            <a:ext cx="51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Также у Российской федерации есть гим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оугольник 5"/>
          <p:cNvSpPr/>
          <p:nvPr/>
        </p:nvSpPr>
        <p:spPr>
          <a:xfrm>
            <a:off x="5004360" y="3284640"/>
            <a:ext cx="348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00"/>
                </a:solidFill>
                <a:latin typeface="Times New Roman"/>
              </a:rPr>
              <a:t>Флаг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5" descr="File:Coat of Arms of the Russian Federation.svg"/>
          <p:cNvPicPr/>
          <p:nvPr/>
        </p:nvPicPr>
        <p:blipFill>
          <a:blip r:embed="rId1"/>
          <a:stretch/>
        </p:blipFill>
        <p:spPr>
          <a:xfrm>
            <a:off x="971640" y="981000"/>
            <a:ext cx="1871640" cy="2219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Flag of Russia.svg"/>
          <p:cNvPicPr/>
          <p:nvPr/>
        </p:nvPicPr>
        <p:blipFill>
          <a:blip r:embed="rId2"/>
          <a:stretch/>
        </p:blipFill>
        <p:spPr>
          <a:xfrm>
            <a:off x="5292720" y="1125360"/>
            <a:ext cx="2801880" cy="1872000"/>
          </a:xfrm>
          <a:prstGeom prst="rect">
            <a:avLst/>
          </a:prstGeom>
          <a:ln w="19080">
            <a:solidFill>
              <a:srgbClr val="ff6600"/>
            </a:solidFill>
            <a:miter/>
          </a:ln>
        </p:spPr>
      </p:pic>
      <p:sp>
        <p:nvSpPr>
          <p:cNvPr id="194" name="Прямоугольник 8"/>
          <p:cNvSpPr/>
          <p:nvPr/>
        </p:nvSpPr>
        <p:spPr>
          <a:xfrm>
            <a:off x="1116000" y="48690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00000"/>
                </a:solidFill>
                <a:latin typeface="Times New Roman"/>
              </a:rPr>
              <a:t>Все символы государства означают его независимость, они подчёркивают особенности и самые значимые страницы нашего государст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Хабаровский край – это так далеко!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Добраться сюда будет вам нелегко.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Хотим познакомить вас с краем заочно.</a:t>
            </a:r>
            <a:br>
              <a:rPr sz="2800"/>
            </a:br>
            <a:r>
              <a:rPr b="0" lang="ru-RU" sz="2800" spc="-1" strike="noStrike">
                <a:solidFill>
                  <a:srgbClr val="0d0d0d"/>
                </a:solidFill>
                <a:latin typeface="Times New Roman"/>
              </a:rPr>
              <a:t>Суров, но красив он – это уж точно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Содержимое 4" descr="map_rus.gif"/>
          <p:cNvPicPr/>
          <p:nvPr/>
        </p:nvPicPr>
        <p:blipFill>
          <a:blip r:embed="rId1"/>
          <a:stretch/>
        </p:blipFill>
        <p:spPr>
          <a:xfrm>
            <a:off x="77760" y="2349360"/>
            <a:ext cx="4925880" cy="3024360"/>
          </a:xfrm>
          <a:prstGeom prst="rect">
            <a:avLst/>
          </a:prstGeom>
          <a:ln w="0">
            <a:noFill/>
          </a:ln>
        </p:spPr>
      </p:pic>
      <p:pic>
        <p:nvPicPr>
          <p:cNvPr id="197" name="Содержимое 5" descr="priroda2.jpg"/>
          <p:cNvPicPr/>
          <p:nvPr/>
        </p:nvPicPr>
        <p:blipFill>
          <a:blip r:embed="rId2"/>
          <a:stretch/>
        </p:blipFill>
        <p:spPr>
          <a:xfrm>
            <a:off x="5003640" y="2349360"/>
            <a:ext cx="3889440" cy="3024360"/>
          </a:xfrm>
          <a:prstGeom prst="rect">
            <a:avLst/>
          </a:prstGeom>
          <a:ln w="0">
            <a:noFill/>
          </a:ln>
        </p:spPr>
      </p:pic>
    </p:spTree>
  </p:cSld>
  <p:transition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395280" y="907920"/>
            <a:ext cx="84978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Любовь к Отчизне начинается с любви к своей малой Родине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–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</a:rPr>
              <a:t>месту, где родился человек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оугольник 5"/>
          <p:cNvSpPr/>
          <p:nvPr/>
        </p:nvSpPr>
        <p:spPr>
          <a:xfrm>
            <a:off x="2275560" y="5732640"/>
            <a:ext cx="54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Моя малая Родина – город Хабаров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2" descr=""/>
          <p:cNvPicPr/>
          <p:nvPr/>
        </p:nvPicPr>
        <p:blipFill>
          <a:blip r:embed="rId1"/>
          <a:stretch/>
        </p:blipFill>
        <p:spPr>
          <a:xfrm>
            <a:off x="500040" y="1857240"/>
            <a:ext cx="3429000" cy="378648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7"/>
          <p:cNvSpPr/>
          <p:nvPr/>
        </p:nvSpPr>
        <p:spPr>
          <a:xfrm>
            <a:off x="4429080" y="1785960"/>
            <a:ext cx="392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Центр – г. Хабаровск (610 тыс.человек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ата образования края – 20 октября 1938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лощадь территории - 778, 6 тыс. кв. 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7720"/>
                <a:tab algn="l" pos="2035080"/>
                <a:tab algn="l" pos="3052800"/>
                <a:tab algn="l" pos="4070520"/>
                <a:tab algn="l" pos="5087880"/>
                <a:tab algn="l" pos="6105600"/>
                <a:tab algn="l" pos="7122960"/>
                <a:tab algn="l" pos="8140680"/>
                <a:tab algn="l" pos="9158400"/>
                <a:tab algn="l" pos="101757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Численность населения – 1,557,4 тыс. ч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713880"/>
            <a:ext cx="4174920" cy="535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ЕОГРАФИЧЕСКОЕ ПОЛОЖЕНИ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ай расположен в центральной части южной половины российского Дальнего Востока, граничит с Приморским краем, Еврейской автономной областью, Амурской и Магаданской областя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осударственная граница с Китае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мывается Охотским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понским морями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тарским проливом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2" descr="Карта Хабаровского края"/>
          <p:cNvPicPr/>
          <p:nvPr/>
        </p:nvPicPr>
        <p:blipFill>
          <a:blip r:embed="rId1"/>
          <a:stretch/>
        </p:blipFill>
        <p:spPr>
          <a:xfrm>
            <a:off x="4929120" y="928800"/>
            <a:ext cx="3621240" cy="50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24000" y="1600200"/>
            <a:ext cx="476244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лаг Хабаровского кр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лаг Хабаровского края представляет собой прямоугольное полотнище, разделенное  на три части 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9" descr="Флаг Хабаровского края"/>
          <p:cNvPicPr/>
          <p:nvPr/>
        </p:nvPicPr>
        <p:blipFill>
          <a:blip r:embed="rId1"/>
          <a:stretch/>
        </p:blipFill>
        <p:spPr>
          <a:xfrm rot="20939400">
            <a:off x="899640" y="1628640"/>
            <a:ext cx="2291040" cy="15274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мволы Хабаровского кр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7" descr="Герб Хабаровского кра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3080" y="3357720"/>
            <a:ext cx="2505240" cy="26287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18"/>
          <p:cNvSpPr/>
          <p:nvPr/>
        </p:nvSpPr>
        <p:spPr>
          <a:xfrm>
            <a:off x="0" y="3500280"/>
            <a:ext cx="49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Герб Хабаров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центре щита, серебра (белого) цвета, на почетном месте, изображена мощная естественная фигура сидящего на задних лапах черного цвета белогрудого медведя, который передними лапами бережно удерживает (прижимает к груди) герб Хабаровска - краевого центра Хабаровского кра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0000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9152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ое устройство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абаровский край включае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7 административных район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 город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9 поселков городского тип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11" descr="Административно-территориальное деление Хабаровского края"/>
          <p:cNvPicPr/>
          <p:nvPr/>
        </p:nvPicPr>
        <p:blipFill>
          <a:blip r:embed="rId1"/>
          <a:stretch/>
        </p:blipFill>
        <p:spPr>
          <a:xfrm>
            <a:off x="5145120" y="1052640"/>
            <a:ext cx="3159000" cy="580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ря Хабаровского кр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48320" y="1268280"/>
            <a:ext cx="4038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Востока край омы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хотским и Японским мор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 острова Сахалин отделя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оливами Татарский и Невельского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Линия побережья протянулась на 2,5 тыс. км. Помимо основной, континентальной части, в состав края входя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есколько остров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среди них самые крупные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Шантар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8" descr="05 09 01 099"/>
          <p:cNvPicPr/>
          <p:nvPr/>
        </p:nvPicPr>
        <p:blipFill>
          <a:blip r:embed="rId1"/>
          <a:stretch/>
        </p:blipFill>
        <p:spPr>
          <a:xfrm>
            <a:off x="684360" y="1268280"/>
            <a:ext cx="3240000" cy="2503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100_2365"/>
          <p:cNvPicPr/>
          <p:nvPr/>
        </p:nvPicPr>
        <p:blipFill>
          <a:blip r:embed="rId2"/>
          <a:stretch/>
        </p:blipFill>
        <p:spPr>
          <a:xfrm>
            <a:off x="0" y="3924360"/>
            <a:ext cx="5003640" cy="2933640"/>
          </a:xfrm>
          <a:prstGeom prst="rect">
            <a:avLst/>
          </a:prstGeom>
          <a:ln w="0">
            <a:noFill/>
          </a:ln>
        </p:spPr>
      </p:pic>
    </p:spTree>
  </p:cSld>
  <p:transition advTm="10000">
    <p:cover dir="d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ки Хабаровского кр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859280" y="1267920"/>
            <a:ext cx="4284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коло половины территории Хабаровского края омываю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токами Аму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иболее крупные из них: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Бурея, Тунгуска, Горюн, Амгунь, Уссури, Анюй, Гу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ки северо-западной части края - Мая, Учур (бассейн Лены). Реки бассейна Японского моря - Коппи и Тумнин, бассейна Охотского моря - Тугур, Уда, Урак, Охота, Ин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3" descr="map_l_2"/>
          <p:cNvPicPr/>
          <p:nvPr/>
        </p:nvPicPr>
        <p:blipFill>
          <a:blip r:embed="rId1"/>
          <a:stretch/>
        </p:blipFill>
        <p:spPr>
          <a:xfrm>
            <a:off x="179280" y="1413000"/>
            <a:ext cx="4608720" cy="54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селение кра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716000" y="1599840"/>
            <a:ext cx="3970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ав населения многонациональный. В крае проживают представители почти всех народностей Дальнего Востока: русские, нанайцы, ульчи, орочи, удэгейцы, нивхи, негидальцы, эвены, эвенки и д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8" descr="clip_image002"/>
          <p:cNvPicPr/>
          <p:nvPr/>
        </p:nvPicPr>
        <p:blipFill>
          <a:blip r:embed="rId1"/>
          <a:stretch/>
        </p:blipFill>
        <p:spPr>
          <a:xfrm>
            <a:off x="468360" y="1197000"/>
            <a:ext cx="4145040" cy="5661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3" descr="нанайцы"/>
          <p:cNvPicPr/>
          <p:nvPr/>
        </p:nvPicPr>
        <p:blipFill>
          <a:blip r:embed="rId2"/>
          <a:stretch/>
        </p:blipFill>
        <p:spPr>
          <a:xfrm>
            <a:off x="7451640" y="404640"/>
            <a:ext cx="1143000" cy="74304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появления русских на Амуре проживали племена дауров, эвенов, натков, гиляков и других народов- около 30 тысяч человек. Они ясака никому не платили, были независимыми. Первым экспедициям  на Амур поручалось приводить местное население в российское подданство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7" descr="71_211000"/>
          <p:cNvPicPr/>
          <p:nvPr/>
        </p:nvPicPr>
        <p:blipFill>
          <a:blip r:embed="rId1"/>
          <a:stretch/>
        </p:blipFill>
        <p:spPr>
          <a:xfrm>
            <a:off x="533520" y="285840"/>
            <a:ext cx="333360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00"/>
                </a:solidFill>
                <a:latin typeface="Times New Roman"/>
              </a:rPr>
              <a:t>Актуа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900000" y="300672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Times New Roman"/>
              </a:rPr>
              <a:t>Каждый уважающий себя человек должен знать историю своей Родины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линная дорога на Аму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рия освоения Дальнего Востока- Это история путешествий и славных дел русских землепроходцев, большинство из которых были простыми людьми без названий и титулов. Часто даже не подозревая, они совершали великие географические открытия. На глазах одного поколения граница России была перенесена с Урала на берега Тихого Океана. Вспоминая о том времени в канун дня рождения Хабаровска, нельзя не вспомнить о человеке, чье имя носит город и край,- Ерофее Хабаро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Ерофей Хаб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644720" y="1571760"/>
            <a:ext cx="4041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БАРОВ Ерофей Павлович, русский землепроходец и предпринимател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649-53 совершил поход с отрядом по Амуру от впадения в него р. Урки до низовий, в результате которого приамурское коренное население приняло русское подданство. Хабаров составил “Чертеж реке Амуру”. В 1655 он был произведен в дети боярские по г. Илимску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407196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уравьёв - Амурск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644720" y="1571400"/>
            <a:ext cx="4041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енный деятель и дипломат. С 1847 по 861 генерал-губернатор восточной Сибир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йствовал изучению и освоению края. Руководил экспедициями по Амуру в 1854-1855 год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писал Айгунский договор с Китаем в 1858 году от имени российского императо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392904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6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725720" cy="20779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651640" y="1052640"/>
            <a:ext cx="3030480" cy="24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5-ти тысячной купю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ажен мост через Амур и памятник Муравьёву-Амурском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8" descr="29"/>
          <p:cNvPicPr/>
          <p:nvPr/>
        </p:nvPicPr>
        <p:blipFill>
          <a:blip r:embed="rId2"/>
          <a:stretch/>
        </p:blipFill>
        <p:spPr>
          <a:xfrm>
            <a:off x="395280" y="4724280"/>
            <a:ext cx="8497800" cy="19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140000" y="404280"/>
            <a:ext cx="454644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й богат лесными, минеральными, рыбными и другими природными ресурсами. В Красную книгу Хабаровского края внесены 167 видов растений и грибов, 127 видов животных. Среди них есть редчайшие виды, внесенные в Международную Красную книг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Рисунок 13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1655640" cy="1133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P5100028"/>
          <p:cNvPicPr/>
          <p:nvPr/>
        </p:nvPicPr>
        <p:blipFill>
          <a:blip r:embed="rId2"/>
          <a:stretch/>
        </p:blipFill>
        <p:spPr>
          <a:xfrm>
            <a:off x="395280" y="4149720"/>
            <a:ext cx="1619280" cy="1214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06"/>
          <p:cNvPicPr/>
          <p:nvPr/>
        </p:nvPicPr>
        <p:blipFill>
          <a:blip r:embed="rId3"/>
          <a:srcRect l="0" t="0" r="208" b="26"/>
          <a:stretch/>
        </p:blipFill>
        <p:spPr>
          <a:xfrm>
            <a:off x="2843280" y="4508640"/>
            <a:ext cx="1311120" cy="2060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05"/>
          <p:cNvPicPr/>
          <p:nvPr/>
        </p:nvPicPr>
        <p:blipFill>
          <a:blip r:embed="rId4"/>
          <a:srcRect l="0" t="0" r="0" b="42"/>
          <a:stretch/>
        </p:blipFill>
        <p:spPr>
          <a:xfrm>
            <a:off x="2700360" y="2781360"/>
            <a:ext cx="1366920" cy="1297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0" descr="брусника"/>
          <p:cNvPicPr/>
          <p:nvPr/>
        </p:nvPicPr>
        <p:blipFill>
          <a:blip r:embed="rId5"/>
          <a:stretch/>
        </p:blipFill>
        <p:spPr>
          <a:xfrm>
            <a:off x="395280" y="5516640"/>
            <a:ext cx="1548000" cy="1077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05"/>
          <p:cNvPicPr/>
          <p:nvPr/>
        </p:nvPicPr>
        <p:blipFill>
          <a:blip r:embed="rId6"/>
          <a:stretch/>
        </p:blipFill>
        <p:spPr>
          <a:xfrm>
            <a:off x="539640" y="333360"/>
            <a:ext cx="3265560" cy="20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6195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баровский край - это и промышленный край. Машиностроение, лесная, металлургическая, нефтеперерабатывающая, пищевая промышленность, транспорт и связь - вот далеко не полный перечень сфер деятельности, в которых заняты жители кра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4" descr="29"/>
          <p:cNvPicPr/>
          <p:nvPr/>
        </p:nvPicPr>
        <p:blipFill>
          <a:blip r:embed="rId1"/>
          <a:stretch/>
        </p:blipFill>
        <p:spPr>
          <a:xfrm>
            <a:off x="5651640" y="2205000"/>
            <a:ext cx="2808000" cy="1665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29"/>
          <p:cNvPicPr/>
          <p:nvPr/>
        </p:nvPicPr>
        <p:blipFill>
          <a:blip r:embed="rId2"/>
          <a:srcRect l="0" t="0" r="0" b="-22"/>
          <a:stretch/>
        </p:blipFill>
        <p:spPr>
          <a:xfrm>
            <a:off x="6659640" y="333360"/>
            <a:ext cx="1944720" cy="1792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29"/>
          <p:cNvPicPr/>
          <p:nvPr/>
        </p:nvPicPr>
        <p:blipFill>
          <a:blip r:embed="rId3"/>
          <a:stretch/>
        </p:blipFill>
        <p:spPr>
          <a:xfrm>
            <a:off x="5651640" y="4076640"/>
            <a:ext cx="28796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д Амуром белым парусом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5" descr="070707_35"/>
          <p:cNvPicPr/>
          <p:nvPr/>
        </p:nvPicPr>
        <p:blipFill>
          <a:blip r:embed="rId1"/>
          <a:stretch/>
        </p:blipFill>
        <p:spPr>
          <a:xfrm>
            <a:off x="928800" y="1357200"/>
            <a:ext cx="7643880" cy="485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нтральным местом набережной и парка является Амурский утес. У подножия утеса, вверх по течению Амура, расположен городской пляж. По Амуру можно совершить прогулку. С борта теплохода открывается величественная панорама города, протянувшегося вдоль правого берега Амура более 50 км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5" descr="1riv"/>
          <p:cNvPicPr/>
          <p:nvPr/>
        </p:nvPicPr>
        <p:blipFill>
          <a:blip r:embed="rId1"/>
          <a:stretch/>
        </p:blipFill>
        <p:spPr>
          <a:xfrm>
            <a:off x="857160" y="3071880"/>
            <a:ext cx="771552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авной площадью города является площадь им. В.И. Ленина. Она внушительна по величине и оригинальна по оформлению. Сегодня площадь является местом, где ежегодно проводятся праздники, ярмарки, фестивали. Летом площадь выглядит огромным цветущим ковром. Традиционное украшение площади В. И. Ленина — фонтан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7" descr="ph133840"/>
          <p:cNvPicPr/>
          <p:nvPr/>
        </p:nvPicPr>
        <p:blipFill>
          <a:blip r:embed="rId1"/>
          <a:stretch/>
        </p:blipFill>
        <p:spPr>
          <a:xfrm>
            <a:off x="1397160" y="2928960"/>
            <a:ext cx="674676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Доходный дом Плюсниных). Ныне дальневосточная государственная научная библиот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00720" y="1356840"/>
            <a:ext cx="41860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та библиотека – крупнейшая на Дальнем Востоке, в её фондах хранится около трёх миллионов книг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4" descr="lib1"/>
          <p:cNvPicPr/>
          <p:nvPr/>
        </p:nvPicPr>
        <p:blipFill>
          <a:blip r:embed="rId1"/>
          <a:stretch/>
        </p:blipFill>
        <p:spPr>
          <a:xfrm>
            <a:off x="928800" y="1428840"/>
            <a:ext cx="364320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5"/>
          <p:cNvSpPr/>
          <p:nvPr/>
        </p:nvSpPr>
        <p:spPr>
          <a:xfrm>
            <a:off x="1479240" y="836640"/>
            <a:ext cx="64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66"/>
                </a:solidFill>
                <a:latin typeface="Times New Roman"/>
              </a:rPr>
              <a:t>С чего начинается Родина</a:t>
            </a:r>
            <a:r>
              <a:rPr b="0" lang="ru-RU" sz="4400" spc="-1" strike="noStrike">
                <a:solidFill>
                  <a:srgbClr val="cc0066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Прямоугольник 3"/>
          <p:cNvSpPr/>
          <p:nvPr/>
        </p:nvSpPr>
        <p:spPr>
          <a:xfrm>
            <a:off x="684360" y="1989000"/>
            <a:ext cx="813564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7000"/>
                </a:solidFill>
                <a:latin typeface="Times New Roman"/>
              </a:rPr>
              <a:t>С глаз мамы, с улыбки отца, с крохотной снежинки на твоей варежке, с первого слова, с вишни под твоим окном,  с друзей, с любви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00"/>
                </a:solidFill>
                <a:latin typeface="Times New Roman"/>
              </a:rPr>
              <a:t>У каждого человека свой ответ на этот во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6" descr="350926514[1]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263" name="Прямоугольник 2"/>
          <p:cNvSpPr/>
          <p:nvPr/>
        </p:nvSpPr>
        <p:spPr>
          <a:xfrm>
            <a:off x="324000" y="414972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45"/>
                </a:solidFill>
                <a:latin typeface="Times New Roman"/>
              </a:rPr>
              <a:t>Родина для каждого человека является самым близким и дорогим местом на всей земле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4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й кра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48320" y="713880"/>
            <a:ext cx="40384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й край далекий и родно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веки связан я с тоб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вои леса мне так родн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зера сердцу дорог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шины гор, ну просто сказк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ушки все из белой крас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воя тайга полна чудес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ягод вкусных в ней не сче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я живность здесь полна красы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люди к ней всегда добр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если ты попал сюд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 не уедешь никогд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здравных Денис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ник 10 б кла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У СОШ №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4" descr="залив"/>
          <p:cNvPicPr/>
          <p:nvPr/>
        </p:nvPicPr>
        <p:blipFill>
          <a:blip r:embed="rId1"/>
          <a:stretch/>
        </p:blipFill>
        <p:spPr>
          <a:xfrm>
            <a:off x="428760" y="714240"/>
            <a:ext cx="3400200" cy="26812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04"/>
          <p:cNvPicPr/>
          <p:nvPr/>
        </p:nvPicPr>
        <p:blipFill>
          <a:blip r:embed="rId2"/>
          <a:stretch/>
        </p:blipFill>
        <p:spPr>
          <a:xfrm>
            <a:off x="642960" y="3714840"/>
            <a:ext cx="2886120" cy="24289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7" descr="Колас"/>
          <p:cNvPicPr/>
          <p:nvPr/>
        </p:nvPicPr>
        <p:blipFill>
          <a:blip r:embed="rId1"/>
          <a:stretch/>
        </p:blipFill>
        <p:spPr>
          <a:xfrm>
            <a:off x="395280" y="981000"/>
            <a:ext cx="3552840" cy="511200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2"/>
          <p:cNvSpPr/>
          <p:nvPr/>
        </p:nvSpPr>
        <p:spPr>
          <a:xfrm>
            <a:off x="4211640" y="1628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Необходимо изучать историю своей Родины, чтобы стать достойным гражданином своей стра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3"/>
          <p:cNvSpPr/>
          <p:nvPr/>
        </p:nvSpPr>
        <p:spPr>
          <a:xfrm>
            <a:off x="4211640" y="3284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200"/>
                </a:solidFill>
                <a:latin typeface="Times New Roman"/>
              </a:rPr>
              <a:t>От малых дел рождается большая любовь к ближнему, семье, народу, Росс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1"/>
          <p:cNvSpPr/>
          <p:nvPr/>
        </p:nvSpPr>
        <p:spPr>
          <a:xfrm>
            <a:off x="4427640" y="836640"/>
            <a:ext cx="42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66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5"/>
          <p:cNvSpPr/>
          <p:nvPr/>
        </p:nvSpPr>
        <p:spPr>
          <a:xfrm>
            <a:off x="4211640" y="465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imes New Roman"/>
              </a:rPr>
              <a:t>Всё это мы называем –ПАТРИОТИЗМ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900000" y="2852640"/>
            <a:ext cx="77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1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3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240" y="5805360"/>
            <a:ext cx="55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 картинки в твоем букваре,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5" descr="06484b4d87989b5c9dbe57858cd"/>
          <p:cNvPicPr/>
          <p:nvPr/>
        </p:nvPicPr>
        <p:blipFill>
          <a:blip r:embed="rId1"/>
          <a:stretch/>
        </p:blipFill>
        <p:spPr>
          <a:xfrm>
            <a:off x="539640" y="333360"/>
            <a:ext cx="2786040" cy="4175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bukvar_02"/>
          <p:cNvPicPr/>
          <p:nvPr/>
        </p:nvPicPr>
        <p:blipFill>
          <a:blip r:embed="rId2"/>
          <a:stretch/>
        </p:blipFill>
        <p:spPr>
          <a:xfrm>
            <a:off x="4572000" y="184320"/>
            <a:ext cx="4314960" cy="3117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s320x240"/>
          <p:cNvPicPr/>
          <p:nvPr/>
        </p:nvPicPr>
        <p:blipFill>
          <a:blip r:embed="rId3"/>
          <a:stretch/>
        </p:blipFill>
        <p:spPr>
          <a:xfrm>
            <a:off x="6443640" y="3357720"/>
            <a:ext cx="2494080" cy="3311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bukv1"/>
          <p:cNvPicPr/>
          <p:nvPr/>
        </p:nvPicPr>
        <p:blipFill>
          <a:blip r:embed="rId4"/>
          <a:stretch/>
        </p:blipFill>
        <p:spPr>
          <a:xfrm>
            <a:off x="3132000" y="2852640"/>
            <a:ext cx="20876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91160" y="5589720"/>
            <a:ext cx="623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С хороших и верных товарищей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Живущих в соседнем двор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6" descr="145301_pic1"/>
          <p:cNvPicPr/>
          <p:nvPr/>
        </p:nvPicPr>
        <p:blipFill>
          <a:blip r:embed="rId1"/>
          <a:stretch/>
        </p:blipFill>
        <p:spPr>
          <a:xfrm>
            <a:off x="179280" y="404640"/>
            <a:ext cx="6121440" cy="463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1734276mfr"/>
          <p:cNvPicPr/>
          <p:nvPr/>
        </p:nvPicPr>
        <p:blipFill>
          <a:blip r:embed="rId2"/>
          <a:stretch/>
        </p:blipFill>
        <p:spPr>
          <a:xfrm>
            <a:off x="6372360" y="1916280"/>
            <a:ext cx="2577960" cy="37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198720" y="5589720"/>
            <a:ext cx="560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А может она начин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d0d0d"/>
                </a:solidFill>
                <a:latin typeface="Times New Roman"/>
              </a:rPr>
              <a:t>С той песни, что пела нам мать,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6" descr="01_1714"/>
          <p:cNvPicPr/>
          <p:nvPr/>
        </p:nvPicPr>
        <p:blipFill>
          <a:blip r:embed="rId1"/>
          <a:stretch/>
        </p:blipFill>
        <p:spPr>
          <a:xfrm>
            <a:off x="250920" y="260280"/>
            <a:ext cx="4354560" cy="5040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1233833001_mat-i-ditja"/>
          <p:cNvPicPr/>
          <p:nvPr/>
        </p:nvPicPr>
        <p:blipFill>
          <a:blip r:embed="rId2"/>
          <a:stretch/>
        </p:blipFill>
        <p:spPr>
          <a:xfrm>
            <a:off x="4932360" y="260280"/>
            <a:ext cx="4032360" cy="3630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0F808F13-9FE4-9350-ABE7-63A55D1115D3"/>
          <p:cNvPicPr/>
          <p:nvPr/>
        </p:nvPicPr>
        <p:blipFill>
          <a:blip r:embed="rId3"/>
          <a:stretch/>
        </p:blipFill>
        <p:spPr>
          <a:xfrm>
            <a:off x="6372360" y="407664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sk_20"/>
          <p:cNvPicPr/>
          <p:nvPr/>
        </p:nvPicPr>
        <p:blipFill>
          <a:blip r:embed="rId1"/>
          <a:stretch/>
        </p:blipFill>
        <p:spPr>
          <a:xfrm>
            <a:off x="395280" y="1341360"/>
            <a:ext cx="4321080" cy="443232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7"/>
          <p:cNvSpPr/>
          <p:nvPr/>
        </p:nvSpPr>
        <p:spPr>
          <a:xfrm>
            <a:off x="4788000" y="1341360"/>
            <a:ext cx="3889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 том, что такое Родина для каждого человека, сказано в мудрой русской песне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Человек без родины, что соловей без песни»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воей песней соловей зажигает сердца, пробуждает любовь, заставляет плакать, он наполняет мир несказанной красото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как соловей – песней, лишь Родиной силён, одухотворён, добр и красив челове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9280" y="4292280"/>
            <a:ext cx="8209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одиной мы называем страну, в котор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родилис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трана, в которой я родился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это Росс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5" descr="http://www.juntech.ru/1945/Papin/images/09928.png"/>
          <p:cNvPicPr/>
          <p:nvPr/>
        </p:nvPicPr>
        <p:blipFill>
          <a:blip r:embed="rId1"/>
          <a:stretch/>
        </p:blipFill>
        <p:spPr>
          <a:xfrm>
            <a:off x="1763640" y="981000"/>
            <a:ext cx="5616720" cy="332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3"/>
          <p:cNvSpPr/>
          <p:nvPr/>
        </p:nvSpPr>
        <p:spPr>
          <a:xfrm>
            <a:off x="755640" y="5229360"/>
            <a:ext cx="72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66"/>
                </a:solidFill>
                <a:latin typeface="Times New Roman"/>
              </a:rPr>
              <a:t>Столица Российского государства - Москв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http://i076.radikal.ru/0901/12/0de6bc968012.jpg"/>
          <p:cNvPicPr/>
          <p:nvPr/>
        </p:nvPicPr>
        <p:blipFill>
          <a:blip r:embed="rId1"/>
          <a:stretch/>
        </p:blipFill>
        <p:spPr>
          <a:xfrm>
            <a:off x="1476360" y="961920"/>
            <a:ext cx="5688000" cy="426744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7-01-17T10:33:17Z</dcterms:modified>
  <cp:revision>75</cp:revision>
  <dc:subject/>
  <dc:title>Слайд 1</dc:title>
</cp:coreProperties>
</file>