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49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1.jpeg" ContentType="image/jpeg"/>
  <Override PartName="/ppt/media/image35.jpeg" ContentType="image/jpeg"/>
  <Override PartName="/ppt/media/image2.jpeg" ContentType="image/jpeg"/>
  <Override PartName="/ppt/media/image36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44.jpeg" ContentType="image/jpeg"/>
  <Override PartName="/ppt/media/image33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6.jpeg" ContentType="image/jpeg"/>
  <Override PartName="/ppt/media/image18.png" ContentType="image/png"/>
  <Override PartName="/ppt/media/image41.jpeg" ContentType="image/jpeg"/>
  <Override PartName="/ppt/media/image45.jpeg" ContentType="image/jpeg"/>
  <Override PartName="/ppt/media/image43.jpeg" ContentType="image/jpeg"/>
  <Override PartName="/ppt/media/image46.jpeg" ContentType="image/jpeg"/>
  <Override PartName="/ppt/media/image9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14FD-4B6C-42E7-AD29-B4D631D8D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8152-7703-477C-AAEE-8E32C4DFB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6289-1F78-4B93-A0AC-5366FE1F5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711E-7BDF-4DB6-9EBE-080B80ECF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3BA7B-1339-42DB-8B23-3753696EE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0AAEE-254B-432D-8B4A-07053F268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17D02-7FDA-402D-9CCC-2216B5AB5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25904-901F-4DD8-BCF8-300DF9A7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5FDF1-4941-42FE-8C5A-D87E10B6E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1936A-B317-45D0-94A2-FC659B334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8C4CF-73FF-443A-8332-4683E69A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A01B-2DA1-46D6-A647-C6D88B800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525C1-8023-4B4C-96C9-9C5AA88B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64FE2-AAF7-43E3-A560-DC4BC2AE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5C990-3DBF-4EC2-A583-635D8F1EA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0F9B0-8B69-44CB-8840-DFEFDAC8E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70EAF-332D-418A-8AD7-7DA9CC258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503D7-D09E-4F28-8141-B6065BBC9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4536B-E88E-4975-9E1D-5B9134524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FF076-7941-4EA9-9FA3-2A77F590A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B0F84-3C86-479A-B492-2BD550179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3CEDA-E976-4EBE-8585-DF6A0D05A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31A7-97CF-47D6-BB0E-58C087AE5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CEDAC-1985-476B-A030-3A39A57EA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A3641-17DE-408C-BF58-838DAEB6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D21AA-E7DC-4906-94E0-89315FD2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2B095-D609-4567-AEDE-C405073C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84D3A-4906-4F48-A2E2-1B62DB1E0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FE6E0-64BC-4445-82BF-5C151BED6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2774D-D8D9-4FC8-A9BC-65D1D9E4D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FA361-044C-4A49-9F57-AB2CD328C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85857-5FE3-4AAF-B425-77784C482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0B687-D9C3-4850-9CE7-BDE4712DF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406E-4D0A-4242-81C8-A24DF8A3C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7D351-7BE4-4F1B-BC0B-288D42711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01B5A-ED12-48C9-BE2D-3C1B0D77B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633D6-5E13-4923-A1EA-1B2176BD4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335D2-F3FB-4E50-8EA1-63B2BAAC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1E49E-D3DB-4DB4-88E0-9FE15B94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D314E-96DB-4EFF-A506-99DA90BE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53027-9EAB-4813-9AE4-A519C205E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5A268-7708-4CAE-AE8F-6419BFADD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86D77-A9E1-4E06-BA07-BA309D556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7AE8-B752-4ADE-B875-3C81437A1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F0FB-A8C1-4769-9365-1EC6B0200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2C0F-A632-4603-B78F-E8E5033E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7D04-9E45-4899-AFB3-842A6F09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664D-DF61-4CE9-A03F-4F2DF9CB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F40CA-FDDE-44EF-9F91-5D3C476A6DC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26738-FF5D-4E63-BFC4-E4C2D512A53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6E1A1-B5DE-40BB-BBF9-D99690225C3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926E0-2BFF-41C1-BA2D-463BEBE8184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ru.wikipedia.org/wiki/&#1048;&#1079;&#1086;&#1073;&#1088;&#1072;&#1078;&#1077;&#1085;&#1080;&#1077;:Coat_of_Arms_of_Khabarovsky_kray_(N2).png" TargetMode="External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9" descr="C:\Users\user\Desktop\03.jpg"/>
          <p:cNvPicPr/>
          <p:nvPr/>
        </p:nvPicPr>
        <p:blipFill>
          <a:blip r:embed="rId2"/>
          <a:stretch/>
        </p:blipFill>
        <p:spPr>
          <a:xfrm>
            <a:off x="324000" y="476280"/>
            <a:ext cx="8424720" cy="596412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оугольник 2"/>
          <p:cNvSpPr/>
          <p:nvPr/>
        </p:nvSpPr>
        <p:spPr>
          <a:xfrm>
            <a:off x="2050920" y="1484280"/>
            <a:ext cx="745200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800000"/>
                </a:solidFill>
                <a:latin typeface="Times New Roman"/>
              </a:rPr>
              <a:t>            </a:t>
            </a:r>
            <a:r>
              <a:rPr b="1" lang="ru-RU" sz="3500" spc="-1" strike="noStrike">
                <a:solidFill>
                  <a:srgbClr val="800000"/>
                </a:solidFill>
                <a:latin typeface="Times New Roman"/>
              </a:rPr>
              <a:t>Урок Знаний на тему: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800000"/>
                </a:solidFill>
                <a:latin typeface="Times New Roman"/>
              </a:rPr>
              <a:t>«С чего начинается Родина?»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Прямоугольник 3"/>
          <p:cNvSpPr/>
          <p:nvPr/>
        </p:nvSpPr>
        <p:spPr>
          <a:xfrm>
            <a:off x="4071960" y="3789360"/>
            <a:ext cx="426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Составил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Учитель МБСОУ СОШ № 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Михайлова Наталия Евгеньевн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Прямоугольник 3"/>
          <p:cNvSpPr/>
          <p:nvPr/>
        </p:nvSpPr>
        <p:spPr>
          <a:xfrm>
            <a:off x="537480" y="3284640"/>
            <a:ext cx="34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00"/>
                </a:solidFill>
                <a:latin typeface="Times New Roman"/>
              </a:rPr>
              <a:t>Герб Российской федераци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Прямоугольник 4"/>
          <p:cNvSpPr/>
          <p:nvPr/>
        </p:nvSpPr>
        <p:spPr>
          <a:xfrm>
            <a:off x="2124000" y="4005360"/>
            <a:ext cx="51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00"/>
                </a:solidFill>
                <a:latin typeface="Times New Roman"/>
              </a:rPr>
              <a:t>Также у Российской федерации есть гим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Прямоугольник 5"/>
          <p:cNvSpPr/>
          <p:nvPr/>
        </p:nvSpPr>
        <p:spPr>
          <a:xfrm>
            <a:off x="5004360" y="3284640"/>
            <a:ext cx="348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00"/>
                </a:solidFill>
                <a:latin typeface="Times New Roman"/>
              </a:rPr>
              <a:t>Флаг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5" descr="File:Coat of Arms of the Russian Federation.svg"/>
          <p:cNvPicPr/>
          <p:nvPr/>
        </p:nvPicPr>
        <p:blipFill>
          <a:blip r:embed="rId1"/>
          <a:stretch/>
        </p:blipFill>
        <p:spPr>
          <a:xfrm>
            <a:off x="971640" y="981000"/>
            <a:ext cx="1871640" cy="2219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7" descr="Flag of Russia.svg"/>
          <p:cNvPicPr/>
          <p:nvPr/>
        </p:nvPicPr>
        <p:blipFill>
          <a:blip r:embed="rId2"/>
          <a:stretch/>
        </p:blipFill>
        <p:spPr>
          <a:xfrm>
            <a:off x="5292720" y="1125360"/>
            <a:ext cx="2801880" cy="1872000"/>
          </a:xfrm>
          <a:prstGeom prst="rect">
            <a:avLst/>
          </a:prstGeom>
          <a:ln w="19080">
            <a:solidFill>
              <a:srgbClr val="ff6600"/>
            </a:solidFill>
            <a:miter/>
          </a:ln>
        </p:spPr>
      </p:pic>
      <p:sp>
        <p:nvSpPr>
          <p:cNvPr id="194" name="Прямоугольник 8"/>
          <p:cNvSpPr/>
          <p:nvPr/>
        </p:nvSpPr>
        <p:spPr>
          <a:xfrm>
            <a:off x="1116000" y="4869000"/>
            <a:ext cx="705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00000"/>
                </a:solidFill>
                <a:latin typeface="Times New Roman"/>
              </a:rPr>
              <a:t>Все символы государства означают его независимость, они подчёркивают особенности и самые значимые страницы нашего государств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Хабаровский край – это так далеко!</a:t>
            </a:r>
            <a:br>
              <a:rPr sz="2800"/>
            </a:b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Добраться сюда будет вам нелегко.</a:t>
            </a:r>
            <a:br>
              <a:rPr sz="2800"/>
            </a:b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Хотим познакомить вас с краем заочно.</a:t>
            </a:r>
            <a:br>
              <a:rPr sz="2800"/>
            </a:b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Суров, но красив он – это уж точно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Содержимое 4" descr="map_rus.gif"/>
          <p:cNvPicPr/>
          <p:nvPr/>
        </p:nvPicPr>
        <p:blipFill>
          <a:blip r:embed="rId1"/>
          <a:stretch/>
        </p:blipFill>
        <p:spPr>
          <a:xfrm>
            <a:off x="77760" y="2349360"/>
            <a:ext cx="4925880" cy="3024360"/>
          </a:xfrm>
          <a:prstGeom prst="rect">
            <a:avLst/>
          </a:prstGeom>
          <a:ln w="0">
            <a:noFill/>
          </a:ln>
        </p:spPr>
      </p:pic>
      <p:pic>
        <p:nvPicPr>
          <p:cNvPr id="197" name="Содержимое 5" descr="priroda2.jpg"/>
          <p:cNvPicPr/>
          <p:nvPr/>
        </p:nvPicPr>
        <p:blipFill>
          <a:blip r:embed="rId2"/>
          <a:stretch/>
        </p:blipFill>
        <p:spPr>
          <a:xfrm>
            <a:off x="5003640" y="2349360"/>
            <a:ext cx="3889440" cy="3024360"/>
          </a:xfrm>
          <a:prstGeom prst="rect">
            <a:avLst/>
          </a:prstGeom>
          <a:ln w="0">
            <a:noFill/>
          </a:ln>
        </p:spPr>
      </p:pic>
    </p:spTree>
  </p:cSld>
  <p:transition advTm="5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3"/>
          <p:cNvSpPr/>
          <p:nvPr/>
        </p:nvSpPr>
        <p:spPr>
          <a:xfrm>
            <a:off x="395280" y="907920"/>
            <a:ext cx="84978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0000"/>
                </a:solidFill>
                <a:latin typeface="Times New Roman"/>
              </a:rPr>
              <a:t>Любовь к Отчизне начинается с любви к своей малой Родине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0000"/>
                </a:solidFill>
                <a:latin typeface="Times New Roman"/>
              </a:rPr>
              <a:t>– </a:t>
            </a:r>
            <a:r>
              <a:rPr b="1" lang="ru-RU" sz="2300" spc="-1" strike="noStrike">
                <a:solidFill>
                  <a:srgbClr val="ff0000"/>
                </a:solidFill>
                <a:latin typeface="Times New Roman"/>
              </a:rPr>
              <a:t>месту, где родился человек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Прямоугольник 5"/>
          <p:cNvSpPr/>
          <p:nvPr/>
        </p:nvSpPr>
        <p:spPr>
          <a:xfrm>
            <a:off x="2275560" y="5732640"/>
            <a:ext cx="540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я малая Родина – город Хабаровс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Picture 22" descr=""/>
          <p:cNvPicPr/>
          <p:nvPr/>
        </p:nvPicPr>
        <p:blipFill>
          <a:blip r:embed="rId1"/>
          <a:stretch/>
        </p:blipFill>
        <p:spPr>
          <a:xfrm>
            <a:off x="500040" y="1857240"/>
            <a:ext cx="3429000" cy="3786480"/>
          </a:xfrm>
          <a:prstGeom prst="rect">
            <a:avLst/>
          </a:prstGeom>
          <a:ln w="0">
            <a:noFill/>
          </a:ln>
        </p:spPr>
      </p:pic>
      <p:sp>
        <p:nvSpPr>
          <p:cNvPr id="201" name="Прямоугольник 7"/>
          <p:cNvSpPr/>
          <p:nvPr/>
        </p:nvSpPr>
        <p:spPr>
          <a:xfrm>
            <a:off x="4429080" y="1785960"/>
            <a:ext cx="3929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Центр – г. Хабаровск (610 тыс.человек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Дата образования края – 20 октября 1938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лощадь территории - 778, 6 тыс. кв. 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Численность населения – 1,557,4 тыс. ч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000" y="713880"/>
            <a:ext cx="4174920" cy="535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ЕОГРАФИЧЕСКОЕ ПОЛОЖЕНИЕ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рай расположен в центральной части южной половины российского Дальнего Востока, граничит с Приморским краем, Еврейской автономной областью, Амурской и Магаданской областями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осударственная граница с Китаем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мывается Охотским 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понским морями 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тарским проливом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Picture 12" descr="Карта Хабаровского края"/>
          <p:cNvPicPr/>
          <p:nvPr/>
        </p:nvPicPr>
        <p:blipFill>
          <a:blip r:embed="rId1"/>
          <a:stretch/>
        </p:blipFill>
        <p:spPr>
          <a:xfrm>
            <a:off x="4929120" y="928800"/>
            <a:ext cx="3621240" cy="507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3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924000" y="1600200"/>
            <a:ext cx="476244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Флаг Хабаровского кра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лаг Хабаровского края представляет собой прямоугольное полотнище, разделенное  на три части 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9" descr="Флаг Хабаровского края"/>
          <p:cNvPicPr/>
          <p:nvPr/>
        </p:nvPicPr>
        <p:blipFill>
          <a:blip r:embed="rId1"/>
          <a:stretch/>
        </p:blipFill>
        <p:spPr>
          <a:xfrm rot="20939400">
            <a:off x="899640" y="1628640"/>
            <a:ext cx="2291040" cy="152748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имволы Хабаровского кра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17" descr="Герб Хабаровского края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653080" y="3357720"/>
            <a:ext cx="2505240" cy="262872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18"/>
          <p:cNvSpPr/>
          <p:nvPr/>
        </p:nvSpPr>
        <p:spPr>
          <a:xfrm>
            <a:off x="0" y="3500280"/>
            <a:ext cx="4932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Герб Хабаровского кра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центре щита, серебра (белого) цвета, на почетном месте, изображена мощная естественная фигура сидящего на задних лапах черного цвета белогрудого медведя, который передними лапами бережно удерживает (прижимает к груди) герб Хабаровска - краевого центра Хабаровского кра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zoom dir="ou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500"/>
                            </p:stCondLst>
                            <p:childTnLst>
                              <p:par>
                                <p:cTn id="13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9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91520" cy="17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Административно-территориальное устройство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Хабаровский край включае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7 административных районов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7 городов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9 поселков городского тип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11" descr="Административно-территориальное деление Хабаровского края"/>
          <p:cNvPicPr/>
          <p:nvPr/>
        </p:nvPicPr>
        <p:blipFill>
          <a:blip r:embed="rId1"/>
          <a:stretch/>
        </p:blipFill>
        <p:spPr>
          <a:xfrm>
            <a:off x="5145120" y="1052640"/>
            <a:ext cx="3159000" cy="580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оря Хабаровского кра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648320" y="1268280"/>
            <a:ext cx="403848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Востока край омывается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хотским и Японским моря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от острова Сахалин отделяется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роливами Татарский и Невельского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Линия побережья протянулась на 2,5 тыс. км. Помимо основной, континентальной части, в состав края входят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есколько остров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среди них самые крупные –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Шантарск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8" descr="05 09 01 099"/>
          <p:cNvPicPr/>
          <p:nvPr/>
        </p:nvPicPr>
        <p:blipFill>
          <a:blip r:embed="rId1"/>
          <a:stretch/>
        </p:blipFill>
        <p:spPr>
          <a:xfrm>
            <a:off x="684360" y="1268280"/>
            <a:ext cx="3240000" cy="25038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9" descr="100_2365"/>
          <p:cNvPicPr/>
          <p:nvPr/>
        </p:nvPicPr>
        <p:blipFill>
          <a:blip r:embed="rId2"/>
          <a:stretch/>
        </p:blipFill>
        <p:spPr>
          <a:xfrm>
            <a:off x="0" y="3924360"/>
            <a:ext cx="5003640" cy="2933640"/>
          </a:xfrm>
          <a:prstGeom prst="rect">
            <a:avLst/>
          </a:prstGeom>
          <a:ln w="0">
            <a:noFill/>
          </a:ln>
        </p:spPr>
      </p:pic>
    </p:spTree>
  </p:cSld>
  <p:transition advTm="10000">
    <p:cover dir="d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5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8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еки Хабаровского кра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859280" y="1267920"/>
            <a:ext cx="42847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коло половины территории Хабаровского края омываются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ритоками Амур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наиболее крупные из них: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Бурея, Тунгуска, Горюн, Амгунь, Уссури, Анюй, Гур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ки северо-западной части края - Мая, Учур (бассейн Лены). Реки бассейна Японского моря - Коппи и Тумнин, бассейна Охотского моря - Тугур, Уда, Урак, Охота, Ин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icture 13" descr="map_l_2"/>
          <p:cNvPicPr/>
          <p:nvPr/>
        </p:nvPicPr>
        <p:blipFill>
          <a:blip r:embed="rId1"/>
          <a:stretch/>
        </p:blipFill>
        <p:spPr>
          <a:xfrm>
            <a:off x="179280" y="1413000"/>
            <a:ext cx="4608720" cy="544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9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аселение кра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716000" y="1599840"/>
            <a:ext cx="39704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став населения многонациональный. В крае проживают представители почти всех народностей Дальнего Востока: русские, нанайцы, ульчи, орочи, удэгейцы, нивхи, негидальцы, эвены, эвенки и др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8" descr="clip_image002"/>
          <p:cNvPicPr/>
          <p:nvPr/>
        </p:nvPicPr>
        <p:blipFill>
          <a:blip r:embed="rId1"/>
          <a:stretch/>
        </p:blipFill>
        <p:spPr>
          <a:xfrm>
            <a:off x="468360" y="1197000"/>
            <a:ext cx="4145040" cy="5661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3" descr="нанайцы"/>
          <p:cNvPicPr/>
          <p:nvPr/>
        </p:nvPicPr>
        <p:blipFill>
          <a:blip r:embed="rId2"/>
          <a:stretch/>
        </p:blipFill>
        <p:spPr>
          <a:xfrm>
            <a:off x="7451640" y="404640"/>
            <a:ext cx="1143000" cy="7430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zoom dir="out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7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13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 появления русских на Амуре проживали племена дауров, эвенов, натков, гиляков и других народов- около 30 тысяч человек. Они ясака никому не платили, были независимыми. Первым экспедициям  на Амур поручалось приводить местное население в российское подданство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7" descr="71_211000"/>
          <p:cNvPicPr/>
          <p:nvPr/>
        </p:nvPicPr>
        <p:blipFill>
          <a:blip r:embed="rId1"/>
          <a:stretch/>
        </p:blipFill>
        <p:spPr>
          <a:xfrm>
            <a:off x="533520" y="285840"/>
            <a:ext cx="3333600" cy="585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10920" y="105228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00"/>
                </a:solidFill>
                <a:latin typeface="Times New Roman"/>
              </a:rPr>
              <a:t>Актуальност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900000" y="3006720"/>
            <a:ext cx="741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Times New Roman"/>
              </a:rPr>
              <a:t>Каждый уважающий себя человек должен знать историю своей Родины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линная дорога на Аму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тория освоения Дальнего Востока- Это история путешествий и славных дел русских землепроходцев, большинство из которых были простыми людьми без названий и титулов. Часто даже не подозревая, они совершали великие географические открытия. На глазах одного поколения граница России была перенесена с Урала на берега Тихого Океана. Вспоминая о том времени в канун дня рождения Хабаровска, нельзя не вспомнить о человеке, чье имя носит город и край,- Ерофее Хабаров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Ерофей Хабар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644720" y="1571760"/>
            <a:ext cx="40417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АБАРОВ Ерофей Павлович, русский землепроходец и предпринимател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1649-53 совершил поход с отрядом по Амуру от впадения в него р. Урки до низовий, в результате которого приамурское коренное население приняло русское подданство. Хабаров составил “Чертеж реке Амуру”. В 1655 он был произведен в дети боярские по г. Илимску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tretch/>
        </p:blipFill>
        <p:spPr>
          <a:xfrm>
            <a:off x="428760" y="1500120"/>
            <a:ext cx="407196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уравьёв - Амурск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644720" y="1571400"/>
            <a:ext cx="404172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сударственный деятель и дипломат. С 1847 по 861 генерал-губернатор восточной Сибир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действовал изучению и освоению края. Руководил экспедициями по Амуру в 1854-1855 год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писал Айгунский договор с Китаем в 1858 году от имени российского императо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3" descr=""/>
          <p:cNvPicPr/>
          <p:nvPr/>
        </p:nvPicPr>
        <p:blipFill>
          <a:blip r:embed="rId1"/>
          <a:stretch/>
        </p:blipFill>
        <p:spPr>
          <a:xfrm>
            <a:off x="428760" y="1571760"/>
            <a:ext cx="3929040" cy="44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Рисунок 16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4725720" cy="207792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5651640" y="1052640"/>
            <a:ext cx="30304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5-ти тысячной купюр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ображен мост через Амур и памятник Муравьёву-Амурском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8" descr="29"/>
          <p:cNvPicPr/>
          <p:nvPr/>
        </p:nvPicPr>
        <p:blipFill>
          <a:blip r:embed="rId2"/>
          <a:stretch/>
        </p:blipFill>
        <p:spPr>
          <a:xfrm>
            <a:off x="395280" y="4724280"/>
            <a:ext cx="8497800" cy="19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4140000" y="404280"/>
            <a:ext cx="454644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ай богат лесными, минеральными, рыбными и другими природными ресурсами. В Красную книгу Хабаровского края внесены 167 видов растений и грибов, 127 видов животных. Среди них есть редчайшие виды, внесенные в Международную Красную книгу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Рисунок 13" descr=""/>
          <p:cNvPicPr/>
          <p:nvPr/>
        </p:nvPicPr>
        <p:blipFill>
          <a:blip r:embed="rId1"/>
          <a:stretch/>
        </p:blipFill>
        <p:spPr>
          <a:xfrm>
            <a:off x="395280" y="2781360"/>
            <a:ext cx="1655640" cy="11332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P5100028"/>
          <p:cNvPicPr/>
          <p:nvPr/>
        </p:nvPicPr>
        <p:blipFill>
          <a:blip r:embed="rId2"/>
          <a:stretch/>
        </p:blipFill>
        <p:spPr>
          <a:xfrm>
            <a:off x="395280" y="4149720"/>
            <a:ext cx="1619280" cy="12142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06"/>
          <p:cNvPicPr/>
          <p:nvPr/>
        </p:nvPicPr>
        <p:blipFill>
          <a:blip r:embed="rId3"/>
          <a:srcRect l="0" t="0" r="208" b="26"/>
          <a:stretch/>
        </p:blipFill>
        <p:spPr>
          <a:xfrm>
            <a:off x="2843280" y="4508640"/>
            <a:ext cx="1311120" cy="20602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8" descr="05"/>
          <p:cNvPicPr/>
          <p:nvPr/>
        </p:nvPicPr>
        <p:blipFill>
          <a:blip r:embed="rId4"/>
          <a:srcRect l="0" t="0" r="0" b="42"/>
          <a:stretch/>
        </p:blipFill>
        <p:spPr>
          <a:xfrm>
            <a:off x="2700360" y="2781360"/>
            <a:ext cx="1366920" cy="12970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0" descr="брусника"/>
          <p:cNvPicPr/>
          <p:nvPr/>
        </p:nvPicPr>
        <p:blipFill>
          <a:blip r:embed="rId5"/>
          <a:stretch/>
        </p:blipFill>
        <p:spPr>
          <a:xfrm>
            <a:off x="395280" y="5516640"/>
            <a:ext cx="1548000" cy="10778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1" descr="05"/>
          <p:cNvPicPr/>
          <p:nvPr/>
        </p:nvPicPr>
        <p:blipFill>
          <a:blip r:embed="rId6"/>
          <a:stretch/>
        </p:blipFill>
        <p:spPr>
          <a:xfrm>
            <a:off x="539640" y="333360"/>
            <a:ext cx="3265560" cy="20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461952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абаровский край - это и промышленный край. Машиностроение, лесная, металлургическая, нефтеперерабатывающая, пищевая промышленность, транспорт и связь - вот далеко не полный перечень сфер деятельности, в которых заняты жители кра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Picture 4" descr="29"/>
          <p:cNvPicPr/>
          <p:nvPr/>
        </p:nvPicPr>
        <p:blipFill>
          <a:blip r:embed="rId1"/>
          <a:stretch/>
        </p:blipFill>
        <p:spPr>
          <a:xfrm>
            <a:off x="5651640" y="2205000"/>
            <a:ext cx="2808000" cy="16653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5" descr="29"/>
          <p:cNvPicPr/>
          <p:nvPr/>
        </p:nvPicPr>
        <p:blipFill>
          <a:blip r:embed="rId2"/>
          <a:srcRect l="0" t="0" r="0" b="-22"/>
          <a:stretch/>
        </p:blipFill>
        <p:spPr>
          <a:xfrm>
            <a:off x="6659640" y="333360"/>
            <a:ext cx="1944720" cy="17924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29"/>
          <p:cNvPicPr/>
          <p:nvPr/>
        </p:nvPicPr>
        <p:blipFill>
          <a:blip r:embed="rId3"/>
          <a:stretch/>
        </p:blipFill>
        <p:spPr>
          <a:xfrm>
            <a:off x="5651640" y="4076640"/>
            <a:ext cx="2879640" cy="25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ад Амуром белым парусом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Picture 5" descr="070707_35"/>
          <p:cNvPicPr/>
          <p:nvPr/>
        </p:nvPicPr>
        <p:blipFill>
          <a:blip r:embed="rId1"/>
          <a:stretch/>
        </p:blipFill>
        <p:spPr>
          <a:xfrm>
            <a:off x="928800" y="1357200"/>
            <a:ext cx="7643880" cy="485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нтральным местом набережной и парка является Амурский утес. У подножия утеса, вверх по течению Амура, расположен городской пляж. По Амуру можно совершить прогулку. С борта теплохода открывается величественная панорама города, протянувшегося вдоль правого берега Амура более 50 км.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5" descr="1riv"/>
          <p:cNvPicPr/>
          <p:nvPr/>
        </p:nvPicPr>
        <p:blipFill>
          <a:blip r:embed="rId1"/>
          <a:stretch/>
        </p:blipFill>
        <p:spPr>
          <a:xfrm>
            <a:off x="857160" y="3071880"/>
            <a:ext cx="7715520" cy="30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8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лавной площадью города является площадь им. В.И. Ленина. Она внушительна по величине и оригинальна по оформлению. Сегодня площадь является местом, где ежегодно проводятся праздники, ярмарки, фестивали. Летом площадь выглядит огромным цветущим ковром. Традиционное украшение площади В. И. Ленина — фонтаны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Picture 7" descr="ph133840"/>
          <p:cNvPicPr/>
          <p:nvPr/>
        </p:nvPicPr>
        <p:blipFill>
          <a:blip r:embed="rId1"/>
          <a:stretch/>
        </p:blipFill>
        <p:spPr>
          <a:xfrm>
            <a:off x="1397160" y="2928960"/>
            <a:ext cx="6746760" cy="36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Доходный дом Плюсниных). Ныне дальневосточная государственная научная библиоте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00720" y="1356840"/>
            <a:ext cx="418608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Эта библиотека – крупнейшая на Дальнем Востоке, в её фондах хранится около трёх миллионов книг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Picture 4" descr="lib1"/>
          <p:cNvPicPr/>
          <p:nvPr/>
        </p:nvPicPr>
        <p:blipFill>
          <a:blip r:embed="rId1"/>
          <a:stretch/>
        </p:blipFill>
        <p:spPr>
          <a:xfrm>
            <a:off x="928800" y="1428840"/>
            <a:ext cx="3643200" cy="49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Прямоугольник 5"/>
          <p:cNvSpPr/>
          <p:nvPr/>
        </p:nvSpPr>
        <p:spPr>
          <a:xfrm>
            <a:off x="1479240" y="836640"/>
            <a:ext cx="647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66"/>
                </a:solidFill>
                <a:latin typeface="Times New Roman"/>
              </a:rPr>
              <a:t>С чего начинается Родина</a:t>
            </a:r>
            <a:r>
              <a:rPr b="0" lang="ru-RU" sz="4400" spc="-1" strike="noStrike">
                <a:solidFill>
                  <a:srgbClr val="cc0066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Прямоугольник 3"/>
          <p:cNvSpPr/>
          <p:nvPr/>
        </p:nvSpPr>
        <p:spPr>
          <a:xfrm>
            <a:off x="684360" y="1989000"/>
            <a:ext cx="8135640" cy="27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7000"/>
                </a:solidFill>
                <a:latin typeface="Times New Roman"/>
              </a:rPr>
              <a:t>С глаз мамы, с улыбки отца, с крохотной снежинки на твоей варежке, с первого слова, с вишни под твоим окном,  с друзей, с любви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00"/>
                </a:solidFill>
                <a:latin typeface="Times New Roman"/>
              </a:rPr>
              <a:t>У каждого человека свой ответ на этот вопро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16" descr="350926514[1]"/>
          <p:cNvPicPr/>
          <p:nvPr/>
        </p:nvPicPr>
        <p:blipFill>
          <a:blip r:embed="rId1"/>
          <a:stretch/>
        </p:blipFill>
        <p:spPr>
          <a:xfrm>
            <a:off x="0" y="-34920"/>
            <a:ext cx="9144000" cy="6892920"/>
          </a:xfrm>
          <a:prstGeom prst="rect">
            <a:avLst/>
          </a:prstGeom>
          <a:ln w="76320">
            <a:solidFill>
              <a:srgbClr val="99ccff"/>
            </a:solidFill>
            <a:miter/>
          </a:ln>
        </p:spPr>
      </p:pic>
      <p:sp>
        <p:nvSpPr>
          <p:cNvPr id="263" name="Прямоугольник 2"/>
          <p:cNvSpPr/>
          <p:nvPr/>
        </p:nvSpPr>
        <p:spPr>
          <a:xfrm>
            <a:off x="324000" y="4149720"/>
            <a:ext cx="856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1645"/>
                </a:solidFill>
                <a:latin typeface="Times New Roman"/>
              </a:rPr>
              <a:t>Родина для каждого человека является самым близким и дорогим местом на всей земле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4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ой край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48320" y="713880"/>
            <a:ext cx="403848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й край далекий и родной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веки связан я с тобо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вои леса мне так родны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зера сердцу дороги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ршины гор, ну просто сказка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акушки все из белой крас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воя тайга полна чудес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ягод вкусных в ней не счест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ся живность здесь полна красы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люди к ней всегда добр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если ты попал сюда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о не уедешь никогд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здравных Денис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еник 10 б класс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ОУ СОШ №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Picture 4" descr="залив"/>
          <p:cNvPicPr/>
          <p:nvPr/>
        </p:nvPicPr>
        <p:blipFill>
          <a:blip r:embed="rId1"/>
          <a:stretch/>
        </p:blipFill>
        <p:spPr>
          <a:xfrm>
            <a:off x="428760" y="714240"/>
            <a:ext cx="3400200" cy="26812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04"/>
          <p:cNvPicPr/>
          <p:nvPr/>
        </p:nvPicPr>
        <p:blipFill>
          <a:blip r:embed="rId2"/>
          <a:stretch/>
        </p:blipFill>
        <p:spPr>
          <a:xfrm>
            <a:off x="642960" y="3714840"/>
            <a:ext cx="2886120" cy="24289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7" descr="Колас"/>
          <p:cNvPicPr/>
          <p:nvPr/>
        </p:nvPicPr>
        <p:blipFill>
          <a:blip r:embed="rId1"/>
          <a:stretch/>
        </p:blipFill>
        <p:spPr>
          <a:xfrm>
            <a:off x="395280" y="981000"/>
            <a:ext cx="3552840" cy="5112000"/>
          </a:xfrm>
          <a:prstGeom prst="rect">
            <a:avLst/>
          </a:prstGeom>
          <a:ln w="0">
            <a:noFill/>
          </a:ln>
        </p:spPr>
      </p:pic>
      <p:sp>
        <p:nvSpPr>
          <p:cNvPr id="269" name="Прямоугольник 2"/>
          <p:cNvSpPr/>
          <p:nvPr/>
        </p:nvSpPr>
        <p:spPr>
          <a:xfrm>
            <a:off x="4211640" y="162864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Необходимо изучать историю своей Родины, чтобы стать достойным гражданином своей стра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Прямоугольник 3"/>
          <p:cNvSpPr/>
          <p:nvPr/>
        </p:nvSpPr>
        <p:spPr>
          <a:xfrm>
            <a:off x="4211640" y="328464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200"/>
                </a:solidFill>
                <a:latin typeface="Times New Roman"/>
              </a:rPr>
              <a:t>От малых дел рождается большая любовь к ближнему, семье, народу, Росси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Прямоугольник 1"/>
          <p:cNvSpPr/>
          <p:nvPr/>
        </p:nvSpPr>
        <p:spPr>
          <a:xfrm>
            <a:off x="4427640" y="836640"/>
            <a:ext cx="42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66"/>
                </a:solidFill>
                <a:latin typeface="Times New Roman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Прямоугольник 5"/>
          <p:cNvSpPr/>
          <p:nvPr/>
        </p:nvSpPr>
        <p:spPr>
          <a:xfrm>
            <a:off x="4211640" y="465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Всё это мы называем –ПАТРИОТИЗМ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Прямоугольник 1"/>
          <p:cNvSpPr/>
          <p:nvPr/>
        </p:nvSpPr>
        <p:spPr>
          <a:xfrm>
            <a:off x="900000" y="2852640"/>
            <a:ext cx="77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66"/>
                </a:solidFill>
                <a:latin typeface="Times New Roman"/>
              </a:rPr>
              <a:t>Спасибо за внимание!!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77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9" dur="770" fill="hold"/>
                                        <p:tgtEl>
                                          <p:spTgt spid="2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1" dur="77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3" dur="77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4"/>
          <p:cNvSpPr/>
          <p:nvPr/>
        </p:nvSpPr>
        <p:spPr>
          <a:xfrm>
            <a:off x="3240" y="5805360"/>
            <a:ext cx="556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С картинки в твоем букваре,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5" descr="06484b4d87989b5c9dbe57858cd"/>
          <p:cNvPicPr/>
          <p:nvPr/>
        </p:nvPicPr>
        <p:blipFill>
          <a:blip r:embed="rId1"/>
          <a:stretch/>
        </p:blipFill>
        <p:spPr>
          <a:xfrm>
            <a:off x="539640" y="333360"/>
            <a:ext cx="2786040" cy="4175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bukvar_02"/>
          <p:cNvPicPr/>
          <p:nvPr/>
        </p:nvPicPr>
        <p:blipFill>
          <a:blip r:embed="rId2"/>
          <a:stretch/>
        </p:blipFill>
        <p:spPr>
          <a:xfrm>
            <a:off x="4572000" y="184320"/>
            <a:ext cx="4314960" cy="31176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s320x240"/>
          <p:cNvPicPr/>
          <p:nvPr/>
        </p:nvPicPr>
        <p:blipFill>
          <a:blip r:embed="rId3"/>
          <a:stretch/>
        </p:blipFill>
        <p:spPr>
          <a:xfrm>
            <a:off x="6443640" y="3357720"/>
            <a:ext cx="2494080" cy="3311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bukv1"/>
          <p:cNvPicPr/>
          <p:nvPr/>
        </p:nvPicPr>
        <p:blipFill>
          <a:blip r:embed="rId4"/>
          <a:stretch/>
        </p:blipFill>
        <p:spPr>
          <a:xfrm>
            <a:off x="3132000" y="2852640"/>
            <a:ext cx="208764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4"/>
          <p:cNvSpPr/>
          <p:nvPr/>
        </p:nvSpPr>
        <p:spPr>
          <a:xfrm>
            <a:off x="191160" y="5589720"/>
            <a:ext cx="623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С хороших и верных товарищей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Живущих в соседнем дворе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6" descr="145301_pic1"/>
          <p:cNvPicPr/>
          <p:nvPr/>
        </p:nvPicPr>
        <p:blipFill>
          <a:blip r:embed="rId1"/>
          <a:stretch/>
        </p:blipFill>
        <p:spPr>
          <a:xfrm>
            <a:off x="179280" y="404640"/>
            <a:ext cx="6121440" cy="4638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1734276mfr"/>
          <p:cNvPicPr/>
          <p:nvPr/>
        </p:nvPicPr>
        <p:blipFill>
          <a:blip r:embed="rId2"/>
          <a:stretch/>
        </p:blipFill>
        <p:spPr>
          <a:xfrm>
            <a:off x="6372360" y="1916280"/>
            <a:ext cx="2577960" cy="37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5"/>
          <p:cNvSpPr/>
          <p:nvPr/>
        </p:nvSpPr>
        <p:spPr>
          <a:xfrm>
            <a:off x="198720" y="5589720"/>
            <a:ext cx="560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d0d0d"/>
                </a:solidFill>
                <a:latin typeface="Times New Roman"/>
              </a:rPr>
              <a:t>А может она начинаетс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d0d0d"/>
                </a:solidFill>
                <a:latin typeface="Times New Roman"/>
              </a:rPr>
              <a:t>С той песни, что пела нам мать,</a:t>
            </a:r>
            <a:r>
              <a:rPr b="1" lang="ru-RU" sz="2800" spc="-1" strike="noStrike">
                <a:solidFill>
                  <a:srgbClr val="0d0d0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6" descr="01_1714"/>
          <p:cNvPicPr/>
          <p:nvPr/>
        </p:nvPicPr>
        <p:blipFill>
          <a:blip r:embed="rId1"/>
          <a:stretch/>
        </p:blipFill>
        <p:spPr>
          <a:xfrm>
            <a:off x="250920" y="260280"/>
            <a:ext cx="4354560" cy="5040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1233833001_mat-i-ditja"/>
          <p:cNvPicPr/>
          <p:nvPr/>
        </p:nvPicPr>
        <p:blipFill>
          <a:blip r:embed="rId2"/>
          <a:stretch/>
        </p:blipFill>
        <p:spPr>
          <a:xfrm>
            <a:off x="4932360" y="260280"/>
            <a:ext cx="4032360" cy="36306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0F808F13-9FE4-9350-ABE7-63A55D1115D3"/>
          <p:cNvPicPr/>
          <p:nvPr/>
        </p:nvPicPr>
        <p:blipFill>
          <a:blip r:embed="rId3"/>
          <a:stretch/>
        </p:blipFill>
        <p:spPr>
          <a:xfrm>
            <a:off x="6372360" y="4076640"/>
            <a:ext cx="2519280" cy="25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5" descr="sk_20"/>
          <p:cNvPicPr/>
          <p:nvPr/>
        </p:nvPicPr>
        <p:blipFill>
          <a:blip r:embed="rId1"/>
          <a:stretch/>
        </p:blipFill>
        <p:spPr>
          <a:xfrm>
            <a:off x="395280" y="1341360"/>
            <a:ext cx="4321080" cy="4432320"/>
          </a:xfrm>
          <a:prstGeom prst="rect">
            <a:avLst/>
          </a:prstGeom>
          <a:ln w="0">
            <a:noFill/>
          </a:ln>
        </p:spPr>
      </p:pic>
      <p:sp>
        <p:nvSpPr>
          <p:cNvPr id="184" name="Прямоугольник 7"/>
          <p:cNvSpPr/>
          <p:nvPr/>
        </p:nvSpPr>
        <p:spPr>
          <a:xfrm>
            <a:off x="4788000" y="1341360"/>
            <a:ext cx="388944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 том, что такое Родина для каждого человека, сказано в мудрой русской песне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«Человек без родины, что соловей без песни»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воей песней соловей зажигает сердца, пробуждает любовь, заставляет плакать, он наполняет мир несказанной красотой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 как соловей – песней, лишь Родиной силён, одухотворён, добр и красив человек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539280" y="4292280"/>
            <a:ext cx="8209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Родиной мы называем страну, в котор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родились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Страна, в которой я родился 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это Росс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5" descr="http://www.juntech.ru/1945/Papin/images/09928.png"/>
          <p:cNvPicPr/>
          <p:nvPr/>
        </p:nvPicPr>
        <p:blipFill>
          <a:blip r:embed="rId1"/>
          <a:stretch/>
        </p:blipFill>
        <p:spPr>
          <a:xfrm>
            <a:off x="1763640" y="981000"/>
            <a:ext cx="5616720" cy="332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Прямоугольник 3"/>
          <p:cNvSpPr/>
          <p:nvPr/>
        </p:nvSpPr>
        <p:spPr>
          <a:xfrm>
            <a:off x="755640" y="5229360"/>
            <a:ext cx="72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Times New Roman"/>
              </a:rPr>
              <a:t>Столица Российского государства - Москв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5" descr="http://i076.radikal.ru/0901/12/0de6bc968012.jpg"/>
          <p:cNvPicPr/>
          <p:nvPr/>
        </p:nvPicPr>
        <p:blipFill>
          <a:blip r:embed="rId1"/>
          <a:stretch/>
        </p:blipFill>
        <p:spPr>
          <a:xfrm>
            <a:off x="1476360" y="961920"/>
            <a:ext cx="5688000" cy="426744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User</cp:lastModifiedBy>
  <dcterms:modified xsi:type="dcterms:W3CDTF">2017-01-17T10:33:17Z</dcterms:modified>
  <cp:revision>75</cp:revision>
  <dc:subject/>
  <dc:title>Слайд 1</dc:title>
</cp:coreProperties>
</file>