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31.jpeg" ContentType="image/jpeg"/>
  <Override PartName="/ppt/media/image41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40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8FA-1D43-40A8-90A5-67EDDD91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411-D0B9-449E-A01D-3A541F2B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1B8-7708-4676-B6E8-BF8B16E79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F0AC-4D7B-418E-8BBE-E8A0BADD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EEE-9F6B-4791-ACD3-783ED960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461E-3C93-4D03-9889-3A7B3D4A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5B5C-C334-4D15-B5BF-5E06F5EDD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8589-79E0-4798-A29B-A3FB0A7F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D025-3D6E-4894-8597-8DB34D23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3A7-00E3-428E-82A8-17F4A8AE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DD1-C95E-4799-9C97-34A46364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22E9-B68C-49C2-BE0F-E6CDA84F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FA9A-6BA1-4028-9757-1019D358B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oboffsem.ru/2008/04/21/mezhdunarodnyjj-den-zemli-international.html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6.jpeg"/><Relationship Id="rId12" Type="http://schemas.openxmlformats.org/officeDocument/2006/relationships/image" Target="../media/image37.jpeg"/><Relationship Id="rId1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slide" Target="slide4.xml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cards.mail.ru/cardedit.html?E=81980&amp;tid=8200" TargetMode="External"/><Relationship Id="rId2" Type="http://schemas.openxmlformats.org/officeDocument/2006/relationships/hyperlink" Target="http://cards.mail.ru/cardedit.html?E=81980&amp;tid=8015" TargetMode="External"/><Relationship Id="rId3" Type="http://schemas.openxmlformats.org/officeDocument/2006/relationships/hyperlink" Target="http://cards.mail.ru/cardedit.html?E=81980&amp;tid=7383" TargetMode="External"/><Relationship Id="rId4" Type="http://schemas.openxmlformats.org/officeDocument/2006/relationships/hyperlink" Target="http://cards.mail.ru/cardedit.html?E=81980&amp;tid=696" TargetMode="External"/><Relationship Id="rId5" Type="http://schemas.openxmlformats.org/officeDocument/2006/relationships/hyperlink" Target="http://cards.mail.ru/cardedit.html?E=81980&amp;tid=695" TargetMode="External"/><Relationship Id="rId6" Type="http://schemas.openxmlformats.org/officeDocument/2006/relationships/hyperlink" Target="http://cards.mail.ru/cardedit.html?E=81980&amp;tid=7560" TargetMode="External"/><Relationship Id="rId7" Type="http://schemas.openxmlformats.org/officeDocument/2006/relationships/hyperlink" Target="http://cards.mail.ru/cardedit.html?E=82193&amp;tid=7610" TargetMode="External"/><Relationship Id="rId8" Type="http://schemas.openxmlformats.org/officeDocument/2006/relationships/hyperlink" Target="http://www.kvartal.websib.ru/foto/albums/userpics/10001/th_1IMG_3855.jpg" TargetMode="External"/><Relationship Id="rId9" Type="http://schemas.openxmlformats.org/officeDocument/2006/relationships/hyperlink" Target="http://cards.uainter.net/create.php?card_id=764&amp;lang=ru" TargetMode="External"/><Relationship Id="rId10" Type="http://schemas.openxmlformats.org/officeDocument/2006/relationships/hyperlink" Target="http://www.kvartal.websib.ru/foto/albums/userpics/10001/th_1IMG_3855.jpg" TargetMode="External"/><Relationship Id="rId11" Type="http://schemas.openxmlformats.org/officeDocument/2006/relationships/hyperlink" Target="http://www.kvartal.websib.ru/foto/albums/userpics/10001/th_1IMG_3877.jpg" TargetMode="External"/><Relationship Id="rId12" Type="http://schemas.openxmlformats.org/officeDocument/2006/relationships/hyperlink" Target="http://ru.wikipedia.org/wiki/&#1060;&#1072;&#1081;&#1083;:Earth_flag_PD.jpg" TargetMode="External"/><Relationship Id="rId13" Type="http://schemas.openxmlformats.org/officeDocument/2006/relationships/hyperlink" Target="http://www.sciam.ru/news/2005/img/32.jpg" TargetMode="External"/><Relationship Id="rId14" Type="http://schemas.openxmlformats.org/officeDocument/2006/relationships/hyperlink" Target="http://ru.wikipedia.org/wiki/&#1044;&#1077;&#1085;&#1100;_&#1047;&#1077;&#1084;&#1083;&#1080;-" TargetMode="External"/><Relationship Id="rId15" Type="http://schemas.openxmlformats.org/officeDocument/2006/relationships/hyperlink" Target="http://ru.wikipedia.org/wiki/&#1060;&#1072;&#1081;&#1083;:Kolokol_Mira.jpg" TargetMode="External"/><Relationship Id="rId16" Type="http://schemas.openxmlformats.org/officeDocument/2006/relationships/hyperlink" Target="http://www.fap.ru/photo/new010420_02img02.jpg" TargetMode="External"/><Relationship Id="rId17" Type="http://schemas.openxmlformats.org/officeDocument/2006/relationships/hyperlink" Target="http://gorsun.org.ru/i/galleries/29.jpg" TargetMode="External"/><Relationship Id="rId18" Type="http://schemas.openxmlformats.org/officeDocument/2006/relationships/hyperlink" Target="http://www.oboffsem.ru/2008/04/21/mezhdunarodnyjj-den-zemli-international.html" TargetMode="External"/><Relationship Id="rId19" Type="http://schemas.openxmlformats.org/officeDocument/2006/relationships/hyperlink" Target="http://www.hot-shop.ru/UserFiles/1307071/e2.jpg" TargetMode="External"/><Relationship Id="rId20" Type="http://schemas.openxmlformats.org/officeDocument/2006/relationships/hyperlink" Target="http://cards.uainter.net/create.php?card_id=769&amp;lang=ru" TargetMode="External"/><Relationship Id="rId21" Type="http://schemas.openxmlformats.org/officeDocument/2006/relationships/hyperlink" Target="http://wwteam.delfi.lv/activ/travels/tashkent/p2s.jpg" TargetMode="External"/><Relationship Id="rId22" Type="http://schemas.openxmlformats.org/officeDocument/2006/relationships/hyperlink" Target="http://cards.uainter.net/create.php?card_id=770&amp;lang=ru" TargetMode="External"/><Relationship Id="rId23" Type="http://schemas.openxmlformats.org/officeDocument/2006/relationships/hyperlink" Target="http://cards.uainter.net/create.php?card_id=765&amp;lang=ru" TargetMode="External"/><Relationship Id="rId24" Type="http://schemas.openxmlformats.org/officeDocument/2006/relationships/hyperlink" Target="http://cards.uainter.net/create.php?card_id=763&amp;lang=ru" TargetMode="External"/><Relationship Id="rId25" Type="http://schemas.openxmlformats.org/officeDocument/2006/relationships/hyperlink" Target="http://ddd-gazeta.ru/content/view/292/0/" TargetMode="External"/><Relationship Id="rId26" Type="http://schemas.openxmlformats.org/officeDocument/2006/relationships/hyperlink" Target="http://www.tabakoff.ru/kalendar/images/209.jpg" TargetMode="External"/><Relationship Id="rId27" Type="http://schemas.openxmlformats.org/officeDocument/2006/relationships/hyperlink" Target="http://www.risk.ru/i/post/4/4139.jpg" TargetMode="External"/><Relationship Id="rId28" Type="http://schemas.openxmlformats.org/officeDocument/2006/relationships/hyperlink" Target="http://piastra.narod.ru/_KAT1/st117.htm" TargetMode="External"/><Relationship Id="rId29" Type="http://schemas.openxmlformats.org/officeDocument/2006/relationships/hyperlink" Target="http://tonnel.ru/?l=fonoteka&amp;main=69" TargetMode="External"/><Relationship Id="rId30" Type="http://schemas.openxmlformats.org/officeDocument/2006/relationships/hyperlink" Target="http://www.clubochek.ru/vers.php?id=5631" TargetMode="External"/><Relationship Id="rId31" Type="http://schemas.openxmlformats.org/officeDocument/2006/relationships/hyperlink" Target="http://www.solnet.ee/holidays/s12_9.html" TargetMode="External"/><Relationship Id="rId32" Type="http://schemas.openxmlformats.org/officeDocument/2006/relationships/hyperlink" Target="http://www.solnet.ee/sol/002/z_074.html" TargetMode="External"/><Relationship Id="rId33" Type="http://schemas.openxmlformats.org/officeDocument/2006/relationships/hyperlink" Target="http://www.solnet.ee/sol/002/z_078.html" TargetMode="External"/><Relationship Id="rId34" Type="http://schemas.openxmlformats.org/officeDocument/2006/relationships/hyperlink" Target="http://www.solnet.ee/holidays/pic/s12_9_2.jpg" TargetMode="External"/><Relationship Id="rId35" Type="http://schemas.openxmlformats.org/officeDocument/2006/relationships/hyperlink" Target="http://www.petshealth.ru/pets/bird/breed/breed_images/solovej.jpg" TargetMode="External"/><Relationship Id="rId3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13.xml"/><Relationship Id="rId5" Type="http://schemas.openxmlformats.org/officeDocument/2006/relationships/slide" Target="slide17.xml"/><Relationship Id="rId6" Type="http://schemas.openxmlformats.org/officeDocument/2006/relationships/slide" Target="slide26.xml"/><Relationship Id="rId7" Type="http://schemas.openxmlformats.org/officeDocument/2006/relationships/slide" Target="slide27.xml"/><Relationship Id="rId8" Type="http://schemas.openxmlformats.org/officeDocument/2006/relationships/slide" Target="slide29.xml"/><Relationship Id="rId9" Type="http://schemas.openxmlformats.org/officeDocument/2006/relationships/slide" Target="slide33.xml"/><Relationship Id="rId10" Type="http://schemas.openxmlformats.org/officeDocument/2006/relationships/slide" Target="slide39.xml"/><Relationship Id="rId11" Type="http://schemas.openxmlformats.org/officeDocument/2006/relationships/image" Target="../media/image4.png"/><Relationship Id="rId12" Type="http://schemas.openxmlformats.org/officeDocument/2006/relationships/slide" Target="slide3.xml"/><Relationship Id="rId13" Type="http://schemas.openxmlformats.org/officeDocument/2006/relationships/slide" Target="slide28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Классный час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br>
              <a:rPr sz="4800"/>
            </a:b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для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539640" y="26028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ергей Петрович Капица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 -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333399"/>
                </a:solidFill>
                <a:latin typeface="Arial"/>
              </a:rPr>
              <a:t>доктор физико-математических наук, профессор, академик, вице-президент РАЕН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…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День Земли — это день ответственности перед нашей планетой, ответственности перед людьми, которые ее населяют, перед самой природой, частью которой мы являемся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32"/>
          <p:cNvPicPr/>
          <p:nvPr/>
        </p:nvPicPr>
        <p:blipFill>
          <a:blip r:embed="rId1"/>
          <a:stretch/>
        </p:blipFill>
        <p:spPr>
          <a:xfrm>
            <a:off x="5003640" y="2349360"/>
            <a:ext cx="3311640" cy="327672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1" name="AutoShape 14">
            <a:hlinkClick r:id="rId2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имвол Дня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000" y="2565360"/>
            <a:ext cx="4753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Зелёная греческая буква Θ на белом ф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300720" y="3068280"/>
            <a:ext cx="1152720" cy="1655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8000"/>
                </a:solidFill>
                <a:latin typeface="Arial"/>
              </a:rPr>
              <a:t>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>
            <a:hlinkClick r:id="rId1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54831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0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вязан с Днем Земли и многими другими природоохранными, миротворческими международными мероприят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е является официальным символом чего-либо, поскольку не существует общепланетного правительства или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нимок планеты Земля, изображенный на флаге, сделан астронавтами космичечкого корабля «Аполлон-17» по дороге к Луне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флаг Земли"/>
          <p:cNvPicPr/>
          <p:nvPr/>
        </p:nvPicPr>
        <p:blipFill>
          <a:blip r:embed="rId1"/>
          <a:srcRect l="14122" t="-4346" r="13580" b="-5890"/>
          <a:stretch/>
        </p:blipFill>
        <p:spPr>
          <a:xfrm>
            <a:off x="5796000" y="189000"/>
            <a:ext cx="2014560" cy="122868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5">
            <a:hlinkClick r:id="rId2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3860280"/>
            <a:ext cx="8147160" cy="24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День Земли в разных странах по традиции звучит Колокол Мира, призывая людей Земли приложить усилия к защите мира на планете и сохранению красоты нашего обще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5" descr="ps"/>
          <p:cNvPicPr/>
          <p:nvPr/>
        </p:nvPicPr>
        <p:blipFill>
          <a:blip r:embed="rId1"/>
          <a:stretch/>
        </p:blipFill>
        <p:spPr>
          <a:xfrm>
            <a:off x="5148360" y="1413000"/>
            <a:ext cx="2879640" cy="216360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3" name="Picture 17" descr="парк Бабука колокол мира"/>
          <p:cNvPicPr/>
          <p:nvPr/>
        </p:nvPicPr>
        <p:blipFill>
          <a:blip r:embed="rId2"/>
          <a:stretch/>
        </p:blipFill>
        <p:spPr>
          <a:xfrm>
            <a:off x="1258920" y="1413000"/>
            <a:ext cx="2863800" cy="215100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4" name="AutoShape 19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первые Колокол Мира был установлен в штаб-квартире ООН в Нью-Йорке вскоре после Второй мировой войны, в 1954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нем звучит голос детей Японии, которые после ядерных взрывов над Хиросимой и Нагасаки собирали монетки для Колокола Ми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мира колокол"/>
          <p:cNvPicPr/>
          <p:nvPr/>
        </p:nvPicPr>
        <p:blipFill>
          <a:blip r:embed="rId1"/>
          <a:stretch/>
        </p:blipFill>
        <p:spPr>
          <a:xfrm>
            <a:off x="3419640" y="4221000"/>
            <a:ext cx="2232000" cy="223236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7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210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мира колокол"/>
          <p:cNvPicPr/>
          <p:nvPr/>
        </p:nvPicPr>
        <p:blipFill>
          <a:blip r:embed="rId1"/>
          <a:stretch/>
        </p:blipFill>
        <p:spPr>
          <a:xfrm>
            <a:off x="3564000" y="1125360"/>
            <a:ext cx="1944720" cy="194472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имвол спокойствия, мирной жизни и дружбы, вечного братства и солидарности всех наро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зыв к действию во имя сохранения мира и жизни на Земле, сохранения Человека и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8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локол Мира в Росс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4244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России акция «Колокол Мира в День Земли» проводится с 1998 года по инициативе летчика-космонавта СССР, Героя Советского Союза А. Н. Березов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Рисунок11"/>
          <p:cNvPicPr/>
          <p:nvPr/>
        </p:nvPicPr>
        <p:blipFill>
          <a:blip r:embed="rId1"/>
          <a:stretch/>
        </p:blipFill>
        <p:spPr>
          <a:xfrm>
            <a:off x="4427640" y="1484280"/>
            <a:ext cx="4322520" cy="324180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5" name="Rectangle 8"/>
          <p:cNvSpPr/>
          <p:nvPr/>
        </p:nvSpPr>
        <p:spPr>
          <a:xfrm>
            <a:off x="3778200" y="5157720"/>
            <a:ext cx="5365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 фото: летчики-космонавты В. М. Афанасьев и А.Н. Берез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>
            <a:hlinkClick r:id="rId2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16000" y="259920"/>
            <a:ext cx="4186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3236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 этот день все желающие принимают участие в благоустройстве и озеленении своих дворов и улиц, в различных экологических мероприятиях, фестивалях и ак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Рисунок14"/>
          <p:cNvPicPr/>
          <p:nvPr/>
        </p:nvPicPr>
        <p:blipFill>
          <a:blip r:embed="rId1"/>
          <a:stretch/>
        </p:blipFill>
        <p:spPr>
          <a:xfrm>
            <a:off x="395280" y="549360"/>
            <a:ext cx="4071960" cy="58323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0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оссии проводится экологический фестиваль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3645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Под деви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Цветущая Земля — процветающ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new010420_02img02"/>
          <p:cNvPicPr/>
          <p:nvPr/>
        </p:nvPicPr>
        <p:blipFill>
          <a:blip r:embed="rId1"/>
          <a:stretch/>
        </p:blipFill>
        <p:spPr>
          <a:xfrm>
            <a:off x="6588000" y="1700280"/>
            <a:ext cx="1997280" cy="38894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AutoShape 1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В Венгрии проходит экологический велопробег</a:t>
            </a: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Рисунок21"/>
          <p:cNvPicPr/>
          <p:nvPr/>
        </p:nvPicPr>
        <p:blipFill>
          <a:blip r:embed="rId1"/>
          <a:stretch/>
        </p:blipFill>
        <p:spPr>
          <a:xfrm>
            <a:off x="1258920" y="2421000"/>
            <a:ext cx="5905440" cy="39369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1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0" descr="девочки"/>
          <p:cNvPicPr/>
          <p:nvPr/>
        </p:nvPicPr>
        <p:blipFill>
          <a:blip r:embed="rId1"/>
          <a:stretch/>
        </p:blipFill>
        <p:spPr>
          <a:xfrm>
            <a:off x="1332000" y="404640"/>
            <a:ext cx="6048360" cy="603108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6" name="AutoShape 12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Северной Корее на улицах Сеула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кция «Без автомоби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Международный День Земли (International Earth Day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844640"/>
            <a:ext cx="6553080" cy="44420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0" name="AutoShape 7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Индонезии, 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а территории американского посольства,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 спортивны состязания в Джакарт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Рисунок4"/>
          <p:cNvPicPr/>
          <p:nvPr/>
        </p:nvPicPr>
        <p:blipFill>
          <a:blip r:embed="rId1"/>
          <a:stretch/>
        </p:blipFill>
        <p:spPr>
          <a:xfrm>
            <a:off x="395280" y="2276640"/>
            <a:ext cx="4038480" cy="284472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Picture 9" descr="Рисунок3"/>
          <p:cNvPicPr/>
          <p:nvPr/>
        </p:nvPicPr>
        <p:blipFill>
          <a:blip r:embed="rId2"/>
          <a:stretch/>
        </p:blipFill>
        <p:spPr>
          <a:xfrm>
            <a:off x="4643280" y="2997360"/>
            <a:ext cx="4038840" cy="284472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AutoShape 11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181440" y="260280"/>
            <a:ext cx="54738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филиппинской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овинции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Кез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Рисунок24"/>
          <p:cNvPicPr/>
          <p:nvPr/>
        </p:nvPicPr>
        <p:blipFill>
          <a:blip r:embed="rId1"/>
          <a:stretch/>
        </p:blipFill>
        <p:spPr>
          <a:xfrm>
            <a:off x="4643280" y="404640"/>
            <a:ext cx="4254480" cy="2930760"/>
          </a:xfrm>
          <a:prstGeom prst="rect">
            <a:avLst/>
          </a:prstGeom>
          <a:ln w="7632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3789360"/>
            <a:ext cx="8447040" cy="29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Акция протеста у Национального Центра Экологии неподалеку от столицы — Ман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Участники демонстрации «переодеты в костюмы» электрических трансформ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8">
            <a:hlinkClick r:id="" action="ppaction://hlinkshowjump?jump=nextslide"/>
          </p:cNvPr>
          <p:cNvSpPr/>
          <p:nvPr/>
        </p:nvSpPr>
        <p:spPr>
          <a:xfrm>
            <a:off x="8317080" y="6165720"/>
            <a:ext cx="576000" cy="5050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760 h 505080"/>
              <a:gd name="textAreaBottom" fmla="*/ 472680 h 505080"/>
            </a:gdLst>
            <a:ahLst/>
            <a:rect l="textAreaLeft" t="textAreaTop" r="textAreaRight" b="textAreaBottom"/>
            <a:pathLst>
              <a:path w="24631" h="21600">
                <a:moveTo>
                  <a:pt x="0" y="0"/>
                </a:moveTo>
                <a:lnTo>
                  <a:pt x="24631" y="0"/>
                </a:lnTo>
                <a:lnTo>
                  <a:pt x="24631" y="21600"/>
                </a:lnTo>
                <a:lnTo>
                  <a:pt x="0" y="21600"/>
                </a:lnTo>
                <a:close/>
              </a:path>
              <a:path fill="lightenLess" w="24631" h="21600">
                <a:moveTo>
                  <a:pt x="0" y="0"/>
                </a:moveTo>
                <a:lnTo>
                  <a:pt x="24631" y="0"/>
                </a:lnTo>
                <a:lnTo>
                  <a:pt x="23231" y="1400"/>
                </a:lnTo>
                <a:lnTo>
                  <a:pt x="1400" y="1400"/>
                </a:lnTo>
                <a:close/>
              </a:path>
              <a:path fill="darken" w="24631" h="21600">
                <a:moveTo>
                  <a:pt x="24631" y="0"/>
                </a:moveTo>
                <a:lnTo>
                  <a:pt x="24631" y="21600"/>
                </a:lnTo>
                <a:lnTo>
                  <a:pt x="23231" y="20200"/>
                </a:lnTo>
                <a:lnTo>
                  <a:pt x="23231" y="1400"/>
                </a:lnTo>
                <a:close/>
              </a:path>
              <a:path fill="darkenLess" w="24631" h="21600">
                <a:moveTo>
                  <a:pt x="246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31" y="20200"/>
                </a:lnTo>
                <a:close/>
              </a:path>
              <a:path fill="lighten" w="246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31" h="21600">
                <a:moveTo>
                  <a:pt x="5309" y="3794"/>
                </a:moveTo>
                <a:lnTo>
                  <a:pt x="19322" y="10800"/>
                </a:lnTo>
                <a:lnTo>
                  <a:pt x="5309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Маниле на Филиппинах - демонстрация движения по защите животных PE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Рисунок23"/>
          <p:cNvPicPr/>
          <p:nvPr/>
        </p:nvPicPr>
        <p:blipFill>
          <a:blip r:embed="rId1"/>
          <a:stretch/>
        </p:blipFill>
        <p:spPr>
          <a:xfrm>
            <a:off x="2340000" y="2276640"/>
            <a:ext cx="4033800" cy="3101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535104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Участники пропагандируют вегетарианство ради спасения пла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49116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На Филиппинах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ежегодный «зеленый»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елосипедный забе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Рисунок22"/>
          <p:cNvPicPr/>
          <p:nvPr/>
        </p:nvPicPr>
        <p:blipFill>
          <a:blip r:embed="rId1"/>
          <a:stretch/>
        </p:blipFill>
        <p:spPr>
          <a:xfrm>
            <a:off x="1403280" y="1989000"/>
            <a:ext cx="6193080" cy="416880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5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Про всех на свете»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Б. Заход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DSC_0465"/>
          <p:cNvPicPr/>
          <p:nvPr/>
        </p:nvPicPr>
        <p:blipFill>
          <a:blip r:embed="rId2"/>
          <a:stretch/>
        </p:blipFill>
        <p:spPr>
          <a:xfrm>
            <a:off x="1258920" y="1700280"/>
            <a:ext cx="6624720" cy="440856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8" name="AutoShape 14">
            <a:hlinkClick r:id="rId3" action="ppaction://hlinksldjump"/>
          </p:cNvPr>
          <p:cNvSpPr/>
          <p:nvPr/>
        </p:nvSpPr>
        <p:spPr>
          <a:xfrm>
            <a:off x="8172360" y="609300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aa66"/>
          <p:cNvPicPr/>
          <p:nvPr/>
        </p:nvPicPr>
        <p:blipFill>
          <a:blip r:embed="rId1"/>
          <a:stretch/>
        </p:blipFill>
        <p:spPr>
          <a:xfrm>
            <a:off x="1187280" y="2276640"/>
            <a:ext cx="6840720" cy="363060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0" name="WordArt 12"/>
          <p:cNvSpPr txBox="1"/>
          <p:nvPr/>
        </p:nvSpPr>
        <p:spPr>
          <a:xfrm>
            <a:off x="900000" y="404640"/>
            <a:ext cx="734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-игра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Да, нет»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AutoShape 13">
            <a:hlinkClick r:id="rId2" action="ppaction://hlinksldjump"/>
          </p:cNvPr>
          <p:cNvSpPr/>
          <p:nvPr/>
        </p:nvSpPr>
        <p:spPr>
          <a:xfrm>
            <a:off x="8172360" y="5950080"/>
            <a:ext cx="576360" cy="50472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64" h="21600">
                <a:moveTo>
                  <a:pt x="0" y="0"/>
                </a:moveTo>
                <a:lnTo>
                  <a:pt x="24664" y="0"/>
                </a:lnTo>
                <a:lnTo>
                  <a:pt x="24664" y="21600"/>
                </a:lnTo>
                <a:lnTo>
                  <a:pt x="0" y="21600"/>
                </a:lnTo>
                <a:close/>
              </a:path>
              <a:path fill="lightenLess" w="24664" h="21600">
                <a:moveTo>
                  <a:pt x="0" y="0"/>
                </a:moveTo>
                <a:lnTo>
                  <a:pt x="24664" y="0"/>
                </a:lnTo>
                <a:lnTo>
                  <a:pt x="23264" y="1400"/>
                </a:lnTo>
                <a:lnTo>
                  <a:pt x="1400" y="1400"/>
                </a:lnTo>
                <a:close/>
              </a:path>
              <a:path fill="darken" w="24664" h="21600">
                <a:moveTo>
                  <a:pt x="24664" y="0"/>
                </a:moveTo>
                <a:lnTo>
                  <a:pt x="24664" y="21600"/>
                </a:lnTo>
                <a:lnTo>
                  <a:pt x="23264" y="20200"/>
                </a:lnTo>
                <a:lnTo>
                  <a:pt x="23264" y="1400"/>
                </a:lnTo>
                <a:close/>
              </a:path>
              <a:path fill="darkenLess" w="24664" h="21600">
                <a:moveTo>
                  <a:pt x="24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64" y="20200"/>
                </a:lnTo>
                <a:close/>
              </a:path>
              <a:path fill="lighten" w="24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64" h="21600">
                <a:moveTo>
                  <a:pt x="5325" y="7493"/>
                </a:moveTo>
                <a:lnTo>
                  <a:pt x="8833" y="7493"/>
                </a:lnTo>
                <a:lnTo>
                  <a:pt x="8833" y="12828"/>
                </a:lnTo>
                <a:cubicBezTo>
                  <a:pt x="8833" y="13751"/>
                  <a:pt x="9634" y="14482"/>
                  <a:pt x="10669" y="14482"/>
                </a:cubicBezTo>
                <a:lnTo>
                  <a:pt x="12332" y="14482"/>
                </a:lnTo>
                <a:cubicBezTo>
                  <a:pt x="13368" y="14482"/>
                  <a:pt x="14168" y="13751"/>
                  <a:pt x="14168" y="12828"/>
                </a:cubicBezTo>
                <a:lnTo>
                  <a:pt x="14168" y="7493"/>
                </a:lnTo>
                <a:lnTo>
                  <a:pt x="12332" y="7493"/>
                </a:lnTo>
                <a:lnTo>
                  <a:pt x="15839" y="3985"/>
                </a:lnTo>
                <a:lnTo>
                  <a:pt x="19512" y="7493"/>
                </a:lnTo>
                <a:lnTo>
                  <a:pt x="17676" y="7493"/>
                </a:lnTo>
                <a:lnTo>
                  <a:pt x="17676" y="12828"/>
                </a:lnTo>
                <a:cubicBezTo>
                  <a:pt x="17676" y="15596"/>
                  <a:pt x="15100" y="18155"/>
                  <a:pt x="12332" y="18155"/>
                </a:cubicBezTo>
                <a:lnTo>
                  <a:pt x="10669" y="18155"/>
                </a:lnTo>
                <a:cubicBezTo>
                  <a:pt x="7902" y="18155"/>
                  <a:pt x="5325" y="15596"/>
                  <a:pt x="5325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ffff"/>
            </a:gs>
            <a:gs pos="50000">
              <a:srgbClr val="ccff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1116000" y="1052640"/>
            <a:ext cx="716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Знатоки природы"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Picture 10" descr="DSC_0227"/>
          <p:cNvPicPr/>
          <p:nvPr/>
        </p:nvPicPr>
        <p:blipFill>
          <a:blip r:embed="rId1"/>
          <a:stretch/>
        </p:blipFill>
        <p:spPr>
          <a:xfrm>
            <a:off x="2050920" y="2828880"/>
            <a:ext cx="5040360" cy="335268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5" name="AutoShape 11">
            <a:hlinkClick r:id="rId2" action="ppaction://hlinksldjump"/>
          </p:cNvPr>
          <p:cNvSpPr/>
          <p:nvPr/>
        </p:nvSpPr>
        <p:spPr>
          <a:xfrm>
            <a:off x="8172360" y="602136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7">
            <a:hlinkClick r:id="rId2" action="ppaction://hlinksldjump"/>
          </p:cNvPr>
          <p:cNvSpPr/>
          <p:nvPr/>
        </p:nvSpPr>
        <p:spPr>
          <a:xfrm>
            <a:off x="8172360" y="6021360"/>
            <a:ext cx="540000" cy="504720"/>
          </a:xfrm>
          <a:custGeom>
            <a:avLst/>
            <a:gdLst>
              <a:gd name="textAreaLeft" fmla="*/ 32400 w 540000"/>
              <a:gd name="textAreaRight" fmla="*/ 507600 w 540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109" h="21600">
                <a:moveTo>
                  <a:pt x="0" y="0"/>
                </a:moveTo>
                <a:lnTo>
                  <a:pt x="23109" y="0"/>
                </a:lnTo>
                <a:lnTo>
                  <a:pt x="23109" y="21600"/>
                </a:lnTo>
                <a:lnTo>
                  <a:pt x="0" y="21600"/>
                </a:lnTo>
                <a:close/>
              </a:path>
              <a:path fill="lightenLess" w="23109" h="21600">
                <a:moveTo>
                  <a:pt x="0" y="0"/>
                </a:moveTo>
                <a:lnTo>
                  <a:pt x="23109" y="0"/>
                </a:lnTo>
                <a:lnTo>
                  <a:pt x="21709" y="1400"/>
                </a:lnTo>
                <a:lnTo>
                  <a:pt x="1400" y="1400"/>
                </a:lnTo>
                <a:close/>
              </a:path>
              <a:path fill="darken" w="23109" h="21600">
                <a:moveTo>
                  <a:pt x="23109" y="0"/>
                </a:moveTo>
                <a:lnTo>
                  <a:pt x="23109" y="21600"/>
                </a:lnTo>
                <a:lnTo>
                  <a:pt x="21709" y="20200"/>
                </a:lnTo>
                <a:lnTo>
                  <a:pt x="21709" y="1400"/>
                </a:lnTo>
                <a:close/>
              </a:path>
              <a:path fill="darkenLess" w="23109" h="21600">
                <a:moveTo>
                  <a:pt x="23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9" y="20200"/>
                </a:lnTo>
                <a:close/>
              </a:path>
              <a:path fill="lighten" w="23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9" h="21600">
                <a:moveTo>
                  <a:pt x="4548" y="7493"/>
                </a:moveTo>
                <a:lnTo>
                  <a:pt x="8055" y="7493"/>
                </a:lnTo>
                <a:lnTo>
                  <a:pt x="8055" y="12828"/>
                </a:lnTo>
                <a:cubicBezTo>
                  <a:pt x="8055" y="13751"/>
                  <a:pt x="8856" y="14482"/>
                  <a:pt x="9892" y="14482"/>
                </a:cubicBezTo>
                <a:lnTo>
                  <a:pt x="11554" y="14482"/>
                </a:lnTo>
                <a:cubicBezTo>
                  <a:pt x="12590" y="14482"/>
                  <a:pt x="13391" y="13751"/>
                  <a:pt x="13391" y="12828"/>
                </a:cubicBezTo>
                <a:lnTo>
                  <a:pt x="13391" y="7493"/>
                </a:lnTo>
                <a:lnTo>
                  <a:pt x="11554" y="7493"/>
                </a:lnTo>
                <a:lnTo>
                  <a:pt x="15062" y="3985"/>
                </a:lnTo>
                <a:lnTo>
                  <a:pt x="18735" y="7493"/>
                </a:lnTo>
                <a:lnTo>
                  <a:pt x="16898" y="7493"/>
                </a:lnTo>
                <a:lnTo>
                  <a:pt x="16898" y="12828"/>
                </a:lnTo>
                <a:cubicBezTo>
                  <a:pt x="16898" y="15596"/>
                  <a:pt x="14322" y="18155"/>
                  <a:pt x="11554" y="18155"/>
                </a:cubicBezTo>
                <a:lnTo>
                  <a:pt x="9892" y="18155"/>
                </a:lnTo>
                <a:cubicBezTo>
                  <a:pt x="7124" y="18155"/>
                  <a:pt x="4548" y="15596"/>
                  <a:pt x="4548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2268360" y="260280"/>
            <a:ext cx="45388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гра "УЗНАВАЙ-КА"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339640" y="907560"/>
            <a:ext cx="24591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норова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2340000" y="1268280"/>
            <a:ext cx="194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йеволо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4643280" y="907920"/>
            <a:ext cx="158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ари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4643280" y="1268280"/>
            <a:ext cx="1584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кш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340000" y="1628640"/>
            <a:ext cx="1944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кшукук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2340000" y="1916280"/>
            <a:ext cx="1368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летяд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2340000" y="2276640"/>
            <a:ext cx="115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арг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"/>
          <p:cNvSpPr/>
          <p:nvPr/>
        </p:nvSpPr>
        <p:spPr>
          <a:xfrm>
            <a:off x="4643280" y="1700280"/>
            <a:ext cx="1513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ырбо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0"/>
          <p:cNvSpPr/>
          <p:nvPr/>
        </p:nvSpPr>
        <p:spPr>
          <a:xfrm>
            <a:off x="4643280" y="2421000"/>
            <a:ext cx="1152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олс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1"/>
          <p:cNvSpPr/>
          <p:nvPr/>
        </p:nvSpPr>
        <p:spPr>
          <a:xfrm>
            <a:off x="4643280" y="1989000"/>
            <a:ext cx="136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рбок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3" descr="бобры"/>
          <p:cNvPicPr/>
          <p:nvPr/>
        </p:nvPicPr>
        <p:blipFill>
          <a:blip r:embed="rId3"/>
          <a:stretch/>
        </p:blipFill>
        <p:spPr>
          <a:xfrm>
            <a:off x="6732720" y="4221000"/>
            <a:ext cx="2020680" cy="142272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9" name="Picture 24" descr="грач"/>
          <p:cNvPicPr/>
          <p:nvPr/>
        </p:nvPicPr>
        <p:blipFill>
          <a:blip r:embed="rId4"/>
          <a:stretch/>
        </p:blipFill>
        <p:spPr>
          <a:xfrm>
            <a:off x="1116000" y="5229360"/>
            <a:ext cx="2016000" cy="145872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0" name="Picture 25" descr="дятел"/>
          <p:cNvPicPr/>
          <p:nvPr/>
        </p:nvPicPr>
        <p:blipFill>
          <a:blip r:embed="rId5"/>
          <a:stretch/>
        </p:blipFill>
        <p:spPr>
          <a:xfrm>
            <a:off x="2340000" y="2997360"/>
            <a:ext cx="1428840" cy="195876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1" name="Picture 26" descr="жаворонок"/>
          <p:cNvPicPr/>
          <p:nvPr/>
        </p:nvPicPr>
        <p:blipFill>
          <a:blip r:embed="rId6"/>
          <a:stretch/>
        </p:blipFill>
        <p:spPr>
          <a:xfrm>
            <a:off x="250920" y="189000"/>
            <a:ext cx="1800000" cy="129996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2" name="Picture 27" descr="соловей"/>
          <p:cNvPicPr/>
          <p:nvPr/>
        </p:nvPicPr>
        <p:blipFill>
          <a:blip r:embed="rId7"/>
          <a:stretch/>
        </p:blipFill>
        <p:spPr>
          <a:xfrm>
            <a:off x="250920" y="1700280"/>
            <a:ext cx="1485720" cy="165744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3" name="Picture 29" descr="жираф"/>
          <p:cNvPicPr/>
          <p:nvPr/>
        </p:nvPicPr>
        <p:blipFill>
          <a:blip r:embed="rId8"/>
          <a:stretch/>
        </p:blipFill>
        <p:spPr>
          <a:xfrm>
            <a:off x="6948360" y="260280"/>
            <a:ext cx="1979640" cy="148428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4" name="Picture 30" descr="кобра"/>
          <p:cNvPicPr/>
          <p:nvPr/>
        </p:nvPicPr>
        <p:blipFill>
          <a:blip r:embed="rId9"/>
          <a:stretch/>
        </p:blipFill>
        <p:spPr>
          <a:xfrm>
            <a:off x="4211640" y="3213000"/>
            <a:ext cx="2016000" cy="139716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5" name="Picture 31" descr="мишка"/>
          <p:cNvPicPr/>
          <p:nvPr/>
        </p:nvPicPr>
        <p:blipFill>
          <a:blip r:embed="rId10"/>
          <a:stretch/>
        </p:blipFill>
        <p:spPr>
          <a:xfrm>
            <a:off x="6588000" y="2060640"/>
            <a:ext cx="2195640" cy="166680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6" name="Picture 32" descr="слон"/>
          <p:cNvPicPr/>
          <p:nvPr/>
        </p:nvPicPr>
        <p:blipFill>
          <a:blip r:embed="rId11"/>
          <a:stretch/>
        </p:blipFill>
        <p:spPr>
          <a:xfrm>
            <a:off x="4284720" y="5084640"/>
            <a:ext cx="2016000" cy="151128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67" name="Picture 33" descr="кукушка"/>
          <p:cNvPicPr/>
          <p:nvPr/>
        </p:nvPicPr>
        <p:blipFill>
          <a:blip r:embed="rId12"/>
          <a:stretch/>
        </p:blipFill>
        <p:spPr>
          <a:xfrm>
            <a:off x="179280" y="3573360"/>
            <a:ext cx="1908360" cy="1468440"/>
          </a:xfrm>
          <a:prstGeom prst="rect">
            <a:avLst/>
          </a:prstGeom>
          <a:ln w="76320">
            <a:solidFill>
              <a:srgbClr val="0066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Благополучие и процветание Земли в Ваших руках, ребя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Рисунок15"/>
          <p:cNvPicPr/>
          <p:nvPr/>
        </p:nvPicPr>
        <p:blipFill>
          <a:blip r:embed="rId1"/>
          <a:stretch/>
        </p:blipFill>
        <p:spPr>
          <a:xfrm>
            <a:off x="2340000" y="1870200"/>
            <a:ext cx="4680000" cy="41367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0" name="AutoShape 1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96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14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s12_9_2"/>
          <p:cNvPicPr/>
          <p:nvPr/>
        </p:nvPicPr>
        <p:blipFill>
          <a:blip r:embed="rId1"/>
          <a:stretch/>
        </p:blipFill>
        <p:spPr>
          <a:xfrm>
            <a:off x="2050920" y="2133720"/>
            <a:ext cx="4969080" cy="360504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3" name="WordArt 21"/>
          <p:cNvSpPr txBox="1"/>
          <p:nvPr/>
        </p:nvSpPr>
        <p:spPr>
          <a:xfrm>
            <a:off x="971640" y="404640"/>
            <a:ext cx="72216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ы - гости на планете Земля</a:t>
            </a:r>
            <a:endParaRPr b="1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рогая планета, Земля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здравляем тебя с празднико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ости нас за наши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Мы обещ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охранить твою крас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Рисунок25"/>
          <p:cNvPicPr/>
          <p:nvPr/>
        </p:nvPicPr>
        <p:blipFill>
          <a:blip r:embed="rId1"/>
          <a:stretch/>
        </p:blipFill>
        <p:spPr>
          <a:xfrm>
            <a:off x="2771640" y="3213000"/>
            <a:ext cx="3384720" cy="337500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76" name="AutoShape 1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3"/>
          <p:cNvPicPr/>
          <p:nvPr/>
        </p:nvPicPr>
        <p:blipFill>
          <a:blip r:embed="rId2"/>
          <a:stretch/>
        </p:blipFill>
        <p:spPr>
          <a:xfrm>
            <a:off x="7451640" y="907920"/>
            <a:ext cx="1346400" cy="95580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5">
            <a:hlinkClick r:id="rId3" action="ppaction://hlinksldjump"/>
          </p:cNvPr>
          <p:cNvSpPr/>
          <p:nvPr/>
        </p:nvSpPr>
        <p:spPr>
          <a:xfrm>
            <a:off x="8604360" y="635328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4540" y="7493"/>
                </a:moveTo>
                <a:lnTo>
                  <a:pt x="8048" y="7493"/>
                </a:lnTo>
                <a:lnTo>
                  <a:pt x="8048" y="12828"/>
                </a:lnTo>
                <a:cubicBezTo>
                  <a:pt x="8048" y="13751"/>
                  <a:pt x="8849" y="14482"/>
                  <a:pt x="9884" y="14482"/>
                </a:cubicBezTo>
                <a:lnTo>
                  <a:pt x="11547" y="14482"/>
                </a:lnTo>
                <a:cubicBezTo>
                  <a:pt x="12582" y="14482"/>
                  <a:pt x="13383" y="13751"/>
                  <a:pt x="13383" y="12828"/>
                </a:cubicBezTo>
                <a:lnTo>
                  <a:pt x="13383" y="7493"/>
                </a:lnTo>
                <a:lnTo>
                  <a:pt x="11547" y="7493"/>
                </a:lnTo>
                <a:lnTo>
                  <a:pt x="15054" y="3985"/>
                </a:lnTo>
                <a:lnTo>
                  <a:pt x="18727" y="7493"/>
                </a:lnTo>
                <a:lnTo>
                  <a:pt x="16891" y="7493"/>
                </a:lnTo>
                <a:lnTo>
                  <a:pt x="16891" y="12828"/>
                </a:lnTo>
                <a:cubicBezTo>
                  <a:pt x="16891" y="15596"/>
                  <a:pt x="14314" y="18155"/>
                  <a:pt x="11547" y="18155"/>
                </a:cubicBezTo>
                <a:lnTo>
                  <a:pt x="9884" y="18155"/>
                </a:lnTo>
                <a:cubicBezTo>
                  <a:pt x="7117" y="18155"/>
                  <a:pt x="4540" y="15596"/>
                  <a:pt x="4540" y="12828"/>
                </a:cubicBez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rosti Zemlya.mp3" descr=""/>
          <p:cNvPicPr/>
          <p:nvPr/>
        </p:nvPicPr>
        <p:blipFill>
          <a:blip r:embed="rId4"/>
          <a:stretch/>
        </p:blipFill>
        <p:spPr>
          <a:xfrm>
            <a:off x="1792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304722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Подведём итог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му празднику был посвящён классн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овите цель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гда он отме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й знак является символом праз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изображено на флаг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мероприятия проводятся в России и других странах к этому празднику - «День Земл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Что мы с Вами можем сделать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деле защиты окружающей среды?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0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31640" y="2205000"/>
            <a:ext cx="620244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нарисуйте плак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ли рисунок на тему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5" descr="1IMG_3877"/>
          <p:cNvPicPr/>
          <p:nvPr/>
        </p:nvPicPr>
        <p:blipFill>
          <a:blip r:embed="rId1"/>
          <a:stretch/>
        </p:blipFill>
        <p:spPr>
          <a:xfrm>
            <a:off x="900000" y="476280"/>
            <a:ext cx="4154760" cy="52563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87" name="Rectangle 18"/>
          <p:cNvSpPr/>
          <p:nvPr/>
        </p:nvSpPr>
        <p:spPr>
          <a:xfrm>
            <a:off x="5292720" y="2852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пла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«Красная книг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94920" y="5805000"/>
            <a:ext cx="7056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7" descr="1IMG_3856"/>
          <p:cNvPicPr/>
          <p:nvPr/>
        </p:nvPicPr>
        <p:blipFill>
          <a:blip r:embed="rId1"/>
          <a:stretch/>
        </p:blipFill>
        <p:spPr>
          <a:xfrm>
            <a:off x="611280" y="333360"/>
            <a:ext cx="4000320" cy="532764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2" name="Rectangle 10"/>
          <p:cNvSpPr/>
          <p:nvPr/>
        </p:nvSpPr>
        <p:spPr>
          <a:xfrm>
            <a:off x="4643280" y="2492280"/>
            <a:ext cx="450072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рису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"Мне трудно дышать"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1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лакат "День Земли"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1IMG_3855"/>
          <p:cNvPicPr/>
          <p:nvPr/>
        </p:nvPicPr>
        <p:blipFill>
          <a:blip r:embed="rId1"/>
          <a:stretch/>
        </p:blipFill>
        <p:spPr>
          <a:xfrm>
            <a:off x="2050920" y="1197000"/>
            <a:ext cx="5112000" cy="416412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4000" y="5516280"/>
            <a:ext cx="8229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AutoShape 11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05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«Красота Земли мое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Красота Земли моей"/>
          <p:cNvPicPr/>
          <p:nvPr/>
        </p:nvPicPr>
        <p:blipFill>
          <a:blip r:embed="rId1"/>
          <a:stretch/>
        </p:blipFill>
        <p:spPr>
          <a:xfrm>
            <a:off x="1908000" y="1413000"/>
            <a:ext cx="5329440" cy="3984480"/>
          </a:xfrm>
          <a:prstGeom prst="rect">
            <a:avLst/>
          </a:prstGeom>
          <a:ln w="76320">
            <a:solidFill>
              <a:srgbClr val="33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0" name="Rectangle 9"/>
          <p:cNvSpPr/>
          <p:nvPr/>
        </p:nvSpPr>
        <p:spPr>
          <a:xfrm>
            <a:off x="395280" y="5589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>
            <a:hlinkClick r:id="rId2" action="ppaction://hlinksldjump"/>
          </p:cNvPr>
          <p:cNvSpPr/>
          <p:nvPr/>
        </p:nvSpPr>
        <p:spPr>
          <a:xfrm>
            <a:off x="8388360" y="616572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12669" y="3837"/>
                </a:moveTo>
                <a:lnTo>
                  <a:pt x="15246" y="6448"/>
                </a:ln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lnTo>
                  <a:pt x="19632" y="10800"/>
                </a:lnTo>
                <a:lnTo>
                  <a:pt x="17978" y="10800"/>
                </a:lnTo>
                <a:lnTo>
                  <a:pt x="17978" y="17989"/>
                </a:lnTo>
                <a:lnTo>
                  <a:pt x="7360" y="17989"/>
                </a:lnTo>
                <a:lnTo>
                  <a:pt x="7360" y="10800"/>
                </a:lnTo>
                <a:lnTo>
                  <a:pt x="5706" y="10800"/>
                </a:lnTo>
                <a:close/>
              </a:path>
              <a:path fill="darkenLess" w="25338" h="21600">
                <a:moveTo>
                  <a:pt x="15246" y="6448"/>
                </a:move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close/>
              </a:path>
              <a:path fill="darkenLess" w="25338" h="21600">
                <a:moveTo>
                  <a:pt x="11747" y="14299"/>
                </a:moveTo>
                <a:lnTo>
                  <a:pt x="13592" y="14299"/>
                </a:lnTo>
                <a:lnTo>
                  <a:pt x="13592" y="17989"/>
                </a:lnTo>
                <a:lnTo>
                  <a:pt x="17978" y="17989"/>
                </a:lnTo>
                <a:lnTo>
                  <a:pt x="17978" y="10800"/>
                </a:lnTo>
                <a:lnTo>
                  <a:pt x="7360" y="10800"/>
                </a:lnTo>
                <a:lnTo>
                  <a:pt x="7360" y="17989"/>
                </a:lnTo>
                <a:lnTo>
                  <a:pt x="11747" y="1798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13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Источники информ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rds.mail.ru/cardedit.html?E=81980&amp;tid=820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 «День Земли», девочки держатся за ру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rds.mail.ru/cardedit.html?E=81980&amp;tid=801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бои «день Земли», изображение Земли с веночком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rds.mail.ru/cardedit.html?E=81980&amp;tid=7383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 «Всемирный День Земли»;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rds.mail.ru/cardedit.html?E=81980&amp;tid=696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 «Мирного неба над твоей головой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ards.mail.ru/cardedit.html?E=81980&amp;tid=695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 «Сохраним жизнь на Земле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cards.mail.ru/cardedit.html?E=81980&amp;tid=756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открытка «Всемирный день Земли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cards.mail.ru/cardedit.html?E=82193&amp;tid=7610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 «Хочется тепла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kvartal.websib.ru/foto/albums/userpics/10001/th_1IMG_3855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"Красота земли моей", плакат Алёна Хомякова, 13 лет Филиал "Вымпел", кружок «Фантазия», Руководитель Анна Юрьевна Садыков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cards.uainter.net/create.php?card_id=764&amp;lang=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- обои «Земля наш общий дом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vartal.websib.ru/foto/albums/userpics/10001/th_1IMG_3855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"Они тоже хотят жить" Коллективная работа творческого объединения "Непоседа" на конкурс плакатов в рамках "Дня Земли"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итель Е.В. Григорьева, Филиал "Надежда" , "Мне трудно дышать" Ольга Налобина, 14 лет Филиал "Калейдоскоп«, Руководитель Л.С. Макаров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kvartal.websib.ru/foto/albums/userpics/10001/th_1IMG_3877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- Плакат филиала "Пламя", студия "Зелёный мир«, Руководитель Дианна Шаповалова  «Красная книга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u.wikipedia.org/wiki/%D0%A4%D0%B0%D0%B9%D0%BB:Earth_flag_PD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фото Земли, флаг Земл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sciam.ru/news/2005/img/32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С. П. Капица; 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ru.wikipedia.org/wiki/%D0%94%D0%B5%D0%BD%D1%8C_%D0%97%D0%B5%D0%BC%D0%BB%D0%B8-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материал о празднике, символ Земл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ru.wikipedia.org/wiki/%D0%A4%D0%B0%D0%B9%D0%BB:Kolokol_Mira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фото космонавтов Березового и Астафьева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fap.ru/photo/new010420_02img02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мальчик с деревом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gorsun.org.ru/i/galleries/29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рисунки детей ко Дню Земли общее фото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oboffsem.ru/2008/04/21/mezhdunarodnyjj-den-zemli-international.htm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традиции праздника  в других странах и фото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www.hot-shop.ru/UserFiles/1307071/e2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- колокол мира из монет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cards.uainter.net/create.php?card_id=769&amp;lang=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  «Береги Землю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wwteam.delfi.lv/activ/travels/tashkent/p2s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колокол мира парк Бабука в Японском саду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cards.uainter.net/create.php?card_id=770&amp;lang=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, дети ловят Земной шар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cards.uainter.net/create.php?card_id=765&amp;lang=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– открытка, загрязнение окружающей среды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cards.uainter.net/create.php?card_id=763&amp;lang=ru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- открытка, загрязнение воздуха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ddd-gazeta.ru/content/view/292/0/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информация о колоколе ми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tabakoff.ru/kalendar/images/209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фото планеты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risk.ru/i/post/4/4139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информация о Мортоне Стенл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piastra.narod.ru/_KAT1/st117.htm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- стихотворение «Люди – гости на планете Земля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http://tonnel.ru/?l=fonoteka&amp;main=69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 звуковой файл, песня ВАИ «Земляне»  «Прости, Земля!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gorodlip.ru/events/e10127365/   - информация о празднике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http://www.clubochek.ru/vers.php?id=5631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стихотворение – живая планета Земл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http://www.solnet.ee/holidays/s12_9.htm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сценарий экологического праздника «ДЕНЬ ЗЕМЛИ» С. Сульдимиров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http://www.solnet.ee/sol/002/z_074.htm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загадки о птица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http://www.solnet.ee/sol/002/z_078.html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загадки о животны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4"/>
              </a:rPr>
              <a:t>http://www.solnet.ee/holidays/pic/s12_9_2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 рисунок дети держат Землю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Ожегов С. И. Словарь русского языка: 70 000 слов/ Под ред. Н. Ю. Шведовой. - 22-е изд., стер.- М., Рус. яз., 19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u="sng">
                <a:solidFill>
                  <a:srgbClr val="009999"/>
                </a:solidFill>
                <a:uFillTx/>
                <a:latin typeface="Arial"/>
                <a:hlinkClick r:id="rId35"/>
              </a:rPr>
              <a:t>http://www.petshealth.ru/pets/bird/breed/breed_images/solovej.jpg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- солове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floranimal.ru/pages/animal/g/1626.jpg - гра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kungrad.narod.ru/4/Birds/18.jpg - жаворонок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photo.mipt.ru/authors/AndrewGT/birds_remake/img16712_rc.jpg -  дяте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deti.religiousbook.org.ua/img/small/kukushka.jpg - кукуш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espot.ru/imgpv/nature/animals/giraffes/giraffes_007.jpg -жира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hi-it.ru/images/stories/content/news/big/2006-11-10-8.jpg - бобр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floranimal.ru/pages/animal/k/1430.jpg - коб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ammstaff.narod.ru/grizly/grizly1/24.jpg - мищ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http://www.espot.ru/imgpv/nature/animals/elephants/elephants_007.jpg - сло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8388360" y="616572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12669" y="3837"/>
                </a:moveTo>
                <a:lnTo>
                  <a:pt x="15246" y="6448"/>
                </a:ln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lnTo>
                  <a:pt x="19632" y="10800"/>
                </a:lnTo>
                <a:lnTo>
                  <a:pt x="17978" y="10800"/>
                </a:lnTo>
                <a:lnTo>
                  <a:pt x="17978" y="17989"/>
                </a:lnTo>
                <a:lnTo>
                  <a:pt x="7360" y="17989"/>
                </a:lnTo>
                <a:lnTo>
                  <a:pt x="7360" y="10800"/>
                </a:lnTo>
                <a:lnTo>
                  <a:pt x="5706" y="10800"/>
                </a:lnTo>
                <a:close/>
              </a:path>
              <a:path fill="darkenLess" w="25338" h="21600">
                <a:moveTo>
                  <a:pt x="15246" y="6448"/>
                </a:move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close/>
              </a:path>
              <a:path fill="darkenLess" w="25338" h="21600">
                <a:moveTo>
                  <a:pt x="11747" y="14299"/>
                </a:moveTo>
                <a:lnTo>
                  <a:pt x="13592" y="14299"/>
                </a:lnTo>
                <a:lnTo>
                  <a:pt x="13592" y="17989"/>
                </a:lnTo>
                <a:lnTo>
                  <a:pt x="17978" y="17989"/>
                </a:lnTo>
                <a:lnTo>
                  <a:pt x="17978" y="10800"/>
                </a:lnTo>
                <a:lnTo>
                  <a:pt x="7360" y="10800"/>
                </a:lnTo>
                <a:lnTo>
                  <a:pt x="7360" y="17989"/>
                </a:lnTo>
                <a:lnTo>
                  <a:pt x="11747" y="1798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6">
            <a:hlinkClick r:id="rId1" action="ppaction://hlinksldjump"/>
          </p:cNvPr>
          <p:cNvSpPr/>
          <p:nvPr/>
        </p:nvSpPr>
        <p:spPr>
          <a:xfrm>
            <a:off x="539640" y="33336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 празд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5">
            <a:hlinkClick r:id="rId2" action="ppaction://hlinksldjump"/>
          </p:cNvPr>
          <p:cNvSpPr/>
          <p:nvPr/>
        </p:nvSpPr>
        <p:spPr>
          <a:xfrm>
            <a:off x="539640" y="148428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имво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з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7">
            <a:hlinkClick r:id="rId3" action="ppaction://hlinksldjump"/>
          </p:cNvPr>
          <p:cNvSpPr/>
          <p:nvPr/>
        </p:nvSpPr>
        <p:spPr>
          <a:xfrm>
            <a:off x="539640" y="270828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8">
            <a:hlinkClick r:id="rId4" action="ppaction://hlinksldjump"/>
          </p:cNvPr>
          <p:cNvSpPr/>
          <p:nvPr/>
        </p:nvSpPr>
        <p:spPr>
          <a:xfrm>
            <a:off x="539640" y="393372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>
            <a:hlinkClick r:id="rId5" action="ppaction://hlinksldjump"/>
          </p:cNvPr>
          <p:cNvSpPr/>
          <p:nvPr/>
        </p:nvSpPr>
        <p:spPr>
          <a:xfrm>
            <a:off x="539640" y="5157720"/>
            <a:ext cx="2376720" cy="936720"/>
          </a:xfrm>
          <a:custGeom>
            <a:avLst/>
            <a:gdLst>
              <a:gd name="textAreaLeft" fmla="*/ 60480 w 2376720"/>
              <a:gd name="textAreaRight" fmla="*/ 2316240 w 2376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92" h="21600">
                <a:moveTo>
                  <a:pt x="0" y="0"/>
                </a:moveTo>
                <a:lnTo>
                  <a:pt x="54792" y="0"/>
                </a:lnTo>
                <a:lnTo>
                  <a:pt x="54792" y="21600"/>
                </a:lnTo>
                <a:lnTo>
                  <a:pt x="0" y="21600"/>
                </a:lnTo>
                <a:close/>
              </a:path>
              <a:path fill="lightenLess" w="54792" h="21600">
                <a:moveTo>
                  <a:pt x="0" y="0"/>
                </a:moveTo>
                <a:lnTo>
                  <a:pt x="54792" y="0"/>
                </a:lnTo>
                <a:lnTo>
                  <a:pt x="53393" y="1400"/>
                </a:lnTo>
                <a:lnTo>
                  <a:pt x="1400" y="1400"/>
                </a:lnTo>
                <a:close/>
              </a:path>
              <a:path fill="darken" w="54792" h="21600">
                <a:moveTo>
                  <a:pt x="54792" y="0"/>
                </a:moveTo>
                <a:lnTo>
                  <a:pt x="54792" y="21600"/>
                </a:lnTo>
                <a:lnTo>
                  <a:pt x="53393" y="20200"/>
                </a:lnTo>
                <a:lnTo>
                  <a:pt x="53393" y="1400"/>
                </a:lnTo>
                <a:close/>
              </a:path>
              <a:path fill="darkenLess" w="54792" h="21600">
                <a:moveTo>
                  <a:pt x="547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93" y="20200"/>
                </a:lnTo>
                <a:close/>
              </a:path>
              <a:path fill="lighten" w="547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1">
            <a:hlinkClick r:id="rId6" action="ppaction://hlinksldjump"/>
          </p:cNvPr>
          <p:cNvSpPr/>
          <p:nvPr/>
        </p:nvSpPr>
        <p:spPr>
          <a:xfrm>
            <a:off x="4500720" y="333360"/>
            <a:ext cx="3960720" cy="936720"/>
          </a:xfrm>
          <a:custGeom>
            <a:avLst/>
            <a:gdLst>
              <a:gd name="textAreaLeft" fmla="*/ 60480 w 3960720"/>
              <a:gd name="textAreaRight" fmla="*/ 3900240 w 3960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91304" h="21600">
                <a:moveTo>
                  <a:pt x="0" y="0"/>
                </a:moveTo>
                <a:lnTo>
                  <a:pt x="91304" y="0"/>
                </a:lnTo>
                <a:lnTo>
                  <a:pt x="91304" y="21600"/>
                </a:lnTo>
                <a:lnTo>
                  <a:pt x="0" y="21600"/>
                </a:lnTo>
                <a:close/>
              </a:path>
              <a:path fill="lightenLess" w="91304" h="21600">
                <a:moveTo>
                  <a:pt x="0" y="0"/>
                </a:moveTo>
                <a:lnTo>
                  <a:pt x="91304" y="0"/>
                </a:lnTo>
                <a:lnTo>
                  <a:pt x="89904" y="1400"/>
                </a:lnTo>
                <a:lnTo>
                  <a:pt x="1400" y="1400"/>
                </a:lnTo>
                <a:close/>
              </a:path>
              <a:path fill="darken" w="91304" h="21600">
                <a:moveTo>
                  <a:pt x="91304" y="0"/>
                </a:moveTo>
                <a:lnTo>
                  <a:pt x="91304" y="21600"/>
                </a:lnTo>
                <a:lnTo>
                  <a:pt x="89904" y="20200"/>
                </a:lnTo>
                <a:lnTo>
                  <a:pt x="89904" y="1400"/>
                </a:lnTo>
                <a:close/>
              </a:path>
              <a:path fill="darkenLess" w="91304" h="21600">
                <a:moveTo>
                  <a:pt x="913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904" y="20200"/>
                </a:lnTo>
                <a:close/>
              </a:path>
              <a:path fill="lighten" w="913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Физкультминутка-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Да, не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>
            <a:hlinkClick r:id="rId7" action="ppaction://hlinksldjump"/>
          </p:cNvPr>
          <p:cNvSpPr/>
          <p:nvPr/>
        </p:nvSpPr>
        <p:spPr>
          <a:xfrm>
            <a:off x="5219640" y="1484280"/>
            <a:ext cx="3241800" cy="936720"/>
          </a:xfrm>
          <a:custGeom>
            <a:avLst/>
            <a:gdLst>
              <a:gd name="textAreaLeft" fmla="*/ 60480 w 3241800"/>
              <a:gd name="textAreaRight" fmla="*/ 3181320 w 324180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74733" h="21600">
                <a:moveTo>
                  <a:pt x="0" y="0"/>
                </a:moveTo>
                <a:lnTo>
                  <a:pt x="74733" y="0"/>
                </a:lnTo>
                <a:lnTo>
                  <a:pt x="74733" y="21600"/>
                </a:lnTo>
                <a:lnTo>
                  <a:pt x="0" y="21600"/>
                </a:lnTo>
                <a:close/>
              </a:path>
              <a:path fill="lightenLess" w="74733" h="21600">
                <a:moveTo>
                  <a:pt x="0" y="0"/>
                </a:moveTo>
                <a:lnTo>
                  <a:pt x="74733" y="0"/>
                </a:lnTo>
                <a:lnTo>
                  <a:pt x="73333" y="1400"/>
                </a:lnTo>
                <a:lnTo>
                  <a:pt x="1400" y="1400"/>
                </a:lnTo>
                <a:close/>
              </a:path>
              <a:path fill="darken" w="74733" h="21600">
                <a:moveTo>
                  <a:pt x="74733" y="0"/>
                </a:moveTo>
                <a:lnTo>
                  <a:pt x="74733" y="21600"/>
                </a:lnTo>
                <a:lnTo>
                  <a:pt x="73333" y="20200"/>
                </a:lnTo>
                <a:lnTo>
                  <a:pt x="73333" y="1400"/>
                </a:lnTo>
                <a:close/>
              </a:path>
              <a:path fill="darkenLess" w="74733" h="21600">
                <a:moveTo>
                  <a:pt x="747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33" y="20200"/>
                </a:lnTo>
                <a:close/>
              </a:path>
              <a:path fill="lighten" w="747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Викто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Знатоки прир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3">
            <a:hlinkClick r:id="rId8" action="ppaction://hlinksldjump"/>
          </p:cNvPr>
          <p:cNvSpPr/>
          <p:nvPr/>
        </p:nvSpPr>
        <p:spPr>
          <a:xfrm>
            <a:off x="6012000" y="3716280"/>
            <a:ext cx="2376360" cy="936720"/>
          </a:xfrm>
          <a:custGeom>
            <a:avLst/>
            <a:gdLst>
              <a:gd name="textAreaLeft" fmla="*/ 60480 w 2376360"/>
              <a:gd name="textAreaRight" fmla="*/ 2315880 w 237636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54784" h="21600">
                <a:moveTo>
                  <a:pt x="0" y="0"/>
                </a:moveTo>
                <a:lnTo>
                  <a:pt x="54784" y="0"/>
                </a:lnTo>
                <a:lnTo>
                  <a:pt x="54784" y="21600"/>
                </a:lnTo>
                <a:lnTo>
                  <a:pt x="0" y="21600"/>
                </a:lnTo>
                <a:close/>
              </a:path>
              <a:path fill="lightenLess" w="54784" h="21600">
                <a:moveTo>
                  <a:pt x="0" y="0"/>
                </a:moveTo>
                <a:lnTo>
                  <a:pt x="54784" y="0"/>
                </a:lnTo>
                <a:lnTo>
                  <a:pt x="53384" y="1400"/>
                </a:lnTo>
                <a:lnTo>
                  <a:pt x="1400" y="1400"/>
                </a:lnTo>
                <a:close/>
              </a:path>
              <a:path fill="darken" w="54784" h="21600">
                <a:moveTo>
                  <a:pt x="54784" y="0"/>
                </a:moveTo>
                <a:lnTo>
                  <a:pt x="54784" y="21600"/>
                </a:lnTo>
                <a:lnTo>
                  <a:pt x="53384" y="20200"/>
                </a:lnTo>
                <a:lnTo>
                  <a:pt x="53384" y="1400"/>
                </a:lnTo>
                <a:close/>
              </a:path>
              <a:path fill="darkenLess" w="54784" h="21600">
                <a:moveTo>
                  <a:pt x="54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384" y="20200"/>
                </a:lnTo>
                <a:close/>
              </a:path>
              <a:path fill="lighten" w="54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 празд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Земл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4">
            <a:hlinkClick r:id="rId9" action="ppaction://hlinksldjump"/>
          </p:cNvPr>
          <p:cNvSpPr/>
          <p:nvPr/>
        </p:nvSpPr>
        <p:spPr>
          <a:xfrm>
            <a:off x="5940360" y="4797360"/>
            <a:ext cx="2448000" cy="935280"/>
          </a:xfrm>
          <a:custGeom>
            <a:avLst/>
            <a:gdLst>
              <a:gd name="textAreaLeft" fmla="*/ 60480 w 2448000"/>
              <a:gd name="textAreaRight" fmla="*/ 2387520 w 24480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6522" h="21600">
                <a:moveTo>
                  <a:pt x="0" y="0"/>
                </a:moveTo>
                <a:lnTo>
                  <a:pt x="56522" y="0"/>
                </a:lnTo>
                <a:lnTo>
                  <a:pt x="56522" y="21600"/>
                </a:lnTo>
                <a:lnTo>
                  <a:pt x="0" y="21600"/>
                </a:lnTo>
                <a:close/>
              </a:path>
              <a:path fill="lightenLess" w="56522" h="21600">
                <a:moveTo>
                  <a:pt x="0" y="0"/>
                </a:moveTo>
                <a:lnTo>
                  <a:pt x="56522" y="0"/>
                </a:lnTo>
                <a:lnTo>
                  <a:pt x="55122" y="1400"/>
                </a:lnTo>
                <a:lnTo>
                  <a:pt x="1400" y="1400"/>
                </a:lnTo>
                <a:close/>
              </a:path>
              <a:path fill="darken" w="56522" h="21600">
                <a:moveTo>
                  <a:pt x="56522" y="0"/>
                </a:moveTo>
                <a:lnTo>
                  <a:pt x="56522" y="21600"/>
                </a:lnTo>
                <a:lnTo>
                  <a:pt x="55122" y="20200"/>
                </a:lnTo>
                <a:lnTo>
                  <a:pt x="55122" y="1400"/>
                </a:lnTo>
                <a:close/>
              </a:path>
              <a:path fill="darkenLess" w="56522" h="21600">
                <a:moveTo>
                  <a:pt x="565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122" y="20200"/>
                </a:lnTo>
                <a:close/>
              </a:path>
              <a:path fill="lighten" w="565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одведём ит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5">
            <a:hlinkClick r:id="rId10" action="ppaction://hlinksldjump"/>
          </p:cNvPr>
          <p:cNvSpPr/>
          <p:nvPr/>
        </p:nvSpPr>
        <p:spPr>
          <a:xfrm>
            <a:off x="4067280" y="6093000"/>
            <a:ext cx="1295280" cy="576000"/>
          </a:xfrm>
          <a:custGeom>
            <a:avLst/>
            <a:gdLst>
              <a:gd name="textAreaLeft" fmla="*/ 37080 w 1295280"/>
              <a:gd name="textAreaRight" fmla="*/ 1258200 w 1295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48556" h="21600">
                <a:moveTo>
                  <a:pt x="0" y="0"/>
                </a:moveTo>
                <a:lnTo>
                  <a:pt x="48556" y="0"/>
                </a:lnTo>
                <a:lnTo>
                  <a:pt x="48556" y="21600"/>
                </a:lnTo>
                <a:lnTo>
                  <a:pt x="0" y="21600"/>
                </a:lnTo>
                <a:close/>
              </a:path>
              <a:path fill="lightenLess" w="48556" h="21600">
                <a:moveTo>
                  <a:pt x="0" y="0"/>
                </a:moveTo>
                <a:lnTo>
                  <a:pt x="48556" y="0"/>
                </a:lnTo>
                <a:lnTo>
                  <a:pt x="47156" y="1400"/>
                </a:lnTo>
                <a:lnTo>
                  <a:pt x="1400" y="1400"/>
                </a:lnTo>
                <a:close/>
              </a:path>
              <a:path fill="darken" w="48556" h="21600">
                <a:moveTo>
                  <a:pt x="48556" y="0"/>
                </a:moveTo>
                <a:lnTo>
                  <a:pt x="48556" y="21600"/>
                </a:lnTo>
                <a:lnTo>
                  <a:pt x="47156" y="20200"/>
                </a:lnTo>
                <a:lnTo>
                  <a:pt x="47156" y="1400"/>
                </a:lnTo>
                <a:close/>
              </a:path>
              <a:path fill="darkenLess" w="48556" h="21600">
                <a:moveTo>
                  <a:pt x="48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56" y="20200"/>
                </a:lnTo>
                <a:close/>
              </a:path>
              <a:path fill="lighten" w="48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Источ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8" descr="1"/>
          <p:cNvPicPr/>
          <p:nvPr/>
        </p:nvPicPr>
        <p:blipFill>
          <a:blip r:embed="rId11"/>
          <a:stretch/>
        </p:blipFill>
        <p:spPr>
          <a:xfrm>
            <a:off x="3564000" y="2997360"/>
            <a:ext cx="1800000" cy="12603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9" name="AutoShape 31">
            <a:hlinkClick r:id="rId12" action="ppaction://hlinksldjump"/>
          </p:cNvPr>
          <p:cNvSpPr/>
          <p:nvPr/>
        </p:nvSpPr>
        <p:spPr>
          <a:xfrm>
            <a:off x="8388360" y="6165720"/>
            <a:ext cx="504720" cy="4302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338" h="21600">
                <a:moveTo>
                  <a:pt x="0" y="0"/>
                </a:moveTo>
                <a:lnTo>
                  <a:pt x="25338" y="0"/>
                </a:lnTo>
                <a:lnTo>
                  <a:pt x="25338" y="21600"/>
                </a:lnTo>
                <a:lnTo>
                  <a:pt x="0" y="21600"/>
                </a:lnTo>
                <a:close/>
              </a:path>
              <a:path fill="lightenLess" w="25338" h="21600">
                <a:moveTo>
                  <a:pt x="0" y="0"/>
                </a:moveTo>
                <a:lnTo>
                  <a:pt x="25338" y="0"/>
                </a:lnTo>
                <a:lnTo>
                  <a:pt x="23938" y="1400"/>
                </a:lnTo>
                <a:lnTo>
                  <a:pt x="1400" y="1400"/>
                </a:lnTo>
                <a:close/>
              </a:path>
              <a:path fill="darken" w="25338" h="21600">
                <a:moveTo>
                  <a:pt x="25338" y="0"/>
                </a:moveTo>
                <a:lnTo>
                  <a:pt x="25338" y="21600"/>
                </a:lnTo>
                <a:lnTo>
                  <a:pt x="23938" y="20200"/>
                </a:lnTo>
                <a:lnTo>
                  <a:pt x="23938" y="1400"/>
                </a:lnTo>
                <a:close/>
              </a:path>
              <a:path fill="darkenLess" w="25338" h="21600">
                <a:moveTo>
                  <a:pt x="25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8" y="20200"/>
                </a:lnTo>
                <a:close/>
              </a:path>
              <a:path fill="lighten" w="25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38" h="21600">
                <a:moveTo>
                  <a:pt x="12669" y="3837"/>
                </a:moveTo>
                <a:lnTo>
                  <a:pt x="15246" y="6448"/>
                </a:ln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lnTo>
                  <a:pt x="19632" y="10800"/>
                </a:lnTo>
                <a:lnTo>
                  <a:pt x="17978" y="10800"/>
                </a:lnTo>
                <a:lnTo>
                  <a:pt x="17978" y="17989"/>
                </a:lnTo>
                <a:lnTo>
                  <a:pt x="7360" y="17989"/>
                </a:lnTo>
                <a:lnTo>
                  <a:pt x="7360" y="10800"/>
                </a:lnTo>
                <a:lnTo>
                  <a:pt x="5706" y="10800"/>
                </a:lnTo>
                <a:close/>
              </a:path>
              <a:path fill="darkenLess" w="25338" h="21600">
                <a:moveTo>
                  <a:pt x="15246" y="6448"/>
                </a:moveTo>
                <a:lnTo>
                  <a:pt x="15246" y="4707"/>
                </a:lnTo>
                <a:lnTo>
                  <a:pt x="17021" y="4707"/>
                </a:lnTo>
                <a:lnTo>
                  <a:pt x="17021" y="8224"/>
                </a:lnTo>
                <a:close/>
              </a:path>
              <a:path fill="darkenLess" w="25338" h="21600">
                <a:moveTo>
                  <a:pt x="11747" y="14299"/>
                </a:moveTo>
                <a:lnTo>
                  <a:pt x="13592" y="14299"/>
                </a:lnTo>
                <a:lnTo>
                  <a:pt x="13592" y="17989"/>
                </a:lnTo>
                <a:lnTo>
                  <a:pt x="17978" y="17989"/>
                </a:lnTo>
                <a:lnTo>
                  <a:pt x="17978" y="10800"/>
                </a:lnTo>
                <a:lnTo>
                  <a:pt x="7360" y="10800"/>
                </a:lnTo>
                <a:lnTo>
                  <a:pt x="7360" y="17989"/>
                </a:lnTo>
                <a:lnTo>
                  <a:pt x="11747" y="17989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2">
            <a:hlinkClick r:id="rId13" action="ppaction://hlinksldjump"/>
          </p:cNvPr>
          <p:cNvSpPr/>
          <p:nvPr/>
        </p:nvSpPr>
        <p:spPr>
          <a:xfrm>
            <a:off x="5580000" y="2637000"/>
            <a:ext cx="2879640" cy="865080"/>
          </a:xfrm>
          <a:custGeom>
            <a:avLst/>
            <a:gdLst>
              <a:gd name="textAreaLeft" fmla="*/ 55800 w 2879640"/>
              <a:gd name="textAreaRight" fmla="*/ 2823840 w 287964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71880" h="21600">
                <a:moveTo>
                  <a:pt x="0" y="0"/>
                </a:moveTo>
                <a:lnTo>
                  <a:pt x="71880" y="0"/>
                </a:lnTo>
                <a:lnTo>
                  <a:pt x="71880" y="21600"/>
                </a:lnTo>
                <a:lnTo>
                  <a:pt x="0" y="21600"/>
                </a:lnTo>
                <a:close/>
              </a:path>
              <a:path fill="lightenLess" w="71880" h="21600">
                <a:moveTo>
                  <a:pt x="0" y="0"/>
                </a:moveTo>
                <a:lnTo>
                  <a:pt x="71880" y="0"/>
                </a:lnTo>
                <a:lnTo>
                  <a:pt x="70480" y="1400"/>
                </a:lnTo>
                <a:lnTo>
                  <a:pt x="1400" y="1400"/>
                </a:lnTo>
                <a:close/>
              </a:path>
              <a:path fill="darken" w="71880" h="21600">
                <a:moveTo>
                  <a:pt x="71880" y="0"/>
                </a:moveTo>
                <a:lnTo>
                  <a:pt x="71880" y="21600"/>
                </a:lnTo>
                <a:lnTo>
                  <a:pt x="70480" y="20200"/>
                </a:lnTo>
                <a:lnTo>
                  <a:pt x="70480" y="1400"/>
                </a:lnTo>
                <a:close/>
              </a:path>
              <a:path fill="darkenLess" w="71880" h="21600">
                <a:moveTo>
                  <a:pt x="71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480" y="20200"/>
                </a:lnTo>
                <a:close/>
              </a:path>
              <a:path fill="lighten" w="71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Игра «Угадай-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229600" cy="30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о гражданская инициати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которая призвана объединять всё население планеты в деле защиты окружающей среды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9" descr="ca041bb23dc2aff65722945a6f71d8bb"/>
          <p:cNvPicPr/>
          <p:nvPr/>
        </p:nvPicPr>
        <p:blipFill>
          <a:blip r:embed="rId1"/>
          <a:stretch/>
        </p:blipFill>
        <p:spPr>
          <a:xfrm>
            <a:off x="2484360" y="2782800"/>
            <a:ext cx="3743280" cy="373248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3" name="AutoShape 23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68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звание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(англ. </a:t>
            </a:r>
            <a:r>
              <a:rPr b="0" i="1" lang="ru-RU" sz="2800" spc="-1" strike="noStrike">
                <a:solidFill>
                  <a:srgbClr val="003399"/>
                </a:solidFill>
                <a:latin typeface="Arial"/>
              </a:rPr>
              <a:t>Earth Day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—используется по отношению к различным мероприятиям, проводящимся весной 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призванным побудить людей быть внимательнее к хрупкой и уязвимой окружающей среде на планете Зем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Рисунок16"/>
          <p:cNvPicPr/>
          <p:nvPr/>
        </p:nvPicPr>
        <p:blipFill>
          <a:blip r:embed="rId1"/>
          <a:stretch/>
        </p:blipFill>
        <p:spPr>
          <a:xfrm>
            <a:off x="4859280" y="692280"/>
            <a:ext cx="4056120" cy="405576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" name="Rectangle 7"/>
          <p:cNvSpPr/>
          <p:nvPr/>
        </p:nvSpPr>
        <p:spPr>
          <a:xfrm>
            <a:off x="8532720" y="4437000"/>
            <a:ext cx="360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3" descr="Рисунок19"/>
          <p:cNvPicPr/>
          <p:nvPr/>
        </p:nvPicPr>
        <p:blipFill>
          <a:blip r:embed="rId1"/>
          <a:stretch/>
        </p:blipFill>
        <p:spPr>
          <a:xfrm>
            <a:off x="2195640" y="333360"/>
            <a:ext cx="5327640" cy="3422520"/>
          </a:xfrm>
          <a:prstGeom prst="rect">
            <a:avLst/>
          </a:prstGeom>
          <a:ln w="57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семирная а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шла в США 22 апреля 1970 года, в  память об экологической катастрофе на территории США в 196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31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ждународный день Земли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провозглашен Генеральным секретарем ООН в марте 1971 года. Отмечается ежегодно в день весеннего равноденствия 22 апрел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332b7a9ec08f70e06b289a1d37943d20"/>
          <p:cNvPicPr/>
          <p:nvPr/>
        </p:nvPicPr>
        <p:blipFill>
          <a:blip r:embed="rId1"/>
          <a:stretch/>
        </p:blipFill>
        <p:spPr>
          <a:xfrm>
            <a:off x="1979640" y="2637000"/>
            <a:ext cx="5040360" cy="378144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3" name="AutoShape 1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емирное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880560"/>
            <a:ext cx="4788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о многих странах проходят праздничные мероприятия и акции, призывающие обратить внимание на проблемы эк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 сегодняшний день, 147 стран мира зарегистрированы во Всемирном движен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ece5e72ca04f4253f8c1179c14012c44"/>
          <p:cNvPicPr/>
          <p:nvPr/>
        </p:nvPicPr>
        <p:blipFill>
          <a:blip r:embed="rId1"/>
          <a:stretch/>
        </p:blipFill>
        <p:spPr>
          <a:xfrm>
            <a:off x="4859280" y="1628640"/>
            <a:ext cx="3845160" cy="3832200"/>
          </a:xfrm>
          <a:prstGeom prst="rect">
            <a:avLst/>
          </a:prstGeom>
          <a:ln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7" name="AutoShape 20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5:43Z</dcterms:created>
  <dc:creator>Елена</dc:creator>
  <dc:description/>
  <dc:language>en-US</dc:language>
  <cp:lastModifiedBy>елена</cp:lastModifiedBy>
  <dcterms:modified xsi:type="dcterms:W3CDTF">2012-09-24T13:38:49Z</dcterms:modified>
  <cp:revision>219</cp:revision>
  <dc:subject/>
  <dc:title>День Земли</dc:title>
</cp:coreProperties>
</file>