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16E-589A-4D02-A957-DCDD182A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6D9-C86D-4CA7-9EA0-558911F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0AE-4D25-4B45-BC96-D0217D57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B9F-3F3B-42F3-BC58-B7E0E41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399-4B05-419D-9F1C-FDB3B09F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219-C861-4A38-AF59-4A057C0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07D-1BAB-4C37-9A11-E5212634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0B5-7266-4197-9344-B40761CE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6C6-19BE-4BEA-BB96-3099F64D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6AA-85D8-4BF7-BB0E-7421602A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7A6-D70B-4110-AE07-BEC9A6E1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970-F8D7-4E2F-A764-F83CCF5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2BC-D721-40DF-8281-3EBAE327C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boffsem.ru/2008/04/21/mezhdunarodnyjj-den-zemli-international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" Target="slide4.xml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E=81980&amp;tid=8200" TargetMode="External"/><Relationship Id="rId2" Type="http://schemas.openxmlformats.org/officeDocument/2006/relationships/hyperlink" Target="http://cards.mail.ru/cardedit.html?E=81980&amp;tid=8015" TargetMode="External"/><Relationship Id="rId3" Type="http://schemas.openxmlformats.org/officeDocument/2006/relationships/hyperlink" Target="http://cards.mail.ru/cardedit.html?E=81980&amp;tid=7383" TargetMode="External"/><Relationship Id="rId4" Type="http://schemas.openxmlformats.org/officeDocument/2006/relationships/hyperlink" Target="http://cards.mail.ru/cardedit.html?E=81980&amp;tid=696" TargetMode="External"/><Relationship Id="rId5" Type="http://schemas.openxmlformats.org/officeDocument/2006/relationships/hyperlink" Target="http://cards.mail.ru/cardedit.html?E=81980&amp;tid=695" TargetMode="External"/><Relationship Id="rId6" Type="http://schemas.openxmlformats.org/officeDocument/2006/relationships/hyperlink" Target="http://cards.mail.ru/cardedit.html?E=81980&amp;tid=7560" TargetMode="External"/><Relationship Id="rId7" Type="http://schemas.openxmlformats.org/officeDocument/2006/relationships/hyperlink" Target="http://cards.mail.ru/cardedit.html?E=82193&amp;tid=7610" TargetMode="External"/><Relationship Id="rId8" Type="http://schemas.openxmlformats.org/officeDocument/2006/relationships/hyperlink" Target="http://www.kvartal.websib.ru/foto/albums/userpics/10001/th_1IMG_3855.jpg" TargetMode="External"/><Relationship Id="rId9" Type="http://schemas.openxmlformats.org/officeDocument/2006/relationships/hyperlink" Target="http://cards.uainter.net/create.php?card_id=764&amp;lang=ru" TargetMode="External"/><Relationship Id="rId10" Type="http://schemas.openxmlformats.org/officeDocument/2006/relationships/hyperlink" Target="http://www.kvartal.websib.ru/foto/albums/userpics/10001/th_1IMG_3855.jpg" TargetMode="External"/><Relationship Id="rId11" Type="http://schemas.openxmlformats.org/officeDocument/2006/relationships/hyperlink" Target="http://www.kvartal.websib.ru/foto/albums/userpics/10001/th_1IMG_3877.jpg" TargetMode="External"/><Relationship Id="rId12" Type="http://schemas.openxmlformats.org/officeDocument/2006/relationships/hyperlink" Target="http://ru.wikipedia.org/wiki/&#1060;&#1072;&#1081;&#1083;:Earth_flag_PD.jpg" TargetMode="External"/><Relationship Id="rId13" Type="http://schemas.openxmlformats.org/officeDocument/2006/relationships/hyperlink" Target="http://www.sciam.ru/news/2005/img/32.jpg" TargetMode="External"/><Relationship Id="rId14" Type="http://schemas.openxmlformats.org/officeDocument/2006/relationships/hyperlink" Target="http://ru.wikipedia.org/wiki/&#1044;&#1077;&#1085;&#1100;_&#1047;&#1077;&#1084;&#1083;&#1080;-" TargetMode="External"/><Relationship Id="rId15" Type="http://schemas.openxmlformats.org/officeDocument/2006/relationships/hyperlink" Target="http://ru.wikipedia.org/wiki/&#1060;&#1072;&#1081;&#1083;:Kolokol_Mira.jpg" TargetMode="External"/><Relationship Id="rId16" Type="http://schemas.openxmlformats.org/officeDocument/2006/relationships/hyperlink" Target="http://www.fap.ru/photo/new010420_02img02.jpg" TargetMode="External"/><Relationship Id="rId17" Type="http://schemas.openxmlformats.org/officeDocument/2006/relationships/hyperlink" Target="http://gorsun.org.ru/i/galleries/29.jpg" TargetMode="External"/><Relationship Id="rId18" Type="http://schemas.openxmlformats.org/officeDocument/2006/relationships/hyperlink" Target="http://www.oboffsem.ru/2008/04/21/mezhdunarodnyjj-den-zemli-international.html" TargetMode="External"/><Relationship Id="rId19" Type="http://schemas.openxmlformats.org/officeDocument/2006/relationships/hyperlink" Target="http://www.hot-shop.ru/UserFiles/1307071/e2.jpg" TargetMode="External"/><Relationship Id="rId20" Type="http://schemas.openxmlformats.org/officeDocument/2006/relationships/hyperlink" Target="http://cards.uainter.net/create.php?card_id=769&amp;lang=ru" TargetMode="External"/><Relationship Id="rId21" Type="http://schemas.openxmlformats.org/officeDocument/2006/relationships/hyperlink" Target="http://wwteam.delfi.lv/activ/travels/tashkent/p2s.jpg" TargetMode="External"/><Relationship Id="rId22" Type="http://schemas.openxmlformats.org/officeDocument/2006/relationships/hyperlink" Target="http://cards.uainter.net/create.php?card_id=770&amp;lang=ru" TargetMode="External"/><Relationship Id="rId23" Type="http://schemas.openxmlformats.org/officeDocument/2006/relationships/hyperlink" Target="http://cards.uainter.net/create.php?card_id=765&amp;lang=ru" TargetMode="External"/><Relationship Id="rId24" Type="http://schemas.openxmlformats.org/officeDocument/2006/relationships/hyperlink" Target="http://cards.uainter.net/create.php?card_id=763&amp;lang=ru" TargetMode="External"/><Relationship Id="rId25" Type="http://schemas.openxmlformats.org/officeDocument/2006/relationships/hyperlink" Target="http://ddd-gazeta.ru/content/view/292/0/" TargetMode="External"/><Relationship Id="rId26" Type="http://schemas.openxmlformats.org/officeDocument/2006/relationships/hyperlink" Target="http://www.tabakoff.ru/kalendar/images/209.jpg" TargetMode="External"/><Relationship Id="rId27" Type="http://schemas.openxmlformats.org/officeDocument/2006/relationships/hyperlink" Target="http://www.risk.ru/i/post/4/4139.jpg" TargetMode="External"/><Relationship Id="rId28" Type="http://schemas.openxmlformats.org/officeDocument/2006/relationships/hyperlink" Target="http://piastra.narod.ru/_KAT1/st117.htm" TargetMode="External"/><Relationship Id="rId29" Type="http://schemas.openxmlformats.org/officeDocument/2006/relationships/hyperlink" Target="http://tonnel.ru/?l=fonoteka&amp;main=69" TargetMode="External"/><Relationship Id="rId30" Type="http://schemas.openxmlformats.org/officeDocument/2006/relationships/hyperlink" Target="http://www.clubochek.ru/vers.php?id=5631" TargetMode="External"/><Relationship Id="rId31" Type="http://schemas.openxmlformats.org/officeDocument/2006/relationships/hyperlink" Target="http://www.solnet.ee/holidays/s12_9.html" TargetMode="External"/><Relationship Id="rId32" Type="http://schemas.openxmlformats.org/officeDocument/2006/relationships/hyperlink" Target="http://www.solnet.ee/sol/002/z_074.html" TargetMode="External"/><Relationship Id="rId33" Type="http://schemas.openxmlformats.org/officeDocument/2006/relationships/hyperlink" Target="http://www.solnet.ee/sol/002/z_078.html" TargetMode="External"/><Relationship Id="rId34" Type="http://schemas.openxmlformats.org/officeDocument/2006/relationships/hyperlink" Target="http://www.solnet.ee/holidays/pic/s12_9_2.jpg" TargetMode="External"/><Relationship Id="rId35" Type="http://schemas.openxmlformats.org/officeDocument/2006/relationships/hyperlink" Target="http://www.petshealth.ru/pets/bird/breed/breed_images/solovej.jpg" TargetMode="External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9.xml"/><Relationship Id="rId9" Type="http://schemas.openxmlformats.org/officeDocument/2006/relationships/slide" Target="slide33.xml"/><Relationship Id="rId10" Type="http://schemas.openxmlformats.org/officeDocument/2006/relationships/slide" Target="slide39.xml"/><Relationship Id="rId11" Type="http://schemas.openxmlformats.org/officeDocument/2006/relationships/image" Target="../media/image4.png"/><Relationship Id="rId12" Type="http://schemas.openxmlformats.org/officeDocument/2006/relationships/slide" Target="slide3.xml"/><Relationship Id="rId13" Type="http://schemas.openxmlformats.org/officeDocument/2006/relationships/slide" Target="slide28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ергей Петрович Капица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доктор физико-математических наук, профессор, академик, вице-президент РАЕ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…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ень Земли — это день ответственности перед нашей планетой, ответственности перед людьми, которые ее населяют, перед самой природой, частью которой мы являем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32"/>
          <p:cNvPicPr/>
          <p:nvPr/>
        </p:nvPicPr>
        <p:blipFill>
          <a:blip r:embed="rId1"/>
          <a:stretch/>
        </p:blipFill>
        <p:spPr>
          <a:xfrm>
            <a:off x="5003640" y="2349360"/>
            <a:ext cx="3311640" cy="32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AutoShape 14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00720" y="3068280"/>
            <a:ext cx="1152720" cy="1655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>
            <a:hlinkClick r:id="rId1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флаг Земли"/>
          <p:cNvPicPr/>
          <p:nvPr/>
        </p:nvPicPr>
        <p:blipFill>
          <a:blip r:embed="rId1"/>
          <a:srcRect l="14122" t="-4346" r="13580" b="-5890"/>
          <a:stretch/>
        </p:blipFill>
        <p:spPr>
          <a:xfrm>
            <a:off x="5796000" y="189000"/>
            <a:ext cx="2014560" cy="1228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3860280"/>
            <a:ext cx="814716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ps"/>
          <p:cNvPicPr/>
          <p:nvPr/>
        </p:nvPicPr>
        <p:blipFill>
          <a:blip r:embed="rId1"/>
          <a:stretch/>
        </p:blipFill>
        <p:spPr>
          <a:xfrm>
            <a:off x="5148360" y="1413000"/>
            <a:ext cx="2879640" cy="21636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17" descr="парк Бабука колокол мира"/>
          <p:cNvPicPr/>
          <p:nvPr/>
        </p:nvPicPr>
        <p:blipFill>
          <a:blip r:embed="rId2"/>
          <a:stretch/>
        </p:blipFill>
        <p:spPr>
          <a:xfrm>
            <a:off x="1258920" y="1413000"/>
            <a:ext cx="2863800" cy="2151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4" name="AutoShape 1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первые Колокол Мира был установлен в штаб-квартире ООН в Нью-Йорке вскоре после Второй мировой войны, в 1954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нем звучит голос детей Японии, которые после ядерных взрывов над Хиросимой и Нагасаки собирали монетки для Колокола М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мира колокол"/>
          <p:cNvPicPr/>
          <p:nvPr/>
        </p:nvPicPr>
        <p:blipFill>
          <a:blip r:embed="rId1"/>
          <a:stretch/>
        </p:blipFill>
        <p:spPr>
          <a:xfrm>
            <a:off x="3419640" y="4221000"/>
            <a:ext cx="2232000" cy="223236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210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мира колокол"/>
          <p:cNvPicPr/>
          <p:nvPr/>
        </p:nvPicPr>
        <p:blipFill>
          <a:blip r:embed="rId1"/>
          <a:stretch/>
        </p:blipFill>
        <p:spPr>
          <a:xfrm>
            <a:off x="3564000" y="1125360"/>
            <a:ext cx="1944720" cy="19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мвол спокойствия, мирной жизни и дружбы, вечного братства и солидарности всех на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зыв к действию во имя сохранения мира и жизни на Земле, сохранения Человека и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России акция «Колокол Мира в День Земли» проводится с 1998 года по инициативе летчика-космонавта СССР, Героя Советского Союза А. Н. Березов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Рисунок11"/>
          <p:cNvPicPr/>
          <p:nvPr/>
        </p:nvPicPr>
        <p:blipFill>
          <a:blip r:embed="rId1"/>
          <a:stretch/>
        </p:blipFill>
        <p:spPr>
          <a:xfrm>
            <a:off x="4427640" y="1484280"/>
            <a:ext cx="4322520" cy="32418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Rectangle 8"/>
          <p:cNvSpPr/>
          <p:nvPr/>
        </p:nvSpPr>
        <p:spPr>
          <a:xfrm>
            <a:off x="3778200" y="5157720"/>
            <a:ext cx="5365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фото: летчики-космонавты В. М. Афанасьев и А.Н. Берез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186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36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Рисунок14"/>
          <p:cNvPicPr/>
          <p:nvPr/>
        </p:nvPicPr>
        <p:blipFill>
          <a:blip r:embed="rId1"/>
          <a:stretch/>
        </p:blipFill>
        <p:spPr>
          <a:xfrm>
            <a:off x="395280" y="549360"/>
            <a:ext cx="4071960" cy="5832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3645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new010420_02img02"/>
          <p:cNvPicPr/>
          <p:nvPr/>
        </p:nvPicPr>
        <p:blipFill>
          <a:blip r:embed="rId1"/>
          <a:stretch/>
        </p:blipFill>
        <p:spPr>
          <a:xfrm>
            <a:off x="6588000" y="1700280"/>
            <a:ext cx="1997280" cy="3889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 Венгрии проходит экологический велопробег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Рисунок21"/>
          <p:cNvPicPr/>
          <p:nvPr/>
        </p:nvPicPr>
        <p:blipFill>
          <a:blip r:embed="rId1"/>
          <a:stretch/>
        </p:blipFill>
        <p:spPr>
          <a:xfrm>
            <a:off x="1258920" y="2421000"/>
            <a:ext cx="5905440" cy="39369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девочки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603108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AutoShape 12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Международный День Земли (International Earth Day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844640"/>
            <a:ext cx="6553080" cy="44420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AutoShape 7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Индонезии,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а территории американского посольства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спортивны состязания в Джакарт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Рисунок4"/>
          <p:cNvPicPr/>
          <p:nvPr/>
        </p:nvPicPr>
        <p:blipFill>
          <a:blip r:embed="rId1"/>
          <a:stretch/>
        </p:blipFill>
        <p:spPr>
          <a:xfrm>
            <a:off x="395280" y="2276640"/>
            <a:ext cx="403848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9" descr="Рисунок3"/>
          <p:cNvPicPr/>
          <p:nvPr/>
        </p:nvPicPr>
        <p:blipFill>
          <a:blip r:embed="rId2"/>
          <a:stretch/>
        </p:blipFill>
        <p:spPr>
          <a:xfrm>
            <a:off x="4643280" y="2997360"/>
            <a:ext cx="403884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AutoShape 11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5473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филиппинской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винции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ез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Рисунок24"/>
          <p:cNvPicPr/>
          <p:nvPr/>
        </p:nvPicPr>
        <p:blipFill>
          <a:blip r:embed="rId1"/>
          <a:stretch/>
        </p:blipFill>
        <p:spPr>
          <a:xfrm>
            <a:off x="4643280" y="404640"/>
            <a:ext cx="4254480" cy="293076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4704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Акция протеста у Национального Центра Экологии неподалеку от столицы — Ман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частники демонстрации «переодеты в костюмы» электрических трансформ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050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31" h="21600">
                <a:moveTo>
                  <a:pt x="0" y="0"/>
                </a:moveTo>
                <a:lnTo>
                  <a:pt x="24631" y="0"/>
                </a:lnTo>
                <a:lnTo>
                  <a:pt x="24631" y="21600"/>
                </a:lnTo>
                <a:lnTo>
                  <a:pt x="0" y="21600"/>
                </a:lnTo>
                <a:close/>
              </a:path>
              <a:path fill="lightenLess" w="24631" h="21600">
                <a:moveTo>
                  <a:pt x="0" y="0"/>
                </a:moveTo>
                <a:lnTo>
                  <a:pt x="24631" y="0"/>
                </a:lnTo>
                <a:lnTo>
                  <a:pt x="23231" y="1400"/>
                </a:lnTo>
                <a:lnTo>
                  <a:pt x="1400" y="1400"/>
                </a:lnTo>
                <a:close/>
              </a:path>
              <a:path fill="darken" w="24631" h="21600">
                <a:moveTo>
                  <a:pt x="24631" y="0"/>
                </a:moveTo>
                <a:lnTo>
                  <a:pt x="24631" y="21600"/>
                </a:lnTo>
                <a:lnTo>
                  <a:pt x="23231" y="20200"/>
                </a:lnTo>
                <a:lnTo>
                  <a:pt x="23231" y="1400"/>
                </a:lnTo>
                <a:close/>
              </a:path>
              <a:path fill="darkenLess" w="24631" h="21600">
                <a:moveTo>
                  <a:pt x="2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1" y="20200"/>
                </a:lnTo>
                <a:close/>
              </a:path>
              <a:path fill="lighten" w="2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1" h="21600">
                <a:moveTo>
                  <a:pt x="5309" y="3794"/>
                </a:moveTo>
                <a:lnTo>
                  <a:pt x="19322" y="10800"/>
                </a:lnTo>
                <a:lnTo>
                  <a:pt x="5309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Маниле на Филиппинах - демонстрация движения по защите животных P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Рисунок23"/>
          <p:cNvPicPr/>
          <p:nvPr/>
        </p:nvPicPr>
        <p:blipFill>
          <a:blip r:embed="rId1"/>
          <a:stretch/>
        </p:blipFill>
        <p:spPr>
          <a:xfrm>
            <a:off x="2340000" y="2276640"/>
            <a:ext cx="4033800" cy="3101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53510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частники пропагандируют вегетарианство ради спасения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а Филиппинах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ежегодный «зеленый»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елосипедный за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Рисунок22"/>
          <p:cNvPicPr/>
          <p:nvPr/>
        </p:nvPicPr>
        <p:blipFill>
          <a:blip r:embed="rId1"/>
          <a:stretch/>
        </p:blipFill>
        <p:spPr>
          <a:xfrm>
            <a:off x="1403280" y="1989000"/>
            <a:ext cx="6193080" cy="41688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Про всех на свете»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Б. Захо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SC_0465"/>
          <p:cNvPicPr/>
          <p:nvPr/>
        </p:nvPicPr>
        <p:blipFill>
          <a:blip r:embed="rId2"/>
          <a:stretch/>
        </p:blipFill>
        <p:spPr>
          <a:xfrm>
            <a:off x="1258920" y="1700280"/>
            <a:ext cx="6624720" cy="440856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AutoShape 14">
            <a:hlinkClick r:id="rId3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aa66"/>
          <p:cNvPicPr/>
          <p:nvPr/>
        </p:nvPicPr>
        <p:blipFill>
          <a:blip r:embed="rId1"/>
          <a:stretch/>
        </p:blipFill>
        <p:spPr>
          <a:xfrm>
            <a:off x="1187280" y="2276640"/>
            <a:ext cx="6840720" cy="36306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WordArt 12"/>
          <p:cNvSpPr txBox="1"/>
          <p:nvPr/>
        </p:nvSpPr>
        <p:spPr>
          <a:xfrm>
            <a:off x="900000" y="404640"/>
            <a:ext cx="734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Да, нет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AutoShape 13">
            <a:hlinkClick r:id="rId2" action="ppaction://hlinksldjump"/>
          </p:cNvPr>
          <p:cNvSpPr/>
          <p:nvPr/>
        </p:nvSpPr>
        <p:spPr>
          <a:xfrm>
            <a:off x="8172360" y="59500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116000" y="1052640"/>
            <a:ext cx="71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натоки природы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10" descr="DSC_0227"/>
          <p:cNvPicPr/>
          <p:nvPr/>
        </p:nvPicPr>
        <p:blipFill>
          <a:blip r:embed="rId1"/>
          <a:stretch/>
        </p:blipFill>
        <p:spPr>
          <a:xfrm>
            <a:off x="2050920" y="2828880"/>
            <a:ext cx="5040360" cy="33526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AutoShape 11">
            <a:hlinkClick r:id="rId2" action="ppaction://hlinksldjump"/>
          </p:cNvPr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7">
            <a:hlinkClick r:id="rId2" action="ppaction://hlinksldjump"/>
          </p:cNvPr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2268360" y="26028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УЗНАВАЙ-КА"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339640" y="907560"/>
            <a:ext cx="2459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орова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340000" y="126828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йево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4643280" y="90792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ри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4643280" y="126828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340000" y="162864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укук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2340000" y="1916280"/>
            <a:ext cx="136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тяд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340000" y="2276640"/>
            <a:ext cx="115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арг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643280" y="1700280"/>
            <a:ext cx="151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рб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4643280" y="2421000"/>
            <a:ext cx="1152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лс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4643280" y="1989000"/>
            <a:ext cx="136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рбо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3" descr="бобры"/>
          <p:cNvPicPr/>
          <p:nvPr/>
        </p:nvPicPr>
        <p:blipFill>
          <a:blip r:embed="rId3"/>
          <a:stretch/>
        </p:blipFill>
        <p:spPr>
          <a:xfrm>
            <a:off x="6732720" y="4221000"/>
            <a:ext cx="2020680" cy="1422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Picture 24" descr="грач"/>
          <p:cNvPicPr/>
          <p:nvPr/>
        </p:nvPicPr>
        <p:blipFill>
          <a:blip r:embed="rId4"/>
          <a:stretch/>
        </p:blipFill>
        <p:spPr>
          <a:xfrm>
            <a:off x="1116000" y="5229360"/>
            <a:ext cx="2016000" cy="1458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25" descr="дятел"/>
          <p:cNvPicPr/>
          <p:nvPr/>
        </p:nvPicPr>
        <p:blipFill>
          <a:blip r:embed="rId5"/>
          <a:stretch/>
        </p:blipFill>
        <p:spPr>
          <a:xfrm>
            <a:off x="2340000" y="2997360"/>
            <a:ext cx="1428840" cy="19587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1" name="Picture 26" descr="жаворонок"/>
          <p:cNvPicPr/>
          <p:nvPr/>
        </p:nvPicPr>
        <p:blipFill>
          <a:blip r:embed="rId6"/>
          <a:stretch/>
        </p:blipFill>
        <p:spPr>
          <a:xfrm>
            <a:off x="250920" y="189000"/>
            <a:ext cx="1800000" cy="12999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2" name="Picture 27" descr="соловей"/>
          <p:cNvPicPr/>
          <p:nvPr/>
        </p:nvPicPr>
        <p:blipFill>
          <a:blip r:embed="rId7"/>
          <a:stretch/>
        </p:blipFill>
        <p:spPr>
          <a:xfrm>
            <a:off x="250920" y="1700280"/>
            <a:ext cx="1485720" cy="1657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3" name="Picture 29" descr="жираф"/>
          <p:cNvPicPr/>
          <p:nvPr/>
        </p:nvPicPr>
        <p:blipFill>
          <a:blip r:embed="rId8"/>
          <a:stretch/>
        </p:blipFill>
        <p:spPr>
          <a:xfrm>
            <a:off x="6948360" y="260280"/>
            <a:ext cx="1979640" cy="1484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4" name="Picture 30" descr="кобра"/>
          <p:cNvPicPr/>
          <p:nvPr/>
        </p:nvPicPr>
        <p:blipFill>
          <a:blip r:embed="rId9"/>
          <a:stretch/>
        </p:blipFill>
        <p:spPr>
          <a:xfrm>
            <a:off x="4211640" y="3213000"/>
            <a:ext cx="2016000" cy="13971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5" name="Picture 31" descr="мишка"/>
          <p:cNvPicPr/>
          <p:nvPr/>
        </p:nvPicPr>
        <p:blipFill>
          <a:blip r:embed="rId10"/>
          <a:stretch/>
        </p:blipFill>
        <p:spPr>
          <a:xfrm>
            <a:off x="6588000" y="2060640"/>
            <a:ext cx="2195640" cy="166680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Picture 32" descr="слон"/>
          <p:cNvPicPr/>
          <p:nvPr/>
        </p:nvPicPr>
        <p:blipFill>
          <a:blip r:embed="rId11"/>
          <a:stretch/>
        </p:blipFill>
        <p:spPr>
          <a:xfrm>
            <a:off x="4284720" y="5084640"/>
            <a:ext cx="2016000" cy="1511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7" name="Picture 33" descr="кукушка"/>
          <p:cNvPicPr/>
          <p:nvPr/>
        </p:nvPicPr>
        <p:blipFill>
          <a:blip r:embed="rId12"/>
          <a:stretch/>
        </p:blipFill>
        <p:spPr>
          <a:xfrm>
            <a:off x="179280" y="3573360"/>
            <a:ext cx="1908360" cy="1468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Рисунок15"/>
          <p:cNvPicPr/>
          <p:nvPr/>
        </p:nvPicPr>
        <p:blipFill>
          <a:blip r:embed="rId1"/>
          <a:stretch/>
        </p:blipFill>
        <p:spPr>
          <a:xfrm>
            <a:off x="2340000" y="1870200"/>
            <a:ext cx="4680000" cy="4136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0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96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4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s12_9_2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6050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3" name="WordArt 21"/>
          <p:cNvSpPr txBox="1"/>
          <p:nvPr/>
        </p:nvSpPr>
        <p:spPr>
          <a:xfrm>
            <a:off x="971640" y="404640"/>
            <a:ext cx="72216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ы - гости на планете Земля</a:t>
            </a:r>
            <a:endParaRPr b="1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Рисунок25"/>
          <p:cNvPicPr/>
          <p:nvPr/>
        </p:nvPicPr>
        <p:blipFill>
          <a:blip r:embed="rId1"/>
          <a:stretch/>
        </p:blipFill>
        <p:spPr>
          <a:xfrm>
            <a:off x="2771640" y="3213000"/>
            <a:ext cx="3384720" cy="3375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6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3"/>
          <p:cNvPicPr/>
          <p:nvPr/>
        </p:nvPicPr>
        <p:blipFill>
          <a:blip r:embed="rId2"/>
          <a:stretch/>
        </p:blipFill>
        <p:spPr>
          <a:xfrm>
            <a:off x="7451640" y="907920"/>
            <a:ext cx="1346400" cy="955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>
            <a:hlinkClick r:id="rId3" action="ppaction://hlinksldjump"/>
          </p:cNvPr>
          <p:cNvSpPr/>
          <p:nvPr/>
        </p:nvSpPr>
        <p:spPr>
          <a:xfrm>
            <a:off x="8604360" y="635328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4540" y="7493"/>
                </a:moveTo>
                <a:lnTo>
                  <a:pt x="8048" y="7493"/>
                </a:lnTo>
                <a:lnTo>
                  <a:pt x="8048" y="12828"/>
                </a:lnTo>
                <a:cubicBezTo>
                  <a:pt x="8048" y="13751"/>
                  <a:pt x="8849" y="14482"/>
                  <a:pt x="9884" y="14482"/>
                </a:cubicBezTo>
                <a:lnTo>
                  <a:pt x="11547" y="14482"/>
                </a:lnTo>
                <a:cubicBezTo>
                  <a:pt x="12582" y="14482"/>
                  <a:pt x="13383" y="13751"/>
                  <a:pt x="13383" y="12828"/>
                </a:cubicBezTo>
                <a:lnTo>
                  <a:pt x="13383" y="7493"/>
                </a:lnTo>
                <a:lnTo>
                  <a:pt x="11547" y="7493"/>
                </a:lnTo>
                <a:lnTo>
                  <a:pt x="15054" y="3985"/>
                </a:lnTo>
                <a:lnTo>
                  <a:pt x="18727" y="7493"/>
                </a:lnTo>
                <a:lnTo>
                  <a:pt x="16891" y="7493"/>
                </a:lnTo>
                <a:lnTo>
                  <a:pt x="16891" y="12828"/>
                </a:lnTo>
                <a:cubicBezTo>
                  <a:pt x="16891" y="15596"/>
                  <a:pt x="14314" y="18155"/>
                  <a:pt x="11547" y="18155"/>
                </a:cubicBezTo>
                <a:lnTo>
                  <a:pt x="9884" y="18155"/>
                </a:lnTo>
                <a:cubicBezTo>
                  <a:pt x="7117" y="18155"/>
                  <a:pt x="4540" y="15596"/>
                  <a:pt x="4540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osti Zemlya.mp3" descr=""/>
          <p:cNvPicPr/>
          <p:nvPr/>
        </p:nvPicPr>
        <p:blipFill>
          <a:blip r:embed="rId4"/>
          <a:stretch/>
        </p:blipFill>
        <p:spPr>
          <a:xfrm>
            <a:off x="179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304722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62024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рисуйте плак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рисунок на тем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5" descr="1IMG_3877"/>
          <p:cNvPicPr/>
          <p:nvPr/>
        </p:nvPicPr>
        <p:blipFill>
          <a:blip r:embed="rId1"/>
          <a:stretch/>
        </p:blipFill>
        <p:spPr>
          <a:xfrm>
            <a:off x="900000" y="476280"/>
            <a:ext cx="4154760" cy="5256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Rectangle 18"/>
          <p:cNvSpPr/>
          <p:nvPr/>
        </p:nvSpPr>
        <p:spPr>
          <a:xfrm>
            <a:off x="5292720" y="2852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а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Красная кни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4920" y="5805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1IMG_3856"/>
          <p:cNvPicPr/>
          <p:nvPr/>
        </p:nvPicPr>
        <p:blipFill>
          <a:blip r:embed="rId1"/>
          <a:stretch/>
        </p:blipFill>
        <p:spPr>
          <a:xfrm>
            <a:off x="611280" y="333360"/>
            <a:ext cx="4000320" cy="53276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10"/>
          <p:cNvSpPr/>
          <p:nvPr/>
        </p:nvSpPr>
        <p:spPr>
          <a:xfrm>
            <a:off x="4643280" y="2492280"/>
            <a:ext cx="45007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"Мне трудно дышать"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лакат "День Земли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1IMG_3855"/>
          <p:cNvPicPr/>
          <p:nvPr/>
        </p:nvPicPr>
        <p:blipFill>
          <a:blip r:embed="rId1"/>
          <a:stretch/>
        </p:blipFill>
        <p:spPr>
          <a:xfrm>
            <a:off x="2050920" y="1197000"/>
            <a:ext cx="5112000" cy="41641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551628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AutoShape 11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«Красота Земли мо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Красота Земли моей"/>
          <p:cNvPicPr/>
          <p:nvPr/>
        </p:nvPicPr>
        <p:blipFill>
          <a:blip r:embed="rId1"/>
          <a:stretch/>
        </p:blipFill>
        <p:spPr>
          <a:xfrm>
            <a:off x="1908000" y="1413000"/>
            <a:ext cx="5329440" cy="3984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0" name="Rectangle 9"/>
          <p:cNvSpPr/>
          <p:nvPr/>
        </p:nvSpPr>
        <p:spPr>
          <a:xfrm>
            <a:off x="395280" y="5589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>
            <a:hlinkClick r:id="rId2" action="ppaction://hlinksldjump"/>
          </p:cNvPr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13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rds.mail.ru/cardedit.html?E=81980&amp;tid=820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День Земли», девочки держатся за ру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rds.mail.ru/cardedit.html?E=81980&amp;tid=801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бои «день Земли», изображение Земли с веночком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rds.mail.ru/cardedit.html?E=81980&amp;tid=738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Всемирный День Земли»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rds.mail.ru/cardedit.html?E=81980&amp;tid=69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Мирного неба над твоей головой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ards.mail.ru/cardedit.html?E=81980&amp;tid=69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Сохраним жизнь на Земле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cards.mail.ru/cardedit.html?E=81980&amp;tid=756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открытка «Всемирный день Земли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cards.mail.ru/cardedit.html?E=82193&amp;tid=761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Хочется тепла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kvartal.websib.ru/foto/albums/userpics/10001/th_1IMG_3855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"Красота земли моей", плакат Алёна Хомякова, 13 лет Филиал "Вымпел", кружок «Фантазия», Руководитель Анна Юрьевна Садыко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cards.uainter.net/create.php?card_id=764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обои «Земля наш общий дом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vartal.websib.ru/foto/albums/userpics/10001/th_1IMG_3855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"Они тоже хотят жить" Коллективная работа творческого объединения "Непоседа" на конкурс плакатов в рамках "Дня Земли"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итель Е.В. Григорьева, Филиал "Надежда" , "Мне трудно дышать" Ольга Налобина, 14 лет Филиал "Калейдоскоп«, Руководитель Л.С. Макаров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kvartal.websib.ru/foto/albums/userpics/10001/th_1IMG_3877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Плакат филиала "Пламя", студия "Зелёный мир«, Руководитель Дианна Шаповалова  «Красная книга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u.wikipedia.org/wiki/%D0%A4%D0%B0%D0%B9%D0%BB:Earth_flag_PD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фото Земли, флаг Земл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sciam.ru/news/2005/img/3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С. П. Капица; 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ru.wikipedia.org/wiki/%D0%94%D0%B5%D0%BD%D1%8C_%D0%97%D0%B5%D0%BC%D0%BB%D0%B8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материал о празднике, символ Земл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ru.wikipedia.org/wiki/%D0%A4%D0%B0%D0%B9%D0%BB:Kolokol_Mira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фото космонавтов Березового и Астафьев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fap.ru/photo/new010420_02img0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мальчик с деревом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gorsun.org.ru/i/galleries/29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рисунки детей ко Дню Земли общее фот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oboffsem.ru/2008/04/21/mezhdunarodnyjj-den-zemli-international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традиции праздника  в других странах и фот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hot-shop.ru/UserFiles/1307071/e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колокол мира из монет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cards.uainter.net/create.php?card_id=769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 «Береги Землю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team.delfi.lv/activ/travels/tashkent/p2s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колокол мира парк Бабука в Японском саду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cards.uainter.net/create.php?card_id=770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, дети ловят Земной шар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cards.uainter.net/create.php?card_id=765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, загрязнение окружающей сре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cards.uainter.net/create.php?card_id=763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открытка, загрязнение воздух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ddd-gazeta.ru/content/view/292/0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информация о колоколе 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tabakoff.ru/kalendar/images/209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фото планеты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risk.ru/i/post/4/4139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информация о Мортоне Стенл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piastra.narod.ru/_KAT1/st117.ht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стихотворение «Люди – гости на планете Земля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tonnel.ru/?l=fonoteka&amp;main=6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 звуковой файл, песня ВАИ «Земляне»  «Прости, Земля!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gorodlip.ru/events/e10127365/   - информация о праздник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www.clubochek.ru/vers.php?id=563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тихотворение – живая планета Земл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www.solnet.ee/holidays/s12_9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сценарий экологического праздника «ДЕНЬ ЗЕМЛИ» С. Сульдимиро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://www.solnet.ee/sol/002/z_074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загадки о птица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://www.solnet.ee/sol/002/z_078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загадки о живот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solnet.ee/holidays/pic/s12_9_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 рисунок дети держат Земл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petshealth.ru/pets/bird/breed/breed_images/solovej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солов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floranimal.ru/pages/animal/g/1626.jpg - гра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kungrad.narod.ru/4/Birds/18.jpg - жавороно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photo.mipt.ru/authors/AndrewGT/birds_remake/img16712_rc.jpg -  дят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deti.religiousbook.org.ua/img/small/kukushka.jpg - кукуш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espot.ru/imgpv/nature/animals/giraffes/giraffes_007.jpg -жира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hi-it.ru/images/stories/content/news/big/2006-11-10-8.jpg - бобр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floranimal.ru/pages/animal/k/1430.jpg - коб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ammstaff.narod.ru/grizly/grizly1/24.jpg - мищ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espot.ru/imgpv/nature/animals/elephants/elephants_007.jpg - сло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>
            <a:hlinkClick r:id="rId1" action="ppaction://hlinksldjump"/>
          </p:cNvPr>
          <p:cNvSpPr/>
          <p:nvPr/>
        </p:nvSpPr>
        <p:spPr>
          <a:xfrm>
            <a:off x="539640" y="33336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 празд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>
            <a:hlinkClick r:id="rId2" action="ppaction://hlinksldjump"/>
          </p:cNvPr>
          <p:cNvSpPr/>
          <p:nvPr/>
        </p:nvSpPr>
        <p:spPr>
          <a:xfrm>
            <a:off x="539640" y="1484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з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>
            <a:hlinkClick r:id="rId3" action="ppaction://hlinksldjump"/>
          </p:cNvPr>
          <p:cNvSpPr/>
          <p:nvPr/>
        </p:nvSpPr>
        <p:spPr>
          <a:xfrm>
            <a:off x="539640" y="2708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>
            <a:hlinkClick r:id="rId4" action="ppaction://hlinksldjump"/>
          </p:cNvPr>
          <p:cNvSpPr/>
          <p:nvPr/>
        </p:nvSpPr>
        <p:spPr>
          <a:xfrm>
            <a:off x="539640" y="3933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>
            <a:hlinkClick r:id="rId5" action="ppaction://hlinksldjump"/>
          </p:cNvPr>
          <p:cNvSpPr/>
          <p:nvPr/>
        </p:nvSpPr>
        <p:spPr>
          <a:xfrm>
            <a:off x="539640" y="5157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>
            <a:hlinkClick r:id="rId6" action="ppaction://hlinksldjump"/>
          </p:cNvPr>
          <p:cNvSpPr/>
          <p:nvPr/>
        </p:nvSpPr>
        <p:spPr>
          <a:xfrm>
            <a:off x="4500720" y="333360"/>
            <a:ext cx="3960720" cy="936720"/>
          </a:xfrm>
          <a:custGeom>
            <a:avLst/>
            <a:gdLst>
              <a:gd name="textAreaLeft" fmla="*/ 60480 w 3960720"/>
              <a:gd name="textAreaRight" fmla="*/ 3900240 w 3960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1304" h="21600">
                <a:moveTo>
                  <a:pt x="0" y="0"/>
                </a:moveTo>
                <a:lnTo>
                  <a:pt x="91304" y="0"/>
                </a:lnTo>
                <a:lnTo>
                  <a:pt x="91304" y="21600"/>
                </a:lnTo>
                <a:lnTo>
                  <a:pt x="0" y="21600"/>
                </a:lnTo>
                <a:close/>
              </a:path>
              <a:path fill="lightenLess" w="91304" h="21600">
                <a:moveTo>
                  <a:pt x="0" y="0"/>
                </a:moveTo>
                <a:lnTo>
                  <a:pt x="91304" y="0"/>
                </a:lnTo>
                <a:lnTo>
                  <a:pt x="89904" y="1400"/>
                </a:lnTo>
                <a:lnTo>
                  <a:pt x="1400" y="1400"/>
                </a:lnTo>
                <a:close/>
              </a:path>
              <a:path fill="darken" w="91304" h="21600">
                <a:moveTo>
                  <a:pt x="91304" y="0"/>
                </a:moveTo>
                <a:lnTo>
                  <a:pt x="91304" y="21600"/>
                </a:lnTo>
                <a:lnTo>
                  <a:pt x="89904" y="20200"/>
                </a:lnTo>
                <a:lnTo>
                  <a:pt x="89904" y="1400"/>
                </a:lnTo>
                <a:close/>
              </a:path>
              <a:path fill="darkenLess" w="91304" h="21600">
                <a:moveTo>
                  <a:pt x="91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04" y="20200"/>
                </a:lnTo>
                <a:close/>
              </a:path>
              <a:path fill="lighten" w="91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изкультминутка-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Да, н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>
            <a:hlinkClick r:id="rId7" action="ppaction://hlinksldjump"/>
          </p:cNvPr>
          <p:cNvSpPr/>
          <p:nvPr/>
        </p:nvSpPr>
        <p:spPr>
          <a:xfrm>
            <a:off x="5219640" y="1484280"/>
            <a:ext cx="3241800" cy="936720"/>
          </a:xfrm>
          <a:custGeom>
            <a:avLst/>
            <a:gdLst>
              <a:gd name="textAreaLeft" fmla="*/ 60480 w 3241800"/>
              <a:gd name="textAreaRight" fmla="*/ 3181320 w 32418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74733" h="21600">
                <a:moveTo>
                  <a:pt x="0" y="0"/>
                </a:moveTo>
                <a:lnTo>
                  <a:pt x="74733" y="0"/>
                </a:lnTo>
                <a:lnTo>
                  <a:pt x="74733" y="21600"/>
                </a:lnTo>
                <a:lnTo>
                  <a:pt x="0" y="21600"/>
                </a:lnTo>
                <a:close/>
              </a:path>
              <a:path fill="lightenLess" w="74733" h="21600">
                <a:moveTo>
                  <a:pt x="0" y="0"/>
                </a:moveTo>
                <a:lnTo>
                  <a:pt x="74733" y="0"/>
                </a:lnTo>
                <a:lnTo>
                  <a:pt x="73333" y="1400"/>
                </a:lnTo>
                <a:lnTo>
                  <a:pt x="1400" y="1400"/>
                </a:lnTo>
                <a:close/>
              </a:path>
              <a:path fill="darken" w="74733" h="21600">
                <a:moveTo>
                  <a:pt x="74733" y="0"/>
                </a:moveTo>
                <a:lnTo>
                  <a:pt x="74733" y="21600"/>
                </a:lnTo>
                <a:lnTo>
                  <a:pt x="73333" y="20200"/>
                </a:lnTo>
                <a:lnTo>
                  <a:pt x="73333" y="1400"/>
                </a:lnTo>
                <a:close/>
              </a:path>
              <a:path fill="darkenLess" w="74733" h="21600">
                <a:moveTo>
                  <a:pt x="747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33" y="20200"/>
                </a:lnTo>
                <a:close/>
              </a:path>
              <a:path fill="lighten" w="747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Знаток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>
            <a:hlinkClick r:id="rId8" action="ppaction://hlinksldjump"/>
          </p:cNvPr>
          <p:cNvSpPr/>
          <p:nvPr/>
        </p:nvSpPr>
        <p:spPr>
          <a:xfrm>
            <a:off x="6012000" y="3716280"/>
            <a:ext cx="2376360" cy="936720"/>
          </a:xfrm>
          <a:custGeom>
            <a:avLst/>
            <a:gdLst>
              <a:gd name="textAreaLeft" fmla="*/ 60480 w 2376360"/>
              <a:gd name="textAreaRight" fmla="*/ 2315880 w 237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празд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4">
            <a:hlinkClick r:id="rId9" action="ppaction://hlinksldjump"/>
          </p:cNvPr>
          <p:cNvSpPr/>
          <p:nvPr/>
        </p:nvSpPr>
        <p:spPr>
          <a:xfrm>
            <a:off x="5940360" y="4797360"/>
            <a:ext cx="2448000" cy="93528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6522" h="21600">
                <a:moveTo>
                  <a:pt x="0" y="0"/>
                </a:moveTo>
                <a:lnTo>
                  <a:pt x="56522" y="0"/>
                </a:lnTo>
                <a:lnTo>
                  <a:pt x="56522" y="21600"/>
                </a:lnTo>
                <a:lnTo>
                  <a:pt x="0" y="21600"/>
                </a:lnTo>
                <a:close/>
              </a:path>
              <a:path fill="lightenLess" w="56522" h="21600">
                <a:moveTo>
                  <a:pt x="0" y="0"/>
                </a:moveTo>
                <a:lnTo>
                  <a:pt x="56522" y="0"/>
                </a:lnTo>
                <a:lnTo>
                  <a:pt x="55122" y="1400"/>
                </a:lnTo>
                <a:lnTo>
                  <a:pt x="1400" y="1400"/>
                </a:lnTo>
                <a:close/>
              </a:path>
              <a:path fill="darken" w="56522" h="21600">
                <a:moveTo>
                  <a:pt x="56522" y="0"/>
                </a:moveTo>
                <a:lnTo>
                  <a:pt x="56522" y="21600"/>
                </a:lnTo>
                <a:lnTo>
                  <a:pt x="55122" y="20200"/>
                </a:lnTo>
                <a:lnTo>
                  <a:pt x="55122" y="1400"/>
                </a:lnTo>
                <a:close/>
              </a:path>
              <a:path fill="darkenLess" w="56522" h="21600">
                <a:moveTo>
                  <a:pt x="56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22" y="20200"/>
                </a:lnTo>
                <a:close/>
              </a:path>
              <a:path fill="lighten" w="56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дведём и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>
            <a:hlinkClick r:id="rId10" action="ppaction://hlinksldjump"/>
          </p:cNvPr>
          <p:cNvSpPr/>
          <p:nvPr/>
        </p:nvSpPr>
        <p:spPr>
          <a:xfrm>
            <a:off x="4067280" y="6093000"/>
            <a:ext cx="1295280" cy="57600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8556" h="21600">
                <a:moveTo>
                  <a:pt x="0" y="0"/>
                </a:moveTo>
                <a:lnTo>
                  <a:pt x="48556" y="0"/>
                </a:lnTo>
                <a:lnTo>
                  <a:pt x="48556" y="21600"/>
                </a:lnTo>
                <a:lnTo>
                  <a:pt x="0" y="21600"/>
                </a:lnTo>
                <a:close/>
              </a:path>
              <a:path fill="lightenLess" w="48556" h="21600">
                <a:moveTo>
                  <a:pt x="0" y="0"/>
                </a:moveTo>
                <a:lnTo>
                  <a:pt x="48556" y="0"/>
                </a:lnTo>
                <a:lnTo>
                  <a:pt x="47156" y="1400"/>
                </a:lnTo>
                <a:lnTo>
                  <a:pt x="1400" y="1400"/>
                </a:lnTo>
                <a:close/>
              </a:path>
              <a:path fill="darken" w="48556" h="21600">
                <a:moveTo>
                  <a:pt x="48556" y="0"/>
                </a:moveTo>
                <a:lnTo>
                  <a:pt x="48556" y="21600"/>
                </a:lnTo>
                <a:lnTo>
                  <a:pt x="47156" y="20200"/>
                </a:lnTo>
                <a:lnTo>
                  <a:pt x="47156" y="1400"/>
                </a:lnTo>
                <a:close/>
              </a:path>
              <a:path fill="darkenLess" w="48556" h="21600">
                <a:moveTo>
                  <a:pt x="48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6" y="20200"/>
                </a:lnTo>
                <a:close/>
              </a:path>
              <a:path fill="lighten" w="48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8" descr="1"/>
          <p:cNvPicPr/>
          <p:nvPr/>
        </p:nvPicPr>
        <p:blipFill>
          <a:blip r:embed="rId11"/>
          <a:stretch/>
        </p:blipFill>
        <p:spPr>
          <a:xfrm>
            <a:off x="3564000" y="2997360"/>
            <a:ext cx="1800000" cy="1260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" name="AutoShape 31">
            <a:hlinkClick r:id="rId12" action="ppaction://hlinksldjump"/>
          </p:cNvPr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2">
            <a:hlinkClick r:id="rId13" action="ppaction://hlinksldjump"/>
          </p:cNvPr>
          <p:cNvSpPr/>
          <p:nvPr/>
        </p:nvSpPr>
        <p:spPr>
          <a:xfrm>
            <a:off x="5580000" y="2637000"/>
            <a:ext cx="2879640" cy="86508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71880" h="21600">
                <a:moveTo>
                  <a:pt x="0" y="0"/>
                </a:moveTo>
                <a:lnTo>
                  <a:pt x="71880" y="0"/>
                </a:lnTo>
                <a:lnTo>
                  <a:pt x="71880" y="21600"/>
                </a:lnTo>
                <a:lnTo>
                  <a:pt x="0" y="21600"/>
                </a:lnTo>
                <a:close/>
              </a:path>
              <a:path fill="lightenLess" w="71880" h="21600">
                <a:moveTo>
                  <a:pt x="0" y="0"/>
                </a:moveTo>
                <a:lnTo>
                  <a:pt x="71880" y="0"/>
                </a:lnTo>
                <a:lnTo>
                  <a:pt x="70480" y="1400"/>
                </a:lnTo>
                <a:lnTo>
                  <a:pt x="1400" y="1400"/>
                </a:lnTo>
                <a:close/>
              </a:path>
              <a:path fill="darken" w="71880" h="21600">
                <a:moveTo>
                  <a:pt x="71880" y="0"/>
                </a:moveTo>
                <a:lnTo>
                  <a:pt x="71880" y="21600"/>
                </a:lnTo>
                <a:lnTo>
                  <a:pt x="70480" y="20200"/>
                </a:lnTo>
                <a:lnTo>
                  <a:pt x="70480" y="1400"/>
                </a:lnTo>
                <a:close/>
              </a:path>
              <a:path fill="darkenLess" w="71880" h="21600">
                <a:moveTo>
                  <a:pt x="71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80" y="20200"/>
                </a:lnTo>
                <a:close/>
              </a:path>
              <a:path fill="lighten" w="71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гра «Угадай-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30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ca041bb23dc2aff65722945a6f71d8bb"/>
          <p:cNvPicPr/>
          <p:nvPr/>
        </p:nvPicPr>
        <p:blipFill>
          <a:blip r:embed="rId1"/>
          <a:stretch/>
        </p:blipFill>
        <p:spPr>
          <a:xfrm>
            <a:off x="2484360" y="2782800"/>
            <a:ext cx="3743280" cy="373248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AutoShape 23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зв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англ.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Earth Day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—используется по отношению к различным мероприятиям, проводящимся весной 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изванным побудить людей быть внимательнее к хрупкой и уязвимой окружающей среде на планете 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Рисунок16"/>
          <p:cNvPicPr/>
          <p:nvPr/>
        </p:nvPicPr>
        <p:blipFill>
          <a:blip r:embed="rId1"/>
          <a:stretch/>
        </p:blipFill>
        <p:spPr>
          <a:xfrm>
            <a:off x="4859280" y="692280"/>
            <a:ext cx="4056120" cy="4055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Rectangle 7"/>
          <p:cNvSpPr/>
          <p:nvPr/>
        </p:nvSpPr>
        <p:spPr>
          <a:xfrm>
            <a:off x="8532720" y="4437000"/>
            <a:ext cx="360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3" descr="Рисунок19"/>
          <p:cNvPicPr/>
          <p:nvPr/>
        </p:nvPicPr>
        <p:blipFill>
          <a:blip r:embed="rId1"/>
          <a:stretch/>
        </p:blipFill>
        <p:spPr>
          <a:xfrm>
            <a:off x="2195640" y="333360"/>
            <a:ext cx="5327640" cy="342252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332b7a9ec08f70e06b289a1d37943d20"/>
          <p:cNvPicPr/>
          <p:nvPr/>
        </p:nvPicPr>
        <p:blipFill>
          <a:blip r:embed="rId1"/>
          <a:stretch/>
        </p:blipFill>
        <p:spPr>
          <a:xfrm>
            <a:off x="1979640" y="2637000"/>
            <a:ext cx="5040360" cy="3781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4788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ece5e72ca04f4253f8c1179c14012c44"/>
          <p:cNvPicPr/>
          <p:nvPr/>
        </p:nvPicPr>
        <p:blipFill>
          <a:blip r:embed="rId1"/>
          <a:stretch/>
        </p:blipFill>
        <p:spPr>
          <a:xfrm>
            <a:off x="4859280" y="1628640"/>
            <a:ext cx="3845160" cy="38322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" name="AutoShape 2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елена</cp:lastModifiedBy>
  <dcterms:modified xsi:type="dcterms:W3CDTF">2012-09-24T13:38:49Z</dcterms:modified>
  <cp:revision>219</cp:revision>
  <dc:subject/>
  <dc:title>День Земли</dc:title>
</cp:coreProperties>
</file>