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9D90-06B3-49F0-B49E-D94AFB1F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A39-5579-428C-A609-345044F9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86A-2DC9-40C7-B50B-6A4260A82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C60-A74B-4D3F-9038-1446438B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B949-E0FA-4601-B715-CE056BCE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5633-3492-4E5E-886D-AD11594A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D2BA-AD42-4AEB-9554-F7DE25DB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8865-5D7A-4508-BCDE-6516CB95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6842-E6D2-41E2-BF00-C27CE55C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669E-3D82-4686-B90F-E3FB06FC2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506A-A25C-4471-8D30-3CB83555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A7F-747E-4950-A9BE-3192783E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5D03-BC7F-4A2A-B5AD-0807543C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B2C5-62FD-4FB9-9AED-8459C07E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F0A2-F0C6-46AC-8F4C-575D8AD5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27B6-D9D5-4EDC-8BB3-FB656AC2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872E-4C62-4470-B704-61571B470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8F0-0B5E-46AF-BDB7-32122DA2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59E-55A8-4F6B-A2C7-742C6EFE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9E7-203E-4AA9-81A1-FF5A2BC7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E94B-5BAC-45B9-BEF3-887D7722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D4C-447D-44C7-95C7-B0D68084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8E0-9BD3-40BC-BDD9-FC8ADC4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851-9E50-4AAA-BDCA-4B5BC4C0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5b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295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95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295b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95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2D92-F565-4F20-86D7-748F439B3F09}" type="slidenum">
              <a:rPr b="0" lang="ru-RU" sz="1400" spc="-1" strike="noStrike">
                <a:solidFill>
                  <a:srgbClr val="00295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6FA28-BEFC-4BBC-81B9-B87CE2CF5E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6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6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C:\Users\Region\Desktop\шаттерсток\shutterstock_29085244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6"/>
          <p:cNvSpPr txBox="1"/>
          <p:nvPr/>
        </p:nvSpPr>
        <p:spPr>
          <a:xfrm>
            <a:off x="324000" y="620640"/>
            <a:ext cx="20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ЕГЭ</a:t>
            </a:r>
            <a:endParaRPr b="1" lang="en-US" sz="6600" spc="1" strike="noStrike">
              <a:ln w="9360">
                <a:solidFill>
                  <a:srgbClr val="008000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5" name="Picture 8" descr="examen_logo2"/>
          <p:cNvPicPr/>
          <p:nvPr/>
        </p:nvPicPr>
        <p:blipFill>
          <a:blip r:embed="rId2"/>
          <a:stretch/>
        </p:blipFill>
        <p:spPr>
          <a:xfrm>
            <a:off x="6443640" y="189000"/>
            <a:ext cx="2521080" cy="431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3203640" y="1989000"/>
            <a:ext cx="410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492360" y="1844640"/>
            <a:ext cx="36799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Учимся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комментировать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проблему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текста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50920" y="1168560"/>
          <a:ext cx="8497800" cy="521172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к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д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алоб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дрые совет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ссимиз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часть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иски себя в мир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ойно прожитая жизн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кнутость,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мн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койная уверенность, открытость миру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 txBox="1"/>
          <p:nvPr/>
        </p:nvSpPr>
        <p:spPr>
          <a:xfrm>
            <a:off x="250920" y="404640"/>
            <a:ext cx="8497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Контраст как композиционный приём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траст позволил автору выявить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ность характеров герое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х миропоним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ое состоя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к себе и к окружающим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9640" y="476280"/>
            <a:ext cx="81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Роль контраста как композиционного приём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96000" y="3860640"/>
            <a:ext cx="24717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716000" y="333000"/>
            <a:ext cx="403884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ествование от первого лица в композиции художественного произведения может указывать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олько на образ рассказчик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, но не на образ автор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shutterstock_105568664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6335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900000" y="3500280"/>
            <a:ext cx="26640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84360" y="2924280"/>
            <a:ext cx="3456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826920" y="4005360"/>
            <a:ext cx="309564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ВНИМАНИЕ!</a:t>
            </a:r>
            <a:endParaRPr b="1" lang="en-US" sz="4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втор и рассказчи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художественном текс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4033800" cy="496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бразе автора  отражаются и им определяютс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, сюжет, композиция, идея произ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событий, героев, их поступков, повед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собенности языкового выражения – «словесная ткань текс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втор «всеведущ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916360" y="549360"/>
            <a:ext cx="142920" cy="1079280"/>
          </a:xfrm>
          <a:prstGeom prst="downArrow">
            <a:avLst>
              <a:gd name="adj1" fmla="val 50000"/>
              <a:gd name="adj2" fmla="val 18879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9" name="AutoShape 8"/>
          <p:cNvSpPr/>
          <p:nvPr/>
        </p:nvSpPr>
        <p:spPr>
          <a:xfrm flipH="1">
            <a:off x="3058560" y="62064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0" name="AutoShape 10"/>
          <p:cNvSpPr/>
          <p:nvPr/>
        </p:nvSpPr>
        <p:spPr>
          <a:xfrm flipH="1">
            <a:off x="5076000" y="620640"/>
            <a:ext cx="360360" cy="1008000"/>
          </a:xfrm>
          <a:prstGeom prst="downArrow">
            <a:avLst>
              <a:gd name="adj1" fmla="val 50000"/>
              <a:gd name="adj2" fmla="val 6993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643280" y="1700280"/>
            <a:ext cx="4500720" cy="494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яет автора в тексте;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чевидец происходящего;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инимает участие в событиях;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ствует о них;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 его помощью автор создает иллюзию достоверности событий;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му  доверена  авторская оценка событий и героев.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Рассказчик, не описывая внутреннее состояние героев, передает их переживания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через внешние проявления. </a:t>
            </a: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1871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е возникали в комментарии речевые ошибки, связанные с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втором сло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«автор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мените его следующими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ублицис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если текст публицистического сти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сат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если текст художественного стил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имением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он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милие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а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920" y="549360"/>
            <a:ext cx="72741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Обратите внимание!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73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95280" y="1341360"/>
            <a:ext cx="8291160" cy="3815640"/>
            <a:chOff x="395280" y="1341360"/>
            <a:chExt cx="8291160" cy="3815640"/>
          </a:xfrm>
        </p:grpSpPr>
        <p:cxnSp>
          <p:nvCxnSpPr>
            <p:cNvPr id="127" name="_s41990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5609880" y="1797480"/>
              <a:ext cx="763920" cy="2902320"/>
            </a:xfrm>
            <a:prstGeom prst="bentConnector3">
              <a:avLst>
                <a:gd name="adj1" fmla="val 20792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130" name="_s41991"/>
            <p:cNvCxnSpPr>
              <a:stCxn id="131" idx="0"/>
              <a:endCxn id="129" idx="2"/>
            </p:cNvCxnSpPr>
            <p:nvPr/>
          </p:nvCxnSpPr>
          <p:spPr>
            <a:xfrm flipV="1">
              <a:off x="4541040" y="2867040"/>
              <a:ext cx="1440" cy="76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41992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707560" y="1797480"/>
              <a:ext cx="763920" cy="2902680"/>
            </a:xfrm>
            <a:prstGeom prst="bentConnector3">
              <a:avLst>
                <a:gd name="adj1" fmla="val 20792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129" name="_s41993"/>
            <p:cNvSpPr/>
            <p:nvPr/>
          </p:nvSpPr>
          <p:spPr>
            <a:xfrm>
              <a:off x="3296880" y="13413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Любовь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33" name="_s41994"/>
            <p:cNvSpPr/>
            <p:nvPr/>
          </p:nvSpPr>
          <p:spPr>
            <a:xfrm>
              <a:off x="395280" y="36309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 Матери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31" name="_s41995"/>
            <p:cNvSpPr/>
            <p:nvPr/>
          </p:nvSpPr>
          <p:spPr>
            <a:xfrm>
              <a:off x="3296880" y="36309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 Родине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8" name="_s41996"/>
            <p:cNvSpPr/>
            <p:nvPr/>
          </p:nvSpPr>
          <p:spPr>
            <a:xfrm>
              <a:off x="6199200" y="3630960"/>
              <a:ext cx="2487240" cy="152604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к Женщине</a:t>
              </a:r>
              <a:endParaRPr b="1" lang="en-US" sz="28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5400000">
            <a:off x="3924360" y="1123560"/>
            <a:ext cx="1295280" cy="8785440"/>
          </a:xfrm>
          <a:custGeom>
            <a:avLst/>
            <a:gdLst>
              <a:gd name="textAreaLeft" fmla="*/ 0 w 1295280"/>
              <a:gd name="textAreaRight" fmla="*/ 467640 w 1295280"/>
              <a:gd name="textAreaTop" fmla="*/ 228960 h 8785440"/>
              <a:gd name="textAreaBottom" fmla="*/ 8556480 h 878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76360" y="6334200"/>
            <a:ext cx="6753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должна быть ЕДИНСТВЕННОЙ</a:t>
            </a:r>
            <a:endParaRPr b="1" lang="en-US" sz="18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вы понимаете мысль деда о звездах и надежде на звездное неб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Звезда – это победа, успех, достиж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парадоксальность мысли предложении: «Дед, я, наверное, старею, мне хочется быть счастливым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нук: ХОЧУ быть счастливым; дед – УЖЕ счастлив (т.к. он стар); ХОЧУ счастья и ЕСТЬ счасть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для  рассказчика желание счастья ассоциируется только со старостью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Для него молодость – время страданий, поисков и итогов. Он «ничего не понимает и во всем запутался». А дед мудр, умеет любить и знает все ответы, он жил интересной жизнью. Дед счастли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едлива ли самооценка, данная рассказчиком самому себе(пр.26-37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Не любит ОНА; он сам себя НЕ любит: средний, серый;  да, рассказчик искренен, самокритиче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каких полётах говорит дед в отв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Мечта, окрыленность, успех, уверенность в се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549360"/>
            <a:ext cx="6553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Анализируем текст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1052280"/>
            <a:ext cx="844704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ем противопоставл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а отсю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ощущение одиночест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ощущение серости жизни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даже зрительно образы мышей, слонов, собаки – сер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противоречивые поиски собственного «я»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шмыгаю я, дед»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мышь) – стремление быть мелким, незаметн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оя жизнь – ожидание кости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бака) – ожидание случайных знаков внимания любимой, подачек судьбы, недоверие к людя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58920" y="1268280"/>
            <a:ext cx="1655640" cy="719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ЩЕНОК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1268280"/>
            <a:ext cx="2737080" cy="1008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НЫ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2205000"/>
            <a:ext cx="2808360" cy="10796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БАКА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2421000"/>
            <a:ext cx="1584360" cy="792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ШИ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1557360"/>
            <a:ext cx="1439640" cy="216000"/>
          </a:xfrm>
          <a:prstGeom prst="leftRightArrow">
            <a:avLst>
              <a:gd name="adj1" fmla="val 50000"/>
              <a:gd name="adj2" fmla="val 13268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4" name=""/>
          <p:cNvSpPr/>
          <p:nvPr/>
        </p:nvSpPr>
        <p:spPr>
          <a:xfrm>
            <a:off x="3780000" y="2637000"/>
            <a:ext cx="1439640" cy="215640"/>
          </a:xfrm>
          <a:prstGeom prst="leftRightArrow">
            <a:avLst>
              <a:gd name="adj1" fmla="val 50000"/>
              <a:gd name="adj2" fmla="val 13290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5" name=""/>
          <p:cNvSpPr/>
          <p:nvPr/>
        </p:nvSpPr>
        <p:spPr>
          <a:xfrm flipH="1" rot="16200000">
            <a:off x="3779640" y="-387720"/>
            <a:ext cx="1368360" cy="7561080"/>
          </a:xfrm>
          <a:custGeom>
            <a:avLst/>
            <a:gdLst>
              <a:gd name="textAreaLeft" fmla="*/ -360 w 1368360"/>
              <a:gd name="textAreaRight" fmla="*/ 493560 w 1368360"/>
              <a:gd name="textAreaTop" fmla="*/ 196920 h 7561080"/>
              <a:gd name="textAreaBottom" fmla="*/ 7364160 h 75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81"/>
                </a:lnTo>
                <a:cubicBezTo>
                  <a:pt x="10800" y="9981"/>
                  <a:pt x="16200" y="10881"/>
                  <a:pt x="21600" y="10881"/>
                </a:cubicBezTo>
                <a:cubicBezTo>
                  <a:pt x="16200" y="10881"/>
                  <a:pt x="10800" y="11781"/>
                  <a:pt x="10800" y="1268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333360"/>
            <a:ext cx="8785440" cy="65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еречитаем ещё раз этот фрагмент и предложения 51-5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39)Моя жизнь – ожидание кости. (40)Иногда меня гладят, а я не знаю, что делать: лаять или лизать руку, которая гладит, а может уда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1)- К себе не подпускай, вешай объявления на столб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2)- Шутишь, дед, какие объявл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3)- Продаётся собачья шку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4)- А если придут за шкур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5)- На вырученные деньги купишь скрип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6)- Зачем мне скрипка, дед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47)- Станешь играть любим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Каков иносказательный смысл советов де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принимать подачки, не пресмыкаться и не озлобляться, сохранять чувство собственного достоин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делать любовь подвиг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отверженности, самопожертв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191280" y="4697280"/>
            <a:ext cx="2952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29840" y="1125000"/>
            <a:ext cx="871380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Дедушка – отчий дом, родная деревня, отчизн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ация: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мой остров, мой материк, моя Земл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твердая опора, спасительное убежищ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ратимся к вопросам. на которые внук так и не получил отв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0)- Дедушка, есть осенние люди? (62)Дедушка, а кто они такие - осенние люд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дед не дал на них ответа, как, впрочем, и на ряд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 считал, что внук САМ должен дум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размышлять, решать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мысла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амоопределения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476280"/>
            <a:ext cx="8459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Как возникает в рассказе мотив ностальгии?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04000" y="4149720"/>
            <a:ext cx="234000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1640"/>
            <a:ext cx="5184720" cy="5256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651640" y="5157720"/>
            <a:ext cx="3165480" cy="147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Текст</a:t>
            </a:r>
            <a:endParaRPr b="0" lang="en-US" sz="72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4216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5)- Ой, дед, завидую я т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66)- Это не так уж и плохо, я интересно ж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67)- Дедушка, а как дальше мне, что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68)Засыпая, я вновь услышал его гол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69)- Внук, так хочется, чтобы ты знал: дед твой жив! (70)Жив твой дед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71)Я встал, открыл форточку и заорал на всю улицу, во всю ноч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72)- Люди, жив мой дед! (73)Мой умный, добрый, осенний дед! (74)Мой остров! (75)Моя Земл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в смысл 69-70 предложений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У рассказчика масса нерешенных проблем, и обращение к памяти, переосмысление сказанного дедом поможет ему  их решить: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втор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позиционный стык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силивают эту мысл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зрительно размыкает рассказчик свой замкнутый мир после осознания этог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ткрытая форточка – окно в мир, к людям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дополняет данную мысль эта пара слов :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шмыгаю – заор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Рассказчику захотелось быть услышанным, понятым, замеченн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1280" y="404640"/>
            <a:ext cx="750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Анализируем финал рассказа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3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Мой умный, добрый, осенний дед!»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чит рассказчик. Следовательно, он уже нашел ответ на свои вопросы об «осенних» людях. Как можно истолковать эту метафор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Мудрый, всё изведавший, всё знающий: «Он учил меня любить, видеть, думать, хотел научить летать, но не успел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Осень, пожалуй, и есть время ответов. Как и человеческая, с годами приходящая мудрость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ь ли уверенность в том, что внук научится лета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Безусловно. Дедовские уроки дадут силу и ему стать крылатым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ы: именно в юношеском возрасте человек начинает воспринимать и осмысливать состояние собственного «Я». И как важно, когда рядом мудрый наставник, который поможет разобраться в себе и окружающе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 использует психологический метод, основанный на идее движения, названный Чернышевским Н.Г.</a:t>
            </a: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 "диалектикой души".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(ДИАЛЕКТИКА ДУШИ - понятие, которым обозначается детальное воспроизведение в художественном произведении процесса зарождения и последующего формирования мыслей, чувств, настроений, ощущений человека, их взаимодействия, развития одного из другого, показ самого психического процесса, его закономерностей и форм (перерастание любви в ненависть или возникновение любви из симпатии и т. п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«Словарь литературоведческих терминов» под редакцией С.П.Белокуров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69440" cy="6337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1332000" y="3284640"/>
            <a:ext cx="665784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Пишем комментарий к проблеме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shutterstock_109682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2987640" y="3933720"/>
            <a:ext cx="446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Вариант 1</a:t>
            </a:r>
            <a:endParaRPr b="1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сматривая проблему роли влияния взрослых на формирование личности подростк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обращает наше внимание на т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главным событием рассказа становится перемена, которая происходит с рассказчиком. Мудрость деда  связана с осенью из воспоминаний подростка, и он не хочет отпускать ни осенних листьев из рук, ни память о деде из своей жизни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.Попов показыва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как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сказчик пытается объединить  эти два мир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прошлое и настоящее, чтобы найти ответы на самые важные вопросы  о любви, о цене собственной «шкуры», о том, как перестать «шмыгать» и сыграть на скрипке мелодию для любимой, озвучить которую достоин лишь тот, кто горит, подобно метеориту, кто не проживает дни в ожидании «кос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неспроста подчеркивает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то дед стал для повествователя «отчизной»: самое доброе и нравственное закладывается в отчем доме, память о котором навсегда остается с челове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Алина 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500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E:\картинки с шаттерстока\shutterstock_1096827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3"/>
          <p:cNvSpPr/>
          <p:nvPr/>
        </p:nvSpPr>
        <p:spPr>
          <a:xfrm>
            <a:off x="3643200" y="3571920"/>
            <a:ext cx="42148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 Black"/>
              </a:rPr>
              <a:t>Вариант 2</a:t>
            </a:r>
            <a:endParaRPr b="1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Данную проблему автор раскрывает с помощью диалогов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нука и деда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рием противопоставления позволяет увиде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как расходятся мнения по важнейшим нравственным вопросам представителей двух поколений. Рассуждения героев помогают представить их психологический портрет. Дед – мудрый, полно и интересно проживший жизнь, знающий ответы на самые сложные вопросы, а внук – подросток, которому только предстоит их решать. Он пытается найти путь к людям и к  самому себе, однако ему мешает низкая самооценка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Метафоричность речи деда объясняется те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он даёт возможность внуку поразмышлять над сказанным и самостоятельно принять решение, сделать выбор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Михаил А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shutterstock_1111832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5"/>
          <p:cNvSpPr/>
          <p:nvPr/>
        </p:nvSpPr>
        <p:spPr>
          <a:xfrm>
            <a:off x="4716360" y="3357720"/>
            <a:ext cx="1511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ариант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Комментируя данную проблему, хочется отмет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она интересна и взрослым, и подросткам.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так выстраивает диало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что читатель не может не видеть парадокса: обычно счастье и полноту жизни ощущают молодые, а грусть – люди старшего, «осеннего» возраста. Однако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.Попов обращает внимание читателя на то,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что именно внук получает от деда уроки нравственности, оптимистического мироощущения. Очевидно, это одна из причин, по которой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рассказчик испытывает глубокое уважение к своему близкому человеку и искреннее желание поделиться самым сокровенным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в надежде получить ответы на наболевшие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Автор показыва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как важно деду научить внука простым, но в тоже время сложным умениям по-настоящему любить, правильно оценивать себя и окружающих. Но истинная мудрость деда в том, что он не дает готовых рецептов, и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писателю, несомненно, симпатиче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этот по-доброму ироничный ге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Полина 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shutterstock_109682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2987640" y="3933720"/>
            <a:ext cx="4464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 Black"/>
              </a:rPr>
              <a:t>Вариант 4</a:t>
            </a:r>
            <a:endParaRPr b="1" lang="en-US" sz="6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2920" y="0"/>
            <a:ext cx="8786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)Закружился в диком танце осени, спрятал под листвой дороги, перепутал всё на свете листопад. (2)Хорошо бродить, утопая в листве. (3)Хорошо набирать её полные руки, заставлять кружиться вновь и вновь, осыпая голову, плеч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)- Дедушка, скажи что-нибудь грустно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)- Осенние листь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)- А грустне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7)- Осенние звёз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8)- Грустнее осенних звёзд быв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9)- Осенние пт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0)- Дедушка, есть осенние люд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1)Его давно нет на свете, моего деда, а как прижмёт, защемит, - забываю, что нет. (12)Мой добрый, мой умный дедушка живёт во мне. (13)Он мой остров, мой материк, мо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4)- Дедушка, есть второе дыхание, а любовь бывает вторая? (15)Ответь, дед, мне это очень ну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6)- Если ты мне скажешь: первая звезда, - я пойму. (17)Это начало счёта, это надежда на звёздное неб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18)- Дед, ну причём здесь звёздное небо? (19)Ты прямо ответь, бывает или н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0)- Если ты скажешь: первое блюдо, я пойму – хочешь кушать и надеешься на второе и третье. (21)Но когда говорят: первая любовь, - я не понимаю, что это? (22)Начало счёта или надежда на вторую и трет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3)- Дед, я, наверное, старею, мне хочется быть счастлив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4)- Глупый ты ещё. (25)Пойми, внук. Маму, Родину, Любимую не нумер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6)- Дед, она не любит ме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блему роли взрослых в формировании личности подростка автор рассматривает на примере воспоминаний одного из героев расск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Комментируя её, нельзя не отметить мастерство А.Попова в передаче душевного состояния рассказчика: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менно подтекст позволяет понять, что чувствует и переживает молодой человек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втор подчеркивает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что диалоги с дедом, переосмысление сказанного им, помогли внуку разобраться в сложнейших нравственных и психологических проблемах: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етроспектива помогает увидеть диалектику души рассказчик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Используя контраст  как композиционный прием, автор показа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как важно в юности иметь рядом счастливого человека, прожившего интересную жизнь, понявшего её смысл: внук учится у деда самоуважению, умению найти в этой жизни истинные ценности, правильные пути к любимой, окружающим людям.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А.Попов дает читателю возможност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поверить в силу подобного влияния взрослого человека: «осенний» дед и его уроки всегда живы в памяти героя  рассказа.  Его внутреннее перерождение, возрождение уже начал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ергей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780000" y="1599840"/>
            <a:ext cx="4906800" cy="492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 к проблеме текст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(если он следует за сформулированной проблемой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олжен завершить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зис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котором изложена позиция автора текста по рассматриваемой пробле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024000" cy="4680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619280" y="549360"/>
            <a:ext cx="61927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ОБРАТИТЕ ВНИМАНИЕ!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3745080" cy="54738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916360" y="3933720"/>
            <a:ext cx="597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Благодарю за внимание!</a:t>
            </a:r>
            <a:endParaRPr b="1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771640" y="6510240"/>
            <a:ext cx="637236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latin typeface="Arial"/>
              </a:rPr>
              <a:t>Егораева Г.Т., ведущий методист издательства "Экзамен"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13840" y="142560"/>
            <a:ext cx="8929800" cy="671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7)- А ты сам как к себе относишь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8)- Плохо, дедушка, совсем плох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29)- А летать ты пробова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0)- Дед, средний я, серый, какие там полё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1)- Объясни, такого не понима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2)- Дедушка, ты не представляешь, как трудно быть средним. (33)Чувствовать себя щенком перед слонами и понимать – они это знают. (34)Сознавать себя собакой перед мышами и знать: они этого никогда не поймут. (35)Я ненавижу себя, иногда хочу стать мышью – их не обижают, они маленькие. (36)Шмыгаю я, д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7)- Она тебя замечает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38)- Никто я для неё. (39)Моя жизнь – ожидание кости. (40)Иногда меня гладят, а я не знаю, что делать: лаять или лизать руку, которая гладит, а может удар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1)- К себе не подпускай, вешай объявления на столб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2)- Шутишь, дед, какие объявл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3)- Продаётся собачья шк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4)- А если придут за шкуро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5)- На вырученные деньги купишь скрип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6)- Зачем мне скрипка, дед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7)- Станешь играть люб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48)У меня нет родной деревни – мне некуда ехать, у меня нет отчего дома. (49)Моя отчизна – мой дедушка, его слова, его мысли. (50)Он учил меня любить, видеть, думать, хотел научить летать, но не успел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1)Мы ходили с ним среди сосен и смотрели в небо.(52) Дед говорил о каждой звезде, а ещё мой дедушка был влюблён в луну. (53)Он знал о ней всё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2920" y="213840"/>
            <a:ext cx="8786880" cy="664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4)Как-то сказа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5)- Одни учёные утверждают: лунные кратеры – остатки потухших вулканов, другие доказывают – следы метеоритов. (56)Я уверен, лунные кратеры – застывшие взгляды великих. (57)Вот очи Пушкина, а здесь глаза Блока, дальше – взор Бунина, а прямо перед тобой - Маяковского. Луна – музей любви человека. (58)Но чтобы попасть в этот музей, нужно любить так, чтобы сгорать, как метеорит, с ума сходить, как вулкан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59)- Не получается у меня, де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0)- Что не получа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1)- Ничего не понимаю, во всём запутался. (62)Дедушка, а кто они такие - осенние люди? (63)Может, я и есть осенни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4)- Нельзя мне все вопросы решать за тебя, есть такие, на которые ответишь только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5)- Ой, дед, завидую я т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6)- Это не так уж и плохо, я интересно ж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7)- Дедушка, а как дальше мне, что дел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8)Засыпая, я вновь услышал его голо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69)- Внук, так хочется, чтобы ты знал: дед твой жив! (70)Жив твой дед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71)Я встал, открыл форточку и заорал на всю улицу, во всю ноч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72)- Люди, жив мой дед! (73)Мой умный, добрый, осенний дед! (74)Мой остров! (75)Моя Земля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По А.Попов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4680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зовите основные вопросы, о которых беседовали герои расск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мироощущ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люб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самооце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остоин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смысл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39640" y="404640"/>
            <a:ext cx="799308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Работаем над содержанием текст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92720" y="3141720"/>
            <a:ext cx="3527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ие проблемы поднимает автор в тексте?  (На какие вопросы автор отвечает данным текстом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Бережного отношения к памяти о своём прошлом; человеческих взаимоотношений; нравственного выбора; смысла жизни; роли взрослых в формировании личности; ответственности за другого человек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из перечисленных проблем основная? Выстройте цепочку ваших рассужд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ссказ – это воспоминание повествователя об уроках, преподанных дедом, следовательно, на одно из первых мест выходит проблема бережного отношения к памяти о своём прошлом. Однако тогда следует спросить, почему рассказчик помнит деда, считает его своим «отчим домой», своей «отчизной»? Ответ очевиден: всё, чего достиг и достигнет внук, произошло благодаря влиянию деда, его мудрым и ироничным советам. Следовательно, основная проблема – роль взрослых в формировании личности подростка (в воспитании нравственных черт характера подрост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920" y="549360"/>
            <a:ext cx="7274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Определяем основную проблему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3904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424720" cy="56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абзац – ретроспектива или настоящее геро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Скорее всего, это настоящее: оно помогает рассказчику вернуть, воссоздать ту, ушедшую осень, когда рядом был д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 Это ретроспектива: одиночество рассказчика прочитывается уже в первом абзаце. Да и содержание начала диалога доказывает эту мысль: внук просит деда сказать что-нибудь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рустное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рассказчику грустно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ыстраиваем цепочку взаимосвяз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)  Грусть         неразделенная любовь          рассказчик средний, сер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сен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истья, звезды, птицы – уход, холод, прощание; мотив одиноч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«Осенние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юди в понимании рассказчика дополнят, усилят самое «печальное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Вероятно, да. Он  сам продолжает ряд этой метафоро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32000" y="333360"/>
            <a:ext cx="5962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"/>
              </a:rPr>
              <a:t>Анализируем первый абзац текста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19280" y="3933720"/>
            <a:ext cx="431640" cy="142920"/>
          </a:xfrm>
          <a:prstGeom prst="rightArrow">
            <a:avLst>
              <a:gd name="adj1" fmla="val 50000"/>
              <a:gd name="adj2" fmla="val 7550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3933720"/>
            <a:ext cx="432000" cy="142920"/>
          </a:xfrm>
          <a:prstGeom prst="rightArrow">
            <a:avLst>
              <a:gd name="adj1" fmla="val 50000"/>
              <a:gd name="adj2" fmla="val 7556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9:00:01Z</dcterms:created>
  <dc:creator>Вера</dc:creator>
  <dc:description/>
  <dc:language>en-US</dc:language>
  <cp:lastModifiedBy>Пользователь</cp:lastModifiedBy>
  <dcterms:modified xsi:type="dcterms:W3CDTF">2014-06-07T06:16:19Z</dcterms:modified>
  <cp:revision>2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41049</vt:lpwstr>
  </property>
</Properties>
</file>