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584-4A2A-4E7A-A220-79F52E51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00C-31BF-4070-8776-8CB9B43F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F605-42F7-424C-8971-45DF9570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8B6-A803-4047-B723-68D91376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3D6C-4EE1-4C32-AB05-699F3793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C7EF-9B00-4BA9-8454-762F946B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3083-601E-42E0-A671-0B186F7B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95D2-DD37-4E3F-8635-9C2E46A3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9226-C3CA-403B-B768-2287DDBF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A77B-97C8-4A46-B110-B70D7FBE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E96A-69D9-4203-B6ED-E381A28A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6EF-DC77-40BF-9563-86A56EF8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3BB4-C310-4109-9AF9-038F88ED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0756-AF15-4B41-A965-42B9BAF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6885-A713-4DA2-AD20-8C08E5A0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2973-09CC-4D34-A8DE-7AC7B9C1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FDA8-2FDF-46C4-AF00-BE63AC61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12D-9EFD-46EF-B79B-6239599E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A1A-888D-4B44-B8FD-DCA79015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268-C945-4CD2-BB29-71DA3696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369-C116-4830-AAB2-9BD17C87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D99-D9A1-4DD5-A94D-54D0B2E0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155-E863-4581-8D13-DD82B5FC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C41-F1CA-4DA6-A210-F0B6D51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761-AE39-4F49-AD0F-FB9636ACDF87}" type="slidenum">
              <a:rPr b="0" lang="ru-RU" sz="1400" spc="-1" strike="noStrike">
                <a:solidFill>
                  <a:srgbClr val="00295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2206-6C90-4983-9DB8-7AD3E5F8D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:\Users\Region\Desktop\шаттерсток\shutterstock_29085244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324000" y="620640"/>
            <a:ext cx="20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ЕГЭ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Picture 8" descr="examen_logo2"/>
          <p:cNvPicPr/>
          <p:nvPr/>
        </p:nvPicPr>
        <p:blipFill>
          <a:blip r:embed="rId2"/>
          <a:stretch/>
        </p:blipFill>
        <p:spPr>
          <a:xfrm>
            <a:off x="6443640" y="189000"/>
            <a:ext cx="2521080" cy="431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3203640" y="1989000"/>
            <a:ext cx="4105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492360" y="1844640"/>
            <a:ext cx="36799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Учимся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комментировать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проблему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текста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50920" y="1168560"/>
          <a:ext cx="8497800" cy="52117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д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лоб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дрые совет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симиз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асть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и себя в мир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йно прожитая жизн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кнутость,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мн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ная уверенность, открытость мир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 txBox="1"/>
          <p:nvPr/>
        </p:nvSpPr>
        <p:spPr>
          <a:xfrm>
            <a:off x="250920" y="404640"/>
            <a:ext cx="84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Контраст как композиционный приём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аст позволил автору выяв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ность характеров герое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миропоним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ое состоя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к себе и к окружающи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476280"/>
            <a:ext cx="81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Роль контраста как композиционного приём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471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16000" y="333000"/>
            <a:ext cx="4038840" cy="63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ствование от первого лица в композиции художественного произведения может указыват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олько на образ рассказчик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но не на образ автор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shutterstock_105568664"/>
          <p:cNvPicPr/>
          <p:nvPr/>
        </p:nvPicPr>
        <p:blipFill>
          <a:blip r:embed="rId1"/>
          <a:stretch/>
        </p:blipFill>
        <p:spPr>
          <a:xfrm>
            <a:off x="250920" y="333360"/>
            <a:ext cx="4321080" cy="6335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900000" y="3500280"/>
            <a:ext cx="2664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84360" y="2924280"/>
            <a:ext cx="345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826920" y="4005360"/>
            <a:ext cx="309564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ВНИМАНИЕ!</a:t>
            </a:r>
            <a:endParaRPr b="1" lang="en-US" sz="4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втор и рассказчи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художественном тек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03380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разе автора  отражаются и им определяютс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, сюжет, композиция, идея произ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событий, героев, их поступков,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собенности языкового выражения – «словесная ткань текс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втор «всеведущ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916360" y="549360"/>
            <a:ext cx="142920" cy="1079280"/>
          </a:xfrm>
          <a:prstGeom prst="downArrow">
            <a:avLst>
              <a:gd name="adj1" fmla="val 50000"/>
              <a:gd name="adj2" fmla="val 18879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AutoShape 8"/>
          <p:cNvSpPr/>
          <p:nvPr/>
        </p:nvSpPr>
        <p:spPr>
          <a:xfrm flipH="1">
            <a:off x="3058560" y="620640"/>
            <a:ext cx="360360" cy="1008000"/>
          </a:xfrm>
          <a:prstGeom prst="down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AutoShape 10"/>
          <p:cNvSpPr/>
          <p:nvPr/>
        </p:nvSpPr>
        <p:spPr>
          <a:xfrm flipH="1">
            <a:off x="5076000" y="620640"/>
            <a:ext cx="360360" cy="1008000"/>
          </a:xfrm>
          <a:prstGeom prst="down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643280" y="1700280"/>
            <a:ext cx="4500720" cy="49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яет автора в тексте;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чевидец происходящего;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нимает участие в событиях;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ствует о них;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его помощью автор создает иллюзию достоверности событий;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му  доверена  авторская оценка событий и героев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ассказчик, не описывая внутреннее состояние героев, передает их переживания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через внешние проявления.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не возникали в комментарии речевые ошибки, связанные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втором сл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автор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мените его следующими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если текст публицистического сти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если текст художественного сти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имение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он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мил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а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920" y="549360"/>
            <a:ext cx="7274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Обратите внимание!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67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95280" y="1341360"/>
            <a:ext cx="8291160" cy="3815640"/>
            <a:chOff x="395280" y="1341360"/>
            <a:chExt cx="8291160" cy="3815640"/>
          </a:xfrm>
        </p:grpSpPr>
        <p:cxnSp>
          <p:nvCxnSpPr>
            <p:cNvPr id="127" name="_s41990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5609880" y="1797480"/>
              <a:ext cx="763920" cy="2902320"/>
            </a:xfrm>
            <a:prstGeom prst="bentConnector3">
              <a:avLst>
                <a:gd name="adj1" fmla="val 20792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130" name="_s41991"/>
            <p:cNvCxnSpPr>
              <a:stCxn id="131" idx="0"/>
              <a:endCxn id="129" idx="2"/>
            </p:cNvCxnSpPr>
            <p:nvPr/>
          </p:nvCxnSpPr>
          <p:spPr>
            <a:xfrm flipV="1">
              <a:off x="4541040" y="2867040"/>
              <a:ext cx="1440" cy="76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1992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707560" y="1797480"/>
              <a:ext cx="763920" cy="2902680"/>
            </a:xfrm>
            <a:prstGeom prst="bentConnector3">
              <a:avLst>
                <a:gd name="adj1" fmla="val 20792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129" name="_s41993"/>
            <p:cNvSpPr/>
            <p:nvPr/>
          </p:nvSpPr>
          <p:spPr>
            <a:xfrm>
              <a:off x="3296880" y="1341360"/>
              <a:ext cx="2487240" cy="15260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Любовь</a:t>
              </a:r>
              <a:endParaRPr b="1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33" name="_s41994"/>
            <p:cNvSpPr/>
            <p:nvPr/>
          </p:nvSpPr>
          <p:spPr>
            <a:xfrm>
              <a:off x="395280" y="3630960"/>
              <a:ext cx="2487240" cy="1526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 Матери</a:t>
              </a:r>
              <a:endParaRPr b="1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31" name="_s41995"/>
            <p:cNvSpPr/>
            <p:nvPr/>
          </p:nvSpPr>
          <p:spPr>
            <a:xfrm>
              <a:off x="3296880" y="3630960"/>
              <a:ext cx="2487240" cy="1526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 Родине</a:t>
              </a:r>
              <a:endParaRPr b="1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8" name="_s41996"/>
            <p:cNvSpPr/>
            <p:nvPr/>
          </p:nvSpPr>
          <p:spPr>
            <a:xfrm>
              <a:off x="6199200" y="3630960"/>
              <a:ext cx="2487240" cy="1526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 Женщине</a:t>
              </a:r>
              <a:endParaRPr b="1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5400000">
            <a:off x="3924360" y="1123560"/>
            <a:ext cx="1295280" cy="8785440"/>
          </a:xfrm>
          <a:custGeom>
            <a:avLst/>
            <a:gdLst>
              <a:gd name="textAreaLeft" fmla="*/ 0 w 1295280"/>
              <a:gd name="textAreaRight" fmla="*/ 467640 w 1295280"/>
              <a:gd name="textAreaTop" fmla="*/ 228960 h 8785440"/>
              <a:gd name="textAreaBottom" fmla="*/ 8556480 h 878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76360" y="6334200"/>
            <a:ext cx="6753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должна быть ЕДИНСТВЕННОЙ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понимаете мысль деда о звездах и надежде на звездное неб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Звезда – это победа, успех, дост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м парадоксальность мысли предложении: «Дед, я, наверное, старею, мне хочется быть счастливы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Внук: ХОЧУ быть счастливым; дед – УЖЕ счастлив (т.к. он стар); ХОЧУ счастья и ЕСТЬ счасть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для  рассказчика желание счастья ассоциируется только со старость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него молодость – время страданий, поисков и итогов. Он «ничего не понимает и во всем запутался». А дед мудр, умеет любить и знает все ответы, он жил интересной жизнью. Дед счастли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едлива ли самооценка, данная рассказчиком самому себе(пр.26-37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е любит ОНА; он сам себя НЕ любит: средний, серый;  да, рассказчик искренен, самокритич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каких полётах говорит дед в отв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ечта, окрыленность, успех, уверенность в себ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54936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Анализируем текст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44704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ем противопостав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отсю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ощущение одино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ощущение серости жизн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даже зрительно образы мышей, слонов, собаки – сер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противоречивые поиски собственного «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шмыгаю я, дед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мышь) – стремление быть мелким, незамет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я жизнь – ожидание кости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бака) – ожидание случайных знаков внимания любимой, подачек судьбы, недоверие к людя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1268280"/>
            <a:ext cx="1655640" cy="719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НОК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1268280"/>
            <a:ext cx="2737080" cy="1008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НЫ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2205000"/>
            <a:ext cx="2808360" cy="1079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А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2421000"/>
            <a:ext cx="1584360" cy="792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И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1557360"/>
            <a:ext cx="1439640" cy="216000"/>
          </a:xfrm>
          <a:prstGeom prst="leftRightArrow">
            <a:avLst>
              <a:gd name="adj1" fmla="val 50000"/>
              <a:gd name="adj2" fmla="val 1326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637000"/>
            <a:ext cx="1439640" cy="215640"/>
          </a:xfrm>
          <a:prstGeom prst="leftRightArrow">
            <a:avLst>
              <a:gd name="adj1" fmla="val 50000"/>
              <a:gd name="adj2" fmla="val 13290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"/>
          <p:cNvSpPr/>
          <p:nvPr/>
        </p:nvSpPr>
        <p:spPr>
          <a:xfrm flipH="1" rot="16200000">
            <a:off x="3779640" y="-387720"/>
            <a:ext cx="1368360" cy="7561080"/>
          </a:xfrm>
          <a:custGeom>
            <a:avLst/>
            <a:gdLst>
              <a:gd name="textAreaLeft" fmla="*/ -360 w 1368360"/>
              <a:gd name="textAreaRight" fmla="*/ 493560 w 1368360"/>
              <a:gd name="textAreaTop" fmla="*/ 196920 h 7561080"/>
              <a:gd name="textAreaBottom" fmla="*/ 7364160 h 75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81"/>
                </a:lnTo>
                <a:cubicBezTo>
                  <a:pt x="10800" y="9981"/>
                  <a:pt x="16200" y="10881"/>
                  <a:pt x="21600" y="10881"/>
                </a:cubicBezTo>
                <a:cubicBezTo>
                  <a:pt x="16200" y="10881"/>
                  <a:pt x="10800" y="11781"/>
                  <a:pt x="10800" y="1268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еречитаем ещё раз этот фрагмент и предложения 51-5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39)Моя жизнь – ожидание кости. (40)Иногда меня гладят, а я не знаю, что делать: лаять или лизать руку, которая гладит, а может уда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1)- К себе не подпускай, вешай объявления на стол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2)- Шутишь, дед, какие объяв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3)- Продаётся собачья шк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4)- А если придут за шку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5)- На вырученные деньги купишь скрип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6)- Зачем мне скрипка, де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7)- Станешь играть люб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аков иносказательный смысл советов де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ринимать подачки, не пресмыкаться и не озлобляться, сохранять чувство собственного достои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ть любовь подвиг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отверженности, самопожер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91280" y="4697280"/>
            <a:ext cx="295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9840" y="1125000"/>
            <a:ext cx="871380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едушка – отчий дом, родная деревня, отчиз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ация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мой остров, мой материк, моя Зем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вердая опора, спасительное убежищ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ратимся к вопросам. на которые внук так и не получил от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0)- Дедушка, есть осенние люди? (62)Дедушка, а кто они такие - осенние лю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дед не дал на них ответа, как, впрочем, и на ряд друг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считал, что внук САМ должен ду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размышлять, решать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мысла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определения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476280"/>
            <a:ext cx="8459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Как возникает в рассказе мотив ностальгии?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04000" y="4149720"/>
            <a:ext cx="2340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1640"/>
            <a:ext cx="5184720" cy="5256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651640" y="5157720"/>
            <a:ext cx="316548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кст</a:t>
            </a:r>
            <a:endParaRPr b="0" lang="en-US" sz="72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5)- Ой, дед, завидую я т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66)- Это не так уж и плохо, я интересно ж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7)- Дедушка, а как дальше мне, ч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68)Засыпая, я вновь услышал его гол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69)- Внук, так хочется, чтобы ты знал: дед твой жив! (70)Жив твой де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71)Я встал, открыл форточку и заорал на всю улицу, во всю ноч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72)- Люди, жив мой дед! (73)Мой умный, добрый, осенний дед! (74)Мой остров! (75)Моя Зем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в смысл 69-70 предложени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У рассказчика масса нерешенных проблем, и обращение к памяти, переосмысление сказанного дедом поможет ему  их решить: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втор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позиционный стык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иливают эту мысл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рительно размыкает рассказчик свой замкнутый мир после осознания этог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ткрытая форточка – окно в мир, к людям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дополняет данную мысль эта пара слов :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мыгаю – заор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Рассказчику захотелось быть услышанным, понятым, замеченн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1280" y="404640"/>
            <a:ext cx="750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Анализируем финал рассказа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ой умный, добрый, осенний дед!»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чит рассказчик. Следовательно, он уже нашел ответ на свои вопросы об «осенних» людях. Как можно истолковать эту метафор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удрый, всё изведавший, всё знающий: «Он учил меня любить, видеть, думать, хотел научить летать, но не успел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сень, пожалуй, и есть время ответов. Как и человеческая, с годами приходящая мудрост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ли уверенность в том, что внук научится лета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Безусловно. Дедовские уроки дадут силу и ему стать крылаты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ы: именно в юношеском возрасте человек начинает воспринимать и осмысливать состояние собственного «Я». И как важно, когда рядом мудрый наставник, который поможет разобраться в себе и окружающ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 использует психологический метод, основанный на идее движения, названный Чернышевским Н.Г.</a:t>
            </a: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 "диалектикой души"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ДИАЛЕКТИКА ДУШИ - понятие, которым обозначается детальное воспроизведение в художественном произведении процесса зарождения и последующего формирования мыслей, чувств, настроений, ощущений человека, их взаимодействия, развития одного из другого, показ самого психического процесса, его закономерностей и форм (перерастание любви в ненависть или возникновение любви из симпатии и т. 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Словарь литературоведческих терминов» под редакцией С.П.Белокуров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337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332000" y="3284640"/>
            <a:ext cx="66578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Пишем комментарий к проблеме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shutterstock_109682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987640" y="3933720"/>
            <a:ext cx="446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Вариант 1</a:t>
            </a:r>
            <a:endParaRPr b="1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сматривая проблему роли влияния взрослых на формирование личности подрост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втор обращает наше внимание на т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что главным событием рассказа становится перемена, которая происходит с рассказчиком. Мудрость деда  связана с осенью из воспоминаний подростка, и он не хочет отпускать ни осенних листьев из рук, ни память о деде из своей жизни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.Попов показыва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как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сказчик пытается объединить  эти два мир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прошлое и настоящее, чтобы найти ответы на самые важные вопросы  о любви, о цене собственной «шкуры», о том, как перестать «шмыгать» и сыграть на скрипке мелодию для любимой, озвучить которую достоин лишь тот, кто горит, подобно метеориту, кто не проживает дни в ожидании «к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втор неспроста подчеркивает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что дед стал для повествователя «отчизной»: самое доброе и нравственное закладывается в отчем доме, память о котором навсегда остается с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Алина 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картинки с шаттерстока\shutterstock_1096827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3643200" y="3571920"/>
            <a:ext cx="4214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Вариант 2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Данную проблему автор раскрывает с помощью диалог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ука и деда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ием противопоставления позволяет увиде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как расходятся мнения по важнейшим нравственным вопросам представителей двух поколений. Рассуждения героев помогают представить их психологический портрет. Дед – мудрый, полно и интересно проживший жизнь, знающий ответы на самые сложные вопросы, а внук – подросток, которому только предстоит их решать. Он пытается найти путь к людям и к  самому себе, однако ему мешает низкая самооценка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Метафоричность речи деда объясняется т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что он даёт возможность внуку поразмышлять над сказанным и самостоятельно принять решение, сделать выбор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ихаил 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shutterstock_11118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4716360" y="3357720"/>
            <a:ext cx="1511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ариант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омментируя данную проблему, хочется отмет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что она интересна и взрослым, и подросткам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втор так выстраивает диало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что читатель не может не видеть парадокса: обычно счастье и полноту жизни ощущают молодые, а грусть – люди старшего, «осеннего» возраста. Однако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.Попов обращает внимание читателя на то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что именно внук получает от деда уроки нравственности, оптимистического мироощущения. Очевидно, это одна из причин, по которой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сказчик испытывает глубокое уважение к своему близкому человеку и искреннее желание поделиться самым сокровенны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в надежде получить ответы на наболевши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втор показыва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как важно деду научить внука простым, но в тоже время сложным умениям по-настоящему любить, правильно оценивать себя и окружающих. Но истинная мудрость деда в том, что он не дает готовых рецептов, 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исателю, несомненно, симпатиче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от по-доброму ироничный г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Полина 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shutterstock_109682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2987640" y="3933720"/>
            <a:ext cx="446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Вариант 4</a:t>
            </a:r>
            <a:endParaRPr b="1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2920" y="0"/>
            <a:ext cx="8786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)Закружился в диком танце осени, спрятал под листвой дороги, перепутал всё на свете листопад. (2)Хорошо бродить, утопая в листве. (3)Хорошо набирать её полные руки, заставлять кружиться вновь и вновь, осыпая голову, плеч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)- Дедушка, скажи что-нибудь груст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)- Осенние лист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)- А грустне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7)- Осенние звёз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8)- Грустнее осенних звёзд быв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9)- Осенние пт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0)- Дедушка, есть осенние люд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1)Его давно нет на свете, моего деда, а как прижмёт, защемит, - забываю, что нет. (12)Мой добрый, мой умный дедушка живёт во мне. (13)Он мой остров, мой материк, мо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4)- Дедушка, есть второе дыхание, а любовь бывает вторая? (15)Ответь, дед, мне это очень ну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6)- Если ты мне скажешь: первая звезда, - я пойму. (17)Это начало счёта, это надежда на звёздное неб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8)- Дед, ну причём здесь звёздное небо? (19)Ты прямо ответь, бывает или н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0)- Если ты скажешь: первое блюдо, я пойму – хочешь кушать и надеешься на второе и третье. (21)Но когда говорят: первая любовь, - я не понимаю, что это? (22)Начало счёта или надежда на вторую и трет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3)- Дед, я, наверное, старею, мне хочется быть счастли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4)- Глупый ты ещё. (25)Пойми, внук. Маму, Родину, Любимую не нумер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6)- Дед, она не любит ме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блему роли взрослых в формировании личности подростка автор рассматривает на примере воспоминаний одного из героев расск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Комментируя её, нельзя не отметить мастерство А.Попова в передаче душевного состояния рассказчика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менно подтекст позволяет понять, что чувствует и переживает молодой человек.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втор подчеркивает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что диалоги с дедом, переосмысление сказанного им, помогли внуку разобраться в сложнейших нравственных и психологических проблемах: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етроспектива помогает увидеть диалектику души рассказч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Используя контраст  как композиционный прием, автор показа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как важно в юности иметь рядом счастливого человека, прожившего интересную жизнь, понявшего её смысл: внук учится у деда самоуважению, умению найти в этой жизни истинные ценности, правильные пути к любимой, окружающим людям.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.Попов дает читателю возможнос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верить в силу подобного влияния взрослого человека: «осенний» дед и его уроки всегда живы в памяти героя  рассказа.  Его внутреннее перерождение, возрождение уже нача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ергей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9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 к проблеме текст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если он следует за сформулированной проблемой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ен завершить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зи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котором изложена позиция автора текста по рассматриваемой пробл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024000" cy="4680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619280" y="549360"/>
            <a:ext cx="61927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ОБРАТИТЕ ВНИМАНИЕ!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745080" cy="5473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916360" y="3933720"/>
            <a:ext cx="5976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Благодарю за внимание!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771640" y="6510240"/>
            <a:ext cx="637236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Егораева Г.Т., ведущий методист издательства "Экзамен"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13840" y="142560"/>
            <a:ext cx="8929800" cy="67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7)- А ты сам как к себе относишь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8)- Плохо, дедушка, совсем плох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9)- А летать ты пробова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0)- Дед, средний я, серый, какие там полё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1)- Объясни, такого не поним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2)- Дедушка, ты не представляешь, как трудно быть средним. (33)Чувствовать себя щенком перед слонами и понимать – они это знают. (34)Сознавать себя собакой перед мышами и знать: они этого никогда не поймут. (35)Я ненавижу себя, иногда хочу стать мышью – их не обижают, они маленькие. (36)Шмыгаю я, д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7)- Она тебя замеч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8)- Никто я для неё. (39)Моя жизнь – ожидание кости. (40)Иногда меня гладят, а я не знаю, что делать: лаять или лизать руку, которая гладит, а может удар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1)- К себе не подпускай, вешай объявления на столб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2)- Шутишь, дед, какие объявл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3)- Продаётся собачья шк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4)- А если придут за шкур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5)- На вырученные деньги купишь скрип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6)- Зачем мне скрипка, дед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7)- Станешь играть люб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8)У меня нет родной деревни – мне некуда ехать, у меня нет отчего дома. (49)Моя отчизна – мой дедушка, его слова, его мысли. (50)Он учил меня любить, видеть, думать, хотел научить летать, но не успе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1)Мы ходили с ним среди сосен и смотрели в небо.(52) Дед говорил о каждой звезде, а ещё мой дедушка был влюблён в луну. (53)Он знал о ней всё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2920" y="213840"/>
            <a:ext cx="878688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4)Как-то сказ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5)- Одни учёные утверждают: лунные кратеры – остатки потухших вулканов, другие доказывают – следы метеоритов. (56)Я уверен, лунные кратеры – застывшие взгляды великих. (57)Вот очи Пушкина, а здесь глаза Блока, дальше – взор Бунина, а прямо перед тобой - Маяковского. Луна – музей любви человека. (58)Но чтобы попасть в этот музей, нужно любить так, чтобы сгорать, как метеорит, с ума сходить, как вулка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9)- Не получается у меня, д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0)- Что не получае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1)- Ничего не понимаю, во всём запутался. (62)Дедушка, а кто они такие - осенние люди? (63)Может, я и есть осенн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4)- Нельзя мне все вопросы решать за тебя, есть такие, на которые ответишь только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5)- Ой, дед, завидую я т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6)- Это не так уж и плохо, я интересно ж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7)- Дедушка, а как дальше мне, что дел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8)Засыпая, я вновь услышал его голо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9)- Внук, так хочется, чтобы ты знал: дед твой жив! (70)Жив твой де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71)Я встал, открыл форточку и заорал на всю улицу, во всю ноч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72)- Люди, жив мой дед! (73)Мой умный, добрый, осенний дед! (74)Мой остров! (75)Моя Земл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По А.Попов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4680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основные вопросы, о которых беседовали герои расск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мироощу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самооце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достои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смысле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3164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404640"/>
            <a:ext cx="7993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Работаем над содержанием текст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3527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проблемы поднимает автор в тексте?  (На какие вопросы автор отвечает данным текстом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Бережного отношения к памяти о своём прошлом; человеческих взаимоотношений; нравственного выбора; смысла жизни; роли взрослых в формировании личности; ответственности за другого человек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из перечисленных проблем основная? Выстройте цепочку ваших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ссказ – это воспоминание повествователя об уроках, преподанных дедом, следовательно, на одно из первых мест выходит проблема бережного отношения к памяти о своём прошлом. Однако тогда следует спросить, почему рассказчик помнит деда, считает его своим «отчим домой», своей «отчизной»? Ответ очевиден: всё, чего достиг и достигнет внук, произошло благодаря влиянию деда, его мудрым и ироничным советам. Следовательно, основная проблема – роль взрослых в формировании личности подростка (в воспитании нравственных черт характера подрост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549360"/>
            <a:ext cx="7274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Определяем основную проблему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3904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2472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абзац – ретроспектива или настоящее геро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корее всего, это настоящее: оно помогает рассказчику вернуть, воссоздать ту, ушедшую осень, когда рядом был д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Это ретроспектива: одиночество рассказчика прочитывается уже в первом абзаце. Да и содержание начала диалога доказывает эту мысль: внук просит деда сказать что-нибудь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стно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рассказчику грустн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страиваем цепочку взаимосвяз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)  Грусть         неразделенная любовь          рассказчик средний, се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н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стья, звезды, птицы – уход, холод, прощание; мотив одиноч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Осенни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ди в понимании рассказчика дополнят, усилят самое «печальное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Вероятно, да. Он  сам продолжает ряд этой метафоро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32000" y="333360"/>
            <a:ext cx="596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Анализируем первый абзац текст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393372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393372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9:00:01Z</dcterms:created>
  <dc:creator>Вера</dc:creator>
  <dc:description/>
  <dc:language>en-US</dc:language>
  <cp:lastModifiedBy>Пользователь</cp:lastModifiedBy>
  <dcterms:modified xsi:type="dcterms:W3CDTF">2014-06-07T06:16:19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41049</vt:lpwstr>
  </property>
</Properties>
</file>