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98C7-99F9-4C28-8457-283054EC9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1AAD-E9ED-44D6-8C57-652B62F1C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BC2E-E036-4795-BC69-4DC6AA35C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2364-ECFB-4EB0-8532-49A9DA3C6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EA72-0739-493B-9E6D-BC2647005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A40B-AF8B-41A3-8407-46BAE7BE6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0FE5-35DE-44D7-812B-521B77B02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BBFD-0001-457E-B911-3B6E797C1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ACA0-A83B-46D4-839B-4AA3BE4DC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CC2B-04D6-48B0-BEB8-5C4FB6FB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000C-B96C-494A-891A-6B1EC4546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C39F-B10F-426B-A942-C593D2EE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CA048-CB3B-4C9B-B1B0-AB63BCB702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5028840"/>
            <a:ext cx="7772400" cy="1469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ГРЕЦИЯ И КРИТ В ЭПОХУ БРОНЗ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ревнейшая Гре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763120" cy="5257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читайте материал учебника на с. 118, изучите карту на с. 119 и ответьте на вопрос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какими морями омывается Греция с востока, юга и север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На каком полуострове находится Грец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 В какой части этого полуострова находится Грец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) Как называется самый большой остров в Эгейском мор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) Где возникли первые европейские города: на Крите или на Балканском полуостров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) Почему история Древней Греции лучше известна чем история стран Древнего Восто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2819520" cy="2133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рода Древней Гре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871720" y="0"/>
            <a:ext cx="6272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01812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19920" y="0"/>
            <a:ext cx="312408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чало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ыс. до н. э. – появление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хейце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, но в это время уже была цивилизация на о.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ри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3200400" cy="3810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иф о Тесее и Минотавр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276720" y="0"/>
            <a:ext cx="5867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носский дворе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1609560"/>
            <a:ext cx="6458040" cy="52484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19920" y="1599840"/>
            <a:ext cx="3124080" cy="5257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читайте материал учебника на с. 121-122(128-130) и ответьте на вопрос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В чем состоят главные загадки Древней Греци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Как исчезла цивилизация на Крит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хейская Гре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343400" cy="5257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читайте материал учебника на с. 122-123 и ответьте на вопрос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 назывался главный город ахейце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то переняли ахейцы у жителей Кри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 называется изображение на этом слайде? С какие археологическими находками оно связан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то такое Троянская войн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 была разрушена цивилизация ахейце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962600" y="1600200"/>
            <a:ext cx="41814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05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22, все вопросы к параграф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оанализировать документ после параграф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4-01-08T12:12:22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