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D12-3FBB-4C55-9AE2-3821B204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E82-25B1-4E19-B253-316DB789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5B0-2AE9-4C6C-8ACA-6005D70A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3EA-B0C9-4A51-B93F-9E6DC4D0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05E-ADEB-48EA-91BA-1C69B31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1E2-3334-462B-979B-C82EAAE5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B1B-7608-4ADC-91AD-AD51BCD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70F-3A43-45E3-BF75-C603AFF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F34-6A2D-4AD7-ACC0-C2C9BB9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ACC-AC26-4C0B-813E-3D1D3667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0EA-8A66-497B-B12A-8BE31C2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129-313B-4D6A-98E1-6AFD5CD1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16E-C616-4156-8978-00D39FD52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02884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ГРЕЦИЯ И КРИТ В ЭПОХУ БРОН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ая Гр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18, изучите карту на с. 119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какими морями омывается Греция с востока, юга и сев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На каком полуострове находится Гре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В какой части этого полуострова находится Гре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Как называется самый большой остров в Эгейском м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Где возникли первые европейские города: на Крите или на Балканском полуостро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Почему история Древней Греции лучше известна чем история стран Древнего Вос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а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871720" y="0"/>
            <a:ext cx="62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8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с. до н. э. – появл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хейц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но в это время уже была цивилизация на о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200400" cy="381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ф о Тесее и Минотав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осский д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609560"/>
            <a:ext cx="6458040" cy="5248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21-122(128-130)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В чем состоят главные загадки Древней Грец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Как исчезла цивилизация на Кр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хейская Гр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22-123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лся главный город ахей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ереняли ахейцы у жителей Кр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ется изображение на этом слайде? С какие археологическими находками он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Троянская вой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была разрушена цивилизация ахей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62600" y="1600200"/>
            <a:ext cx="418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2, все вопросы к парагр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анализировать документ посл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08T12:12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