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1E0-D132-4594-8F9E-E686BABF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D292-ADA3-4278-B2E5-74B52A65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A19-60C9-4355-AA1C-71605F5D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CECB-D4A0-4C4D-B074-5CF13AB22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62D0-2810-44D4-97EE-D7E61D4E3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C3EF-EAFB-495C-B0BE-7A25A8C0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451-7EB3-4B94-BE8C-8C4D29A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C182-2FFC-462E-913B-06CF8D8C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8BE9-7B90-412C-81FF-2C08593B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F1BC-F886-4ECC-AD78-7182DB9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A90B-6511-4CDB-83FE-3680E5A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33F6-4DCA-434E-8AD4-9451BD74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1867-D508-4FEE-AEC8-43AEF3ED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2CA-5026-4FCC-AD4D-67B01FB0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02F1-36E0-49E4-8766-8D90854F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9FDE-5EA8-45B0-AB20-3E514C67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3C3E-D5B4-47EC-BD41-47A5A8BF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854737-EC62-405D-8167-3D867FD3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01D46-BC75-4FF0-9DF7-DE71E8E1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0BD05-129F-45DF-A5E2-5E1A4B11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ECB1B-3906-4136-894F-DEF86F8A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BF2B17-A6BA-4EF9-B47D-7632D6FD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A63-6E11-4642-9335-D79BCB7B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CD139-8ADB-4AAC-9C02-24A46F0F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37867-3AB6-4FB5-B633-A5B0804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C0421-7FEF-4C12-80F1-FFD835BD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2D8FA-71FF-471D-90B5-70347C3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2CEEF-DC14-4A0B-9731-7FFBE32B1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3720A1-505B-4E03-818A-BF12E7DD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858C9-56CE-4EF3-8904-8764BC11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6EB2-763F-4EAC-8BA5-C66D94F7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16567-4654-4B79-A916-8C936D36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DC7EB-5D90-4381-AF48-DAE1BC1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46F-7D64-4DA9-B547-B0AE0752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C3D4-8727-42EA-ABDE-E56C8143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6C408-E0C0-419F-948E-BD53C52A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B38CE-E27D-4D62-A9B1-84F49D77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C1EFB-B4C5-4ED5-B9E5-4F8FAA5B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86B2-7341-49FC-A3A0-2FDB563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8AEE-75A5-4348-8DF0-C8D28921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8CCF8-0F93-4083-B9B4-01CF312C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92D98-9397-4012-9D39-D2190A1B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D79D-506A-45C6-89E5-C196062C2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4588-F52B-468C-993C-FE9149F2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A24-0623-4DCA-8F55-5262FA23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EA5-F371-45C4-8A20-D008015C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C381-C6AC-4890-8BA8-68BC228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541-A577-4F85-8C28-EB354233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1F967-2925-4665-8556-4028DF87CE3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e400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e4005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2F98-0582-46FF-BA8C-E6FA94698689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95BC-52EB-4C9C-B534-4AFC755523FB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e4005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e4005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9c007f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e4005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4005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6A62-8F1A-4EE0-B654-037DD7F6CE0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Графика\Осень2\Osen.2009.JPEG\Image_1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20840" y="1695600"/>
            <a:ext cx="8242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Скругленный прямоугольник 5"/>
          <p:cNvSpPr/>
          <p:nvPr/>
        </p:nvSpPr>
        <p:spPr>
          <a:xfrm>
            <a:off x="2071800" y="1928880"/>
            <a:ext cx="4500360" cy="9144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Ком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кругленный прямоугольник 6"/>
          <p:cNvSpPr/>
          <p:nvPr/>
        </p:nvSpPr>
        <p:spPr>
          <a:xfrm>
            <a:off x="500040" y="4357800"/>
            <a:ext cx="3714840" cy="9144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Тексту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7"/>
          <p:cNvSpPr/>
          <p:nvPr/>
        </p:nvSpPr>
        <p:spPr>
          <a:xfrm>
            <a:off x="4714920" y="4357800"/>
            <a:ext cx="3786120" cy="914400"/>
          </a:xfrm>
          <a:prstGeom prst="roundRect">
            <a:avLst>
              <a:gd name="adj" fmla="val 16667"/>
            </a:avLst>
          </a:prstGeom>
          <a:solidFill>
            <a:srgbClr val="ff388c"/>
          </a:solidFill>
          <a:ln w="19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Концептуа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Прямая со стрелкой 9"/>
          <p:cNvCxnSpPr/>
          <p:nvPr/>
        </p:nvCxnSpPr>
        <p:spPr>
          <a:xfrm flipH="1">
            <a:off x="2071440" y="2857320"/>
            <a:ext cx="1429200" cy="150084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  <p:cxnSp>
        <p:nvCxnSpPr>
          <p:cNvPr id="220" name="Прямая со стрелкой 11"/>
          <p:cNvCxnSpPr/>
          <p:nvPr/>
        </p:nvCxnSpPr>
        <p:spPr>
          <a:xfrm>
            <a:off x="5356800" y="2857320"/>
            <a:ext cx="1143720" cy="1500840"/>
          </a:xfrm>
          <a:prstGeom prst="straightConnector1">
            <a:avLst/>
          </a:prstGeom>
          <a:ln w="38160">
            <a:solidFill>
              <a:srgbClr val="ff388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Trebuchet MS"/>
              </a:rPr>
              <a:t>Текстуальный комментарий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00040" y="19285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e90062"/>
                </a:solidFill>
                <a:latin typeface="Georgia"/>
              </a:rPr>
              <a:t>Учащийся объясняет текст, как бы следуя за автором, отвечая на вопросы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Что делает автор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исходного текста, предлагая на обсуждение читательской аудитории ту или иную проблему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На какие аспекты этой проблемы он обращает прежде всего внимание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Что особенно волнует (тревожит) пишущего при изложении этой проблемы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(что он подчеркивает, выделяет)?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</a:rPr>
              <a:t>Пример текстуального комментария</a:t>
            </a:r>
            <a:endParaRPr b="0" lang="en-US" sz="36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роблему лени автор раскрывает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на примере жизни одного из своих героев.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Писатель обращает внимание читателя на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давнюю неразрывную «связь» жизни героя с ленью.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Автор отмечает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что лень властвует, господствует над героем, превращая его в своего пленника, заложника.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Чехов подчеркивает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что его персонаж,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с одной стороны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прекрасно понимает, что именно «моя она» – причина всех его несчастий;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с другой стороны, указывает автор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его герой и не пытается хотя бы каким-то образом противостоять этому пороку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</a:rPr>
              <a:t>Типовые конструкции, помогающие написать комментарий</a:t>
            </a:r>
            <a:endParaRPr b="0" lang="en-US" sz="3600" spc="-1" strike="noStrike">
              <a:solidFill>
                <a:srgbClr val="666666"/>
              </a:solidFill>
              <a:latin typeface="Trebuchet MS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2249640"/>
          <a:ext cx="8229600" cy="3931920"/>
        </p:xfrm>
        <a:graphic>
          <a:graphicData uri="http://schemas.openxmlformats.org/drawingml/2006/table">
            <a:tbl>
              <a:tblPr/>
              <a:tblGrid>
                <a:gridCol w="971640"/>
                <a:gridCol w="3500280"/>
                <a:gridCol w="3757680"/>
              </a:tblGrid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ссказы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общ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онцентрирует внимание чит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черки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ращает наше вним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деля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меч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казывает 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мышляет над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водит одно из определ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казывает  интересное предпол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чину (чего) видит (в чем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собо останавливается на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нализирует (характеризует, описывает, разбирае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однократно возвраща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дробно коммент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траги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качается (чег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сылается 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ллюстрир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иводит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rebuchet MS"/>
              </a:rPr>
              <a:t>Типовые конструкции, помогающие написать комментарий к проблеме, поднятой в </a:t>
            </a:r>
            <a:r>
              <a:rPr b="1" lang="ru-RU" sz="3200" spc="-1" strike="noStrike">
                <a:solidFill>
                  <a:srgbClr val="666666"/>
                </a:solidFill>
                <a:latin typeface="Trebuchet MS"/>
              </a:rPr>
              <a:t>полемической</a:t>
            </a:r>
            <a:r>
              <a:rPr b="0" lang="ru-RU" sz="3200" spc="-1" strike="noStrike">
                <a:solidFill>
                  <a:srgbClr val="666666"/>
                </a:solidFill>
                <a:latin typeface="Trebuchet MS"/>
              </a:rPr>
              <a:t> статье</a:t>
            </a:r>
            <a:endParaRPr b="0" lang="en-US" sz="3200" spc="-1" strike="noStrike">
              <a:solidFill>
                <a:srgbClr val="666666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2249640"/>
          <a:ext cx="8229600" cy="4206600"/>
        </p:xfrm>
        <a:graphic>
          <a:graphicData uri="http://schemas.openxmlformats.org/drawingml/2006/table">
            <a:tbl>
              <a:tblPr/>
              <a:tblGrid>
                <a:gridCol w="1685880"/>
                <a:gridCol w="654372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Ав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лемизирует  (спорит) с кем по какому вопрос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озражает кому в связи с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е соглашается с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риц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виняет кого в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облачает 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оглашается с к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разделяет мнение к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тстаивает ч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оказыв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беждает кого в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равнивает (сопоставляет) что с ч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тивопоставляет что че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66"/>
                </a:solidFill>
                <a:latin typeface="Trebuchet MS"/>
              </a:rPr>
              <a:t>Концептуальный комментарий</a:t>
            </a:r>
            <a:endParaRPr b="0" lang="en-US" sz="40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92852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e90062"/>
                </a:solidFill>
                <a:latin typeface="Georgia"/>
              </a:rPr>
              <a:t>Учащийся, опираясь на понимание проблемы исходного текста, дает различного рода интерпретации этой проблемы. Вы как бы «пропускаете» проблему текста через свое восприятие и высказываетесь по ней. Чаще всего экзаменуемые в концептуальном комментарии пишут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об актуальности проблемы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водят различные мнения по заявленной автором проблеме (новая эта проблема или одна из «вечных»; если новая – что послужило причиной ее возникновения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9c007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66"/>
                </a:solidFill>
                <a:latin typeface="Trebuchet MS"/>
              </a:rPr>
              <a:t>Пример концептуального  комментария</a:t>
            </a:r>
            <a:endParaRPr b="0" lang="en-US" sz="3600" spc="-1" strike="noStrike">
              <a:solidFill>
                <a:srgbClr val="66666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Лень… Действительно, какое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«поэтичное» 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слово! Кто из нас не знаком с ней?! Не случайно и называют ее часто «матушкой-ленью». Наверное, каждый из нас, читая чеховский текст, невольно проводит параллель с собой. Как же трудно порой оторвать себя от экрана компьютера и сесть за выполнение домашнего задания! Как трудно заставить себя что-то сделать заблаговременно: постоянно находятся «отговорки», что это можно сделать завтра. Практически ежедневно каждому из нас приходится бороться с ней, коварной, или, к сожалению, </a:t>
            </a:r>
            <a:r>
              <a:rPr b="1" i="1" lang="ru-RU" sz="2600" spc="-1" strike="noStrike">
                <a:solidFill>
                  <a:srgbClr val="000000"/>
                </a:solidFill>
                <a:latin typeface="Georgia"/>
              </a:rPr>
              <a:t>как и чеховскому герою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, уступать 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ued Acer Customer</cp:lastModifiedBy>
  <dcterms:modified xsi:type="dcterms:W3CDTF">2010-07-19T17:52:25Z</dcterms:modified>
  <cp:revision>43</cp:revision>
  <dc:subject/>
  <dc:title>Слайд 1</dc:title>
</cp:coreProperties>
</file>