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284-2427-474E-A467-F4432518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87E-5B3A-410B-93E1-68AD72F9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17A-7020-439A-8CDD-7CD0C5C1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A02-2C78-420B-B826-6944541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79C-3894-4C13-AF6F-96C0AB18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8DF-41BA-41BC-9316-1BF76D7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804-ED0C-46EE-9775-9669B62D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7452-3265-4045-9223-5E7873F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C900-C187-423D-8BFA-13323DE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7E43-EFD2-4799-B0A5-09DC042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539-C4C1-4835-9816-3148E73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564-CD82-425D-8301-D9AF78B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95ED-71DD-46DB-B9F1-2A21B664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843C-0E0F-44AD-BC7F-3930296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F259-A126-4598-8584-05CFAAE4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4488-E6CB-4A71-AA5F-91E9462D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0990-C80B-4D81-83F5-4B268A92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88B6A-DC4A-41E0-B705-7DEFB7EA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5533C-BD4E-452F-80B8-8565E87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F3AE9-FC43-43B7-9724-37687A75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37F66-88AE-4001-A432-09830EBB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33CD9-90F1-4BD0-83B8-3632454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349-2FAD-418E-A8DE-52AF5AC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2F8BC-12B2-4453-81E2-1B9C563F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7816A-F6D0-48E0-B418-8BD59A6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6C60-2C58-46D0-98A9-DBEA391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91DA9-5FA8-48FD-8399-6014CB0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6DD8E-3053-4860-9A81-291DCD5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A78F8-0BD9-400D-A212-4E6AF72E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28F79-CFE7-4922-9EE9-ACA9888D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1356-FF25-46CC-B1C7-94AA9CB9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3467-B532-444F-9721-37DC478B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9FD18-5492-4DC6-9822-89EE99B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ED9-8169-4CEA-A19D-EA16642E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0D9A-FCBD-4327-8A8C-EF273F45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FA6C-2B44-48C3-8CE2-B1311D5A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D4F2-83CA-456D-AAF6-C58C2C8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E1D3-FDF2-4705-8FB6-322041A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2BBC-61D6-4F61-8E7A-2DC8058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8C19-E291-4F3C-966D-23945AE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11A7-AC19-4350-A40E-7ECF735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C027-3B61-44F0-8667-A25F1C71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9BC1-D1F9-489A-8CD3-036712DE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85C-9EB5-481D-BE4C-9ED2849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077-7634-425E-923A-7088F7F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E94-2FB6-4E0F-A483-A312FB0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F19-FAA5-4014-861B-6A1D00C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75F-489E-4F63-AFD5-EEB8AF3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03C1-4D28-46CE-80F0-87625673180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400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759-3541-409B-BB14-AFBFC04AE3D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F706-3E6A-4191-9AAB-CAA94AC37ED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D8A4-DA6F-42DA-A769-1CD1E00678F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Графика\Осень2\Osen.2009.JPEG\Image_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20840" y="1695600"/>
            <a:ext cx="8242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5"/>
          <p:cNvSpPr/>
          <p:nvPr/>
        </p:nvSpPr>
        <p:spPr>
          <a:xfrm>
            <a:off x="2071800" y="1928880"/>
            <a:ext cx="450036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Ком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500040" y="4357800"/>
            <a:ext cx="371484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Текс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4714920" y="4357800"/>
            <a:ext cx="378612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онцеп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9"/>
          <p:cNvCxnSpPr/>
          <p:nvPr/>
        </p:nvCxnSpPr>
        <p:spPr>
          <a:xfrm flipH="1">
            <a:off x="2071440" y="2857320"/>
            <a:ext cx="1429200" cy="150084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220" name="Прямая со стрелкой 11"/>
          <p:cNvCxnSpPr/>
          <p:nvPr/>
        </p:nvCxnSpPr>
        <p:spPr>
          <a:xfrm>
            <a:off x="5356800" y="2857320"/>
            <a:ext cx="1143720" cy="150084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Trebuchet MS"/>
              </a:rPr>
              <a:t>Текстуальный комментарий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9285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e90062"/>
                </a:solidFill>
                <a:latin typeface="Georgia"/>
              </a:rPr>
              <a:t>Учащийся объясняет текст, как бы следуя за автором, отвечая на вопрос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Что делает автор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ходного текста, предлагая на обсуждение читательской аудитории ту или иную проблему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На какие аспекты этой проблемы он обращает прежде всего внимани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Что особенно волнует (тревожит) пишущего при изложении этой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(что он подчеркивает, выделяет)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Пример текстуального комментария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роблему лени автор раскрывает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на примере жизни одного из своих героев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исатель обращает внимание читателя на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авнюю неразрывную «связь» жизни героя с ленью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Автор отмечает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что лень властвует, господствует над героем, превращая его в своего пленника, заложника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Чехов подчеркивает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что его персонаж,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 одной стороны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прекрасно понимает, что именно «моя она» – причина всех его несчастий;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 другой стороны, указывает автор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его герой и не пытается хотя бы каким-то образом противостоять этому порок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Типовые конструкции, помогающие написать комментарий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249640"/>
          <a:ext cx="8229600" cy="3931920"/>
        </p:xfrm>
        <a:graphic>
          <a:graphicData uri="http://schemas.openxmlformats.org/drawingml/2006/table">
            <a:tbl>
              <a:tblPr/>
              <a:tblGrid>
                <a:gridCol w="971640"/>
                <a:gridCol w="3500280"/>
                <a:gridCol w="3757680"/>
              </a:tblGrid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сказ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общ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центрирует внимание чит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черки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ращает наше 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дел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ме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казывает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мышляет над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водит одно из опред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ет  интересное пред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чину (чего) видит (в ч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обо останавливается н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ирует (характеризует, описывает, разбира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однократно возвращ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робно коммен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траги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чается (че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сылается 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ллюстр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водит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rebuchet MS"/>
              </a:rPr>
              <a:t>Типовые конструкции, помогающие написать комментарий к проблеме, поднятой в </a:t>
            </a:r>
            <a:r>
              <a:rPr b="1" lang="ru-RU" sz="3200" spc="-1" strike="noStrike">
                <a:solidFill>
                  <a:srgbClr val="666666"/>
                </a:solidFill>
                <a:latin typeface="Trebuchet MS"/>
              </a:rPr>
              <a:t>полемической</a:t>
            </a:r>
            <a:r>
              <a:rPr b="0" lang="ru-RU" sz="3200" spc="-1" strike="noStrike">
                <a:solidFill>
                  <a:srgbClr val="666666"/>
                </a:solidFill>
                <a:latin typeface="Trebuchet MS"/>
              </a:rPr>
              <a:t> статье</a:t>
            </a:r>
            <a:endParaRPr b="0" lang="en-US" sz="3200" spc="-1" strike="noStrike">
              <a:solidFill>
                <a:srgbClr val="66666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2249640"/>
          <a:ext cx="8229600" cy="4206600"/>
        </p:xfrm>
        <a:graphic>
          <a:graphicData uri="http://schemas.openxmlformats.org/drawingml/2006/table">
            <a:tbl>
              <a:tblPr/>
              <a:tblGrid>
                <a:gridCol w="1685880"/>
                <a:gridCol w="654372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лемизирует  (спорит) с кем по какому 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ражает кому в связи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соглашается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риц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виняет кого в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облачает 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глашается с к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яет мнение 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стаивает 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каз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беждает кого в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авнивает (сопоставляет) что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тивопоставляет что ч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Trebuchet MS"/>
              </a:rPr>
              <a:t>Концептуальный комментарий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9285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e90062"/>
                </a:solidFill>
                <a:latin typeface="Georgia"/>
              </a:rPr>
              <a:t>Учащийся, опираясь на понимание проблемы исходного текста, дает различного рода интерпретации этой проблемы. Вы как бы «пропускаете» проблему текста через свое восприятие и высказываетесь по ней. Чаще всего экзаменуемые в концептуальном комментарии пишу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 актуальности проблемы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водят различные мнения по заявленной автором проблеме (новая эта проблема или одна из «вечных»; если новая – что послужило причиной ее возникновения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Пример концептуального  комментария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Лень… Действительно, какое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«поэтичное»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слово! Кто из нас не знаком с ней?! Не случайно и называют ее часто «матушкой-ленью». Наверное, каждый из нас, читая чеховский текст, невольно проводит параллель с собой. Как же трудно порой оторвать себя от экрана компьютера и сесть за выполнение домашнего задания! Как трудно заставить себя что-то сделать заблаговременно: постоянно находятся «отговорки», что это можно сделать завтра. Практически ежедневно каждому из нас приходится бороться с ней, коварной, или, к сожалению,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как и чеховскому герою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уступать 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0-07-19T17:52:25Z</dcterms:modified>
  <cp:revision>43</cp:revision>
  <dc:subject/>
  <dc:title>Слайд 1</dc:title>
</cp:coreProperties>
</file>