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59C-8E73-4A16-AAD5-53E2E7F3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5D4-662B-439C-817A-D277A66C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88C-2360-429A-8828-DED03B14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B58-838F-4953-8B68-4289188B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ED26-FA4F-47D2-89C1-EEDD983F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FC92-6CC1-4F9B-BFA2-D4264E94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8BD2-97B0-4E43-99B4-2F3FA641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CEFE-B3E6-442B-B2E9-6768FC63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851D-E8EA-42B7-800C-F6086C1A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B213-01B5-453D-B1D4-AD746ABE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8026-B1C0-46CB-9A77-E70DA26C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377-AE80-4235-886E-8E808A81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7159-E0F2-4045-9923-B3970AB7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FBD0-087A-47A5-9740-F627F71F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3877-8EFD-4C80-B206-229BF2E1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661D-578B-496E-8729-20F7B431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CACA-F76E-4058-B7CB-6025B119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5B1-E46C-453D-BC8B-9427F5F6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636-D44B-4DFF-903A-AD0CCF3D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DDC-909A-41C2-955C-ABD9B754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D82-B851-455A-B005-F561A240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CF1-1D45-4C38-99F8-B8BA7F6A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4DF-EEDA-4B6F-8F85-9AB9C730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1CD-2895-49E8-8C23-9342D41F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6212-06B8-43BA-8E7F-2F183AA1A5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6257-0690-4D34-A00F-D6C8A6DB81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605a"/>
                </a:solidFill>
                <a:latin typeface="Arial"/>
              </a:rPr>
              <a:t>Консультация для родителей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87280" y="3886200"/>
            <a:ext cx="618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«Как быть здоровым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7062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нимание значения ЗОЖ для личного здоровья, хорошего самочувствия, успехов в занят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нание основных правил правильно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нание правил сохранения здоровья от простудных заболев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мение оказывать простейшую помощь при небольших порезах, ушиб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нание правил профилактики заболеваний позвоночника, стопы, органов зрения, слуха и друг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нимание значения двигательной активности для развития здорового орган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7062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ще очень важная проблема, связанная со здоровьем детей – это просмотр телевизора и пользование компьютером. Компьютер и телевизор, несомненно, полезны для развития кругозора, памяти, внимания, мышления, координации ребенка, но при условии разумного подхода к выбору игр и передач, а также непрерывного времени пребывания ребенка перед экраном, которое не должно превышать 3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ость физического воспитания детей в семье, доказать, что это очень серьёзная проблема в современном воспитании детей. Нас окружают машины, компьютеры, виртуальные игры - предметы, которые очень интересны нам, но как раз, из-за которых мы очень мало двигаемся. Современные дети видят больший интерес в виртуальной игре, чем в реальной игре в футбол или теннис. Главная болезнь ХХI века - гиподинамия, т.е. малоподви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7062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и считают заботу об укреплении здоровья детей делом важным, но лишь немногие по-настоящему используют для этого возможности физ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ическое воспитание - составная часть интеллектуального, нравственного и эстетического воспитания ребенка. Поэтому, необходимо приучать ребенка к спорту. Наблюдения показывают, что родители обычно активны и изобретательны в создании хороших бытовых условий, в заботе о том, чтобы дети были красиво одеты, вкусно и сытно накормлены.  Но чрезмерный комфорт и обильное питание при недостаточно активном двигательном режиме, ослабляют здоровье, уменьшают работоспособность.  Движение - основное проявление жизни, средство гармоничного развития ли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тельный малоподвижный образ жизни может привести к почти полному его угасанию. Не упустить время - вот главное, что надо знать родителям на этот сч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7062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ия спортом также помогают сложиться важным качествам личности: настойчивости в достижении цели, упорству; положительные результаты этих занятий благотворны для психического состояния детей, особенно если это совместные занятия детей и родителей.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акие занятия приносят положительн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обуждают у родителей интерес к уровню «двигательной зрелости» детей и способствуют развитию у детей двигательных навыков в соответствии с их возрастом и способност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глубляют взаимосвязь родителей 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озволяют с пользой проводить то свободное время, которое мать или отец посвящают ребенку, служат взаимообогащению, способствуют всестороннему развитию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ечательно, если родители учат ребенка, помогают ему и сами участвуют в соревнованиях и спортивных мероприятиях в детском саду. Спортивные интересы в такой семье становятся постоя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Подвижные игры: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ое значение для всестороннего, гармоничного развития ребенка имеют подвижные игры. Участие ребенка в игровых заданиях различной интенсивности позволяет осваивать жизненно важные двигательные умения в ходьбе, беге, прыжках, равновесии, лазанье, мет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6918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стью подвижной игры является комплексность воздействия на все стороны личности ребе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уществляется физическое, умственное, нравственное и трудов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ются все физиологические процессы в организме, улучшается работа всех органов и сис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вается умение разнообразно использовать приобретенные двигательные нав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6991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, увлеченные сюжетом игры, могут выполнять с интересом физические упражнения много раз, не замечая усталости. Увеличение нагрузки в свою очередь способствует повышению выносливост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Во время игры дети действуют в соответствии с правилами. Это  регулирует поведение играющих и помогает выработать положительные качества: выдержку, смелость, решительность и др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Изменение условий игры способствует развитию самостоятельности, активности, инициативы, творчества, сообразительности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6775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оровье - это счастье! Это когда ты весел и все у тебя получается. Здоровье нужно всем - и детям, и взрослым, и даже живот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4360" y="1700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 желаем Вам быть здоровы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605a"/>
                </a:solidFill>
                <a:latin typeface="Arial"/>
              </a:rPr>
              <a:t>СПАСИБО!</a:t>
            </a:r>
            <a:endParaRPr b="0" lang="en-US" sz="48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«Здоровый образ жизни в семье»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родители хотят, чтобы их ребенок рос здоровым, сильным, крепким, выносливым. Но очень  часто забывают о том, что хорошие физические данные обусловлены тем образом жизни, который ведет семья, двигательной активностью ребенка. Результаты последних исследований подтверждают, что в современном  высокотехнологичном  обществе необходимо будет уделять гораздо больше внимания «зож», физическому развитию человека, поскольку становится все меньше стимулов для естественного движения. Мы живем в экономно построенных квартирах, темп современной жизни вынуждает нас часто пользоваться личным или городским транспортом, получать информацию с помощью радио, телевидения, интернета - все это требует крепкого здоровья. Учеба и сидячая работа обусловливают необходимость двигательной компенсации - с помощью занятий физкультурой и спортом, игр, активного отдыха. В связи с этим мы обязаны научить наших детей  своевременно и полностью использовать благотворное воздействие физических упражнений - как жизненную необходимость в противовес « болезням цивилизац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0605a"/>
                </a:solidFill>
                <a:latin typeface="Arial"/>
              </a:rPr>
              <a:t> </a:t>
            </a:r>
            <a:r>
              <a:rPr b="1" i="1" lang="en-US" sz="3600" spc="-1" strike="noStrike">
                <a:solidFill>
                  <a:srgbClr val="30605a"/>
                </a:solidFill>
                <a:latin typeface="Arial"/>
              </a:rPr>
              <a:t>«Берегите здоровье смолоду!»</a:t>
            </a: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Берегите здоровье смолоду!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- эта пословица имеет глубокий смысл. Формирование здорового образа жизни должно начинаться с рождения ребенка для того чтобы у человека уже выработалось осознанное отношение к своему здор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вия, от которых зависит формирования личности ребенка, а также его здоровье, закладываются в семье. То, что прививают ребенку с детства в семье, определяет всё его дальнейшее поведение в жизни, отношение к себе, своему здоровью и здоровью окруж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этому родители должны сами воспринять философию ЗОЖ и вступить на путь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ует правило: "Если хочешь воспитать своего ребенка здоровым, сам иди по пути здоровья, иначе его некуда будет вести!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0605a"/>
                </a:solidFill>
                <a:latin typeface="Arial"/>
              </a:rPr>
              <a:t>Понятие о здоровом образе жизни включает в себя много аспектов: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-первых, соблюдение режима дня. В детском саду режим соблюдается, а вот дома не всегда.  Необходимо объяснить детям, что нужно  рано ложиться и рано вставать. И неукоснительно соблюдать это прав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-вторых, это культурно-гигиенические навыки. Дети должны уметь правильно умываться, знать, для чего это надо 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месте с детьми рассматривайте ситуации защиты от микробов и делайте вывод, который дети должны хорошо усвоить: не есть и не пить на улице; всегда мыть руки с мылом, вернувшись с улицы, перед едой, после туалета. Вместе с детьми посчитайте, сколько раз в день им приходится мыть ру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69181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-третьих, , культур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ужно есть больше овощей и фруктов. Рассказать детям, что в них много витаминов А, В, С, Д, в каких продуктах они содержатся и для чего нуж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итамин А - морковь, рыба, сладкий перец, яйца, петрушка. Важно для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итамин В - мясо, молоко, орехи, хлеб, курица, горох (для сердц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итамин С - цитрусовые, капуста, лук, редис, смородина (от прост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итамин Д - солнце, рыбий жир (для косточе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-четвертых, это гимнастика, занятия спортом, закаливание и подвижные игры. Если человек будет заниматься спортом, он проживет дольше. "Береги здоровье смолоду". Дети должны знать, почему так говорят. Обязательно ежедневно проводить гимнаст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69181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и множества факторов, оказывающих влияние на рост, развитие и состояние здоровья ребёнка, двигательной активности принадлежит основная роль. От степени развития естественной потребности ребенка в движении во многом зависят развитие двигательных навыков, памяти, восприятия, эмоции, мышления. Поэтому очень важно обогащать двигательный опыт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7129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ошкольном возрасте ребенок еще не способен осознанно и адекватно следовать элементарным нормам гигиены и санитарии, выполнять требования ЗОЖ, заботиться о своем здоровье. Все это выдвигает на первый план задачу перед родителями по  выработке у маленького ребенка умений и навыков, способствующих сохранению своего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условно, здоровье детей напрямую зависит от условий жизни в семье, санитарной грамотности, гигиенической культуры родителей и уровня их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правило, у нас, взрослых, возникает интерес к проблеме воспитания привычки к здоровому образу жизни лишь тогда, когда ребёнку уже требуется психологическая или медицинская помощь. Готовность к здоровому образу жизни не возникает сама собой, а формируется у человека с ранних лет, прежде всего внутри семьи, в которой родился и воспитывался реб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Основная задача родителей!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ой задачей для родителей является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формирование у ребенка нравственного отношения к своему здоровью, которое выражается в желании и потребности быть здоровым, вести ЗОЖ. Он должен осознать, что здоровье для человека важнейшая ценность, главное условие достижения любой жизненной цели, и каждый сам несет ответственность за сохранение и укрепление своего здоровья. В этом ничто не может заменить авторитет взрос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ашний режим дошкольника – одна из важных составляющих семейного воспитания, позволяющих сохранять высокий уровень работоспособности, отодвинуть утомление и исключить переутомление. Семья организует рациональный домашний режим  - он должен соответствовать режиму в дошкольном учрежд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69181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уя здоровый образ жизни ребенка, родители должны привить ребенку основные знания, умения и навы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нание правил личной гигиены, гигиены помещений, одежды, обув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мение правильно строить режим дня и выполнять 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мение взаимодействовать с окружающей средой: понимать, при каких условиях (дом, улица, дорога, парк, детская площадка безопасна для жизни и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умение анализировать опасные ситуации, прогнозировать последствия и находить выход из 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знание основных частей тела и внутренних органов, их расположение и роль в жизнедеятельности организма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6T08:13:44Z</dcterms:created>
  <dc:creator>Настя</dc:creator>
  <dc:description/>
  <dc:language>en-US</dc:language>
  <cp:lastModifiedBy>Вася</cp:lastModifiedBy>
  <dcterms:modified xsi:type="dcterms:W3CDTF">2017-01-17T16:35:14Z</dcterms:modified>
  <cp:revision>5</cp:revision>
  <dc:subject/>
  <dc:title>Консультация для родителей</dc:title>
</cp:coreProperties>
</file>