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6E7-D876-4EB4-860E-C45B8EA3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E74-C97E-4FB6-A821-11DE54E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039-AA20-485B-A874-A8EC4B3E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A28-0929-44F9-8EE8-3A443DA5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2F4-4558-41AA-A006-55270204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BC5-CFDD-42BF-8A42-484D7CE5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3A5-5BBE-4B03-BF44-85451FC5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707-4391-43D1-BA75-A58F877A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02E-8D85-4FA1-8AC4-5079107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7D5-8641-4072-96CB-CA406F2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514-4BD7-44D2-B8FE-33BF3167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C8C-8FF3-4278-8E0D-4D85F5F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04EC-05B4-4091-87EF-BA9BFC51A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7172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33"/>
                </a:solidFill>
                <a:latin typeface="Times New Roman"/>
              </a:rPr>
              <a:t>Использование понятий равновеликости и равносоставленности в геомет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392904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удентка 6 курса ОЗ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жумова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тор физ.-мат. на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ор кафед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ей мате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ых Алла  Ефим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ompass_drawing_circle"/>
          <p:cNvPicPr/>
          <p:nvPr/>
        </p:nvPicPr>
        <p:blipFill>
          <a:blip r:embed="rId1"/>
          <a:stretch/>
        </p:blipFill>
        <p:spPr>
          <a:xfrm>
            <a:off x="6659640" y="4005360"/>
            <a:ext cx="214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вносоставлен 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вносоставлен с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вносоставле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28800" y="3429000"/>
            <a:ext cx="7643880" cy="314316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низ 4"/>
          <p:cNvSpPr/>
          <p:nvPr/>
        </p:nvSpPr>
        <p:spPr>
          <a:xfrm>
            <a:off x="4286160" y="1714680"/>
            <a:ext cx="484200" cy="57132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4020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разби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8200">
            <a:off x="923400" y="1825200"/>
            <a:ext cx="7290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дополн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81439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площадь правильного восьмиугольника равна произведению длин наибольшей и наименьшей из его диагонале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3929040" cy="4071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4714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3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ено введение системы измерения площадей многоуг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ены отношения  равновеликости и равносоставленности многоугольников; установлена эквивалентность этих отнош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ы методы нахождения площадей многоуг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о  13 задач школьного курса геометрии с использованием равновеликости и равносостав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Задачи исследования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и изучение литературы различных авторов по данной темати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омство с историческими сведе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понятий и определений, связанных с многоугольни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едение системы измерения площадей многоуг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методов нахождения площадей многоуг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ение теорем, устанавливающих связь между отношениями равновеликости и равносоставленности многоуг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7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системы измерения площад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59984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фигур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вится в соответствие числ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F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мое площадью фигуры, так, что выполняются треб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фигуры есть неотрицательное чис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лощадь фигуры, составленной из нескольких фигур без общих внутренних точек, равна сумме площадей этих фигу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Равные фигуры имеют равные площад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Площадь единичного квадрата равна един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сущуствования и единств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змерения площадей многоугольников с заданным единичным квадратом существу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Система измерения площадей многоугольников с заданным единичным квадратом является единств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13840"/>
            <a:ext cx="8229600" cy="60480"/>
          </a:xfrm>
          <a:prstGeom prst="rect">
            <a:avLst/>
          </a:prstGeom>
          <a:noFill/>
          <a:ln w="0">
            <a:noFill/>
          </a:ln>
        </p:spPr>
        <p:txBody>
          <a:bodyPr tIns="14760" bIns="14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е фигуры называются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вновеликими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если площадь одной фигуры равна площади другой фигу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вносоставленными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называются такие две фигуры, если, определенным образом разрезав одну из них на конечное число частей, можно составить из них вторую фигур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245160"/>
            <a:ext cx="8258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 1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фигура А равносоставлен с фигурой В, а фигура В равносоставлена с фигурой С, то фигуры А и С тоже равносоставл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 2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треугольник равносоставлен с некоторым прямоуголь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 3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араллелограмма, имеющих общее основание и одинаковую площадь, равносоставл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 4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рямоугольника, имеющих равную площадь, равносоставл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мма 5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який многоугольник равносоставлен с некоторым прямоуголь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Бойяи-Гервин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многоугольника, имеющие равные площади, равносоставлен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Хадвигера-Глю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два многоугольника, имеющие равные площади, являют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вносоставленны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Admin</cp:lastModifiedBy>
  <dcterms:modified xsi:type="dcterms:W3CDTF">2013-02-10T16:19:49Z</dcterms:modified>
  <cp:revision>116</cp:revision>
  <dc:subject/>
  <dc:title>Презентация PowerPoint</dc:title>
</cp:coreProperties>
</file>