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7.jpeg" ContentType="image/jpeg"/>
  <Override PartName="/ppt/media/image13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290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252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4DB99-9D35-4783-8954-2FA35F355E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E0C98-8702-462F-AD52-91B0E9F9CA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79DCA-610D-4857-8C5A-D20E9DCD37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8FCC7-E6A4-4425-BD92-A7800B36EB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BADEC-EB8F-4BD2-85EA-8F7C3B866A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E7517-8D27-4319-ABC7-C2F859434E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0457B-9FC9-46E3-90AF-D17C533129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9A2BD-A80E-457F-938D-B02A55CD3B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330A6-AAE7-483C-8251-C317B764F5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E3D95A-6053-4B26-B010-468C7EF6DA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47E95-9CEF-425E-818F-D3887E5DCC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53CFD9-01BB-4AC0-B679-1156D7B3E9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A2727-AA7D-47A4-889B-ED67E00E5B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39DF5-BF9E-4663-A71A-ED4C7273A4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7B2A2-CA7B-42BC-BAF3-ADAA85333E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7E89D-DA67-46A6-BC9B-05B3C618A8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50911-E2C1-4985-B4D8-D31DA0EB2F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73595-7697-4220-BE29-7229109996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7D418-0088-4519-88DB-A4719E7275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5"/>
          <p:cNvSpPr/>
          <p:nvPr/>
        </p:nvSpPr>
        <p:spPr>
          <a:xfrm>
            <a:off x="4278240" y="10155240"/>
            <a:ext cx="3265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E991B-F9E3-4DA0-B89B-D201778EC8E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BE54C-97F0-4471-A97A-08A79C76E3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3128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427B2-B4B1-443E-9E98-F95C3FE1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23A49-503E-413D-91CE-72D2847C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DD152-6699-4454-80CE-ABF4A83D71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78CF9-D687-4CF9-9551-7BDB8EF2A4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13760" cy="46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B8D2E-5A21-434E-8164-ADA6B469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37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05928-359B-47E9-8794-2901C6BC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A0E045-946C-4CF9-85EC-E0999AF1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FFF95-64D6-4CB5-9373-C28B68B9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A4F205-95D6-4F77-9B4D-5B0C35DC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D404F-A9F3-4373-81E0-E1C3747B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13760" cy="46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6BD51-B463-4B7F-8F5C-BF791FFA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9BCA6-04F5-49C4-AA0D-6C72ABA3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B4BAF-83D5-481A-9882-994B7410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3128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91D72-D579-41F5-9932-56E27ED2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850F2-86E9-4614-8C95-0D63A1A1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424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164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424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164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75240-4029-46F9-AED0-94E9BF1305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E92C-3F6A-4E4B-AFA0-45346C0FE8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13760" cy="46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B1F8-1C8C-4301-B49E-36A1B32B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37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A792-131A-4723-A53B-0480FF51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EF3C-379C-4EAB-9477-03BECA60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FA9F-1665-4ACF-BF35-36ADD316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37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7F561-B623-4A77-9E19-0F904205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E950-95F8-4CA4-B1EE-9265397FD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458A-BC8F-4821-A10C-C59D4940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632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211C-29C6-414D-A149-9899B3FC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06E2-7CC7-4BE7-8F2A-1E3AB605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03128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E057-9DE8-4FA1-874A-500E395B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632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936B-7CCF-4BB2-8A95-3C13DCD6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424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1640" y="159984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424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1640" y="4031280"/>
            <a:ext cx="26445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D0E6-23C3-415E-8592-88778FD1F8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DB32F-C63B-4490-B925-BF0703BC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5FFB0-AF15-4BFF-B662-8DBEF5E7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0AEF-2977-4F3F-AD68-3521CB46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AADE-A069-4083-A42C-345C13E4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3128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A05A-36AB-44B1-9134-172F1B1E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599840"/>
            <a:ext cx="400824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31280"/>
            <a:ext cx="8213760" cy="22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44316-43FE-4B19-B02E-A032B61B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56560" cy="14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11798280" y="-11798280"/>
            <a:ext cx="1178388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2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-11798280" y="-11798280"/>
            <a:ext cx="1178388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</a:tabLst>
            </a:pPr>
            <a:fld id="{07FC3CCB-31BF-4D42-9CC1-16213352B84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031240" cy="45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1376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-11798280" y="-11798280"/>
            <a:ext cx="1178388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2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-11798280" y="-11798280"/>
            <a:ext cx="1178388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1659DFC2-281A-4015-884D-4D84525A715E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b77a8"/>
            </a:gs>
            <a:gs pos="50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720" y="511200"/>
            <a:ext cx="77644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-3351240"/>
            <a:ext cx="4032360" cy="109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645080" y="180972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marL="425520" indent="-320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916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095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157a"/>
                </a:solidFill>
                <a:latin typeface="Corbel"/>
              </a:rPr>
              <a:t>Седьмо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5720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425520" indent="-320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916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095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d6ecff"/>
              </a:buClr>
              <a:buFont typeface="Wingdings" charset="2"/>
              <a:buChar char="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</a:rPr>
              <a:t>Седьмо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2076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ea157a"/>
              </a:buClr>
              <a:buFont typeface="Wingdings" charset="2"/>
              <a:buChar char="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  <a:ea typeface="Microsoft YaHei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20760">
              <a:lnSpc>
                <a:spcPct val="100000"/>
              </a:lnSpc>
              <a:spcAft>
                <a:spcPts val="1137"/>
              </a:spcAft>
              <a:buClr>
                <a:srgbClr val="ea157a"/>
              </a:buClr>
              <a:buFont typeface="Wingdings" charset="2"/>
              <a:buChar char="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Microsoft YaHei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9160" indent="-282600">
              <a:lnSpc>
                <a:spcPct val="100000"/>
              </a:lnSpc>
              <a:spcAft>
                <a:spcPts val="850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  <a:ea typeface="Microsoft YaHei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09520">
              <a:lnSpc>
                <a:spcPct val="100000"/>
              </a:lnSpc>
              <a:spcAft>
                <a:spcPts val="575"/>
              </a:spcAft>
              <a:buClr>
                <a:srgbClr val="feb80a"/>
              </a:buClr>
              <a:buFont typeface="Wingdings 3" charset="2"/>
              <a:buChar char="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645080" y="2459160"/>
            <a:ext cx="404172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marL="425520" indent="-320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</a:rPr>
              <a:t>Для правки структуры щелкните мыш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Втор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8916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Трети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095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Четвёр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Пяты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  <a:ea typeface="Microsoft YaHei"/>
              </a:rPr>
              <a:t>Шестой уровень структу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00000"/>
              </a:lnSpc>
              <a:spcBef>
                <a:spcPts val="700"/>
              </a:spcBef>
              <a:spcAft>
                <a:spcPts val="1426"/>
              </a:spcAft>
              <a:buClr>
                <a:srgbClr val="d6ecff"/>
              </a:buClr>
              <a:buFont typeface="Wingdings" charset="2"/>
              <a:buChar char="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d6ecff"/>
                </a:solidFill>
                <a:latin typeface="Corbel"/>
              </a:rPr>
              <a:t>Седьмой уровень структурыОбразец тек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2076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ea157a"/>
              </a:buClr>
              <a:buFont typeface="Wingdings" charset="2"/>
              <a:buChar char="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  <a:ea typeface="Microsoft YaHei"/>
              </a:rPr>
              <a:t>Второй уров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20760">
              <a:lnSpc>
                <a:spcPct val="100000"/>
              </a:lnSpc>
              <a:spcAft>
                <a:spcPts val="1137"/>
              </a:spcAft>
              <a:buClr>
                <a:srgbClr val="ea157a"/>
              </a:buClr>
              <a:buFont typeface="Wingdings" charset="2"/>
              <a:buChar char="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Microsoft YaHei"/>
              </a:rPr>
              <a:t>Третий уров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89160" indent="-282600">
              <a:lnSpc>
                <a:spcPct val="100000"/>
              </a:lnSpc>
              <a:spcAft>
                <a:spcPts val="850"/>
              </a:spcAft>
              <a:buClr>
                <a:srgbClr val="ea157a"/>
              </a:buClr>
              <a:buFont typeface="Wingdings 2" charset="2"/>
              <a:buChar char="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  <a:ea typeface="Microsoft YaHei"/>
              </a:rPr>
              <a:t>Четвер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09520">
              <a:lnSpc>
                <a:spcPct val="100000"/>
              </a:lnSpc>
              <a:spcAft>
                <a:spcPts val="575"/>
              </a:spcAft>
              <a:buClr>
                <a:srgbClr val="feb80a"/>
              </a:buClr>
              <a:buFont typeface="Wingdings 3" charset="2"/>
              <a:buChar char="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  <a:ea typeface="Microsoft YaHei"/>
              </a:rPr>
              <a:t>Пятый уров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5"/>
          </p:nvPr>
        </p:nvSpPr>
        <p:spPr>
          <a:xfrm>
            <a:off x="-11798280" y="-11798280"/>
            <a:ext cx="11791800" cy="11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9.2.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-11798280" y="-11798280"/>
            <a:ext cx="1179972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1798280" y="-11798280"/>
            <a:ext cx="11791800" cy="1179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  <a:defRPr b="0" lang="ru-RU" sz="18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  <a:tab algn="l" pos="11582280"/>
              </a:tabLst>
            </a:pPr>
            <a:fld id="{297B28F8-449D-4385-9E58-5559260C477B}" type="slidenum">
              <a:rPr b="0" lang="ru-RU" sz="18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87640" y="906120"/>
            <a:ext cx="6767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ыль - вечная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гадочная и…опасн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53800" y="3195360"/>
            <a:ext cx="4786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втор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ник 3  В клас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ОУ СО школы №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рода Тамб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ньев Артё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76360" y="503280"/>
            <a:ext cx="676728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 такое пы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 чего она состои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ая бывает пы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м она может быть опасна для здоровья человек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жно ли раз и навсегда каким-то образом избавиться от пы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5688000" y="274680"/>
            <a:ext cx="3095640" cy="23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720720" y="503280"/>
            <a:ext cx="7966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"/>
          <p:cNvPicPr/>
          <p:nvPr/>
        </p:nvPicPr>
        <p:blipFill>
          <a:blip r:embed="rId2"/>
          <a:stretch/>
        </p:blipFill>
        <p:spPr>
          <a:xfrm>
            <a:off x="7920000" y="5759280"/>
            <a:ext cx="1152720" cy="10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став пы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457200" y="720720"/>
          <a:ext cx="8542440" cy="59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20720"/>
                    <a:ext cx="854244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720720" y="274680"/>
            <a:ext cx="7966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marL="216000" indent="-201600"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точники пы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57200" y="792000"/>
            <a:ext cx="1717560" cy="165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2376360" y="863640"/>
            <a:ext cx="1879560" cy="1587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360360" y="273528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4"/>
          <a:stretch/>
        </p:blipFill>
        <p:spPr>
          <a:xfrm>
            <a:off x="2374920" y="273528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5"/>
          <a:stretch/>
        </p:blipFill>
        <p:spPr>
          <a:xfrm>
            <a:off x="395280" y="4768920"/>
            <a:ext cx="1800360" cy="1803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"/>
          <p:cNvPicPr/>
          <p:nvPr/>
        </p:nvPicPr>
        <p:blipFill>
          <a:blip r:embed="rId6"/>
          <a:stretch/>
        </p:blipFill>
        <p:spPr>
          <a:xfrm>
            <a:off x="2340000" y="477216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7"/>
          <a:stretch/>
        </p:blipFill>
        <p:spPr>
          <a:xfrm>
            <a:off x="5184720" y="995400"/>
            <a:ext cx="1655640" cy="1380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"/>
          <p:cNvPicPr/>
          <p:nvPr/>
        </p:nvPicPr>
        <p:blipFill>
          <a:blip r:embed="rId8"/>
          <a:stretch/>
        </p:blipFill>
        <p:spPr>
          <a:xfrm>
            <a:off x="7056360" y="925560"/>
            <a:ext cx="1795680" cy="1511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"/>
          <p:cNvPicPr/>
          <p:nvPr/>
        </p:nvPicPr>
        <p:blipFill>
          <a:blip r:embed="rId9"/>
          <a:stretch/>
        </p:blipFill>
        <p:spPr>
          <a:xfrm>
            <a:off x="5291280" y="2735280"/>
            <a:ext cx="1620720" cy="1646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3" descr=""/>
          <p:cNvPicPr/>
          <p:nvPr/>
        </p:nvPicPr>
        <p:blipFill>
          <a:blip r:embed="rId10"/>
          <a:stretch/>
        </p:blipFill>
        <p:spPr>
          <a:xfrm>
            <a:off x="7128000" y="2762280"/>
            <a:ext cx="1800000" cy="1630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/>
          <p:cNvPicPr/>
          <p:nvPr/>
        </p:nvPicPr>
        <p:blipFill>
          <a:blip r:embed="rId11"/>
          <a:stretch/>
        </p:blipFill>
        <p:spPr>
          <a:xfrm>
            <a:off x="5184720" y="4680000"/>
            <a:ext cx="1763640" cy="1800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"/>
          <p:cNvPicPr/>
          <p:nvPr/>
        </p:nvPicPr>
        <p:blipFill>
          <a:blip r:embed="rId12"/>
          <a:stretch/>
        </p:blipFill>
        <p:spPr>
          <a:xfrm>
            <a:off x="7272360" y="475128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6"/>
          <p:cNvSpPr/>
          <p:nvPr/>
        </p:nvSpPr>
        <p:spPr>
          <a:xfrm>
            <a:off x="397080" y="2363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ещ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393840" y="4392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ко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3168720" y="2376360"/>
            <a:ext cx="99540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рожж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3199680" y="440388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ыль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432000" y="648828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лес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3195720" y="64897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ер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2"/>
          <p:cNvSpPr/>
          <p:nvPr/>
        </p:nvSpPr>
        <p:spPr>
          <a:xfrm>
            <a:off x="5445360" y="230652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с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5262480" y="4248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улкан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4"/>
          <p:cNvSpPr/>
          <p:nvPr/>
        </p:nvSpPr>
        <p:spPr>
          <a:xfrm>
            <a:off x="5194080" y="63356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Times New Roman"/>
              </a:rPr>
              <a:t>компьютер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5"/>
          <p:cNvSpPr/>
          <p:nvPr/>
        </p:nvSpPr>
        <p:spPr>
          <a:xfrm>
            <a:off x="7272360" y="230364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смическа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6"/>
          <p:cNvSpPr/>
          <p:nvPr/>
        </p:nvSpPr>
        <p:spPr>
          <a:xfrm>
            <a:off x="7776360" y="431964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ексти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7241760" y="63277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талл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576360" y="503280"/>
            <a:ext cx="676728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71280" y="0"/>
            <a:ext cx="9072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400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ы борьбы с сапрофит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720720" y="1224000"/>
            <a:ext cx="74152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079640" y="1111320"/>
            <a:ext cx="676728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265400"/>
            <a:ext cx="82216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457200" y="1224000"/>
            <a:ext cx="580716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мораживание подушек, одеял и матрасов зим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жаривание на солнце летом. Ультрафиолетовое излучение за 2 часа полностью разлагает продукты жизнедеятельности сапрофи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лажная уборка помещения 10%-ным раствором поваренной соли. (Пачка соли на 10 литров воды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ылевые клещи гибнут при температуре +65 градусов, поэтому стирать постельное бельё надо в максимально горячей воде, а одеяла проглаживать утюг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енять пароочистители и пылесос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гулярно избавляться от старых подушек и матрасов: подушки менять раз в 4 года, матрасы – раз в 7 ле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6048360" y="4248000"/>
            <a:ext cx="3024360" cy="2448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"/>
          <p:cNvPicPr/>
          <p:nvPr/>
        </p:nvPicPr>
        <p:blipFill>
          <a:blip r:embed="rId2"/>
          <a:stretch/>
        </p:blipFill>
        <p:spPr>
          <a:xfrm>
            <a:off x="6048360" y="1584360"/>
            <a:ext cx="3024360" cy="22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9040" y="131400"/>
            <a:ext cx="8221680" cy="291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вод</a:t>
            </a:r>
            <a:br>
              <a:rPr sz="3200"/>
            </a:br>
            <a:br>
              <a:rPr sz="3200"/>
            </a:b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Пыль опасна!</a:t>
            </a:r>
            <a:br>
              <a:rPr sz="5400"/>
            </a:b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76360" y="503280"/>
            <a:ext cx="676728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681120" y="2087640"/>
            <a:ext cx="2846160" cy="2016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"/>
          <p:cNvPicPr/>
          <p:nvPr/>
        </p:nvPicPr>
        <p:blipFill>
          <a:blip r:embed="rId2"/>
          <a:stretch/>
        </p:blipFill>
        <p:spPr>
          <a:xfrm>
            <a:off x="5832360" y="210996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"/>
          <p:cNvPicPr/>
          <p:nvPr/>
        </p:nvPicPr>
        <p:blipFill>
          <a:blip r:embed="rId3"/>
          <a:stretch/>
        </p:blipFill>
        <p:spPr>
          <a:xfrm>
            <a:off x="3168720" y="3940200"/>
            <a:ext cx="3240000" cy="246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76360" y="503280"/>
            <a:ext cx="676728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144360" y="216000"/>
            <a:ext cx="885672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856720" cy="662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19040" y="798120"/>
            <a:ext cx="8221680" cy="524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</a:rPr>
              <a:t>Спасибо за внимание!</a:t>
            </a:r>
            <a:br>
              <a:rPr sz="54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5400"/>
            </a:br>
            <a:br>
              <a:rPr sz="32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576360" y="503280"/>
            <a:ext cx="6767280" cy="52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ь мое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комнатной пыли, влияния   её на организм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720720" y="360360"/>
            <a:ext cx="7966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ить научную литературу по данной проблеме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явить из чего состоит воздух, которым мы дышим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знать,что такое пыл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пределить места наибольшего скопления пыли в квартир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яснить, знают ли учащиеся о вредном влиянии пыли на организм человек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Font typeface="Wingdings" charset="2"/>
              <a:buChar char=""/>
              <a:tabLst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ать рекомендации учащимся  школы, как защититься от пыл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20720" y="503280"/>
            <a:ext cx="7966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ъект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922320" y="1071720"/>
            <a:ext cx="742968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47640" y="431640"/>
            <a:ext cx="80391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ипотез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 предположил, что пыль может быть не опасна и на неё не стоит обращать вним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647640" y="3168720"/>
            <a:ext cx="4896000" cy="34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720720" y="503280"/>
            <a:ext cx="7966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тоды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287280" y="576360"/>
            <a:ext cx="2232000" cy="23032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/>
          <a:stretch/>
        </p:blipFill>
        <p:spPr>
          <a:xfrm>
            <a:off x="863640" y="4248000"/>
            <a:ext cx="2879640" cy="2232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"/>
          <p:cNvPicPr/>
          <p:nvPr/>
        </p:nvPicPr>
        <p:blipFill>
          <a:blip r:embed="rId3"/>
          <a:stretch/>
        </p:blipFill>
        <p:spPr>
          <a:xfrm>
            <a:off x="3024360" y="1655640"/>
            <a:ext cx="2879640" cy="201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6408720" y="1595520"/>
            <a:ext cx="2422440" cy="20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ведение ис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76360" y="1511280"/>
            <a:ext cx="490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оридор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кухн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паль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ванной комнат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5383080" y="1285920"/>
            <a:ext cx="34718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50616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ные исследования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ый загрязнённый воздух в прихожей — 7 баллов;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ый чистый — в ванной комнате — 2 балла;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редние показатели — кухня, комнаты — 4 бал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720720" y="503280"/>
            <a:ext cx="7415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algn="ctr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57200" y="1285920"/>
            <a:ext cx="8229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720720" y="503280"/>
            <a:ext cx="79660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5160" bIns="45000" anchor="t">
            <a:noAutofit/>
          </a:bodyPr>
          <a:p>
            <a:pPr marL="216000" indent="-201600">
              <a:lnSpc>
                <a:spcPct val="9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016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44360" y="360360"/>
            <a:ext cx="8928360" cy="626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tka</dc:creator>
  <dc:description/>
  <dc:language>en-US</dc:language>
  <cp:lastModifiedBy>Natka</cp:lastModifiedBy>
  <dcterms:modified xsi:type="dcterms:W3CDTF">2017-01-17T20:22:48Z</dcterms:modified>
  <cp:revision>3</cp:revision>
  <dc:subject/>
  <dc:title>Пыль - вечная,  загадочная и…опасная</dc:title>
</cp:coreProperties>
</file>