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6.jpeg" ContentType="image/jpeg"/>
  <Override PartName="/ppt/media/image33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27.jpeg" ContentType="image/jpeg"/>
  <Override PartName="/ppt/media/image13.wmf" ContentType="image/x-wmf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290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252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65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65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10155240"/>
            <a:ext cx="3265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5240"/>
            <a:ext cx="3265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8EFED9-E7B5-40D8-8F2A-51C3F5E68AF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15"/>
          <p:cNvSpPr/>
          <p:nvPr/>
        </p:nvSpPr>
        <p:spPr>
          <a:xfrm>
            <a:off x="4278240" y="10155240"/>
            <a:ext cx="3265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3A1D8B-1639-4D6F-BC91-197F69B99EE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15"/>
          <p:cNvSpPr/>
          <p:nvPr/>
        </p:nvSpPr>
        <p:spPr>
          <a:xfrm>
            <a:off x="4278240" y="10155240"/>
            <a:ext cx="3265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013FE0-0E0D-4545-9751-042CDC8A865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5"/>
          <p:cNvSpPr/>
          <p:nvPr/>
        </p:nvSpPr>
        <p:spPr>
          <a:xfrm>
            <a:off x="4278240" y="10155240"/>
            <a:ext cx="3265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909D67-896A-48F1-BB6A-4CE4095B9A8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15"/>
          <p:cNvSpPr/>
          <p:nvPr/>
        </p:nvSpPr>
        <p:spPr>
          <a:xfrm>
            <a:off x="4278240" y="10155240"/>
            <a:ext cx="3265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66D57A-395A-446B-8B2D-D1003103B69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15"/>
          <p:cNvSpPr/>
          <p:nvPr/>
        </p:nvSpPr>
        <p:spPr>
          <a:xfrm>
            <a:off x="4278240" y="10155240"/>
            <a:ext cx="3265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8662A2-AC30-4E72-ACAF-94F9DCD4107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15"/>
          <p:cNvSpPr/>
          <p:nvPr/>
        </p:nvSpPr>
        <p:spPr>
          <a:xfrm>
            <a:off x="4278240" y="10155240"/>
            <a:ext cx="3265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EF5160-9932-43FF-A9C6-BCB2300469B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15"/>
          <p:cNvSpPr/>
          <p:nvPr/>
        </p:nvSpPr>
        <p:spPr>
          <a:xfrm>
            <a:off x="4278240" y="10155240"/>
            <a:ext cx="3265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8ACBCC-7EA2-40DC-8B9E-BFF7EBF29EC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5"/>
          <p:cNvSpPr/>
          <p:nvPr/>
        </p:nvSpPr>
        <p:spPr>
          <a:xfrm>
            <a:off x="4278240" y="10155240"/>
            <a:ext cx="3265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1AFFE9-59D3-449A-AB3F-6A1DF890867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5"/>
          <p:cNvSpPr/>
          <p:nvPr/>
        </p:nvSpPr>
        <p:spPr>
          <a:xfrm>
            <a:off x="4278240" y="10155240"/>
            <a:ext cx="3265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7B423E-E27D-46BF-BE0A-6D4C6C9BBC1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15"/>
          <p:cNvSpPr/>
          <p:nvPr/>
        </p:nvSpPr>
        <p:spPr>
          <a:xfrm>
            <a:off x="4278240" y="10155240"/>
            <a:ext cx="3265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E50593-76BC-449A-8EB3-0FE20C05260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15"/>
          <p:cNvSpPr/>
          <p:nvPr/>
        </p:nvSpPr>
        <p:spPr>
          <a:xfrm>
            <a:off x="4278240" y="10155240"/>
            <a:ext cx="3265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CDBA4C-A664-4CFF-ABF8-6EE35ED78E8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5"/>
          <p:cNvSpPr/>
          <p:nvPr/>
        </p:nvSpPr>
        <p:spPr>
          <a:xfrm>
            <a:off x="4278240" y="10155240"/>
            <a:ext cx="3265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55FAB9-08D7-407C-960F-9EB495AA4F3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15"/>
          <p:cNvSpPr/>
          <p:nvPr/>
        </p:nvSpPr>
        <p:spPr>
          <a:xfrm>
            <a:off x="4278240" y="10155240"/>
            <a:ext cx="3265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97E760-1665-4758-B6EE-0323C74B0A9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15"/>
          <p:cNvSpPr/>
          <p:nvPr/>
        </p:nvSpPr>
        <p:spPr>
          <a:xfrm>
            <a:off x="4278240" y="10155240"/>
            <a:ext cx="3265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43A8D1-D896-412C-BB3B-CBF162F5933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15"/>
          <p:cNvSpPr/>
          <p:nvPr/>
        </p:nvSpPr>
        <p:spPr>
          <a:xfrm>
            <a:off x="4278240" y="10155240"/>
            <a:ext cx="3265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552B67-CA54-4E8C-AA37-26A640BD400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15"/>
          <p:cNvSpPr/>
          <p:nvPr/>
        </p:nvSpPr>
        <p:spPr>
          <a:xfrm>
            <a:off x="4278240" y="10155240"/>
            <a:ext cx="3265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D52337-B957-4E8A-973B-7E3A4603F15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5"/>
          <p:cNvSpPr/>
          <p:nvPr/>
        </p:nvSpPr>
        <p:spPr>
          <a:xfrm>
            <a:off x="4278240" y="10155240"/>
            <a:ext cx="3265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BA7380-7B2D-454E-86CA-0C084C00654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15"/>
          <p:cNvSpPr/>
          <p:nvPr/>
        </p:nvSpPr>
        <p:spPr>
          <a:xfrm>
            <a:off x="4278240" y="10155240"/>
            <a:ext cx="3265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480A16-9360-498F-B80D-EA5921A830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15"/>
          <p:cNvSpPr/>
          <p:nvPr/>
        </p:nvSpPr>
        <p:spPr>
          <a:xfrm>
            <a:off x="4278240" y="10155240"/>
            <a:ext cx="3265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8FE614-CD6B-4177-9827-6786915541D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7FE9D-FCB1-4035-B965-E7FBDF732D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1376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31280"/>
            <a:ext cx="821376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D204E-D24B-44AD-9797-984369615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0824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1599840"/>
            <a:ext cx="400824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31280"/>
            <a:ext cx="400824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4031280"/>
            <a:ext cx="400824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8F696-EAC3-408E-A9D0-92995696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456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4240" y="1599840"/>
            <a:ext cx="264456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1640" y="1599840"/>
            <a:ext cx="264456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31280"/>
            <a:ext cx="264456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4240" y="4031280"/>
            <a:ext cx="264456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1640" y="4031280"/>
            <a:ext cx="264456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4724C-2488-471B-A1B8-AF1E1675F7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3FB88C-3941-4494-AB7D-3068D34628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13760" cy="46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98AC9C-6745-4252-AE35-FB1D782B8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13760" cy="46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8B49F1-1AB4-4C91-8D31-FD5B82D1F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08240" cy="46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320" y="1599840"/>
            <a:ext cx="4008240" cy="46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ED73A9-70CA-414C-B0D7-7B84D7C0E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4EF992-93D0-42AB-9160-675447B00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7B69D7-26B8-4CF2-8D3B-5896B7928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0824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320" y="1599840"/>
            <a:ext cx="4008240" cy="46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31280"/>
            <a:ext cx="400824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33DE63-E978-4B9D-B2DB-9F895EFFB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13760" cy="46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EF246-D345-49ED-9E31-D86E0A5A6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08240" cy="46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320" y="1599840"/>
            <a:ext cx="400824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320" y="4031280"/>
            <a:ext cx="400824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34FDB5-7235-423F-989D-BDEB97441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0824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320" y="1599840"/>
            <a:ext cx="400824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31280"/>
            <a:ext cx="821376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74C296-D113-4E2B-8EF5-6D00CFBB1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1376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31280"/>
            <a:ext cx="821376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391D62-4B7C-4D44-B68A-671921AC0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0824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320" y="1599840"/>
            <a:ext cx="400824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31280"/>
            <a:ext cx="400824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320" y="4031280"/>
            <a:ext cx="400824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98BBE3-96B6-4B01-AC88-79AFE463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456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4240" y="1599840"/>
            <a:ext cx="264456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1640" y="1599840"/>
            <a:ext cx="264456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31280"/>
            <a:ext cx="264456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4240" y="4031280"/>
            <a:ext cx="264456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1640" y="4031280"/>
            <a:ext cx="264456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AB9978-B49F-47CA-8048-0779BDD460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0D314-3018-4764-B032-4F4DC3D016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13760" cy="46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E14E9-653E-48D9-B6B6-5618229BF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13760" cy="46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6C321-CE68-48D6-A92D-94893A8B4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08240" cy="46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6320" y="1599840"/>
            <a:ext cx="4008240" cy="46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55446-27C7-4861-AF75-920CEBDE4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F6F6F-BB06-4E81-8DE5-D130229E1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13760" cy="46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B204A-4530-4910-B7BD-0B8A8FF6F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08C47-3730-447E-AB16-07808685C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0824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6320" y="1599840"/>
            <a:ext cx="4008240" cy="46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031280"/>
            <a:ext cx="400824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6ADFE-20A3-46F0-84EA-B67A93EF9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08240" cy="46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6320" y="1599840"/>
            <a:ext cx="400824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6320" y="4031280"/>
            <a:ext cx="400824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6F146-BCFF-4D2E-9882-7D95EF009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0824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6320" y="1599840"/>
            <a:ext cx="400824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031280"/>
            <a:ext cx="821376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E6316-4594-4DD0-841B-BA795256B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1376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4031280"/>
            <a:ext cx="821376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2AF25-2747-45D0-8488-B67507A07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0824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6320" y="1599840"/>
            <a:ext cx="400824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31280"/>
            <a:ext cx="400824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6320" y="4031280"/>
            <a:ext cx="400824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FAA16-3984-4F40-A7E7-8D9D662A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456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4240" y="1599840"/>
            <a:ext cx="264456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11640" y="1599840"/>
            <a:ext cx="264456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4031280"/>
            <a:ext cx="264456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4240" y="4031280"/>
            <a:ext cx="264456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11640" y="4031280"/>
            <a:ext cx="264456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41501-B5F1-4F25-AC3E-A82820FFFA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08240" cy="46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1599840"/>
            <a:ext cx="4008240" cy="46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FBEE0-E890-4187-9EE3-1E2D21682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CC03F-204E-4F28-B1B5-C81FA7D29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488D2-FBE8-4DAF-AA3B-0974BBDDE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0824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1599840"/>
            <a:ext cx="4008240" cy="46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31280"/>
            <a:ext cx="400824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C9E26-C1BE-43CA-A215-29D63EE38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08240" cy="46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599840"/>
            <a:ext cx="400824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4031280"/>
            <a:ext cx="400824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37C07-C539-4079-A447-C377B84DE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0824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599840"/>
            <a:ext cx="400824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31280"/>
            <a:ext cx="821376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6E9EE-6D24-4315-8959-44119A865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5656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-11798280" y="-11798280"/>
            <a:ext cx="11783880" cy="117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2.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-11798280" y="-11798280"/>
            <a:ext cx="11783880" cy="117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</a:pPr>
            <a:fld id="{A2611F41-5DA2-4F36-BCA9-6021EA081C39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6840" y="1604880"/>
            <a:ext cx="8031240" cy="45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13760" cy="46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-11798280" y="-11798280"/>
            <a:ext cx="11783880" cy="117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8.2.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-11798280" y="-11798280"/>
            <a:ext cx="11783880" cy="117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B24E164D-ED92-4A91-A104-A574D0092A87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b77a8"/>
            </a:gs>
            <a:gs pos="50000">
              <a:srgbClr val="000000"/>
            </a:gs>
            <a:gs pos="100000">
              <a:srgbClr val="5b77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4720" y="511200"/>
            <a:ext cx="776448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6840" y="-3351240"/>
            <a:ext cx="4032360" cy="109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4645080" y="180972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425520" indent="-32076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a157a"/>
                </a:solidFill>
                <a:latin typeface="Corbel"/>
              </a:rPr>
              <a:t>Для правки структуры щелкните мышь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32076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Font typeface="Symbol" charset="2"/>
              <a:buChar char="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a157a"/>
                </a:solidFill>
                <a:latin typeface="Corbel"/>
                <a:ea typeface="Microsoft YaHei"/>
              </a:rPr>
              <a:t>Второ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9160" indent="-28260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a157a"/>
                </a:solidFill>
                <a:latin typeface="Corbel"/>
                <a:ea typeface="Microsoft YaHei"/>
              </a:rPr>
              <a:t>Трети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0800" indent="-20952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Font typeface="Symbol" charset="2"/>
              <a:buChar char="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a157a"/>
                </a:solidFill>
                <a:latin typeface="Corbel"/>
                <a:ea typeface="Microsoft YaHei"/>
              </a:rPr>
              <a:t>Четвёрты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52800" indent="-21132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a157a"/>
                </a:solidFill>
                <a:latin typeface="Corbel"/>
                <a:ea typeface="Microsoft YaHei"/>
              </a:rPr>
              <a:t>Пяты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52800" indent="-21132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a157a"/>
                </a:solidFill>
                <a:latin typeface="Corbel"/>
                <a:ea typeface="Microsoft YaHei"/>
              </a:rPr>
              <a:t>Шесто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100000"/>
              </a:lnSpc>
              <a:spcBef>
                <a:spcPts val="700"/>
              </a:spcBef>
              <a:spcAft>
                <a:spcPts val="1426"/>
              </a:spcAft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a157a"/>
                </a:solidFill>
                <a:latin typeface="Corbel"/>
              </a:rPr>
              <a:t>Седьмой уровень структурыОбразец текс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457200" y="2459160"/>
            <a:ext cx="404028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marL="425520" indent="-32076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d6ecff"/>
                </a:solidFill>
                <a:latin typeface="Corbel"/>
              </a:rPr>
              <a:t>Для правки структуры щелкните мышь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32076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Font typeface="Symbol" charset="2"/>
              <a:buChar char="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d6ecff"/>
                </a:solidFill>
                <a:latin typeface="Corbel"/>
                <a:ea typeface="Microsoft YaHei"/>
              </a:rPr>
              <a:t>Второ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9160" indent="-28260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d6ecff"/>
                </a:solidFill>
                <a:latin typeface="Corbel"/>
                <a:ea typeface="Microsoft YaHei"/>
              </a:rPr>
              <a:t>Трети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0800" indent="-20952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Font typeface="Symbol" charset="2"/>
              <a:buChar char="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d6ecff"/>
                </a:solidFill>
                <a:latin typeface="Corbel"/>
                <a:ea typeface="Microsoft YaHei"/>
              </a:rPr>
              <a:t>Четвёрты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52800" indent="-21132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d6ecff"/>
                </a:solidFill>
                <a:latin typeface="Corbel"/>
                <a:ea typeface="Microsoft YaHei"/>
              </a:rPr>
              <a:t>Пяты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52800" indent="-21132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d6ecff"/>
                </a:solidFill>
                <a:latin typeface="Corbel"/>
                <a:ea typeface="Microsoft YaHei"/>
              </a:rPr>
              <a:t>Шесто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100000"/>
              </a:lnSpc>
              <a:spcBef>
                <a:spcPts val="700"/>
              </a:spcBef>
              <a:spcAft>
                <a:spcPts val="1426"/>
              </a:spcAft>
              <a:buClr>
                <a:srgbClr val="d6ecff"/>
              </a:buClr>
              <a:buFont typeface="Wingdings" charset="2"/>
              <a:buChar char="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d6ecff"/>
                </a:solidFill>
                <a:latin typeface="Corbel"/>
              </a:rPr>
              <a:t>Седьмой уровень структурыОбразец текс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320760">
              <a:lnSpc>
                <a:spcPct val="100000"/>
              </a:lnSpc>
              <a:spcBef>
                <a:spcPts val="400"/>
              </a:spcBef>
              <a:spcAft>
                <a:spcPts val="1426"/>
              </a:spcAft>
              <a:buClr>
                <a:srgbClr val="ea157a"/>
              </a:buClr>
              <a:buFont typeface="Wingdings" charset="2"/>
              <a:buChar char="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  <a:ea typeface="Microsoft YaHei"/>
              </a:rPr>
              <a:t>Второй уровен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320760">
              <a:lnSpc>
                <a:spcPct val="100000"/>
              </a:lnSpc>
              <a:spcAft>
                <a:spcPts val="1137"/>
              </a:spcAft>
              <a:buClr>
                <a:srgbClr val="ea157a"/>
              </a:buClr>
              <a:buFont typeface="Wingdings" charset="2"/>
              <a:buChar char="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  <a:ea typeface="Microsoft YaHei"/>
              </a:rPr>
              <a:t>Третий уров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9160" indent="-282600">
              <a:lnSpc>
                <a:spcPct val="100000"/>
              </a:lnSpc>
              <a:spcAft>
                <a:spcPts val="850"/>
              </a:spcAft>
              <a:buClr>
                <a:srgbClr val="ea157a"/>
              </a:buClr>
              <a:buFont typeface="Wingdings 2" charset="2"/>
              <a:buChar char="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  <a:ea typeface="Microsoft YaHei"/>
              </a:rPr>
              <a:t>Четвертый уровен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720800" indent="-209520">
              <a:lnSpc>
                <a:spcPct val="100000"/>
              </a:lnSpc>
              <a:spcAft>
                <a:spcPts val="575"/>
              </a:spcAft>
              <a:buClr>
                <a:srgbClr val="feb80a"/>
              </a:buClr>
              <a:buFont typeface="Wingdings 3" charset="2"/>
              <a:buChar char="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  <a:ea typeface="Microsoft YaHei"/>
              </a:rPr>
              <a:t>Пятый уровен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4645080" y="2459160"/>
            <a:ext cx="404172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marL="425520" indent="-32076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d6ecff"/>
                </a:solidFill>
                <a:latin typeface="Corbel"/>
              </a:rPr>
              <a:t>Для правки структуры щелкните мышь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32076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Font typeface="Symbol" charset="2"/>
              <a:buChar char="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d6ecff"/>
                </a:solidFill>
                <a:latin typeface="Corbel"/>
                <a:ea typeface="Microsoft YaHei"/>
              </a:rPr>
              <a:t>Второ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9160" indent="-28260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d6ecff"/>
                </a:solidFill>
                <a:latin typeface="Corbel"/>
                <a:ea typeface="Microsoft YaHei"/>
              </a:rPr>
              <a:t>Трети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0800" indent="-20952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Font typeface="Symbol" charset="2"/>
              <a:buChar char="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d6ecff"/>
                </a:solidFill>
                <a:latin typeface="Corbel"/>
                <a:ea typeface="Microsoft YaHei"/>
              </a:rPr>
              <a:t>Четвёрты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52800" indent="-21132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d6ecff"/>
                </a:solidFill>
                <a:latin typeface="Corbel"/>
                <a:ea typeface="Microsoft YaHei"/>
              </a:rPr>
              <a:t>Пяты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52800" indent="-21132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d6ecff"/>
                </a:solidFill>
                <a:latin typeface="Corbel"/>
                <a:ea typeface="Microsoft YaHei"/>
              </a:rPr>
              <a:t>Шесто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100000"/>
              </a:lnSpc>
              <a:spcBef>
                <a:spcPts val="700"/>
              </a:spcBef>
              <a:spcAft>
                <a:spcPts val="1426"/>
              </a:spcAft>
              <a:buClr>
                <a:srgbClr val="d6ecff"/>
              </a:buClr>
              <a:buFont typeface="Wingdings" charset="2"/>
              <a:buChar char="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d6ecff"/>
                </a:solidFill>
                <a:latin typeface="Corbel"/>
              </a:rPr>
              <a:t>Седьмой уровень структурыОбразец текс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320760">
              <a:lnSpc>
                <a:spcPct val="100000"/>
              </a:lnSpc>
              <a:spcBef>
                <a:spcPts val="400"/>
              </a:spcBef>
              <a:spcAft>
                <a:spcPts val="1426"/>
              </a:spcAft>
              <a:buClr>
                <a:srgbClr val="ea157a"/>
              </a:buClr>
              <a:buFont typeface="Wingdings" charset="2"/>
              <a:buChar char="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  <a:ea typeface="Microsoft YaHei"/>
              </a:rPr>
              <a:t>Второй уровен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320760">
              <a:lnSpc>
                <a:spcPct val="100000"/>
              </a:lnSpc>
              <a:spcAft>
                <a:spcPts val="1137"/>
              </a:spcAft>
              <a:buClr>
                <a:srgbClr val="ea157a"/>
              </a:buClr>
              <a:buFont typeface="Wingdings" charset="2"/>
              <a:buChar char="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  <a:ea typeface="Microsoft YaHei"/>
              </a:rPr>
              <a:t>Третий уров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9160" indent="-282600">
              <a:lnSpc>
                <a:spcPct val="100000"/>
              </a:lnSpc>
              <a:spcAft>
                <a:spcPts val="850"/>
              </a:spcAft>
              <a:buClr>
                <a:srgbClr val="ea157a"/>
              </a:buClr>
              <a:buFont typeface="Wingdings 2" charset="2"/>
              <a:buChar char="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  <a:ea typeface="Microsoft YaHei"/>
              </a:rPr>
              <a:t>Четвертый уровен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720800" indent="-209520">
              <a:lnSpc>
                <a:spcPct val="100000"/>
              </a:lnSpc>
              <a:spcAft>
                <a:spcPts val="575"/>
              </a:spcAft>
              <a:buClr>
                <a:srgbClr val="feb80a"/>
              </a:buClr>
              <a:buFont typeface="Wingdings 3" charset="2"/>
              <a:buChar char="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  <a:ea typeface="Microsoft YaHei"/>
              </a:rPr>
              <a:t>Пятый уровен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5"/>
          </p:nvPr>
        </p:nvSpPr>
        <p:spPr>
          <a:xfrm>
            <a:off x="-11798280" y="-11798280"/>
            <a:ext cx="11791800" cy="11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  <a:defRPr b="0" lang="ru-RU" sz="18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9.2.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-11798280" y="-11798280"/>
            <a:ext cx="11791800" cy="11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  <a:defRPr b="0" lang="ru-RU" sz="18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0C568DE8-C494-4480-9041-3548403F69E0}" type="slidenum">
              <a:rPr b="0" lang="ru-RU" sz="18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image" Target="../media/image23.jpeg"/><Relationship Id="rId11" Type="http://schemas.openxmlformats.org/officeDocument/2006/relationships/image" Target="../media/image24.jpeg"/><Relationship Id="rId12" Type="http://schemas.openxmlformats.org/officeDocument/2006/relationships/image" Target="../media/image25.jpeg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087640" y="906120"/>
            <a:ext cx="6767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ыль - вечная,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агадочная и…опасна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253800" y="3195360"/>
            <a:ext cx="47862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втор проект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еник 3  В клас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ОУ СО школы №2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орода Тамб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наньев Артё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457200" y="1285920"/>
            <a:ext cx="822960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720720" y="503280"/>
            <a:ext cx="74152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t">
            <a:noAutofit/>
          </a:bodyPr>
          <a:p>
            <a:pPr algn="ctr"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576360" y="503280"/>
            <a:ext cx="6767280" cy="52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Что такое пыл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з чего она состоит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ая бывает пыл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Чем она может быть опасна для здоровья человек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ожно ли раз и навсегда каким-то образом избавиться от пыл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5" descr=""/>
          <p:cNvPicPr/>
          <p:nvPr/>
        </p:nvPicPr>
        <p:blipFill>
          <a:blip r:embed="rId1"/>
          <a:stretch/>
        </p:blipFill>
        <p:spPr>
          <a:xfrm>
            <a:off x="5688000" y="274680"/>
            <a:ext cx="3095640" cy="238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 Box 2"/>
          <p:cNvSpPr/>
          <p:nvPr/>
        </p:nvSpPr>
        <p:spPr>
          <a:xfrm>
            <a:off x="457200" y="1285920"/>
            <a:ext cx="822960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720720" y="503280"/>
            <a:ext cx="79660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t">
            <a:noAutofit/>
          </a:bodyPr>
          <a:p>
            <a:pPr marL="216000" indent="-201600"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16000" indent="-201600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"/>
          <p:cNvPicPr/>
          <p:nvPr/>
        </p:nvPicPr>
        <p:blipFill>
          <a:blip r:embed="rId2"/>
          <a:stretch/>
        </p:blipFill>
        <p:spPr>
          <a:xfrm>
            <a:off x="7920000" y="5759280"/>
            <a:ext cx="1152720" cy="10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став пы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 Box 2"/>
          <p:cNvSpPr/>
          <p:nvPr/>
        </p:nvSpPr>
        <p:spPr>
          <a:xfrm>
            <a:off x="457200" y="1285920"/>
            <a:ext cx="822960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720720" y="503280"/>
            <a:ext cx="74152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t">
            <a:noAutofit/>
          </a:bodyPr>
          <a:p>
            <a:pPr algn="ctr"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0" name="Object 4"/>
          <p:cNvGraphicFramePr/>
          <p:nvPr/>
        </p:nvGraphicFramePr>
        <p:xfrm>
          <a:off x="457200" y="720720"/>
          <a:ext cx="8542440" cy="590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720720"/>
                    <a:ext cx="8542440" cy="59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 Box 2"/>
          <p:cNvSpPr/>
          <p:nvPr/>
        </p:nvSpPr>
        <p:spPr>
          <a:xfrm>
            <a:off x="457200" y="1285920"/>
            <a:ext cx="822960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720720" y="274680"/>
            <a:ext cx="79660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t">
            <a:noAutofit/>
          </a:bodyPr>
          <a:p>
            <a:pPr marL="216000" indent="-201600" algn="ctr"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сточники пы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01600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457200" y="792000"/>
            <a:ext cx="1717560" cy="1656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"/>
          <p:cNvPicPr/>
          <p:nvPr/>
        </p:nvPicPr>
        <p:blipFill>
          <a:blip r:embed="rId2"/>
          <a:stretch/>
        </p:blipFill>
        <p:spPr>
          <a:xfrm>
            <a:off x="2376360" y="863640"/>
            <a:ext cx="1879560" cy="15876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"/>
          <p:cNvPicPr/>
          <p:nvPr/>
        </p:nvPicPr>
        <p:blipFill>
          <a:blip r:embed="rId3"/>
          <a:stretch/>
        </p:blipFill>
        <p:spPr>
          <a:xfrm>
            <a:off x="360360" y="273528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"/>
          <p:cNvPicPr/>
          <p:nvPr/>
        </p:nvPicPr>
        <p:blipFill>
          <a:blip r:embed="rId4"/>
          <a:stretch/>
        </p:blipFill>
        <p:spPr>
          <a:xfrm>
            <a:off x="2374920" y="273528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"/>
          <p:cNvPicPr/>
          <p:nvPr/>
        </p:nvPicPr>
        <p:blipFill>
          <a:blip r:embed="rId5"/>
          <a:stretch/>
        </p:blipFill>
        <p:spPr>
          <a:xfrm>
            <a:off x="395280" y="4768920"/>
            <a:ext cx="1800360" cy="18032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9" descr=""/>
          <p:cNvPicPr/>
          <p:nvPr/>
        </p:nvPicPr>
        <p:blipFill>
          <a:blip r:embed="rId6"/>
          <a:stretch/>
        </p:blipFill>
        <p:spPr>
          <a:xfrm>
            <a:off x="2340000" y="4772160"/>
            <a:ext cx="1800360" cy="1800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"/>
          <p:cNvPicPr/>
          <p:nvPr/>
        </p:nvPicPr>
        <p:blipFill>
          <a:blip r:embed="rId7"/>
          <a:stretch/>
        </p:blipFill>
        <p:spPr>
          <a:xfrm>
            <a:off x="5184720" y="995400"/>
            <a:ext cx="1655640" cy="13809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1" descr=""/>
          <p:cNvPicPr/>
          <p:nvPr/>
        </p:nvPicPr>
        <p:blipFill>
          <a:blip r:embed="rId8"/>
          <a:stretch/>
        </p:blipFill>
        <p:spPr>
          <a:xfrm>
            <a:off x="7056360" y="925560"/>
            <a:ext cx="1795680" cy="1511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2" descr=""/>
          <p:cNvPicPr/>
          <p:nvPr/>
        </p:nvPicPr>
        <p:blipFill>
          <a:blip r:embed="rId9"/>
          <a:stretch/>
        </p:blipFill>
        <p:spPr>
          <a:xfrm>
            <a:off x="5291280" y="2735280"/>
            <a:ext cx="1620720" cy="16462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3" descr=""/>
          <p:cNvPicPr/>
          <p:nvPr/>
        </p:nvPicPr>
        <p:blipFill>
          <a:blip r:embed="rId10"/>
          <a:stretch/>
        </p:blipFill>
        <p:spPr>
          <a:xfrm>
            <a:off x="7128000" y="2762280"/>
            <a:ext cx="1800000" cy="16304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4" descr=""/>
          <p:cNvPicPr/>
          <p:nvPr/>
        </p:nvPicPr>
        <p:blipFill>
          <a:blip r:embed="rId11"/>
          <a:stretch/>
        </p:blipFill>
        <p:spPr>
          <a:xfrm>
            <a:off x="5184720" y="4680000"/>
            <a:ext cx="1763640" cy="1800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5" descr=""/>
          <p:cNvPicPr/>
          <p:nvPr/>
        </p:nvPicPr>
        <p:blipFill>
          <a:blip r:embed="rId12"/>
          <a:stretch/>
        </p:blipFill>
        <p:spPr>
          <a:xfrm>
            <a:off x="7272360" y="4751280"/>
            <a:ext cx="1655640" cy="16560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16"/>
          <p:cNvSpPr/>
          <p:nvPr/>
        </p:nvSpPr>
        <p:spPr>
          <a:xfrm>
            <a:off x="397080" y="23637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лещ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17"/>
          <p:cNvSpPr/>
          <p:nvPr/>
        </p:nvSpPr>
        <p:spPr>
          <a:xfrm>
            <a:off x="393840" y="4392720"/>
            <a:ext cx="7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кож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8"/>
          <p:cNvSpPr/>
          <p:nvPr/>
        </p:nvSpPr>
        <p:spPr>
          <a:xfrm>
            <a:off x="3168720" y="2376360"/>
            <a:ext cx="99540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рожж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19"/>
          <p:cNvSpPr/>
          <p:nvPr/>
        </p:nvSpPr>
        <p:spPr>
          <a:xfrm>
            <a:off x="3199680" y="4403880"/>
            <a:ext cx="98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ыльц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20"/>
          <p:cNvSpPr/>
          <p:nvPr/>
        </p:nvSpPr>
        <p:spPr>
          <a:xfrm>
            <a:off x="432000" y="6488280"/>
            <a:ext cx="99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лес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21"/>
          <p:cNvSpPr/>
          <p:nvPr/>
        </p:nvSpPr>
        <p:spPr>
          <a:xfrm>
            <a:off x="3195720" y="648972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шер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22"/>
          <p:cNvSpPr/>
          <p:nvPr/>
        </p:nvSpPr>
        <p:spPr>
          <a:xfrm>
            <a:off x="5445360" y="2306520"/>
            <a:ext cx="76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ес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23"/>
          <p:cNvSpPr/>
          <p:nvPr/>
        </p:nvSpPr>
        <p:spPr>
          <a:xfrm>
            <a:off x="5262480" y="424800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улканиче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24"/>
          <p:cNvSpPr/>
          <p:nvPr/>
        </p:nvSpPr>
        <p:spPr>
          <a:xfrm>
            <a:off x="5194080" y="633564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компьютер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25"/>
          <p:cNvSpPr/>
          <p:nvPr/>
        </p:nvSpPr>
        <p:spPr>
          <a:xfrm>
            <a:off x="7272360" y="230364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смическа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26"/>
          <p:cNvSpPr/>
          <p:nvPr/>
        </p:nvSpPr>
        <p:spPr>
          <a:xfrm>
            <a:off x="7776360" y="431964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ексти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27"/>
          <p:cNvSpPr/>
          <p:nvPr/>
        </p:nvSpPr>
        <p:spPr>
          <a:xfrm>
            <a:off x="7241760" y="6327720"/>
            <a:ext cx="17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талличе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 Box 2"/>
          <p:cNvSpPr/>
          <p:nvPr/>
        </p:nvSpPr>
        <p:spPr>
          <a:xfrm>
            <a:off x="457200" y="1285920"/>
            <a:ext cx="822960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720720" y="503280"/>
            <a:ext cx="74152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t">
            <a:noAutofit/>
          </a:bodyPr>
          <a:p>
            <a:pPr algn="ctr"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576360" y="503280"/>
            <a:ext cx="6767280" cy="52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5" descr=""/>
          <p:cNvPicPr/>
          <p:nvPr/>
        </p:nvPicPr>
        <p:blipFill>
          <a:blip r:embed="rId1"/>
          <a:stretch/>
        </p:blipFill>
        <p:spPr>
          <a:xfrm>
            <a:off x="71280" y="0"/>
            <a:ext cx="9072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4400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пособы борьбы с сапрофита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 Box 2"/>
          <p:cNvSpPr/>
          <p:nvPr/>
        </p:nvSpPr>
        <p:spPr>
          <a:xfrm>
            <a:off x="457200" y="1285920"/>
            <a:ext cx="822960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720720" y="1224000"/>
            <a:ext cx="74152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t">
            <a:noAutofit/>
          </a:bodyPr>
          <a:p>
            <a:pPr algn="ctr"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1079640" y="1111320"/>
            <a:ext cx="6767280" cy="52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265400"/>
            <a:ext cx="8221680" cy="50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457200" y="1224000"/>
            <a:ext cx="5807160" cy="54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мораживание подушек, одеял и матрасов зим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жаривание на солнце летом. Ультрафиолетовое излучение за 2 часа полностью разлагает продукты жизнедеятельности сапрофит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лажная уборка помещения 10%-ным раствором поваренной соли. (Пачка соли на 10 литров воды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ылевые клещи гибнут при температуре +65 градусов, поэтому стирать постельное бельё надо в максимально горячей воде, а одеяла проглаживать утюг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менять пароочистители и пылесос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гулярно избавляться от старых подушек и матрасов: подушки менять раз в 4 года, матрасы – раз в 7 ле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1"/>
          <a:stretch/>
        </p:blipFill>
        <p:spPr>
          <a:xfrm>
            <a:off x="6048360" y="4248000"/>
            <a:ext cx="3024360" cy="2448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"/>
          <p:cNvPicPr/>
          <p:nvPr/>
        </p:nvPicPr>
        <p:blipFill>
          <a:blip r:embed="rId2"/>
          <a:stretch/>
        </p:blipFill>
        <p:spPr>
          <a:xfrm>
            <a:off x="6048360" y="1584360"/>
            <a:ext cx="3024360" cy="224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19040" y="131400"/>
            <a:ext cx="8221680" cy="291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ывод</a:t>
            </a:r>
            <a:br>
              <a:rPr sz="3200"/>
            </a:br>
            <a:br>
              <a:rPr sz="3200"/>
            </a:br>
            <a:r>
              <a:rPr b="1" lang="ru-RU" sz="5400" spc="-1" strike="noStrike">
                <a:solidFill>
                  <a:srgbClr val="800000"/>
                </a:solidFill>
                <a:latin typeface="Times New Roman"/>
              </a:rPr>
              <a:t>Пыль опасна!</a:t>
            </a:r>
            <a:br>
              <a:rPr sz="5400"/>
            </a:br>
            <a:br>
              <a:rPr sz="32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 Box 2"/>
          <p:cNvSpPr/>
          <p:nvPr/>
        </p:nvSpPr>
        <p:spPr>
          <a:xfrm>
            <a:off x="457200" y="1285920"/>
            <a:ext cx="822960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720720" y="503280"/>
            <a:ext cx="74152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t">
            <a:noAutofit/>
          </a:bodyPr>
          <a:p>
            <a:pPr algn="ctr"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576360" y="503280"/>
            <a:ext cx="6767280" cy="52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tretch/>
        </p:blipFill>
        <p:spPr>
          <a:xfrm>
            <a:off x="681120" y="2087640"/>
            <a:ext cx="2846160" cy="2016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"/>
          <p:cNvPicPr/>
          <p:nvPr/>
        </p:nvPicPr>
        <p:blipFill>
          <a:blip r:embed="rId2"/>
          <a:stretch/>
        </p:blipFill>
        <p:spPr>
          <a:xfrm>
            <a:off x="5832360" y="2109960"/>
            <a:ext cx="3071880" cy="26431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7" descr=""/>
          <p:cNvPicPr/>
          <p:nvPr/>
        </p:nvPicPr>
        <p:blipFill>
          <a:blip r:embed="rId3"/>
          <a:stretch/>
        </p:blipFill>
        <p:spPr>
          <a:xfrm>
            <a:off x="3168720" y="3940200"/>
            <a:ext cx="3240000" cy="246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457200" y="1285920"/>
            <a:ext cx="822960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720720" y="503280"/>
            <a:ext cx="74152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t">
            <a:noAutofit/>
          </a:bodyPr>
          <a:p>
            <a:pPr algn="ctr"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576360" y="503280"/>
            <a:ext cx="6767280" cy="52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Picture 5" descr=""/>
          <p:cNvPicPr/>
          <p:nvPr/>
        </p:nvPicPr>
        <p:blipFill>
          <a:blip r:embed="rId1"/>
          <a:stretch/>
        </p:blipFill>
        <p:spPr>
          <a:xfrm>
            <a:off x="144360" y="216000"/>
            <a:ext cx="8856720" cy="64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8856720" cy="662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19040" y="798120"/>
            <a:ext cx="8221680" cy="524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Times New Roman"/>
              </a:rPr>
              <a:t>Спасибо за внимание!</a:t>
            </a:r>
            <a:br>
              <a:rPr sz="54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5400"/>
            </a:br>
            <a:br>
              <a:rPr sz="32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 Box 2"/>
          <p:cNvSpPr/>
          <p:nvPr/>
        </p:nvSpPr>
        <p:spPr>
          <a:xfrm>
            <a:off x="457200" y="1285920"/>
            <a:ext cx="822960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720720" y="503280"/>
            <a:ext cx="74152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t">
            <a:noAutofit/>
          </a:bodyPr>
          <a:p>
            <a:pPr algn="ctr"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576360" y="503280"/>
            <a:ext cx="6767280" cy="52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457200" y="1285920"/>
            <a:ext cx="822960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720720" y="503280"/>
            <a:ext cx="74152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t">
            <a:noAutofit/>
          </a:bodyPr>
          <a:p>
            <a:pPr algn="ctr"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Цель моей рабо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следование комнатной пыли, влияния   её на организм челове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2"/>
          <p:cNvSpPr/>
          <p:nvPr/>
        </p:nvSpPr>
        <p:spPr>
          <a:xfrm>
            <a:off x="457200" y="1285920"/>
            <a:ext cx="822960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720720" y="360360"/>
            <a:ext cx="79660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t">
            <a:noAutofit/>
          </a:bodyPr>
          <a:p>
            <a:pPr marL="216000" indent="-201600"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16000" indent="-201600"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зучить научную литературу по данной проблеме;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16000" indent="-201600"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ыявить из чего состоит воздух, которым мы дышим;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16000" indent="-201600"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знать,что такое пыль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16000" indent="-201600"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пределить места наибольшего скопления пыли в квартире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16000" indent="-201600"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ыяснить, знают ли учащиеся о вредном влиянии пыли на организм человека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16000" indent="-201600"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ать рекомендации учащимся  школы, как защититься от пыл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16000" indent="-201600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457200" y="1285920"/>
            <a:ext cx="822960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720720" y="503280"/>
            <a:ext cx="796608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t">
            <a:noAutofit/>
          </a:bodyPr>
          <a:p>
            <a:pPr algn="ctr"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ъект исследов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922320" y="1071720"/>
            <a:ext cx="7429680" cy="50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457200" y="1285920"/>
            <a:ext cx="822960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647640" y="431640"/>
            <a:ext cx="80391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t">
            <a:noAutofit/>
          </a:bodyPr>
          <a:p>
            <a:pPr algn="ctr"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ипотез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Я предположил, что пыль может быть не опасна и на неё не стоит обращать вним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647640" y="3168720"/>
            <a:ext cx="4896000" cy="340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 Box 2"/>
          <p:cNvSpPr/>
          <p:nvPr/>
        </p:nvSpPr>
        <p:spPr>
          <a:xfrm>
            <a:off x="457200" y="1285920"/>
            <a:ext cx="822960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720720" y="503280"/>
            <a:ext cx="796608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t">
            <a:noAutofit/>
          </a:bodyPr>
          <a:p>
            <a:pPr algn="ctr"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етоды исследов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287280" y="576360"/>
            <a:ext cx="2232000" cy="23032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"/>
          <p:cNvPicPr/>
          <p:nvPr/>
        </p:nvPicPr>
        <p:blipFill>
          <a:blip r:embed="rId2"/>
          <a:stretch/>
        </p:blipFill>
        <p:spPr>
          <a:xfrm>
            <a:off x="863640" y="4248000"/>
            <a:ext cx="2879640" cy="2232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"/>
          <p:cNvPicPr/>
          <p:nvPr/>
        </p:nvPicPr>
        <p:blipFill>
          <a:blip r:embed="rId3"/>
          <a:stretch/>
        </p:blipFill>
        <p:spPr>
          <a:xfrm>
            <a:off x="3024360" y="1655640"/>
            <a:ext cx="2879640" cy="2016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4"/>
          <a:stretch/>
        </p:blipFill>
        <p:spPr>
          <a:xfrm>
            <a:off x="6408720" y="1595520"/>
            <a:ext cx="2422440" cy="207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457200" y="1285920"/>
            <a:ext cx="822960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720720" y="503280"/>
            <a:ext cx="74152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t">
            <a:noAutofit/>
          </a:bodyPr>
          <a:p>
            <a:pPr algn="ctr"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ведение исследов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576360" y="1511280"/>
            <a:ext cx="49068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коридор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кухне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спальн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ванной комнат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1"/>
          <a:stretch/>
        </p:blipFill>
        <p:spPr>
          <a:xfrm>
            <a:off x="5383080" y="1285920"/>
            <a:ext cx="347184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506160"/>
            <a:ext cx="8229600" cy="496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анные исследования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амый загрязнённый воздух в прихожей — 7 баллов;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амый чистый — в ванной комнате — 2 балла;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редние показатели — кухня, комнаты — 4 бал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457200" y="1285920"/>
            <a:ext cx="822960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720720" y="503280"/>
            <a:ext cx="74152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t">
            <a:noAutofit/>
          </a:bodyPr>
          <a:p>
            <a:pPr algn="ctr"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457200" y="1285920"/>
            <a:ext cx="822960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720720" y="503280"/>
            <a:ext cx="79660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t">
            <a:noAutofit/>
          </a:bodyPr>
          <a:p>
            <a:pPr marL="216000" indent="-201600"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16000" indent="-201600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144360" y="360360"/>
            <a:ext cx="8928360" cy="626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atka</dc:creator>
  <dc:description/>
  <dc:language>en-US</dc:language>
  <cp:lastModifiedBy>Natka</cp:lastModifiedBy>
  <dcterms:modified xsi:type="dcterms:W3CDTF">2017-01-17T20:22:48Z</dcterms:modified>
  <cp:revision>3</cp:revision>
  <dc:subject/>
  <dc:title>Пыль - вечная,  загадочная и…опасная</dc:title>
</cp:coreProperties>
</file>