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1E6D-D299-49CD-9B3E-0B5480F01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2098-6B25-4BF7-BBE5-68D4D4E03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2A05-C1B8-4D07-B288-DE363C2A2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26E8-B55C-4E96-8030-9D6E1D661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6243-56F5-498B-A275-4E1B2A811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A697-04E5-4C02-812A-FA6B629D9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8898-AED8-41A6-BC38-9536B8A35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F262-DFCF-484A-B30C-50EF3FF7A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3B17-8C0B-480F-8231-94C72BF99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8D7A-8E0F-4E85-BD08-F7027499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9CC7-1D16-464E-B2B8-2F70AD81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E400-7438-4481-9D66-94F30572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D5CC0-A348-43BB-B0CC-672CD1C188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28560" y="822240"/>
            <a:ext cx="788688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Все в ваших руках 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(восточная мудрость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5" descr="&amp;Kcy;&amp;acy;&amp;rcy;&amp;tcy;&amp;icy;&amp;ncy;&amp;kcy;&amp;icy; &amp;pcy;&amp;ocy; &amp;zcy;&amp;acy;&amp;pcy;&amp;rcy;&amp;ocy;&amp;scy;&amp;ucy; &amp;vcy;&amp;ocy;&amp;scy;&amp;tcy;&amp;ocy;&amp;chcy;&amp;ncy;&amp;acy;&amp;yacy; &amp;mcy;&amp;ucy;&amp;dcy;&amp;rcy;&amp;ocy;&amp;scy;&amp;tcy;&amp;softcy; &amp;vcy;&amp;scy;&amp;iecy; &amp;vcy; &amp;vcy;&amp;acy;&amp;shcy;&amp;icy;&amp;khcy; &amp;rcy;&amp;ucy;&amp;kcy;&amp;acy;&amp;khcy;"/>
          <p:cNvPicPr/>
          <p:nvPr/>
        </p:nvPicPr>
        <p:blipFill>
          <a:blip r:embed="rId1"/>
          <a:stretch/>
        </p:blipFill>
        <p:spPr>
          <a:xfrm>
            <a:off x="1719360" y="2446200"/>
            <a:ext cx="3708360" cy="27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28560" y="1071360"/>
            <a:ext cx="78868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Times New Roman"/>
              </a:rPr>
              <a:t>Как вы считаете, что сегодня на уроке нам удалось, а над чем ещё надо поработат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entury"/>
              </a:rPr>
              <a:t>1)Я точно знаю алгоритм деления и смогу решить пример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entury"/>
              </a:rPr>
              <a:t>2)Мне необходимо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entury"/>
              </a:rPr>
              <a:t>поработать над ……………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8"/>
          <p:cNvSpPr/>
          <p:nvPr/>
        </p:nvSpPr>
        <p:spPr>
          <a:xfrm>
            <a:off x="1541520" y="247680"/>
            <a:ext cx="57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b9bd5"/>
                </a:solidFill>
                <a:latin typeface="Calibri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Заголовок 1" descr=""/>
          <p:cNvPicPr/>
          <p:nvPr/>
        </p:nvPicPr>
        <p:blipFill>
          <a:blip r:embed="rId1"/>
          <a:stretch/>
        </p:blipFill>
        <p:spPr>
          <a:xfrm>
            <a:off x="628560" y="334800"/>
            <a:ext cx="8051760" cy="497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ce711"/>
              </a:solidFill>
              <a:latin typeface="Century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797040" y="566640"/>
            <a:ext cx="76849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5" descr="novogodnie-elochki-svoimi-rukami.jpg"/>
          <p:cNvPicPr/>
          <p:nvPr/>
        </p:nvPicPr>
        <p:blipFill>
          <a:blip r:embed="rId1"/>
          <a:stretch/>
        </p:blipFill>
        <p:spPr>
          <a:xfrm>
            <a:off x="1006560" y="281160"/>
            <a:ext cx="4735440" cy="6080040"/>
          </a:xfrm>
          <a:prstGeom prst="rect">
            <a:avLst/>
          </a:prstGeom>
          <a:ln w="0">
            <a:noFill/>
          </a:ln>
        </p:spPr>
      </p:pic>
      <p:sp>
        <p:nvSpPr>
          <p:cNvPr id="47" name="7-конечная звезда 6"/>
          <p:cNvSpPr/>
          <p:nvPr/>
        </p:nvSpPr>
        <p:spPr>
          <a:xfrm>
            <a:off x="3252960" y="2128680"/>
            <a:ext cx="914400" cy="914400"/>
          </a:xfrm>
          <a:prstGeom prst="pie">
            <a:avLst/>
          </a:prstGeom>
          <a:solidFill>
            <a:srgbClr val="5b9bd5"/>
          </a:solidFill>
          <a:ln w="4788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7-конечная звезда 7"/>
          <p:cNvSpPr/>
          <p:nvPr/>
        </p:nvSpPr>
        <p:spPr>
          <a:xfrm>
            <a:off x="2141640" y="1736640"/>
            <a:ext cx="1189080" cy="1006560"/>
          </a:xfrm>
          <a:prstGeom prst="pie">
            <a:avLst/>
          </a:prstGeom>
          <a:solidFill>
            <a:srgbClr val="5b9bd5"/>
          </a:solidFill>
          <a:ln w="4788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14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7-конечная звезда 8"/>
          <p:cNvSpPr/>
          <p:nvPr/>
        </p:nvSpPr>
        <p:spPr>
          <a:xfrm>
            <a:off x="2741760" y="63972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-2" y="588057"/>
                </a:moveTo>
                <a:lnTo>
                  <a:pt x="140807" y="406949"/>
                </a:lnTo>
                <a:lnTo>
                  <a:pt x="90554" y="181109"/>
                </a:lnTo>
                <a:lnTo>
                  <a:pt x="316393" y="181109"/>
                </a:lnTo>
                <a:lnTo>
                  <a:pt x="457200" y="0"/>
                </a:lnTo>
                <a:lnTo>
                  <a:pt x="598007" y="181109"/>
                </a:lnTo>
                <a:lnTo>
                  <a:pt x="823846" y="181109"/>
                </a:lnTo>
                <a:lnTo>
                  <a:pt x="773593" y="406949"/>
                </a:lnTo>
                <a:lnTo>
                  <a:pt x="914402" y="588057"/>
                </a:lnTo>
                <a:lnTo>
                  <a:pt x="710927" y="688565"/>
                </a:lnTo>
                <a:lnTo>
                  <a:pt x="660672" y="914405"/>
                </a:lnTo>
                <a:lnTo>
                  <a:pt x="457200" y="813896"/>
                </a:lnTo>
                <a:lnTo>
                  <a:pt x="253728" y="914405"/>
                </a:lnTo>
                <a:lnTo>
                  <a:pt x="203473" y="688565"/>
                </a:lnTo>
                <a:lnTo>
                  <a:pt x="-2" y="588057"/>
                </a:lnTo>
                <a:close/>
              </a:path>
            </a:pathLst>
          </a:custGeom>
          <a:solidFill>
            <a:srgbClr val="ed7d31"/>
          </a:solidFill>
          <a:ln w="48600">
            <a:solidFill>
              <a:srgbClr val="ffff00"/>
            </a:solidFill>
            <a:round/>
          </a:ln>
          <a:effectLst>
            <a:outerShdw dist="2484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7-конечная звезда 9"/>
          <p:cNvSpPr/>
          <p:nvPr/>
        </p:nvSpPr>
        <p:spPr>
          <a:xfrm>
            <a:off x="1946160" y="2965320"/>
            <a:ext cx="914400" cy="914400"/>
          </a:xfrm>
          <a:prstGeom prst="pie">
            <a:avLst/>
          </a:prstGeom>
          <a:solidFill>
            <a:srgbClr val="5b9bd5"/>
          </a:solidFill>
          <a:ln w="4788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7-конечная звезда 10"/>
          <p:cNvSpPr/>
          <p:nvPr/>
        </p:nvSpPr>
        <p:spPr>
          <a:xfrm>
            <a:off x="3618000" y="3240000"/>
            <a:ext cx="1098360" cy="914400"/>
          </a:xfrm>
          <a:prstGeom prst="pie">
            <a:avLst/>
          </a:prstGeom>
          <a:solidFill>
            <a:srgbClr val="5b9bd5"/>
          </a:solidFill>
          <a:ln w="4788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63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7-конечная звезда 11"/>
          <p:cNvSpPr/>
          <p:nvPr/>
        </p:nvSpPr>
        <p:spPr>
          <a:xfrm>
            <a:off x="2717640" y="3801960"/>
            <a:ext cx="1070280" cy="914400"/>
          </a:xfrm>
          <a:prstGeom prst="pie">
            <a:avLst/>
          </a:prstGeom>
          <a:solidFill>
            <a:srgbClr val="5b9bd5"/>
          </a:solidFill>
          <a:ln w="4788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90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7-конечная звезда 12"/>
          <p:cNvSpPr/>
          <p:nvPr/>
        </p:nvSpPr>
        <p:spPr>
          <a:xfrm>
            <a:off x="1581120" y="4716360"/>
            <a:ext cx="914400" cy="914400"/>
          </a:xfrm>
          <a:prstGeom prst="pie">
            <a:avLst/>
          </a:prstGeom>
          <a:solidFill>
            <a:srgbClr val="5b9bd5"/>
          </a:solidFill>
          <a:ln w="4788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7-конечная звезда 13"/>
          <p:cNvSpPr/>
          <p:nvPr/>
        </p:nvSpPr>
        <p:spPr>
          <a:xfrm>
            <a:off x="3957480" y="4649760"/>
            <a:ext cx="1084320" cy="981000"/>
          </a:xfrm>
          <a:prstGeom prst="pie">
            <a:avLst/>
          </a:prstGeom>
          <a:solidFill>
            <a:srgbClr val="5b9bd5"/>
          </a:solidFill>
          <a:ln w="4788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1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7-конечная звезда 14"/>
          <p:cNvSpPr/>
          <p:nvPr/>
        </p:nvSpPr>
        <p:spPr>
          <a:xfrm>
            <a:off x="2873520" y="5106960"/>
            <a:ext cx="914400" cy="914400"/>
          </a:xfrm>
          <a:prstGeom prst="pie">
            <a:avLst/>
          </a:prstGeom>
          <a:solidFill>
            <a:srgbClr val="5b9bd5"/>
          </a:solidFill>
          <a:ln w="4788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28560" y="496800"/>
            <a:ext cx="7886880" cy="56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исьменное деление многозначных чисел на однозначны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: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крепить письменны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выки дел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ногозначных числа 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днозначны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57320" y="260280"/>
          <a:ext cx="8807400" cy="647640"/>
        </p:xfrm>
        <a:graphic>
          <a:graphicData uri="http://schemas.openxmlformats.org/drawingml/2006/table">
            <a:tbl>
              <a:tblPr/>
              <a:tblGrid>
                <a:gridCol w="88074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Rectangle 10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971640" y="1916280"/>
            <a:ext cx="3313080" cy="825480"/>
          </a:xfrm>
          <a:prstGeom prst="rect">
            <a:avLst/>
          </a:prstGeom>
          <a:noFill/>
          <a:ln w="47880">
            <a:solidFill>
              <a:srgbClr val="507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1734:2</a:t>
            </a:r>
            <a:r>
              <a:rPr b="1" i="1" lang="ru-RU" sz="2400" spc="-1" strike="noStrike">
                <a:solidFill>
                  <a:srgbClr val="ffff00"/>
                </a:solidFill>
                <a:latin typeface="Calibri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Calibri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19"/>
          <p:cNvSpPr/>
          <p:nvPr/>
        </p:nvSpPr>
        <p:spPr>
          <a:xfrm>
            <a:off x="4352760" y="1916280"/>
            <a:ext cx="2519640" cy="459720"/>
          </a:xfrm>
          <a:prstGeom prst="rect">
            <a:avLst/>
          </a:prstGeom>
          <a:noFill/>
          <a:ln w="47880">
            <a:solidFill>
              <a:srgbClr val="507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3468:4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" dur="2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2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10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05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439560" y="1246320"/>
            <a:ext cx="6248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7e6e6"/>
                </a:solidFill>
                <a:latin typeface="Calibri"/>
              </a:rPr>
              <a:t>«На елочном базаре в 2013 году продали 7224 елки. В 2014 году продали в 3 раза меньше, чем в 2013 году. А в 2015г. в 2 раза меньше, чем в 2014 году.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Заголовок 1" descr=""/>
          <p:cNvPicPr/>
          <p:nvPr/>
        </p:nvPicPr>
        <p:blipFill>
          <a:blip r:embed="rId1"/>
          <a:stretch/>
        </p:blipFill>
        <p:spPr>
          <a:xfrm>
            <a:off x="628560" y="182520"/>
            <a:ext cx="7886880" cy="1268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628560" y="1933560"/>
            <a:ext cx="7886880" cy="45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entury"/>
              </a:rPr>
              <a:t>2013 г. – 7224 ёл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entury"/>
              </a:rPr>
              <a:t>2014 г. - ?, в 3 раза меньш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entury"/>
              </a:rPr>
              <a:t>2015 г. - ?, в 2 раза меньш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Стрелка углом вверх 9"/>
          <p:cNvSpPr/>
          <p:nvPr/>
        </p:nvSpPr>
        <p:spPr>
          <a:xfrm rot="16200000">
            <a:off x="5080680" y="1724760"/>
            <a:ext cx="784080" cy="1331640"/>
          </a:xfrm>
          <a:custGeom>
            <a:avLst/>
            <a:gdLst/>
            <a:ahLst/>
            <a:rect l="l" t="t" r="r" b="b"/>
            <a:pathLst>
              <a:path w="784225" h="1331913">
                <a:moveTo>
                  <a:pt x="0" y="1135857"/>
                </a:moveTo>
                <a:lnTo>
                  <a:pt x="482745" y="1135857"/>
                </a:lnTo>
                <a:lnTo>
                  <a:pt x="482745" y="196056"/>
                </a:lnTo>
                <a:lnTo>
                  <a:pt x="377322" y="196056"/>
                </a:lnTo>
                <a:lnTo>
                  <a:pt x="580774" y="0"/>
                </a:lnTo>
                <a:lnTo>
                  <a:pt x="784225" y="196056"/>
                </a:lnTo>
                <a:lnTo>
                  <a:pt x="678802" y="196056"/>
                </a:lnTo>
                <a:lnTo>
                  <a:pt x="678802" y="1331913"/>
                </a:lnTo>
                <a:lnTo>
                  <a:pt x="0" y="1331913"/>
                </a:lnTo>
                <a:lnTo>
                  <a:pt x="0" y="1135857"/>
                </a:lnTo>
                <a:close/>
              </a:path>
            </a:pathLst>
          </a:custGeom>
          <a:solidFill>
            <a:srgbClr val="5b9bd5"/>
          </a:solidFill>
          <a:ln w="47880">
            <a:solidFill>
              <a:srgbClr val="4171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Стрелка углом вверх 10"/>
          <p:cNvSpPr/>
          <p:nvPr/>
        </p:nvSpPr>
        <p:spPr>
          <a:xfrm rot="16000200">
            <a:off x="6241320" y="2582280"/>
            <a:ext cx="885960" cy="866880"/>
          </a:xfrm>
          <a:custGeom>
            <a:avLst/>
            <a:gdLst/>
            <a:ahLst/>
            <a:rect l="l" t="t" r="r" b="b"/>
            <a:pathLst>
              <a:path w="885825" h="866775">
                <a:moveTo>
                  <a:pt x="0" y="650081"/>
                </a:moveTo>
                <a:lnTo>
                  <a:pt x="560784" y="650081"/>
                </a:lnTo>
                <a:lnTo>
                  <a:pt x="560784" y="216694"/>
                </a:lnTo>
                <a:lnTo>
                  <a:pt x="452438" y="216694"/>
                </a:lnTo>
                <a:lnTo>
                  <a:pt x="669131" y="0"/>
                </a:lnTo>
                <a:lnTo>
                  <a:pt x="885825" y="216694"/>
                </a:lnTo>
                <a:lnTo>
                  <a:pt x="777478" y="216694"/>
                </a:lnTo>
                <a:lnTo>
                  <a:pt x="777478" y="866775"/>
                </a:lnTo>
                <a:lnTo>
                  <a:pt x="0" y="866775"/>
                </a:lnTo>
                <a:lnTo>
                  <a:pt x="0" y="650081"/>
                </a:lnTo>
                <a:close/>
              </a:path>
            </a:pathLst>
          </a:custGeom>
          <a:solidFill>
            <a:srgbClr val="5b9bd5"/>
          </a:solidFill>
          <a:ln w="47880">
            <a:solidFill>
              <a:srgbClr val="4171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370080" y="4197240"/>
            <a:ext cx="594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1.) 7224: 3=2408 (ёлок) продали в 2014 год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2.) 2408: 2=1204 (ёлки) продали в 2015 год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Ответ: 1204 ёл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3800" y="185760"/>
            <a:ext cx="8342280" cy="5410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вогодняя телеграмма</a:t>
            </a:r>
            <a:br>
              <a:rPr sz="40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ая работа         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418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Calibri"/>
                <a:ea typeface="Calibri"/>
              </a:rPr>
              <a:t>119,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03, 903, 980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 Light"/>
              </a:rPr>
              <a:t>№9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Calibri Light"/>
              </a:rPr>
              <a:t>2470, 103, 9400, 106000, 10800.</a:t>
            </a:r>
            <a:br>
              <a:rPr sz="3600"/>
            </a:br>
            <a:br>
              <a:rPr sz="4800"/>
            </a:b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3880" y="4589280"/>
            <a:ext cx="788688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1T14:19:53Z</dcterms:created>
  <dc:creator>Инна</dc:creator>
  <dc:description/>
  <dc:language>en-US</dc:language>
  <cp:lastModifiedBy>админ</cp:lastModifiedBy>
  <dcterms:modified xsi:type="dcterms:W3CDTF">2016-12-19T19:00:10Z</dcterms:modified>
  <cp:revision>53</cp:revision>
  <dc:subject/>
  <dc:title>Название презентации</dc:title>
</cp:coreProperties>
</file>