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3F6-84F4-4199-87FB-ADD3FC7C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339-9281-4F11-9FBA-24EDBB8D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84B6-B634-46D4-A45D-873E7B4CA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4AE7-1134-44DD-A9AB-ACC0695C7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EA2-A61C-45EA-B51C-10DFCB4F8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231F-4544-4A77-87F1-FC34DC67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1C1-FB21-4F06-895C-76E2CD07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3AF-2E70-4E16-821A-C850147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024B-8AB4-416D-89F9-CF0C7B90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9EA-6F1F-448B-B45D-91222F2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C725-8A2F-46F5-BDB1-44346B8F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F2D-CEAC-4E07-8384-3F3DB63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FCEC-B604-4A6D-B987-CC9DBC148A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28560" y="822240"/>
            <a:ext cx="78868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Все в ваших руках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(восточная мудрость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&amp;Kcy;&amp;acy;&amp;rcy;&amp;tcy;&amp;icy;&amp;ncy;&amp;kcy;&amp;icy; &amp;pcy;&amp;ocy; &amp;zcy;&amp;acy;&amp;pcy;&amp;rcy;&amp;ocy;&amp;scy;&amp;ucy; &amp;vcy;&amp;ocy;&amp;scy;&amp;tcy;&amp;ocy;&amp;chcy;&amp;ncy;&amp;acy;&amp;yacy; &amp;mcy;&amp;ucy;&amp;dcy;&amp;rcy;&amp;ocy;&amp;scy;&amp;tcy;&amp;softcy; &amp;vcy;&amp;scy;&amp;iecy; &amp;vcy; &amp;vcy;&amp;acy;&amp;shcy;&amp;icy;&amp;khcy; &amp;rcy;&amp;ucy;&amp;kcy;&amp;acy;&amp;khcy;"/>
          <p:cNvPicPr/>
          <p:nvPr/>
        </p:nvPicPr>
        <p:blipFill>
          <a:blip r:embed="rId1"/>
          <a:stretch/>
        </p:blipFill>
        <p:spPr>
          <a:xfrm>
            <a:off x="1719360" y="2446200"/>
            <a:ext cx="370836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28560" y="1071360"/>
            <a:ext cx="7886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Как вы считаете, что сегодня на уроке нам удалось, а над чем ещё надо порабо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1)Я точно знаю алгоритм деления и смогу решить приме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2)Мне необходим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entury"/>
              </a:rPr>
              <a:t>поработать над …………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541520" y="24768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b9bd5"/>
                </a:solidFill>
                <a:latin typeface="Calibri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628560" y="334800"/>
            <a:ext cx="8051760" cy="49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ce711"/>
              </a:solidFill>
              <a:latin typeface="Century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797040" y="566640"/>
            <a:ext cx="76849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5" descr="novogodnie-elochki-svoimi-rukami.jpg"/>
          <p:cNvPicPr/>
          <p:nvPr/>
        </p:nvPicPr>
        <p:blipFill>
          <a:blip r:embed="rId1"/>
          <a:stretch/>
        </p:blipFill>
        <p:spPr>
          <a:xfrm>
            <a:off x="1006560" y="281160"/>
            <a:ext cx="4735440" cy="6080040"/>
          </a:xfrm>
          <a:prstGeom prst="rect">
            <a:avLst/>
          </a:prstGeom>
          <a:ln w="0">
            <a:noFill/>
          </a:ln>
        </p:spPr>
      </p:pic>
      <p:sp>
        <p:nvSpPr>
          <p:cNvPr id="47" name="7-конечная звезда 6"/>
          <p:cNvSpPr/>
          <p:nvPr/>
        </p:nvSpPr>
        <p:spPr>
          <a:xfrm>
            <a:off x="3252960" y="212868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-конечная звезда 7"/>
          <p:cNvSpPr/>
          <p:nvPr/>
        </p:nvSpPr>
        <p:spPr>
          <a:xfrm>
            <a:off x="2141640" y="1736640"/>
            <a:ext cx="1189080" cy="100656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4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7-конечная звезда 8"/>
          <p:cNvSpPr/>
          <p:nvPr/>
        </p:nvSpPr>
        <p:spPr>
          <a:xfrm>
            <a:off x="2741760" y="639720"/>
            <a:ext cx="914400" cy="914400"/>
          </a:xfrm>
          <a:custGeom>
            <a:avLst/>
            <a:gdLst/>
            <a:ahLst/>
            <a:rect l="l" t="t" r="r" b="b"/>
            <a:pathLst>
              <a:path w="914400" h="914400">
                <a:moveTo>
                  <a:pt x="-2" y="588057"/>
                </a:moveTo>
                <a:lnTo>
                  <a:pt x="140807" y="406949"/>
                </a:lnTo>
                <a:lnTo>
                  <a:pt x="90554" y="181109"/>
                </a:lnTo>
                <a:lnTo>
                  <a:pt x="316393" y="181109"/>
                </a:lnTo>
                <a:lnTo>
                  <a:pt x="457200" y="0"/>
                </a:lnTo>
                <a:lnTo>
                  <a:pt x="598007" y="181109"/>
                </a:lnTo>
                <a:lnTo>
                  <a:pt x="823846" y="181109"/>
                </a:lnTo>
                <a:lnTo>
                  <a:pt x="773593" y="406949"/>
                </a:lnTo>
                <a:lnTo>
                  <a:pt x="914402" y="588057"/>
                </a:lnTo>
                <a:lnTo>
                  <a:pt x="710927" y="688565"/>
                </a:lnTo>
                <a:lnTo>
                  <a:pt x="660672" y="914405"/>
                </a:lnTo>
                <a:lnTo>
                  <a:pt x="457200" y="813896"/>
                </a:lnTo>
                <a:lnTo>
                  <a:pt x="253728" y="914405"/>
                </a:lnTo>
                <a:lnTo>
                  <a:pt x="203473" y="688565"/>
                </a:lnTo>
                <a:lnTo>
                  <a:pt x="-2" y="588057"/>
                </a:lnTo>
                <a:close/>
              </a:path>
            </a:pathLst>
          </a:custGeom>
          <a:solidFill>
            <a:srgbClr val="ed7d31"/>
          </a:solidFill>
          <a:ln w="48600">
            <a:solidFill>
              <a:srgbClr val="ffff00"/>
            </a:solidFill>
            <a:round/>
          </a:ln>
          <a:effectLst>
            <a:outerShdw dist="2484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7-конечная звезда 9"/>
          <p:cNvSpPr/>
          <p:nvPr/>
        </p:nvSpPr>
        <p:spPr>
          <a:xfrm>
            <a:off x="1946160" y="296532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7-конечная звезда 10"/>
          <p:cNvSpPr/>
          <p:nvPr/>
        </p:nvSpPr>
        <p:spPr>
          <a:xfrm>
            <a:off x="3618000" y="3240000"/>
            <a:ext cx="109836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6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-конечная звезда 11"/>
          <p:cNvSpPr/>
          <p:nvPr/>
        </p:nvSpPr>
        <p:spPr>
          <a:xfrm>
            <a:off x="2717640" y="3801960"/>
            <a:ext cx="107028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9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7-конечная звезда 12"/>
          <p:cNvSpPr/>
          <p:nvPr/>
        </p:nvSpPr>
        <p:spPr>
          <a:xfrm>
            <a:off x="1581120" y="471636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7-конечная звезда 13"/>
          <p:cNvSpPr/>
          <p:nvPr/>
        </p:nvSpPr>
        <p:spPr>
          <a:xfrm>
            <a:off x="3957480" y="4649760"/>
            <a:ext cx="1084320" cy="9810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1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7-конечная звезда 14"/>
          <p:cNvSpPr/>
          <p:nvPr/>
        </p:nvSpPr>
        <p:spPr>
          <a:xfrm>
            <a:off x="2873520" y="5106960"/>
            <a:ext cx="914400" cy="914400"/>
          </a:xfrm>
          <a:prstGeom prst="pie">
            <a:avLst/>
          </a:prstGeom>
          <a:solidFill>
            <a:srgbClr val="5b9bd5"/>
          </a:solidFill>
          <a:ln w="4788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28560" y="496800"/>
            <a:ext cx="7886880" cy="56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ьменное деление многозначных чисел на однозначны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репить письменны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выки де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ногозначных числа 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нознач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7320" y="260280"/>
          <a:ext cx="8807400" cy="647640"/>
        </p:xfrm>
        <a:graphic>
          <a:graphicData uri="http://schemas.openxmlformats.org/drawingml/2006/table">
            <a:tbl>
              <a:tblPr/>
              <a:tblGrid>
                <a:gridCol w="880740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Rectangle 10"/>
          <p:cNvSpPr/>
          <p:nvPr/>
        </p:nvSpPr>
        <p:spPr>
          <a:xfrm>
            <a:off x="158760" y="2077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971640" y="1916280"/>
            <a:ext cx="3313080" cy="825480"/>
          </a:xfrm>
          <a:prstGeom prst="rect">
            <a:avLst/>
          </a:prstGeom>
          <a:noFill/>
          <a:ln w="4788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734:2</a:t>
            </a:r>
            <a:r>
              <a:rPr b="1" i="1" lang="ru-RU" sz="2400" spc="-1" strike="noStrike">
                <a:solidFill>
                  <a:srgbClr val="ffff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4352760" y="1916280"/>
            <a:ext cx="2519640" cy="459720"/>
          </a:xfrm>
          <a:prstGeom prst="rect">
            <a:avLst/>
          </a:prstGeom>
          <a:noFill/>
          <a:ln w="47880">
            <a:solidFill>
              <a:srgbClr val="507e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468:4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  <p:set>
                                      <p:cBhvr>
                                        <p:cTn id="10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5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439560" y="1246320"/>
            <a:ext cx="6248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e6e6"/>
                </a:solidFill>
                <a:latin typeface="Calibri"/>
              </a:rPr>
              <a:t>«На елочном базаре в 2013 году продали 7224 елки. В 2014 году продали в 3 раза меньше, чем в 2013 году. А в 2015г. в 2 раза меньше, чем в 2014 году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Заголовок 1" descr=""/>
          <p:cNvPicPr/>
          <p:nvPr/>
        </p:nvPicPr>
        <p:blipFill>
          <a:blip r:embed="rId1"/>
          <a:stretch/>
        </p:blipFill>
        <p:spPr>
          <a:xfrm>
            <a:off x="628560" y="182520"/>
            <a:ext cx="7886880" cy="1268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628560" y="1933560"/>
            <a:ext cx="7886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3 г. – 7224 ё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4 г. - ?, в 3 раза мень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entury"/>
              </a:rPr>
              <a:t>2015 г. - ?, в 2 раза мень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Стрелка углом вверх 9"/>
          <p:cNvSpPr/>
          <p:nvPr/>
        </p:nvSpPr>
        <p:spPr>
          <a:xfrm rot="16200000">
            <a:off x="5080680" y="1724760"/>
            <a:ext cx="784080" cy="1331640"/>
          </a:xfrm>
          <a:custGeom>
            <a:avLst/>
            <a:gdLst/>
            <a:ahLst/>
            <a:rect l="l" t="t" r="r" b="b"/>
            <a:pathLst>
              <a:path w="784225" h="1331913">
                <a:moveTo>
                  <a:pt x="0" y="1135857"/>
                </a:moveTo>
                <a:lnTo>
                  <a:pt x="482745" y="1135857"/>
                </a:lnTo>
                <a:lnTo>
                  <a:pt x="482745" y="196056"/>
                </a:lnTo>
                <a:lnTo>
                  <a:pt x="377322" y="196056"/>
                </a:lnTo>
                <a:lnTo>
                  <a:pt x="580774" y="0"/>
                </a:lnTo>
                <a:lnTo>
                  <a:pt x="784225" y="196056"/>
                </a:lnTo>
                <a:lnTo>
                  <a:pt x="678802" y="196056"/>
                </a:lnTo>
                <a:lnTo>
                  <a:pt x="678802" y="1331913"/>
                </a:lnTo>
                <a:lnTo>
                  <a:pt x="0" y="1331913"/>
                </a:lnTo>
                <a:lnTo>
                  <a:pt x="0" y="1135857"/>
                </a:lnTo>
                <a:close/>
              </a:path>
            </a:pathLst>
          </a:custGeom>
          <a:solidFill>
            <a:srgbClr val="5b9bd5"/>
          </a:solidFill>
          <a:ln w="4788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Стрелка углом вверх 10"/>
          <p:cNvSpPr/>
          <p:nvPr/>
        </p:nvSpPr>
        <p:spPr>
          <a:xfrm rot="16000200">
            <a:off x="6241320" y="2582280"/>
            <a:ext cx="885960" cy="866880"/>
          </a:xfrm>
          <a:custGeom>
            <a:avLst/>
            <a:gdLst/>
            <a:ahLst/>
            <a:rect l="l" t="t" r="r" b="b"/>
            <a:pathLst>
              <a:path w="885825" h="866775">
                <a:moveTo>
                  <a:pt x="0" y="650081"/>
                </a:moveTo>
                <a:lnTo>
                  <a:pt x="560784" y="650081"/>
                </a:lnTo>
                <a:lnTo>
                  <a:pt x="560784" y="216694"/>
                </a:lnTo>
                <a:lnTo>
                  <a:pt x="452438" y="216694"/>
                </a:lnTo>
                <a:lnTo>
                  <a:pt x="669131" y="0"/>
                </a:lnTo>
                <a:lnTo>
                  <a:pt x="885825" y="216694"/>
                </a:lnTo>
                <a:lnTo>
                  <a:pt x="777478" y="216694"/>
                </a:lnTo>
                <a:lnTo>
                  <a:pt x="777478" y="866775"/>
                </a:lnTo>
                <a:lnTo>
                  <a:pt x="0" y="866775"/>
                </a:lnTo>
                <a:lnTo>
                  <a:pt x="0" y="650081"/>
                </a:lnTo>
                <a:close/>
              </a:path>
            </a:pathLst>
          </a:custGeom>
          <a:solidFill>
            <a:srgbClr val="5b9bd5"/>
          </a:solidFill>
          <a:ln w="4788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370080" y="4197240"/>
            <a:ext cx="594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1.) 7224: 3=2408 (ёлок) продали в 2014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2.) 2408: 2=1204 (ёлки) продали в 2015 год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твет: 1204 ё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3800" y="185760"/>
            <a:ext cx="8342280" cy="5410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годняя телеграмма</a:t>
            </a:r>
            <a:br>
              <a:rPr sz="40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ая работа         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418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  <a:ea typeface="Calibri"/>
              </a:rPr>
              <a:t>119,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03, 903, 980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№9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 Light"/>
              </a:rPr>
              <a:t>2470, 103, 9400, 106000, 10800.</a:t>
            </a:r>
            <a:br>
              <a:rPr sz="36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3880" y="4589280"/>
            <a:ext cx="78868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4:19:53Z</dcterms:created>
  <dc:creator>Инна</dc:creator>
  <dc:description/>
  <dc:language>en-US</dc:language>
  <cp:lastModifiedBy>админ</cp:lastModifiedBy>
  <dcterms:modified xsi:type="dcterms:W3CDTF">2016-12-19T19:00:10Z</dcterms:modified>
  <cp:revision>53</cp:revision>
  <dc:subject/>
  <dc:title>Название презентации</dc:title>
</cp:coreProperties>
</file>