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5.jpeg" ContentType="image/jpeg"/>
  <Override PartName="/ppt/media/image12.jpeg" ContentType="image/jpeg"/>
  <Override PartName="/ppt/media/image13.jpeg" ContentType="image/jpeg"/>
  <Override PartName="/ppt/media/image30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9.jpeg" ContentType="image/jpeg"/>
  <Override PartName="/ppt/media/image20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654-2FC1-4BE9-8045-32B4FA64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010F-3609-4E54-96F1-E38AFC1B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98AB-98D5-413A-B994-41C786FA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CA8-C44F-4DAF-A754-7BD817FF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8DA-657D-463F-82BF-F30D233A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86D-4CA0-43EB-8E0B-33E4ADE5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630-DA82-4CD9-A265-4E4FE9A4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72B7-A0E5-4D06-BDA1-A993545D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32DD-A502-40EA-BBF5-39AB4C69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9ABC-4A5F-4246-B9F5-394F38D0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A20-7B6C-4304-971A-5979A471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9CD-AA8B-4809-9B5B-19D4815A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09A9-2677-41BB-ABCD-B5216C92C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2700360" y="620640"/>
            <a:ext cx="3743280" cy="2303640"/>
          </a:xfrm>
          <a:prstGeom prst="wedgeEllipseCallout">
            <a:avLst>
              <a:gd name="adj1" fmla="val -85199"/>
              <a:gd name="adj2" fmla="val -4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розвенел уже звонок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чинать пора ур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708360" y="3141720"/>
            <a:ext cx="4680000" cy="1898640"/>
          </a:xfrm>
          <a:prstGeom prst="wedgeEllipseCallout">
            <a:avLst>
              <a:gd name="adj1" fmla="val -86500"/>
              <a:gd name="adj2" fmla="val -1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Пришло время вычисля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На вопросы отвеч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7308720" y="476280"/>
            <a:ext cx="1447920" cy="1440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826920" y="765000"/>
            <a:ext cx="841680" cy="194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&amp;vcy;&amp;icy;&amp;dcy;&amp;iecy;&amp;ocy; &amp;acy;&amp;scy;&amp;scy;&amp;acy;&amp;scy;&amp;icy;&amp;ncy; &amp;kcy;&amp;rcy;&amp;icy;&amp;dcy; 3 - &amp;SHcy;&amp;kcy;&amp;ocy;&amp;lcy;&amp;softcy;&amp;ncy;&amp;ycy;&amp;iecy; &amp;rcy;&amp;iecy;&amp;fcy;&amp;iecy;&amp;rcy;&amp;acy;&amp;tcy;&amp;ycy; &amp;pcy;&amp;ocy; &amp;ncy;&amp;acy;&amp;ucy;&amp;kcy;&amp;acy;&amp;mcy;: &amp;scy;&amp;kcy;&amp;acy;&amp;chcy;&amp;acy;&amp;tcy;&amp;softcy; &amp;bcy;&amp;ycy;&amp;scy;&amp;tcy;&amp;rcy;&amp;ocy; &amp;icy; &amp;lcy;&amp;iecy;&amp;gcy;&amp;kcy;&amp;ocy;"/>
          <p:cNvPicPr/>
          <p:nvPr/>
        </p:nvPicPr>
        <p:blipFill>
          <a:blip r:embed="rId4"/>
          <a:stretch/>
        </p:blipFill>
        <p:spPr>
          <a:xfrm>
            <a:off x="609480" y="3124080"/>
            <a:ext cx="143208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9000" y="837720"/>
            <a:ext cx="5029200" cy="403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ма урока:</a:t>
            </a:r>
            <a:br>
              <a:rPr sz="4800"/>
            </a:br>
            <a:br>
              <a:rPr sz="2000"/>
            </a:b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«Порядок действий. Закрепление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img007"/>
          <p:cNvPicPr/>
          <p:nvPr/>
        </p:nvPicPr>
        <p:blipFill>
          <a:blip r:embed="rId2"/>
          <a:srcRect l="8329" t="53395" r="60439" b="19263"/>
          <a:stretch/>
        </p:blipFill>
        <p:spPr>
          <a:xfrm>
            <a:off x="990720" y="1371600"/>
            <a:ext cx="2743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ель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учить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Понять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Узнат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асширить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2"/>
          <a:srcRect l="0" t="10607" r="10566" b="6058"/>
          <a:stretch/>
        </p:blipFill>
        <p:spPr>
          <a:xfrm>
            <a:off x="3352680" y="1219320"/>
            <a:ext cx="3835440" cy="5410080"/>
          </a:xfrm>
          <a:prstGeom prst="rect">
            <a:avLst/>
          </a:prstGeom>
          <a:ln w="9360">
            <a:solidFill>
              <a:srgbClr val="5858c8"/>
            </a:solidFill>
            <a:miter/>
          </a:ln>
        </p:spPr>
      </p:pic>
      <p:sp>
        <p:nvSpPr>
          <p:cNvPr id="93" name="Rectangle 3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Arial"/>
              </a:rPr>
              <a:t>Помни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28600" y="411480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990720" y="4191120"/>
            <a:ext cx="2514600" cy="10191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ор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990720" y="2666880"/>
            <a:ext cx="2514600" cy="10191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у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1066680" y="1295280"/>
            <a:ext cx="2514600" cy="101916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019160"/>
              <a:gd name="textAreaBottom" fmla="*/ 1019520 h 10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253" y="0"/>
                </a:lnTo>
                <a:lnTo>
                  <a:pt x="21600" y="10800"/>
                </a:lnTo>
                <a:lnTo>
                  <a:pt x="142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5858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у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358164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тр.110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№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0_1230f8_5c88481f_S.png"/>
          <p:cNvPicPr/>
          <p:nvPr/>
        </p:nvPicPr>
        <p:blipFill>
          <a:blip r:embed="rId1"/>
          <a:stretch/>
        </p:blipFill>
        <p:spPr>
          <a:xfrm>
            <a:off x="4419720" y="1066680"/>
            <a:ext cx="42447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358164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тр.112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№ 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0_1230f8_5c88481f_S.png"/>
          <p:cNvPicPr/>
          <p:nvPr/>
        </p:nvPicPr>
        <p:blipFill>
          <a:blip r:embed="rId1"/>
          <a:stretch/>
        </p:blipFill>
        <p:spPr>
          <a:xfrm>
            <a:off x="4419720" y="1066680"/>
            <a:ext cx="42447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3581640" cy="46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тр.112 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№ 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4" descr="0_1230f8_5c88481f_S.png"/>
          <p:cNvPicPr/>
          <p:nvPr/>
        </p:nvPicPr>
        <p:blipFill>
          <a:blip r:embed="rId1"/>
          <a:stretch/>
        </p:blipFill>
        <p:spPr>
          <a:xfrm>
            <a:off x="4419720" y="1066680"/>
            <a:ext cx="424476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1371600" y="1447920"/>
            <a:ext cx="6705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2895480" cy="257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i?id=186998e5aac84770330c17ca72575d34-56-144&amp;n=21"/>
          <p:cNvPicPr/>
          <p:nvPr/>
        </p:nvPicPr>
        <p:blipFill>
          <a:blip r:embed="rId3"/>
          <a:stretch/>
        </p:blipFill>
        <p:spPr>
          <a:xfrm>
            <a:off x="1600200" y="3048120"/>
            <a:ext cx="2819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5257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 * 4 + 5 * 3 + 7 * 7 = 76 см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линна ломанной №20, стр.1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27"/>
          <p:cNvSpPr/>
          <p:nvPr/>
        </p:nvSpPr>
        <p:spPr>
          <a:xfrm flipV="1">
            <a:off x="762120" y="2362320"/>
            <a:ext cx="838080" cy="1295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9"/>
          <p:cNvSpPr/>
          <p:nvPr/>
        </p:nvSpPr>
        <p:spPr>
          <a:xfrm>
            <a:off x="1600200" y="2362320"/>
            <a:ext cx="609480" cy="1218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31"/>
          <p:cNvSpPr/>
          <p:nvPr/>
        </p:nvSpPr>
        <p:spPr>
          <a:xfrm flipV="1">
            <a:off x="2209680" y="2286000"/>
            <a:ext cx="68580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33"/>
          <p:cNvSpPr/>
          <p:nvPr/>
        </p:nvSpPr>
        <p:spPr>
          <a:xfrm>
            <a:off x="2895480" y="2286000"/>
            <a:ext cx="838440" cy="137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ая соединительная линия 35"/>
          <p:cNvSpPr/>
          <p:nvPr/>
        </p:nvSpPr>
        <p:spPr>
          <a:xfrm flipV="1">
            <a:off x="3733920" y="1523520"/>
            <a:ext cx="914400" cy="21337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37"/>
          <p:cNvSpPr/>
          <p:nvPr/>
        </p:nvSpPr>
        <p:spPr>
          <a:xfrm>
            <a:off x="4648320" y="1523880"/>
            <a:ext cx="761760" cy="213372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39"/>
          <p:cNvSpPr/>
          <p:nvPr/>
        </p:nvSpPr>
        <p:spPr>
          <a:xfrm flipV="1">
            <a:off x="5334120" y="1447920"/>
            <a:ext cx="990360" cy="220968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41"/>
          <p:cNvSpPr/>
          <p:nvPr/>
        </p:nvSpPr>
        <p:spPr>
          <a:xfrm>
            <a:off x="6324480" y="1447920"/>
            <a:ext cx="457200" cy="327636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43"/>
          <p:cNvSpPr/>
          <p:nvPr/>
        </p:nvSpPr>
        <p:spPr>
          <a:xfrm flipV="1">
            <a:off x="6781680" y="1371240"/>
            <a:ext cx="685800" cy="335268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4"/>
          <p:cNvSpPr/>
          <p:nvPr/>
        </p:nvSpPr>
        <p:spPr>
          <a:xfrm rot="3526800">
            <a:off x="1746000" y="2642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 rot="18289200">
            <a:off x="569880" y="277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0"/>
          <p:cNvSpPr/>
          <p:nvPr/>
        </p:nvSpPr>
        <p:spPr>
          <a:xfrm rot="3447000">
            <a:off x="2995200" y="247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1"/>
          <p:cNvSpPr/>
          <p:nvPr/>
        </p:nvSpPr>
        <p:spPr>
          <a:xfrm rot="17577600">
            <a:off x="2322360" y="286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3"/>
          <p:cNvSpPr/>
          <p:nvPr/>
        </p:nvSpPr>
        <p:spPr>
          <a:xfrm rot="17577600">
            <a:off x="3693960" y="22593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4"/>
          <p:cNvSpPr/>
          <p:nvPr/>
        </p:nvSpPr>
        <p:spPr>
          <a:xfrm rot="17577600">
            <a:off x="5370480" y="2107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5"/>
          <p:cNvSpPr/>
          <p:nvPr/>
        </p:nvSpPr>
        <p:spPr>
          <a:xfrm rot="3523800">
            <a:off x="4758480" y="1860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57"/>
          <p:cNvSpPr/>
          <p:nvPr/>
        </p:nvSpPr>
        <p:spPr>
          <a:xfrm>
            <a:off x="731520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8"/>
          <p:cNvSpPr/>
          <p:nvPr/>
        </p:nvSpPr>
        <p:spPr>
          <a:xfrm>
            <a:off x="5958000" y="3610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Сделай сам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33520" y="2819520"/>
            <a:ext cx="7238880" cy="1099440"/>
          </a:xfrm>
          <a:prstGeom prst="rect">
            <a:avLst/>
          </a:prstGeom>
          <a:solidFill>
            <a:srgbClr val="33cccc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6600" spc="-1" strike="noStrike">
                <a:solidFill>
                  <a:srgbClr val="333399"/>
                </a:solidFill>
                <a:latin typeface="Arial"/>
              </a:rPr>
              <a:t>9 стр. 1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43000" y="13716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20 – 237 + 58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7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* 2 : 4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 : 4 * 2 =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3 : 7 * 2 =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93560" indent="-49356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523880" y="434340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Arial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2362320" y="1295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6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>
            <a:off x="1905120" y="21337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2209680" y="29718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22096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5"/>
          <p:cNvSpPr txBox="1"/>
          <p:nvPr/>
        </p:nvSpPr>
        <p:spPr>
          <a:xfrm>
            <a:off x="762120" y="762120"/>
            <a:ext cx="7953120" cy="847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У меня всё получится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5638680" y="32004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9 стр. 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1371600" y="1914480"/>
            <a:ext cx="4114800" cy="3992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"/>
          <p:cNvPicPr/>
          <p:nvPr/>
        </p:nvPicPr>
        <p:blipFill>
          <a:blip r:embed="rId3"/>
          <a:stretch/>
        </p:blipFill>
        <p:spPr>
          <a:xfrm>
            <a:off x="7162920" y="1143000"/>
            <a:ext cx="1800000" cy="160164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5"/>
          <p:cNvSpPr/>
          <p:nvPr/>
        </p:nvSpPr>
        <p:spPr>
          <a:xfrm>
            <a:off x="1332000" y="692280"/>
            <a:ext cx="5688000" cy="792000"/>
          </a:xfrm>
          <a:prstGeom prst="wedgeEllipseCallout">
            <a:avLst>
              <a:gd name="adj1" fmla="val 63564"/>
              <a:gd name="adj2" fmla="val -103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Домашнее зад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1979640" y="1700280"/>
            <a:ext cx="3744720" cy="1008000"/>
          </a:xfrm>
          <a:prstGeom prst="wedgeEllipseCallout">
            <a:avLst>
              <a:gd name="adj1" fmla="val 100319"/>
              <a:gd name="adj2" fmla="val -119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то понрав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1030320" cy="158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4"/>
          <p:cNvSpPr/>
          <p:nvPr/>
        </p:nvSpPr>
        <p:spPr>
          <a:xfrm>
            <a:off x="1835280" y="3141720"/>
            <a:ext cx="4176720" cy="1150920"/>
          </a:xfrm>
          <a:prstGeom prst="wedgeEllipseCallout">
            <a:avLst>
              <a:gd name="adj1" fmla="val -62694"/>
              <a:gd name="adj2" fmla="val 413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Какое задание было труд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124000" y="4508640"/>
            <a:ext cx="5761080" cy="1152360"/>
          </a:xfrm>
          <a:prstGeom prst="wedgeEllipseCallout">
            <a:avLst>
              <a:gd name="adj1" fmla="val 53499"/>
              <a:gd name="adj2" fmla="val -896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Что необходимо повторить на следующем уро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903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3"/>
          <a:stretch/>
        </p:blipFill>
        <p:spPr>
          <a:xfrm>
            <a:off x="7620120" y="990720"/>
            <a:ext cx="1266840" cy="1127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&amp;vcy;&amp;icy;&amp;dcy;&amp;iecy;&amp;ocy; &amp;acy;&amp;scy;&amp;scy;&amp;acy;&amp;scy;&amp;icy;&amp;ncy; &amp;kcy;&amp;rcy;&amp;icy;&amp;dcy; 3 - &amp;SHcy;&amp;kcy;&amp;ocy;&amp;lcy;&amp;softcy;&amp;ncy;&amp;ycy;&amp;iecy; &amp;rcy;&amp;iecy;&amp;fcy;&amp;iecy;&amp;rcy;&amp;acy;&amp;tcy;&amp;ycy; &amp;pcy;&amp;ocy; &amp;ncy;&amp;acy;&amp;ucy;&amp;kcy;&amp;acy;&amp;mcy;: &amp;scy;&amp;kcy;&amp;acy;&amp;chcy;&amp;acy;&amp;tcy;&amp;softcy; &amp;bcy;&amp;ycy;&amp;scy;&amp;tcy;&amp;rcy;&amp;ocy; &amp;icy; &amp;lcy;&amp;iecy;&amp;gcy;&amp;kcy;&amp;ocy;"/>
          <p:cNvPicPr/>
          <p:nvPr/>
        </p:nvPicPr>
        <p:blipFill>
          <a:blip r:embed="rId4"/>
          <a:stretch/>
        </p:blipFill>
        <p:spPr>
          <a:xfrm>
            <a:off x="7391520" y="2438280"/>
            <a:ext cx="966600" cy="152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рад"/>
          <p:cNvPicPr/>
          <p:nvPr/>
        </p:nvPicPr>
        <p:blipFill>
          <a:blip r:embed="rId2"/>
          <a:srcRect l="0" t="4956" r="0" b="4856"/>
          <a:stretch/>
        </p:blipFill>
        <p:spPr>
          <a:xfrm>
            <a:off x="1295280" y="2895480"/>
            <a:ext cx="1590840" cy="2173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печ"/>
          <p:cNvPicPr/>
          <p:nvPr/>
        </p:nvPicPr>
        <p:blipFill>
          <a:blip r:embed="rId3"/>
          <a:srcRect l="-6993" t="0" r="0" b="0"/>
          <a:stretch/>
        </p:blipFill>
        <p:spPr>
          <a:xfrm>
            <a:off x="5181480" y="2819520"/>
            <a:ext cx="1752840" cy="2203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/>
          <a:stretch/>
        </p:blipFill>
        <p:spPr>
          <a:xfrm>
            <a:off x="7093080" y="981000"/>
            <a:ext cx="1800000" cy="160200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6"/>
          <p:cNvSpPr/>
          <p:nvPr/>
        </p:nvSpPr>
        <p:spPr>
          <a:xfrm>
            <a:off x="1187280" y="1484280"/>
            <a:ext cx="5688360" cy="1225440"/>
          </a:xfrm>
          <a:prstGeom prst="wedgeEllipseCallout">
            <a:avLst>
              <a:gd name="adj1" fmla="val 64847"/>
              <a:gd name="adj2" fmla="val -126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</a:rPr>
              <a:t>Выберите своё настро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8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2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На уроке нас сегодня ждут великие дел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 rot="19827000">
            <a:off x="380520" y="2133360"/>
            <a:ext cx="1295640" cy="1774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 rot="1010400">
            <a:off x="4343400" y="1599840"/>
            <a:ext cx="1371600" cy="1752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 rot="2149800">
            <a:off x="7399080" y="2552400"/>
            <a:ext cx="1422360" cy="18208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омет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7"/>
          <p:cNvSpPr/>
          <p:nvPr/>
        </p:nvSpPr>
        <p:spPr>
          <a:xfrm rot="20556600">
            <a:off x="2201760" y="1693440"/>
            <a:ext cx="1447920" cy="18288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 rot="1896000">
            <a:off x="6081480" y="1874520"/>
            <a:ext cx="1295280" cy="1660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 rot="20326200">
            <a:off x="1828800" y="3581280"/>
            <a:ext cx="1295280" cy="1752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1"/>
          <p:cNvSpPr/>
          <p:nvPr/>
        </p:nvSpPr>
        <p:spPr>
          <a:xfrm rot="2007600">
            <a:off x="5486040" y="3657600"/>
            <a:ext cx="1600200" cy="1981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ашн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6"/>
          <p:cNvSpPr/>
          <p:nvPr/>
        </p:nvSpPr>
        <p:spPr>
          <a:xfrm>
            <a:off x="1371600" y="3809880"/>
            <a:ext cx="1866960" cy="2268720"/>
          </a:xfrm>
          <a:custGeom>
            <a:avLst/>
            <a:gdLst>
              <a:gd name="textAreaLeft" fmla="*/ 0 w 1866960"/>
              <a:gd name="textAreaRight" fmla="*/ 1867320 w 1866960"/>
              <a:gd name="textAreaTop" fmla="*/ 0 h 2268720"/>
              <a:gd name="textAreaBottom" fmla="*/ 2269080 h 2268720"/>
            </a:gdLst>
            <a:ahLst/>
            <a:rect l="textAreaLeft" t="textAreaTop" r="textAreaRight" b="textAreaBottom"/>
            <a:pathLst>
              <a:path w="1149" h="1383">
                <a:moveTo>
                  <a:pt x="3" y="0"/>
                </a:moveTo>
                <a:cubicBezTo>
                  <a:pt x="12" y="64"/>
                  <a:pt x="4" y="31"/>
                  <a:pt x="24" y="88"/>
                </a:cubicBezTo>
                <a:cubicBezTo>
                  <a:pt x="26" y="95"/>
                  <a:pt x="31" y="109"/>
                  <a:pt x="31" y="109"/>
                </a:cubicBezTo>
                <a:cubicBezTo>
                  <a:pt x="28" y="174"/>
                  <a:pt x="32" y="254"/>
                  <a:pt x="10" y="319"/>
                </a:cubicBezTo>
                <a:cubicBezTo>
                  <a:pt x="14" y="416"/>
                  <a:pt x="0" y="476"/>
                  <a:pt x="51" y="549"/>
                </a:cubicBezTo>
                <a:cubicBezTo>
                  <a:pt x="60" y="583"/>
                  <a:pt x="70" y="591"/>
                  <a:pt x="92" y="617"/>
                </a:cubicBezTo>
                <a:cubicBezTo>
                  <a:pt x="116" y="646"/>
                  <a:pt x="132" y="685"/>
                  <a:pt x="159" y="712"/>
                </a:cubicBezTo>
                <a:cubicBezTo>
                  <a:pt x="216" y="769"/>
                  <a:pt x="156" y="691"/>
                  <a:pt x="214" y="759"/>
                </a:cubicBezTo>
                <a:cubicBezTo>
                  <a:pt x="219" y="765"/>
                  <a:pt x="221" y="774"/>
                  <a:pt x="227" y="780"/>
                </a:cubicBezTo>
                <a:cubicBezTo>
                  <a:pt x="262" y="816"/>
                  <a:pt x="309" y="836"/>
                  <a:pt x="342" y="874"/>
                </a:cubicBezTo>
                <a:cubicBezTo>
                  <a:pt x="346" y="878"/>
                  <a:pt x="377" y="917"/>
                  <a:pt x="383" y="929"/>
                </a:cubicBezTo>
                <a:cubicBezTo>
                  <a:pt x="406" y="979"/>
                  <a:pt x="404" y="1033"/>
                  <a:pt x="437" y="1078"/>
                </a:cubicBezTo>
                <a:cubicBezTo>
                  <a:pt x="451" y="1131"/>
                  <a:pt x="434" y="1079"/>
                  <a:pt x="464" y="1132"/>
                </a:cubicBezTo>
                <a:cubicBezTo>
                  <a:pt x="520" y="1230"/>
                  <a:pt x="564" y="1284"/>
                  <a:pt x="681" y="1308"/>
                </a:cubicBezTo>
                <a:cubicBezTo>
                  <a:pt x="744" y="1355"/>
                  <a:pt x="686" y="1319"/>
                  <a:pt x="830" y="1335"/>
                </a:cubicBezTo>
                <a:cubicBezTo>
                  <a:pt x="879" y="1340"/>
                  <a:pt x="930" y="1355"/>
                  <a:pt x="979" y="1362"/>
                </a:cubicBezTo>
                <a:cubicBezTo>
                  <a:pt x="999" y="1365"/>
                  <a:pt x="1020" y="1366"/>
                  <a:pt x="1040" y="1369"/>
                </a:cubicBezTo>
                <a:cubicBezTo>
                  <a:pt x="1076" y="1373"/>
                  <a:pt x="1149" y="1383"/>
                  <a:pt x="1149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7"/>
          <p:cNvSpPr/>
          <p:nvPr/>
        </p:nvSpPr>
        <p:spPr>
          <a:xfrm>
            <a:off x="3276720" y="3429000"/>
            <a:ext cx="556920" cy="2476440"/>
          </a:xfrm>
          <a:custGeom>
            <a:avLst/>
            <a:gdLst>
              <a:gd name="textAreaLeft" fmla="*/ 0 w 556920"/>
              <a:gd name="textAreaRight" fmla="*/ 557280 w 556920"/>
              <a:gd name="textAreaTop" fmla="*/ 0 h 2476440"/>
              <a:gd name="textAreaBottom" fmla="*/ 2476800 h 2476440"/>
            </a:gdLst>
            <a:ahLst/>
            <a:rect l="textAreaLeft" t="textAreaTop" r="textAreaRight" b="textAreaBottom"/>
            <a:pathLst>
              <a:path w="335" h="1518">
                <a:moveTo>
                  <a:pt x="0" y="0"/>
                </a:moveTo>
                <a:cubicBezTo>
                  <a:pt x="6" y="17"/>
                  <a:pt x="14" y="38"/>
                  <a:pt x="14" y="55"/>
                </a:cubicBezTo>
                <a:cubicBezTo>
                  <a:pt x="18" y="224"/>
                  <a:pt x="17" y="394"/>
                  <a:pt x="21" y="563"/>
                </a:cubicBezTo>
                <a:cubicBezTo>
                  <a:pt x="23" y="639"/>
                  <a:pt x="48" y="751"/>
                  <a:pt x="116" y="793"/>
                </a:cubicBezTo>
                <a:cubicBezTo>
                  <a:pt x="126" y="827"/>
                  <a:pt x="183" y="875"/>
                  <a:pt x="183" y="875"/>
                </a:cubicBezTo>
                <a:cubicBezTo>
                  <a:pt x="198" y="917"/>
                  <a:pt x="177" y="874"/>
                  <a:pt x="217" y="908"/>
                </a:cubicBezTo>
                <a:cubicBezTo>
                  <a:pt x="263" y="948"/>
                  <a:pt x="302" y="1027"/>
                  <a:pt x="312" y="1085"/>
                </a:cubicBezTo>
                <a:cubicBezTo>
                  <a:pt x="311" y="1123"/>
                  <a:pt x="335" y="1317"/>
                  <a:pt x="265" y="1362"/>
                </a:cubicBezTo>
                <a:cubicBezTo>
                  <a:pt x="249" y="1386"/>
                  <a:pt x="228" y="1394"/>
                  <a:pt x="210" y="1417"/>
                </a:cubicBezTo>
                <a:cubicBezTo>
                  <a:pt x="200" y="1430"/>
                  <a:pt x="183" y="1457"/>
                  <a:pt x="183" y="1457"/>
                </a:cubicBezTo>
                <a:cubicBezTo>
                  <a:pt x="177" y="1479"/>
                  <a:pt x="170" y="1495"/>
                  <a:pt x="170" y="151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2"/>
          <p:cNvSpPr/>
          <p:nvPr/>
        </p:nvSpPr>
        <p:spPr>
          <a:xfrm>
            <a:off x="4549680" y="5110200"/>
            <a:ext cx="270000" cy="1322280"/>
          </a:xfrm>
          <a:custGeom>
            <a:avLst/>
            <a:gdLst>
              <a:gd name="textAreaLeft" fmla="*/ 0 w 270000"/>
              <a:gd name="textAreaRight" fmla="*/ 270360 w 270000"/>
              <a:gd name="textAreaTop" fmla="*/ 0 h 1322280"/>
              <a:gd name="textAreaBottom" fmla="*/ 1322640 h 1322280"/>
            </a:gdLst>
            <a:ahLst/>
            <a:rect l="textAreaLeft" t="textAreaTop" r="textAreaRight" b="textAreaBottom"/>
            <a:pathLst>
              <a:path w="170" h="833">
                <a:moveTo>
                  <a:pt x="61" y="0"/>
                </a:moveTo>
                <a:cubicBezTo>
                  <a:pt x="106" y="64"/>
                  <a:pt x="149" y="89"/>
                  <a:pt x="170" y="169"/>
                </a:cubicBezTo>
                <a:cubicBezTo>
                  <a:pt x="164" y="253"/>
                  <a:pt x="156" y="329"/>
                  <a:pt x="109" y="400"/>
                </a:cubicBezTo>
                <a:cubicBezTo>
                  <a:pt x="83" y="440"/>
                  <a:pt x="59" y="480"/>
                  <a:pt x="34" y="522"/>
                </a:cubicBezTo>
                <a:cubicBezTo>
                  <a:pt x="24" y="539"/>
                  <a:pt x="0" y="550"/>
                  <a:pt x="0" y="569"/>
                </a:cubicBezTo>
                <a:cubicBezTo>
                  <a:pt x="0" y="657"/>
                  <a:pt x="0" y="745"/>
                  <a:pt x="0" y="8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2708280" y="5335560"/>
            <a:ext cx="1347840" cy="95724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849" h="603">
                <a:moveTo>
                  <a:pt x="2" y="0"/>
                </a:moveTo>
                <a:cubicBezTo>
                  <a:pt x="17" y="70"/>
                  <a:pt x="0" y="47"/>
                  <a:pt x="36" y="81"/>
                </a:cubicBezTo>
                <a:cubicBezTo>
                  <a:pt x="49" y="125"/>
                  <a:pt x="79" y="140"/>
                  <a:pt x="117" y="156"/>
                </a:cubicBezTo>
                <a:cubicBezTo>
                  <a:pt x="148" y="187"/>
                  <a:pt x="177" y="196"/>
                  <a:pt x="219" y="203"/>
                </a:cubicBezTo>
                <a:cubicBezTo>
                  <a:pt x="248" y="223"/>
                  <a:pt x="286" y="232"/>
                  <a:pt x="320" y="244"/>
                </a:cubicBezTo>
                <a:cubicBezTo>
                  <a:pt x="329" y="247"/>
                  <a:pt x="338" y="248"/>
                  <a:pt x="347" y="251"/>
                </a:cubicBezTo>
                <a:cubicBezTo>
                  <a:pt x="361" y="255"/>
                  <a:pt x="388" y="264"/>
                  <a:pt x="388" y="264"/>
                </a:cubicBezTo>
                <a:cubicBezTo>
                  <a:pt x="440" y="305"/>
                  <a:pt x="503" y="321"/>
                  <a:pt x="564" y="346"/>
                </a:cubicBezTo>
                <a:cubicBezTo>
                  <a:pt x="610" y="392"/>
                  <a:pt x="552" y="339"/>
                  <a:pt x="618" y="380"/>
                </a:cubicBezTo>
                <a:cubicBezTo>
                  <a:pt x="650" y="400"/>
                  <a:pt x="676" y="433"/>
                  <a:pt x="706" y="454"/>
                </a:cubicBezTo>
                <a:cubicBezTo>
                  <a:pt x="729" y="470"/>
                  <a:pt x="752" y="484"/>
                  <a:pt x="774" y="502"/>
                </a:cubicBezTo>
                <a:cubicBezTo>
                  <a:pt x="801" y="524"/>
                  <a:pt x="800" y="529"/>
                  <a:pt x="822" y="563"/>
                </a:cubicBezTo>
                <a:cubicBezTo>
                  <a:pt x="831" y="576"/>
                  <a:pt x="849" y="603"/>
                  <a:pt x="849" y="60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5002200" y="3421080"/>
            <a:ext cx="1270080" cy="253836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2538360"/>
              <a:gd name="textAreaBottom" fmla="*/ 2538720 h 2538360"/>
            </a:gdLst>
            <a:ahLst/>
            <a:rect l="textAreaLeft" t="textAreaTop" r="textAreaRight" b="textAreaBottom"/>
            <a:pathLst>
              <a:path w="800" h="1599">
                <a:moveTo>
                  <a:pt x="800" y="0"/>
                </a:moveTo>
                <a:cubicBezTo>
                  <a:pt x="793" y="4"/>
                  <a:pt x="785" y="7"/>
                  <a:pt x="779" y="13"/>
                </a:cubicBezTo>
                <a:cubicBezTo>
                  <a:pt x="773" y="19"/>
                  <a:pt x="773" y="30"/>
                  <a:pt x="766" y="34"/>
                </a:cubicBezTo>
                <a:cubicBezTo>
                  <a:pt x="754" y="42"/>
                  <a:pt x="725" y="47"/>
                  <a:pt x="725" y="47"/>
                </a:cubicBezTo>
                <a:cubicBezTo>
                  <a:pt x="695" y="68"/>
                  <a:pt x="665" y="79"/>
                  <a:pt x="630" y="88"/>
                </a:cubicBezTo>
                <a:cubicBezTo>
                  <a:pt x="593" y="113"/>
                  <a:pt x="562" y="150"/>
                  <a:pt x="522" y="169"/>
                </a:cubicBezTo>
                <a:cubicBezTo>
                  <a:pt x="470" y="223"/>
                  <a:pt x="537" y="158"/>
                  <a:pt x="474" y="203"/>
                </a:cubicBezTo>
                <a:cubicBezTo>
                  <a:pt x="434" y="232"/>
                  <a:pt x="472" y="214"/>
                  <a:pt x="441" y="244"/>
                </a:cubicBezTo>
                <a:cubicBezTo>
                  <a:pt x="387" y="296"/>
                  <a:pt x="454" y="211"/>
                  <a:pt x="400" y="278"/>
                </a:cubicBezTo>
                <a:cubicBezTo>
                  <a:pt x="344" y="347"/>
                  <a:pt x="296" y="423"/>
                  <a:pt x="244" y="495"/>
                </a:cubicBezTo>
                <a:cubicBezTo>
                  <a:pt x="221" y="560"/>
                  <a:pt x="194" y="623"/>
                  <a:pt x="163" y="684"/>
                </a:cubicBezTo>
                <a:cubicBezTo>
                  <a:pt x="151" y="709"/>
                  <a:pt x="129" y="759"/>
                  <a:pt x="129" y="759"/>
                </a:cubicBezTo>
                <a:cubicBezTo>
                  <a:pt x="114" y="834"/>
                  <a:pt x="123" y="805"/>
                  <a:pt x="108" y="847"/>
                </a:cubicBezTo>
                <a:cubicBezTo>
                  <a:pt x="103" y="885"/>
                  <a:pt x="95" y="918"/>
                  <a:pt x="88" y="955"/>
                </a:cubicBezTo>
                <a:cubicBezTo>
                  <a:pt x="86" y="1104"/>
                  <a:pt x="85" y="1254"/>
                  <a:pt x="81" y="1403"/>
                </a:cubicBezTo>
                <a:cubicBezTo>
                  <a:pt x="79" y="1478"/>
                  <a:pt x="0" y="1528"/>
                  <a:pt x="0" y="159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25"/>
          <p:cNvSpPr/>
          <p:nvPr/>
        </p:nvSpPr>
        <p:spPr>
          <a:xfrm>
            <a:off x="4800600" y="5486400"/>
            <a:ext cx="1038240" cy="99072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366" h="510">
                <a:moveTo>
                  <a:pt x="353" y="9"/>
                </a:moveTo>
                <a:cubicBezTo>
                  <a:pt x="305" y="40"/>
                  <a:pt x="366" y="0"/>
                  <a:pt x="305" y="43"/>
                </a:cubicBezTo>
                <a:cubicBezTo>
                  <a:pt x="292" y="52"/>
                  <a:pt x="265" y="70"/>
                  <a:pt x="265" y="70"/>
                </a:cubicBezTo>
                <a:cubicBezTo>
                  <a:pt x="256" y="95"/>
                  <a:pt x="246" y="113"/>
                  <a:pt x="238" y="138"/>
                </a:cubicBezTo>
                <a:cubicBezTo>
                  <a:pt x="234" y="152"/>
                  <a:pt x="224" y="178"/>
                  <a:pt x="224" y="178"/>
                </a:cubicBezTo>
                <a:cubicBezTo>
                  <a:pt x="210" y="309"/>
                  <a:pt x="173" y="510"/>
                  <a:pt x="0" y="5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6"/>
          <p:cNvSpPr/>
          <p:nvPr/>
        </p:nvSpPr>
        <p:spPr>
          <a:xfrm>
            <a:off x="5432400" y="4206960"/>
            <a:ext cx="2141640" cy="2322360"/>
          </a:xfrm>
          <a:custGeom>
            <a:avLst/>
            <a:gdLst>
              <a:gd name="textAreaLeft" fmla="*/ 0 w 2141640"/>
              <a:gd name="textAreaRight" fmla="*/ 2142000 w 2141640"/>
              <a:gd name="textAreaTop" fmla="*/ 0 h 2322360"/>
              <a:gd name="textAreaBottom" fmla="*/ 2322720 h 2322360"/>
            </a:gdLst>
            <a:ahLst/>
            <a:rect l="textAreaLeft" t="textAreaTop" r="textAreaRight" b="textAreaBottom"/>
            <a:pathLst>
              <a:path w="1349" h="1463">
                <a:moveTo>
                  <a:pt x="1349" y="0"/>
                </a:moveTo>
                <a:cubicBezTo>
                  <a:pt x="1312" y="23"/>
                  <a:pt x="1299" y="72"/>
                  <a:pt x="1274" y="108"/>
                </a:cubicBezTo>
                <a:cubicBezTo>
                  <a:pt x="1253" y="189"/>
                  <a:pt x="1234" y="271"/>
                  <a:pt x="1213" y="352"/>
                </a:cubicBezTo>
                <a:cubicBezTo>
                  <a:pt x="1206" y="378"/>
                  <a:pt x="1208" y="407"/>
                  <a:pt x="1200" y="433"/>
                </a:cubicBezTo>
                <a:cubicBezTo>
                  <a:pt x="1195" y="451"/>
                  <a:pt x="1179" y="464"/>
                  <a:pt x="1172" y="481"/>
                </a:cubicBezTo>
                <a:cubicBezTo>
                  <a:pt x="1159" y="511"/>
                  <a:pt x="1145" y="540"/>
                  <a:pt x="1132" y="569"/>
                </a:cubicBezTo>
                <a:cubicBezTo>
                  <a:pt x="1108" y="622"/>
                  <a:pt x="1091" y="679"/>
                  <a:pt x="1064" y="731"/>
                </a:cubicBezTo>
                <a:cubicBezTo>
                  <a:pt x="1051" y="785"/>
                  <a:pt x="996" y="892"/>
                  <a:pt x="962" y="935"/>
                </a:cubicBezTo>
                <a:cubicBezTo>
                  <a:pt x="951" y="970"/>
                  <a:pt x="876" y="1043"/>
                  <a:pt x="847" y="1064"/>
                </a:cubicBezTo>
                <a:cubicBezTo>
                  <a:pt x="761" y="1125"/>
                  <a:pt x="920" y="1031"/>
                  <a:pt x="793" y="1111"/>
                </a:cubicBezTo>
                <a:cubicBezTo>
                  <a:pt x="710" y="1163"/>
                  <a:pt x="616" y="1207"/>
                  <a:pt x="529" y="1253"/>
                </a:cubicBezTo>
                <a:cubicBezTo>
                  <a:pt x="444" y="1298"/>
                  <a:pt x="356" y="1351"/>
                  <a:pt x="264" y="1382"/>
                </a:cubicBezTo>
                <a:cubicBezTo>
                  <a:pt x="248" y="1393"/>
                  <a:pt x="233" y="1405"/>
                  <a:pt x="217" y="1416"/>
                </a:cubicBezTo>
                <a:cubicBezTo>
                  <a:pt x="211" y="1420"/>
                  <a:pt x="214" y="1430"/>
                  <a:pt x="210" y="1436"/>
                </a:cubicBezTo>
                <a:cubicBezTo>
                  <a:pt x="195" y="1459"/>
                  <a:pt x="192" y="1456"/>
                  <a:pt x="170" y="1463"/>
                </a:cubicBezTo>
                <a:cubicBezTo>
                  <a:pt x="109" y="1454"/>
                  <a:pt x="62" y="1423"/>
                  <a:pt x="0" y="142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8"/>
          <p:cNvSpPr/>
          <p:nvPr/>
        </p:nvSpPr>
        <p:spPr>
          <a:xfrm>
            <a:off x="3962520" y="3276720"/>
            <a:ext cx="668160" cy="2979720"/>
          </a:xfrm>
          <a:custGeom>
            <a:avLst/>
            <a:gdLst>
              <a:gd name="textAreaLeft" fmla="*/ 0 w 668160"/>
              <a:gd name="textAreaRight" fmla="*/ 668520 w 668160"/>
              <a:gd name="textAreaTop" fmla="*/ 0 h 2979720"/>
              <a:gd name="textAreaBottom" fmla="*/ 2980080 h 2979720"/>
            </a:gdLst>
            <a:ahLst/>
            <a:rect l="textAreaLeft" t="textAreaTop" r="textAreaRight" b="textAreaBottom"/>
            <a:pathLst>
              <a:path w="421" h="1877">
                <a:moveTo>
                  <a:pt x="421" y="0"/>
                </a:moveTo>
                <a:cubicBezTo>
                  <a:pt x="377" y="9"/>
                  <a:pt x="362" y="30"/>
                  <a:pt x="326" y="54"/>
                </a:cubicBezTo>
                <a:cubicBezTo>
                  <a:pt x="311" y="77"/>
                  <a:pt x="302" y="93"/>
                  <a:pt x="279" y="109"/>
                </a:cubicBezTo>
                <a:cubicBezTo>
                  <a:pt x="267" y="143"/>
                  <a:pt x="258" y="174"/>
                  <a:pt x="238" y="203"/>
                </a:cubicBezTo>
                <a:cubicBezTo>
                  <a:pt x="226" y="239"/>
                  <a:pt x="220" y="276"/>
                  <a:pt x="211" y="312"/>
                </a:cubicBezTo>
                <a:cubicBezTo>
                  <a:pt x="207" y="391"/>
                  <a:pt x="210" y="522"/>
                  <a:pt x="170" y="603"/>
                </a:cubicBezTo>
                <a:cubicBezTo>
                  <a:pt x="157" y="630"/>
                  <a:pt x="147" y="659"/>
                  <a:pt x="130" y="685"/>
                </a:cubicBezTo>
                <a:cubicBezTo>
                  <a:pt x="121" y="699"/>
                  <a:pt x="102" y="725"/>
                  <a:pt x="102" y="725"/>
                </a:cubicBezTo>
                <a:cubicBezTo>
                  <a:pt x="100" y="734"/>
                  <a:pt x="100" y="744"/>
                  <a:pt x="96" y="752"/>
                </a:cubicBezTo>
                <a:cubicBezTo>
                  <a:pt x="89" y="767"/>
                  <a:pt x="69" y="793"/>
                  <a:pt x="69" y="793"/>
                </a:cubicBezTo>
                <a:cubicBezTo>
                  <a:pt x="0" y="1058"/>
                  <a:pt x="27" y="1344"/>
                  <a:pt x="75" y="1613"/>
                </a:cubicBezTo>
                <a:cubicBezTo>
                  <a:pt x="73" y="1667"/>
                  <a:pt x="69" y="1722"/>
                  <a:pt x="69" y="1776"/>
                </a:cubicBezTo>
                <a:cubicBezTo>
                  <a:pt x="69" y="1864"/>
                  <a:pt x="89" y="1837"/>
                  <a:pt x="89" y="187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0"/>
          <p:cNvSpPr/>
          <p:nvPr/>
        </p:nvSpPr>
        <p:spPr>
          <a:xfrm rot="20899200">
            <a:off x="3733560" y="3429000"/>
            <a:ext cx="1295280" cy="172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6"/>
          <p:cNvSpPr/>
          <p:nvPr/>
        </p:nvSpPr>
        <p:spPr>
          <a:xfrm>
            <a:off x="3429000" y="228600"/>
            <a:ext cx="2743200" cy="2743200"/>
          </a:xfrm>
          <a:prstGeom prst="cloudCallout">
            <a:avLst>
              <a:gd name="adj1" fmla="val -41143"/>
              <a:gd name="adj2" fmla="val 62212"/>
            </a:avLst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    8    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  4   5  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   15 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   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0"/>
          <p:cNvSpPr/>
          <p:nvPr/>
        </p:nvSpPr>
        <p:spPr>
          <a:xfrm rot="20622600">
            <a:off x="304920" y="380880"/>
            <a:ext cx="2590560" cy="2057400"/>
          </a:xfrm>
          <a:prstGeom prst="ellipse">
            <a:avLst/>
          </a:prstGeom>
          <a:solidFill>
            <a:srgbClr val="a7f7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днозна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  3   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  5   7   8   9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1"/>
          <p:cNvSpPr/>
          <p:nvPr/>
        </p:nvSpPr>
        <p:spPr>
          <a:xfrm rot="1449000">
            <a:off x="6477120" y="380880"/>
            <a:ext cx="2514600" cy="1981440"/>
          </a:xfrm>
          <a:prstGeom prst="ellipse">
            <a:avLst/>
          </a:prstGeom>
          <a:solidFill>
            <a:srgbClr val="a7f7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узнач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   21   2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lain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4"/>
          <p:cNvSpPr/>
          <p:nvPr/>
        </p:nvSpPr>
        <p:spPr>
          <a:xfrm rot="1449000">
            <a:off x="6400440" y="3200400"/>
            <a:ext cx="2514600" cy="1981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Нечё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  5  7  9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 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5"/>
          <p:cNvSpPr/>
          <p:nvPr/>
        </p:nvSpPr>
        <p:spPr>
          <a:xfrm rot="20622600">
            <a:off x="228600" y="3123720"/>
            <a:ext cx="2590920" cy="2057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Чё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  4   6   8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  2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 rot="20820600">
            <a:off x="3352680" y="3504960"/>
            <a:ext cx="3124440" cy="232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чис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520" y="1371240"/>
            <a:ext cx="4040280" cy="27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6 + 8 + 4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7 – 4 –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 + 2 – 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723920" y="3200400"/>
            <a:ext cx="40417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1 – 1 + 3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2 + 13 + 14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0 – 10 + 50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8" descr="crop_161219700_KeMh.jpg"/>
          <p:cNvPicPr/>
          <p:nvPr/>
        </p:nvPicPr>
        <p:blipFill>
          <a:blip r:embed="rId1"/>
          <a:stretch/>
        </p:blipFill>
        <p:spPr>
          <a:xfrm>
            <a:off x="27000" y="0"/>
            <a:ext cx="911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Сравн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389 + 78 + 16 + 58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58 + 389 + 78 + 2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f_11664720.png"/>
          <p:cNvPicPr/>
          <p:nvPr/>
        </p:nvPicPr>
        <p:blipFill>
          <a:blip r:embed="rId1"/>
          <a:stretch/>
        </p:blipFill>
        <p:spPr>
          <a:xfrm>
            <a:off x="6781680" y="3481560"/>
            <a:ext cx="2362320" cy="337644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609480" y="4572000"/>
            <a:ext cx="2895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твет: 5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Arial"/>
              </a:rPr>
              <a:t>Найди лишний приме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● 5                27 :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18 : 6                2 ●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 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3 ● 7                2 + 5 ●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 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24 : 6               8 ●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>
            <a:off x="4952880" y="2895480"/>
            <a:ext cx="2514600" cy="6858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2"/>
          <p:cNvSpPr/>
          <p:nvPr/>
        </p:nvSpPr>
        <p:spPr>
          <a:xfrm>
            <a:off x="611280" y="1700280"/>
            <a:ext cx="7129440" cy="396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>
                <a:solidFill>
                  <a:srgbClr val="cc0099"/>
                </a:solidFill>
                <a:latin typeface="Comic Sans MS"/>
              </a:rPr>
              <a:t>Почему в одинаковых примерах ответы разные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58560" y="2394000"/>
            <a:ext cx="5589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2+  5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  <a:ea typeface="Arial"/>
              </a:rPr>
              <a:t>*</a:t>
            </a: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3=1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476360" y="3573360"/>
            <a:ext cx="5472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2  +5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*</a:t>
            </a:r>
            <a:r>
              <a:rPr b="1" lang="ru-RU" sz="6000" spc="-1" strike="noStrike">
                <a:solidFill>
                  <a:srgbClr val="a50021"/>
                </a:solidFill>
                <a:latin typeface="Arial"/>
              </a:rPr>
              <a:t> 3=2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411280" y="6858000"/>
            <a:ext cx="280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    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00720" y="6858000"/>
            <a:ext cx="28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(     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7037E-007 L -0.02743 -0.66782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6 L -0.37013 -0.48311 E">
                                      <p:cBhvr>
                                        <p:cTn id="19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апа</cp:lastModifiedBy>
  <dcterms:modified xsi:type="dcterms:W3CDTF">2016-11-27T17:37:3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