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1EC-3BAE-4089-A19E-497C0078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378-D2AB-4B22-BA22-CDE9B8DE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FB8-B73B-458F-BAB5-37E96A4C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1F9-2B34-4E4A-9214-C285D2F2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F510-5A2B-4C92-BC60-CBFC30CB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2381-FBFD-4304-A18A-57CF2FD0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F5A9-0753-4DF3-8982-958C9CB1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4405-DD0B-496E-9ABF-D1B81864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39EB-EE6F-4011-AC82-12EA4149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2F81-FF45-409D-8ABC-89437636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7981-3A87-47DF-BD26-96F076E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1C9-7469-482D-BE94-D7F496C0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DE67-3772-448B-AA0D-236C80E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86B4-5E9D-4062-ABB4-535BFF7B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500C-D894-4B7B-A918-611D9784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6C83-1330-4202-A616-A07DE808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EF0B-1554-4D4D-AB0A-BE83656B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3AA-B844-4FD6-A0C3-FFD74DA1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30B-82A0-4055-8C0D-36678067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0ED-F347-4BFF-AE80-009981E2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F7E-D8F9-4DAD-AA82-5273926F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B39-E108-495F-8B80-BBE9224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129-7283-40B4-9762-2C18EB2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0A6-D489-461C-A74F-B74875B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3448-C1A6-49AC-AD4F-82C50002A1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358-2D54-4EDA-9FA9-44DDEEE4125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БДОУ «Детский сад №8 «Теремок»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85" name="Rectangle 3"/>
          <p:cNvGrpSpPr/>
          <p:nvPr/>
        </p:nvGrpSpPr>
        <p:grpSpPr>
          <a:xfrm>
            <a:off x="298440" y="1603440"/>
            <a:ext cx="8547120" cy="4498560"/>
            <a:chOff x="298440" y="1603440"/>
            <a:chExt cx="8547120" cy="4498560"/>
          </a:xfrm>
        </p:grpSpPr>
        <p:pic>
          <p:nvPicPr>
            <p:cNvPr id="386" name="Rectangle 3" descr=""/>
            <p:cNvPicPr/>
            <p:nvPr/>
          </p:nvPicPr>
          <p:blipFill>
            <a:blip r:embed="rId1"/>
            <a:stretch/>
          </p:blipFill>
          <p:spPr>
            <a:xfrm>
              <a:off x="298440" y="1606320"/>
              <a:ext cx="8547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301680" y="1603440"/>
              <a:ext cx="854064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езентация на тему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Познавательно-исследовательские проекты»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спитатель подготовительной группы № 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нтонюк Валентина Филипповна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 Unicode MS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Метод проектов с использованием ИК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Picture 2" descr="http://mbdouds23.ru/d/590019/d/757542421_6.jpg"/>
          <p:cNvPicPr/>
          <p:nvPr/>
        </p:nvPicPr>
        <p:blipFill>
          <a:blip r:embed="rId1"/>
          <a:stretch/>
        </p:blipFill>
        <p:spPr>
          <a:xfrm>
            <a:off x="914400" y="1816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F:\ПРОЕКТЫ АНТОНЮК\DSC00343.JPG"/>
          <p:cNvPicPr/>
          <p:nvPr/>
        </p:nvPicPr>
        <p:blipFill>
          <a:blip r:embed="rId2"/>
          <a:stretch/>
        </p:blipFill>
        <p:spPr>
          <a:xfrm>
            <a:off x="3657600" y="3124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ко и молочные продукт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5170320" y="2666880"/>
            <a:ext cx="2292480" cy="2819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1333440" y="1295280"/>
            <a:ext cx="2629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ай в котором мы живем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Picture 9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822760" cy="1884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275112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проектирования позволил изменить стиль работы с детьми, повысить активность, любознательность, вовлечь родителей и других членов семей в образовательный процес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Aleksey</cp:lastModifiedBy>
  <dcterms:modified xsi:type="dcterms:W3CDTF">2017-01-17T17:24:56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