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919E-64BC-464D-A39F-FC77FABA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8EA-C7F7-4E7C-A114-C94DA5C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267-D379-40F4-B965-9520CD6FD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F22-07A5-4B5E-98C2-F5A0F393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FF10-D5E7-4E4F-9B71-70E8B06C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5F72-08B1-4AFA-800F-71397950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BC99-BC07-45C0-80AD-7B1BB1CE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9C7F-70F9-438B-8C38-5C9800E5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2F9D-6550-4F66-9DC5-18D795C3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C3E5-CB4E-49D4-8CC5-FDCA9FF4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1D7B-1A0C-4258-BAC4-8F0E1434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DF26-E693-455D-8CB3-A06D7B3F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E3B0-8CF1-467A-A318-36CE3021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5726-21B2-4015-A326-7D7AA055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0C02-8641-4ADD-9F6B-ED24A960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756C-C060-47C7-A319-B7F03D0F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34B4-160D-46A4-9449-8224E94A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722-A6CD-471E-ABE6-734AF939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4557-E62D-4B10-ABE7-EA4D58AC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4F63-24DB-4B9C-93C4-12644C1CC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1E1E-9BA5-4CC6-85B3-3F94B5FE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88A-CF0C-4AA7-9AD5-3F4799E4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BFC9-92D8-479A-BDFE-33C79F51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7FE8-155B-4E88-97D2-B7D6355C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5687-1AB6-4959-95FE-1298CD2905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F66E-C635-4351-85F3-4FF6D2BFC751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МБДОУ «Детский сад №8 «Теремок»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385" name="Rectangle 3"/>
          <p:cNvGrpSpPr/>
          <p:nvPr/>
        </p:nvGrpSpPr>
        <p:grpSpPr>
          <a:xfrm>
            <a:off x="298440" y="1603440"/>
            <a:ext cx="8547120" cy="4498560"/>
            <a:chOff x="298440" y="1603440"/>
            <a:chExt cx="8547120" cy="4498560"/>
          </a:xfrm>
        </p:grpSpPr>
        <p:pic>
          <p:nvPicPr>
            <p:cNvPr id="386" name="Rectangle 3" descr=""/>
            <p:cNvPicPr/>
            <p:nvPr/>
          </p:nvPicPr>
          <p:blipFill>
            <a:blip r:embed="rId1"/>
            <a:stretch/>
          </p:blipFill>
          <p:spPr>
            <a:xfrm>
              <a:off x="298440" y="1606320"/>
              <a:ext cx="854712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301680" y="1603440"/>
              <a:ext cx="854064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Презентация на тему: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Познавательно-исследовательские проекты»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Воспитатель подготовительной группы № 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Антонюк Валентина Филипповна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 Unicode MS"/>
                </a:rPr>
                <a:t>.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Метод проектов с использованием ИК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Picture 2" descr="http://mbdouds23.ru/d/590019/d/757542421_6.jpg"/>
          <p:cNvPicPr/>
          <p:nvPr/>
        </p:nvPicPr>
        <p:blipFill>
          <a:blip r:embed="rId1"/>
          <a:stretch/>
        </p:blipFill>
        <p:spPr>
          <a:xfrm>
            <a:off x="914400" y="1816200"/>
            <a:ext cx="1676520" cy="1620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F:\ПРОЕКТЫ АНТОНЮК\DSC00343.JPG"/>
          <p:cNvPicPr/>
          <p:nvPr/>
        </p:nvPicPr>
        <p:blipFill>
          <a:blip r:embed="rId2"/>
          <a:stretch/>
        </p:blipFill>
        <p:spPr>
          <a:xfrm>
            <a:off x="3657600" y="3124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406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локо и молочные продукты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5170320" y="2666880"/>
            <a:ext cx="2292480" cy="28195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1333440" y="1295280"/>
            <a:ext cx="26290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4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рай в котором мы живем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5" name="Picture 9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2822760" cy="1884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4876920" y="3733920"/>
            <a:ext cx="2751120" cy="18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вод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тод проектирования позволил изменить стиль работы с детьми, повысить активность, любознательность, вовлечь родителей и других членов семей в образовательный процес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Aleksey</cp:lastModifiedBy>
  <dcterms:modified xsi:type="dcterms:W3CDTF">2017-01-17T17:24:56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