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066-075E-4169-B8C5-B7BB38F5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52F-7E6D-458E-BB67-11DB3A97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D59-294D-4603-A1F0-97F31A2F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D9A-F062-4B4E-931B-2EF8A817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743-5129-43C8-9F5F-824FCD34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B74-EF55-4F76-B1B8-13ADD907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1CD-1F8A-4276-A46D-1833D361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3D3-676F-429F-B132-F79DF723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8B7-92AE-409E-86A5-B05D3CCB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B2A-E2DE-4ADC-9FD2-D79488D7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3CE-F02D-4DBB-ADD9-5F3FCB8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523-115D-4F51-BF84-9D2B789C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D3EB-889B-4EB3-AA9E-D93F86CA8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1352520"/>
            <a:ext cx="7785000" cy="2255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5"/>
          <p:cNvSpPr txBox="1"/>
          <p:nvPr/>
        </p:nvSpPr>
        <p:spPr>
          <a:xfrm>
            <a:off x="2268360" y="333360"/>
            <a:ext cx="42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699"/>
              </a:avLst>
            </a:prstTxWarp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ерь себя: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ариант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агр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бесчисл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е, глин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я, дискусси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бар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й, дл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в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ураг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к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ремесл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еребр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тум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есс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055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ариант: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ед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олов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конопл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с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й, песч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люкв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виаци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т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земл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им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торф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м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сов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собств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7" descr="18bcd04be37359aaced241cbdde413d8"/>
          <p:cNvPicPr/>
          <p:nvPr/>
        </p:nvPicPr>
        <p:blipFill>
          <a:blip r:embed="rId1"/>
          <a:stretch/>
        </p:blipFill>
        <p:spPr>
          <a:xfrm>
            <a:off x="468360" y="404640"/>
            <a:ext cx="963720" cy="15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6d4d40cfb86ff5835e5e7798aaa9f3d5"/>
          <p:cNvPicPr/>
          <p:nvPr/>
        </p:nvPicPr>
        <p:blipFill>
          <a:blip r:embed="rId2"/>
          <a:stretch/>
        </p:blipFill>
        <p:spPr>
          <a:xfrm>
            <a:off x="7308720" y="404640"/>
            <a:ext cx="1333800" cy="12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8000"/>
                </a:solidFill>
                <a:latin typeface="Impact"/>
              </a:rPr>
              <a:t>Оцените работу: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47640" y="184464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нет ошибок –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1-2 ошибки –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3-6 ошибок –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7 и более ошибок – «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Impact"/>
              </a:rPr>
              <a:t>Домашне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1) выполнить задание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спечат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2) вспомнить правописание Н/НН в кратких прилагатель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) письменно ответить на вопрос: почему матрёшка является символом России? (5-7 предложе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НН в существительных пиш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1413000"/>
            <a:ext cx="7490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корень оканчивается на Н, а суффикс начинается с Н (буз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, имен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существительное образовано от прилагательного, в котором есть НН (к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ца-к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й, листв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ца – листв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Н в существительных пиш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2204640"/>
            <a:ext cx="6400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бразовано от существительного с Н (ветр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ь – ветр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й, кост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а – кост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й, гост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ца – гост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6600" spc="-1" strike="noStrike">
                <a:solidFill>
                  <a:srgbClr val="ff33cc"/>
                </a:solidFill>
                <a:latin typeface="Arial"/>
              </a:rPr>
              <a:t>Н                     Н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629080" y="59500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826920" y="3860640"/>
            <a:ext cx="5832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547640" y="1484280"/>
            <a:ext cx="62643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1116000" y="5661000"/>
            <a:ext cx="237636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539640" y="836640"/>
            <a:ext cx="7128000" cy="1593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468"/>
              </a:avLst>
            </a:prstTxWarp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прилагательных может быть: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Oval 10"/>
          <p:cNvSpPr/>
          <p:nvPr/>
        </p:nvSpPr>
        <p:spPr>
          <a:xfrm rot="5400000">
            <a:off x="826560" y="4076640"/>
            <a:ext cx="1728720" cy="23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1763280" y="4005360"/>
            <a:ext cx="2592360" cy="107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4427640" y="4005360"/>
            <a:ext cx="316872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6300720" y="4365720"/>
            <a:ext cx="2374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2340000" y="4221000"/>
            <a:ext cx="1440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826920" y="3645000"/>
            <a:ext cx="2376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5724360" y="3357720"/>
            <a:ext cx="7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4005360"/>
            <a:ext cx="820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H="1">
            <a:off x="1834920" y="2637000"/>
            <a:ext cx="2663640" cy="21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 flipH="1">
            <a:off x="5075280" y="1197000"/>
            <a:ext cx="3889440" cy="460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 flipH="1">
            <a:off x="5508720" y="3500280"/>
            <a:ext cx="2952720" cy="187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 flipH="1">
            <a:off x="1908000" y="2637000"/>
            <a:ext cx="2951280" cy="20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3"/>
          <p:cNvSpPr/>
          <p:nvPr/>
        </p:nvSpPr>
        <p:spPr>
          <a:xfrm>
            <a:off x="4643280" y="2708280"/>
            <a:ext cx="3097440" cy="208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971640" y="4005360"/>
            <a:ext cx="1728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781200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7" descr="роро"/>
          <p:cNvPicPr/>
          <p:nvPr/>
        </p:nvPicPr>
        <p:blipFill>
          <a:blip r:embed="rId3"/>
          <a:stretch/>
        </p:blipFill>
        <p:spPr>
          <a:xfrm>
            <a:off x="2411280" y="5661000"/>
            <a:ext cx="4600800" cy="22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alf18"/>
          <p:cNvPicPr/>
          <p:nvPr/>
        </p:nvPicPr>
        <p:blipFill>
          <a:blip r:embed="rId4"/>
          <a:stretch/>
        </p:blipFill>
        <p:spPr>
          <a:xfrm>
            <a:off x="539640" y="2276640"/>
            <a:ext cx="1008000" cy="158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alf18"/>
          <p:cNvPicPr/>
          <p:nvPr/>
        </p:nvPicPr>
        <p:blipFill>
          <a:blip r:embed="rId5"/>
          <a:stretch/>
        </p:blipFill>
        <p:spPr>
          <a:xfrm>
            <a:off x="7667640" y="2349360"/>
            <a:ext cx="927000" cy="158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alf18"/>
          <p:cNvPicPr/>
          <p:nvPr/>
        </p:nvPicPr>
        <p:blipFill>
          <a:blip r:embed="rId6"/>
          <a:stretch/>
        </p:blipFill>
        <p:spPr>
          <a:xfrm>
            <a:off x="6732720" y="2349360"/>
            <a:ext cx="927000" cy="1582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2" descr="ar18"/>
          <p:cNvPicPr/>
          <p:nvPr/>
        </p:nvPicPr>
        <p:blipFill>
          <a:blip r:embed="rId7"/>
          <a:stretch/>
        </p:blipFill>
        <p:spPr>
          <a:xfrm rot="7972800">
            <a:off x="1658520" y="3138120"/>
            <a:ext cx="2224080" cy="54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3" descr="ar18"/>
          <p:cNvPicPr/>
          <p:nvPr/>
        </p:nvPicPr>
        <p:blipFill>
          <a:blip r:embed="rId8"/>
          <a:stretch/>
        </p:blipFill>
        <p:spPr>
          <a:xfrm rot="2389800">
            <a:off x="4356000" y="3141720"/>
            <a:ext cx="2194200" cy="503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468360" y="1989000"/>
            <a:ext cx="3024000" cy="2232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-ан-, -я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жа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ледя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68360" y="4365720"/>
            <a:ext cx="3024000" cy="2332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Исклю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олов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стекл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дерев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916360" y="189000"/>
            <a:ext cx="367164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5867280" y="1989000"/>
            <a:ext cx="2880000" cy="2160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-ин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гуси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кури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V="1">
            <a:off x="3492360" y="259920"/>
            <a:ext cx="136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859280" y="260280"/>
            <a:ext cx="1297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 flipV="1">
            <a:off x="755640" y="2060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1403280" y="206064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V="1">
            <a:off x="2124000" y="206064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>
            <a:off x="2627280" y="2060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 flipV="1">
            <a:off x="6516720" y="2060640"/>
            <a:ext cx="719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7236000" y="2060640"/>
            <a:ext cx="649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2" descr="bird05"/>
          <p:cNvPicPr/>
          <p:nvPr/>
        </p:nvPicPr>
        <p:blipFill>
          <a:blip r:embed="rId1"/>
          <a:stretch/>
        </p:blipFill>
        <p:spPr>
          <a:xfrm>
            <a:off x="3952800" y="28098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jiv1631"/>
          <p:cNvPicPr/>
          <p:nvPr/>
        </p:nvPicPr>
        <p:blipFill>
          <a:blip r:embed="rId2"/>
          <a:stretch/>
        </p:blipFill>
        <p:spPr>
          <a:xfrm>
            <a:off x="7236000" y="404640"/>
            <a:ext cx="146664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7" descr="eda71"/>
          <p:cNvPicPr/>
          <p:nvPr/>
        </p:nvPicPr>
        <p:blipFill>
          <a:blip r:embed="rId3"/>
          <a:stretch/>
        </p:blipFill>
        <p:spPr>
          <a:xfrm>
            <a:off x="3564000" y="5084640"/>
            <a:ext cx="371520" cy="1162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8"/>
          <p:cNvSpPr/>
          <p:nvPr/>
        </p:nvSpPr>
        <p:spPr>
          <a:xfrm>
            <a:off x="5867280" y="4365720"/>
            <a:ext cx="2952720" cy="23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прилагател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ых, не имею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щих суффик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юный, зеле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0" descr="a138"/>
          <p:cNvPicPr/>
          <p:nvPr/>
        </p:nvPicPr>
        <p:blipFill>
          <a:blip r:embed="rId4"/>
          <a:stretch/>
        </p:blipFill>
        <p:spPr>
          <a:xfrm>
            <a:off x="4932360" y="4941720"/>
            <a:ext cx="80964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ar5"/>
          <p:cNvPicPr/>
          <p:nvPr/>
        </p:nvPicPr>
        <p:blipFill>
          <a:blip r:embed="rId5"/>
          <a:stretch/>
        </p:blipFill>
        <p:spPr>
          <a:xfrm rot="2248800">
            <a:off x="6453360" y="1165320"/>
            <a:ext cx="1562040" cy="498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4" descr="ar10"/>
          <p:cNvPicPr/>
          <p:nvPr/>
        </p:nvPicPr>
        <p:blipFill>
          <a:blip r:embed="rId6"/>
          <a:stretch/>
        </p:blipFill>
        <p:spPr>
          <a:xfrm rot="19292400">
            <a:off x="1747440" y="1195200"/>
            <a:ext cx="1314360" cy="53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5" descr="ar36"/>
          <p:cNvPicPr/>
          <p:nvPr/>
        </p:nvPicPr>
        <p:blipFill>
          <a:blip r:embed="rId7"/>
          <a:stretch/>
        </p:blipFill>
        <p:spPr>
          <a:xfrm rot="5254800">
            <a:off x="1834560" y="4144680"/>
            <a:ext cx="147600" cy="29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6" descr="ar36"/>
          <p:cNvPicPr/>
          <p:nvPr/>
        </p:nvPicPr>
        <p:blipFill>
          <a:blip r:embed="rId8"/>
          <a:stretch/>
        </p:blipFill>
        <p:spPr>
          <a:xfrm rot="5400000">
            <a:off x="7331760" y="4109400"/>
            <a:ext cx="216000" cy="29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4"/>
          <p:cNvSpPr/>
          <p:nvPr/>
        </p:nvSpPr>
        <p:spPr>
          <a:xfrm>
            <a:off x="2268360" y="260280"/>
            <a:ext cx="3888000" cy="14414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Н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916360" y="3141720"/>
            <a:ext cx="3240000" cy="1512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-ЕН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99"/>
                </a:solidFill>
                <a:latin typeface="Arial"/>
              </a:rPr>
              <a:t>УТРЕН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364000" y="1268280"/>
            <a:ext cx="3780000" cy="23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-ОН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АВИА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50920" y="1557360"/>
            <a:ext cx="316872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-Н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276720" y="5013360"/>
            <a:ext cx="2879640" cy="1511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Исклю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ветр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air2010"/>
          <p:cNvPicPr/>
          <p:nvPr/>
        </p:nvPicPr>
        <p:blipFill>
          <a:blip r:embed="rId1"/>
          <a:stretch/>
        </p:blipFill>
        <p:spPr>
          <a:xfrm flipH="1">
            <a:off x="6227280" y="476280"/>
            <a:ext cx="2916360" cy="164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ar19"/>
          <p:cNvPicPr/>
          <p:nvPr/>
        </p:nvPicPr>
        <p:blipFill>
          <a:blip r:embed="rId2"/>
          <a:stretch/>
        </p:blipFill>
        <p:spPr>
          <a:xfrm flipH="1" rot="16200000">
            <a:off x="3771000" y="2196360"/>
            <a:ext cx="138600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ar19"/>
          <p:cNvPicPr/>
          <p:nvPr/>
        </p:nvPicPr>
        <p:blipFill>
          <a:blip r:embed="rId3"/>
          <a:stretch/>
        </p:blipFill>
        <p:spPr>
          <a:xfrm flipH="1" rot="19394400">
            <a:off x="1220760" y="1095120"/>
            <a:ext cx="13860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ar19"/>
          <p:cNvPicPr/>
          <p:nvPr/>
        </p:nvPicPr>
        <p:blipFill>
          <a:blip r:embed="rId4"/>
          <a:stretch/>
        </p:blipFill>
        <p:spPr>
          <a:xfrm flipH="1" rot="12456000">
            <a:off x="6019920" y="836280"/>
            <a:ext cx="1458720" cy="519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ar19"/>
          <p:cNvPicPr/>
          <p:nvPr/>
        </p:nvPicPr>
        <p:blipFill>
          <a:blip r:embed="rId5"/>
          <a:stretch/>
        </p:blipFill>
        <p:spPr>
          <a:xfrm flipH="1" rot="16200000">
            <a:off x="4535280" y="4615560"/>
            <a:ext cx="289080" cy="50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- ГОСТИНА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О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ГОСТ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+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-ИН-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- ТРУЖЕНИК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- УТРЕННИК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ОТ 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УТРО   +-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ЕНН- + -ИК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- МОШЕ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1403280" y="549360"/>
            <a:ext cx="619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АМЫЕ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ШИБКООПАСНЫЕ СЛОВА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6012000" y="2997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651672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5508720" y="4797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6012000" y="4797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V="1">
            <a:off x="6659640" y="472428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7020000" y="472428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3708360" y="3284640"/>
            <a:ext cx="165564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3851280" y="4941720"/>
            <a:ext cx="115236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ТРО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515"/>
          <p:cNvPicPr/>
          <p:nvPr/>
        </p:nvPicPr>
        <p:blipFill>
          <a:blip r:embed="rId1"/>
          <a:stretch/>
        </p:blipFill>
        <p:spPr>
          <a:xfrm>
            <a:off x="5003640" y="5445000"/>
            <a:ext cx="1181160" cy="1190880"/>
          </a:xfrm>
          <a:prstGeom prst="rect">
            <a:avLst/>
          </a:prstGeom>
          <a:ln w="0">
            <a:noFill/>
          </a:ln>
        </p:spPr>
      </p:pic>
      <p:sp>
        <p:nvSpPr>
          <p:cNvPr id="117" name="Line 21"/>
          <p:cNvSpPr/>
          <p:nvPr/>
        </p:nvSpPr>
        <p:spPr>
          <a:xfrm flipV="1">
            <a:off x="1835280" y="3933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1979640" y="393372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V="1">
            <a:off x="2124000" y="3933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2484360" y="393372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V="1">
            <a:off x="2268360" y="566064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2556000" y="566100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Arial"/>
              </a:rPr>
              <a:t>Прочитайте текст, выпишите слова с пропущенными буквами, объясните выбор изучаемой орфограмм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13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ёшка — это деревя(н,нн)ая кукла. Изображает она русскую крестьянскую девушку. Внутрь матрёшки вкладывают несколько меньших матрёше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ёшка в шали алого цвета стояла на письме(н,нн)ом столе. Она была густо покрыта лаком и блестела, как стекля(н,нн)ая. В ней было скрыто ещё пять матрёшек в разноцветных шалях. Деревенский мастер наградил матрёшек русской красотой, соболи(н,нн)ыми бровями и ярким румянцем4. Синие глаза он прикрыл дли(н,нн)ыми ресниц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                                                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5"/>
          <p:cNvSpPr txBox="1"/>
          <p:nvPr/>
        </p:nvSpPr>
        <p:spPr>
          <a:xfrm>
            <a:off x="2268360" y="333360"/>
            <a:ext cx="42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699"/>
              </a:avLst>
            </a:prstTxWarp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ктикум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ариант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агр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бесчисл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е, глин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я, дискусси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й, бар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й, дл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в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ураг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к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ремесле…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еребр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тум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есс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055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ариант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ед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олов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конопля…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с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й, песч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люкв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виаци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т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земл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им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торф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м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сов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собств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18bcd04be37359aaced241cbdde413d8"/>
          <p:cNvPicPr/>
          <p:nvPr/>
        </p:nvPicPr>
        <p:blipFill>
          <a:blip r:embed="rId1"/>
          <a:stretch/>
        </p:blipFill>
        <p:spPr>
          <a:xfrm>
            <a:off x="468360" y="404640"/>
            <a:ext cx="963720" cy="1511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6d4d40cfb86ff5835e5e7798aaa9f3d5"/>
          <p:cNvPicPr/>
          <p:nvPr/>
        </p:nvPicPr>
        <p:blipFill>
          <a:blip r:embed="rId2"/>
          <a:stretch/>
        </p:blipFill>
        <p:spPr>
          <a:xfrm>
            <a:off x="7308720" y="404640"/>
            <a:ext cx="1333800" cy="12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5:37:23Z</dcterms:created>
  <dc:creator>Оля</dc:creator>
  <dc:description/>
  <dc:language>en-US</dc:language>
  <cp:lastModifiedBy>Анжелика</cp:lastModifiedBy>
  <dcterms:modified xsi:type="dcterms:W3CDTF">2016-05-17T20:01:28Z</dcterms:modified>
  <cp:revision>28</cp:revision>
  <dc:subject/>
  <dc:title>Слайд 1</dc:title>
</cp:coreProperties>
</file>