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6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D01-05C4-454D-80DE-44E8F332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57EF-2EA5-4867-9433-BD7B84FC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B25-EEED-4D15-8F97-6FBFC46D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6099-C97F-4D60-8C25-A2BFF26A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EDD-AEA8-4449-91C4-DB54D132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BED1-2021-4A6A-84A5-0E440F05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039-0E64-4D92-9541-C0856EDA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452-2FD9-4F1F-A2C2-92F4FD5C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4D9-4C11-4F15-B4A4-69A1EE13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296-D55F-4633-A008-4125BF91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A9F-4756-407F-B548-00DC96B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92E-F792-4FD0-9FFF-85EF42E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6793-7197-43E9-801E-4CCA130D22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1352520"/>
            <a:ext cx="7785000" cy="2255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5"/>
          <p:cNvSpPr txBox="1"/>
          <p:nvPr/>
        </p:nvSpPr>
        <p:spPr>
          <a:xfrm>
            <a:off x="2268360" y="333360"/>
            <a:ext cx="42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699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ерь себя: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аг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бесчисл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е, глин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я, дискусс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бар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д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ураг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ремесл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ереб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у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есс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: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ед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олов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нопл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с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песч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люк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виац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т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земл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им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торф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бст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7" descr="18bcd04be37359aaced241cbdde413d8"/>
          <p:cNvPicPr/>
          <p:nvPr/>
        </p:nvPicPr>
        <p:blipFill>
          <a:blip r:embed="rId1"/>
          <a:stretch/>
        </p:blipFill>
        <p:spPr>
          <a:xfrm>
            <a:off x="468360" y="404640"/>
            <a:ext cx="963720" cy="15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8" descr="6d4d40cfb86ff5835e5e7798aaa9f3d5"/>
          <p:cNvPicPr/>
          <p:nvPr/>
        </p:nvPicPr>
        <p:blipFill>
          <a:blip r:embed="rId2"/>
          <a:stretch/>
        </p:blipFill>
        <p:spPr>
          <a:xfrm>
            <a:off x="7308720" y="404640"/>
            <a:ext cx="1333800" cy="12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200" spc="-1" strike="noStrike">
                <a:solidFill>
                  <a:srgbClr val="008000"/>
                </a:solidFill>
                <a:latin typeface="Impact"/>
              </a:rPr>
              <a:t>Оцените работу: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47640" y="1844640"/>
            <a:ext cx="640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нет ошибок –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1-2 ошибки 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3-6 ошибок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7 и более ошибок –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Impact"/>
              </a:rPr>
              <a:t>Домашнее задание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1) выполнить задание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аспечатк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2) вспомнить правописание Н/НН в кратких прилагательны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3) письменно ответить на вопрос: почему матрёшка является символом России? (5-7 предложен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НН в существительных пиш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1413000"/>
            <a:ext cx="7490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корень оканчивается на Н, а суффикс начинается с Н (буз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, имен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существительное образовано от прилагательного, в котором есть НН (к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ца-ко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, листв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ца – листв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Н в существительных пиш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03280" y="2204640"/>
            <a:ext cx="64008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образовано от существительного с Н (ветр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ть – ветре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, кост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ка – костя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й, гост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ца – гости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450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6600" spc="-1" strike="noStrike">
                <a:solidFill>
                  <a:srgbClr val="ff33cc"/>
                </a:solidFill>
                <a:latin typeface="Arial"/>
              </a:rPr>
              <a:t>Н                     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2629080" y="5950080"/>
            <a:ext cx="7128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826920" y="3860640"/>
            <a:ext cx="583272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547640" y="1484280"/>
            <a:ext cx="626436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8"/>
          <p:cNvSpPr/>
          <p:nvPr/>
        </p:nvSpPr>
        <p:spPr>
          <a:xfrm>
            <a:off x="1116000" y="5661000"/>
            <a:ext cx="2376360" cy="289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539640" y="836640"/>
            <a:ext cx="7128000" cy="1593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468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 прилагательных может быть: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Oval 10"/>
          <p:cNvSpPr/>
          <p:nvPr/>
        </p:nvSpPr>
        <p:spPr>
          <a:xfrm rot="5400000">
            <a:off x="826560" y="4076640"/>
            <a:ext cx="1728720" cy="23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 flipH="1">
            <a:off x="1763280" y="4005360"/>
            <a:ext cx="2592360" cy="107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4427640" y="4005360"/>
            <a:ext cx="316872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6300720" y="4365720"/>
            <a:ext cx="2374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2340000" y="4221000"/>
            <a:ext cx="14400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826920" y="3645000"/>
            <a:ext cx="2376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5724360" y="3357720"/>
            <a:ext cx="71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4005360"/>
            <a:ext cx="82072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H="1">
            <a:off x="1834920" y="2637000"/>
            <a:ext cx="2663640" cy="215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 flipH="1">
            <a:off x="5075280" y="1197000"/>
            <a:ext cx="3889440" cy="460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 flipH="1">
            <a:off x="5508720" y="3500280"/>
            <a:ext cx="2952720" cy="187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 flipH="1">
            <a:off x="1908000" y="2637000"/>
            <a:ext cx="2951280" cy="2016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4643280" y="2708280"/>
            <a:ext cx="3097440" cy="2089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971640" y="4005360"/>
            <a:ext cx="1728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7812000" y="42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7" descr="роро"/>
          <p:cNvPicPr/>
          <p:nvPr/>
        </p:nvPicPr>
        <p:blipFill>
          <a:blip r:embed="rId3"/>
          <a:stretch/>
        </p:blipFill>
        <p:spPr>
          <a:xfrm>
            <a:off x="2411280" y="5661000"/>
            <a:ext cx="4600800" cy="228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8" descr="alf18"/>
          <p:cNvPicPr/>
          <p:nvPr/>
        </p:nvPicPr>
        <p:blipFill>
          <a:blip r:embed="rId4"/>
          <a:stretch/>
        </p:blipFill>
        <p:spPr>
          <a:xfrm>
            <a:off x="539640" y="2276640"/>
            <a:ext cx="1008000" cy="158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9" descr="alf18"/>
          <p:cNvPicPr/>
          <p:nvPr/>
        </p:nvPicPr>
        <p:blipFill>
          <a:blip r:embed="rId5"/>
          <a:stretch/>
        </p:blipFill>
        <p:spPr>
          <a:xfrm>
            <a:off x="766764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0" descr="alf18"/>
          <p:cNvPicPr/>
          <p:nvPr/>
        </p:nvPicPr>
        <p:blipFill>
          <a:blip r:embed="rId6"/>
          <a:stretch/>
        </p:blipFill>
        <p:spPr>
          <a:xfrm>
            <a:off x="6732720" y="2349360"/>
            <a:ext cx="927000" cy="1582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2" descr="ar18"/>
          <p:cNvPicPr/>
          <p:nvPr/>
        </p:nvPicPr>
        <p:blipFill>
          <a:blip r:embed="rId7"/>
          <a:stretch/>
        </p:blipFill>
        <p:spPr>
          <a:xfrm rot="7972800">
            <a:off x="1658520" y="3138120"/>
            <a:ext cx="2224080" cy="54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3" descr="ar18"/>
          <p:cNvPicPr/>
          <p:nvPr/>
        </p:nvPicPr>
        <p:blipFill>
          <a:blip r:embed="rId8"/>
          <a:stretch/>
        </p:blipFill>
        <p:spPr>
          <a:xfrm rot="2389800">
            <a:off x="4356000" y="3141720"/>
            <a:ext cx="2194200" cy="503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468360" y="1989000"/>
            <a:ext cx="3024000" cy="2232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-ан-, -я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жа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ледян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468360" y="4365720"/>
            <a:ext cx="3024000" cy="2332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Исклю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оло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стекл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деревя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916360" y="189000"/>
            <a:ext cx="3671640" cy="187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0"/>
          <p:cNvSpPr/>
          <p:nvPr/>
        </p:nvSpPr>
        <p:spPr>
          <a:xfrm>
            <a:off x="5867280" y="1989000"/>
            <a:ext cx="2880000" cy="216072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Arial"/>
              </a:rPr>
              <a:t>-ин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гус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cc"/>
                </a:solidFill>
                <a:latin typeface="Arial"/>
              </a:rPr>
              <a:t>кури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buClr>
                <a:srgbClr val="ff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V="1">
            <a:off x="3492360" y="259920"/>
            <a:ext cx="1366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859280" y="260280"/>
            <a:ext cx="1297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 flipV="1">
            <a:off x="755640" y="2060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4"/>
          <p:cNvSpPr/>
          <p:nvPr/>
        </p:nvSpPr>
        <p:spPr>
          <a:xfrm>
            <a:off x="1403280" y="2060640"/>
            <a:ext cx="576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5"/>
          <p:cNvSpPr/>
          <p:nvPr/>
        </p:nvSpPr>
        <p:spPr>
          <a:xfrm flipV="1">
            <a:off x="2124000" y="206064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6"/>
          <p:cNvSpPr/>
          <p:nvPr/>
        </p:nvSpPr>
        <p:spPr>
          <a:xfrm>
            <a:off x="2627280" y="20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 flipV="1">
            <a:off x="6516720" y="206064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8"/>
          <p:cNvSpPr/>
          <p:nvPr/>
        </p:nvSpPr>
        <p:spPr>
          <a:xfrm>
            <a:off x="7236000" y="2060640"/>
            <a:ext cx="6490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2" descr="bird05"/>
          <p:cNvPicPr/>
          <p:nvPr/>
        </p:nvPicPr>
        <p:blipFill>
          <a:blip r:embed="rId1"/>
          <a:stretch/>
        </p:blipFill>
        <p:spPr>
          <a:xfrm>
            <a:off x="3952800" y="280980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3" descr="jiv1631"/>
          <p:cNvPicPr/>
          <p:nvPr/>
        </p:nvPicPr>
        <p:blipFill>
          <a:blip r:embed="rId2"/>
          <a:stretch/>
        </p:blipFill>
        <p:spPr>
          <a:xfrm>
            <a:off x="7236000" y="404640"/>
            <a:ext cx="1466640" cy="1371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7" descr="eda71"/>
          <p:cNvPicPr/>
          <p:nvPr/>
        </p:nvPicPr>
        <p:blipFill>
          <a:blip r:embed="rId3"/>
          <a:stretch/>
        </p:blipFill>
        <p:spPr>
          <a:xfrm>
            <a:off x="3564000" y="5084640"/>
            <a:ext cx="371520" cy="1162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8"/>
          <p:cNvSpPr/>
          <p:nvPr/>
        </p:nvSpPr>
        <p:spPr>
          <a:xfrm>
            <a:off x="5867280" y="4365720"/>
            <a:ext cx="2952720" cy="2303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прилагатель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ных, не имею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щих суффик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юный, зеле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0" descr="a138"/>
          <p:cNvPicPr/>
          <p:nvPr/>
        </p:nvPicPr>
        <p:blipFill>
          <a:blip r:embed="rId4"/>
          <a:stretch/>
        </p:blipFill>
        <p:spPr>
          <a:xfrm>
            <a:off x="4932360" y="4941720"/>
            <a:ext cx="809640" cy="121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3" descr="ar5"/>
          <p:cNvPicPr/>
          <p:nvPr/>
        </p:nvPicPr>
        <p:blipFill>
          <a:blip r:embed="rId5"/>
          <a:stretch/>
        </p:blipFill>
        <p:spPr>
          <a:xfrm rot="2248800">
            <a:off x="6453360" y="1165320"/>
            <a:ext cx="1562040" cy="49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4" descr="ar10"/>
          <p:cNvPicPr/>
          <p:nvPr/>
        </p:nvPicPr>
        <p:blipFill>
          <a:blip r:embed="rId6"/>
          <a:stretch/>
        </p:blipFill>
        <p:spPr>
          <a:xfrm rot="19292400">
            <a:off x="1747440" y="1195200"/>
            <a:ext cx="1314360" cy="537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5" descr="ar36"/>
          <p:cNvPicPr/>
          <p:nvPr/>
        </p:nvPicPr>
        <p:blipFill>
          <a:blip r:embed="rId7"/>
          <a:stretch/>
        </p:blipFill>
        <p:spPr>
          <a:xfrm rot="5254800">
            <a:off x="1834560" y="4144680"/>
            <a:ext cx="147600" cy="29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6" descr="ar36"/>
          <p:cNvPicPr/>
          <p:nvPr/>
        </p:nvPicPr>
        <p:blipFill>
          <a:blip r:embed="rId8"/>
          <a:stretch/>
        </p:blipFill>
        <p:spPr>
          <a:xfrm rot="5400000">
            <a:off x="7331760" y="4109400"/>
            <a:ext cx="216000" cy="296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4"/>
          <p:cNvSpPr/>
          <p:nvPr/>
        </p:nvSpPr>
        <p:spPr>
          <a:xfrm>
            <a:off x="2268360" y="260280"/>
            <a:ext cx="3888000" cy="14414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Arial"/>
              </a:rPr>
              <a:t>Н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916360" y="3141720"/>
            <a:ext cx="3240000" cy="15127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-Е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99"/>
                </a:solidFill>
                <a:latin typeface="Arial"/>
              </a:rPr>
              <a:t>УТРЕН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5364000" y="1268280"/>
            <a:ext cx="3780000" cy="230508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Arial"/>
              </a:rPr>
              <a:t>-О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cc3300"/>
                </a:solidFill>
                <a:latin typeface="Arial"/>
              </a:rPr>
              <a:t>АВИ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250920" y="1557360"/>
            <a:ext cx="3168720" cy="201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-НН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СО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276720" y="5013360"/>
            <a:ext cx="2879640" cy="1511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ff"/>
                </a:solidFill>
                <a:latin typeface="Arial"/>
              </a:rPr>
              <a:t>Исключе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Arial"/>
              </a:rPr>
              <a:t>ветре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air2010"/>
          <p:cNvPicPr/>
          <p:nvPr/>
        </p:nvPicPr>
        <p:blipFill>
          <a:blip r:embed="rId1"/>
          <a:stretch/>
        </p:blipFill>
        <p:spPr>
          <a:xfrm flipH="1">
            <a:off x="6227280" y="476280"/>
            <a:ext cx="2916360" cy="164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ar19"/>
          <p:cNvPicPr/>
          <p:nvPr/>
        </p:nvPicPr>
        <p:blipFill>
          <a:blip r:embed="rId2"/>
          <a:stretch/>
        </p:blipFill>
        <p:spPr>
          <a:xfrm flipH="1" rot="16200000">
            <a:off x="3771000" y="2196360"/>
            <a:ext cx="138600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ar19"/>
          <p:cNvPicPr/>
          <p:nvPr/>
        </p:nvPicPr>
        <p:blipFill>
          <a:blip r:embed="rId3"/>
          <a:stretch/>
        </p:blipFill>
        <p:spPr>
          <a:xfrm flipH="1" rot="19394400">
            <a:off x="1220760" y="1095120"/>
            <a:ext cx="13860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ar19"/>
          <p:cNvPicPr/>
          <p:nvPr/>
        </p:nvPicPr>
        <p:blipFill>
          <a:blip r:embed="rId4"/>
          <a:stretch/>
        </p:blipFill>
        <p:spPr>
          <a:xfrm flipH="1" rot="12456000">
            <a:off x="6019920" y="836280"/>
            <a:ext cx="1458720" cy="519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9" descr="ar19"/>
          <p:cNvPicPr/>
          <p:nvPr/>
        </p:nvPicPr>
        <p:blipFill>
          <a:blip r:embed="rId5"/>
          <a:stretch/>
        </p:blipFill>
        <p:spPr>
          <a:xfrm flipH="1" rot="16200000">
            <a:off x="4535280" y="4615560"/>
            <a:ext cx="289080" cy="504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ГОСТИНА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Т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ГОСТЬ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+ 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-ИН-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ТРУЖЕНИК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УТРЕННИК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Т   </a:t>
            </a:r>
            <a:r>
              <a:rPr b="1" i="1" lang="ru-RU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УТРО   +-</a:t>
            </a:r>
            <a:r>
              <a:rPr b="1" i="1" lang="ru-RU" sz="2800" spc="-1" strike="noStrike">
                <a:solidFill>
                  <a:srgbClr val="cc3300"/>
                </a:solidFill>
                <a:latin typeface="Arial"/>
              </a:rPr>
              <a:t>ЕНН- + -ИК</a:t>
            </a: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3333cc"/>
                </a:solidFill>
                <a:latin typeface="Arial"/>
              </a:rPr>
              <a:t>- МОШЕ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6"/>
          <p:cNvSpPr txBox="1"/>
          <p:nvPr/>
        </p:nvSpPr>
        <p:spPr>
          <a:xfrm>
            <a:off x="1403280" y="549360"/>
            <a:ext cx="6193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АМЫЕ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ШИБКООПАСНЫЕ СЛОВА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6012000" y="299700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6516720" y="29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0"/>
          <p:cNvSpPr/>
          <p:nvPr/>
        </p:nvSpPr>
        <p:spPr>
          <a:xfrm flipV="1">
            <a:off x="5508720" y="4797360"/>
            <a:ext cx="503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>
            <a:off x="6012000" y="479736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V="1">
            <a:off x="6659640" y="472428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7020000" y="4724280"/>
            <a:ext cx="43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3708360" y="3284640"/>
            <a:ext cx="165564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3851280" y="4941720"/>
            <a:ext cx="1152360" cy="649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ТРО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515"/>
          <p:cNvPicPr/>
          <p:nvPr/>
        </p:nvPicPr>
        <p:blipFill>
          <a:blip r:embed="rId1"/>
          <a:stretch/>
        </p:blipFill>
        <p:spPr>
          <a:xfrm>
            <a:off x="5003640" y="5445000"/>
            <a:ext cx="1181160" cy="1190880"/>
          </a:xfrm>
          <a:prstGeom prst="rect">
            <a:avLst/>
          </a:prstGeom>
          <a:ln w="0">
            <a:noFill/>
          </a:ln>
        </p:spPr>
      </p:pic>
      <p:sp>
        <p:nvSpPr>
          <p:cNvPr id="117" name="Line 21"/>
          <p:cNvSpPr/>
          <p:nvPr/>
        </p:nvSpPr>
        <p:spPr>
          <a:xfrm flipV="1">
            <a:off x="1835280" y="39337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1979640" y="3933720"/>
            <a:ext cx="712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V="1">
            <a:off x="2124000" y="3933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2484360" y="3933720"/>
            <a:ext cx="358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2268360" y="5660640"/>
            <a:ext cx="2876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2556000" y="566100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cc"/>
                </a:solidFill>
                <a:latin typeface="Arial"/>
              </a:rPr>
              <a:t>Прочитайте текст, выпишите слова с пропущенными буквами, объясните выбор изучаемой орфограмм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8360" y="1988640"/>
            <a:ext cx="8136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ёшка — это деревя(н,нн)ая кукла. Изображает она русскую крестьянскую девушку. Внутрь матрёшки вкладывают несколько меньших матрёше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рёшка в шали алого цвета стояла на письме(н,нн)ом столе. Она была густо покрыта лаком и блестела, как стекля(н,нн)ая. В ней было скрыто ещё пять матрёшек в разноцветных шалях. Деревенский мастер наградил матрёшек русской красотой, соболи(н,нн)ыми бровями и ярким румянцем4. Синие глаза он прикрыл дли(н,нн)ыми ресницам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                                                                                                                    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5"/>
          <p:cNvSpPr txBox="1"/>
          <p:nvPr/>
        </p:nvSpPr>
        <p:spPr>
          <a:xfrm>
            <a:off x="2268360" y="333360"/>
            <a:ext cx="4248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6699"/>
              </a:avLst>
            </a:prstTxWarp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актикум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аг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бесчисл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е, глин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я, дискусс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й, бар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д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ураг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ремесле…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серебр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ту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бесс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0552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009900"/>
                </a:solidFill>
                <a:latin typeface="Arial"/>
              </a:rPr>
              <a:t>вариант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ед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олов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конопля…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с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й, песч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люк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авиаци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т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земл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лимо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торфя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карма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в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ый, собстве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18bcd04be37359aaced241cbdde413d8"/>
          <p:cNvPicPr/>
          <p:nvPr/>
        </p:nvPicPr>
        <p:blipFill>
          <a:blip r:embed="rId1"/>
          <a:stretch/>
        </p:blipFill>
        <p:spPr>
          <a:xfrm>
            <a:off x="468360" y="404640"/>
            <a:ext cx="963720" cy="15116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8" descr="6d4d40cfb86ff5835e5e7798aaa9f3d5"/>
          <p:cNvPicPr/>
          <p:nvPr/>
        </p:nvPicPr>
        <p:blipFill>
          <a:blip r:embed="rId2"/>
          <a:stretch/>
        </p:blipFill>
        <p:spPr>
          <a:xfrm>
            <a:off x="7308720" y="404640"/>
            <a:ext cx="1333800" cy="124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5:37:23Z</dcterms:created>
  <dc:creator>Оля</dc:creator>
  <dc:description/>
  <dc:language>en-US</dc:language>
  <cp:lastModifiedBy>Анжелика</cp:lastModifiedBy>
  <dcterms:modified xsi:type="dcterms:W3CDTF">2016-05-17T20:01:28Z</dcterms:modified>
  <cp:revision>28</cp:revision>
  <dc:subject/>
  <dc:title>Слайд 1</dc:title>
</cp:coreProperties>
</file>