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A93-A03B-4ABB-81AE-6C5F53B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0C8-0C57-4D3B-9B24-8C426E1E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CB0-825A-440E-824A-ED42F75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027-A72A-40B5-8A2F-7270871A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A605-47BD-4441-9AE2-DC976B5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350F-EB72-4F53-A608-4C22F47F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86D-32E7-4E47-A875-7076766F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2616-5050-4D3E-9490-199F506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0B5E-D5F6-4537-93F6-FD9F0C21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087-7774-43EF-93CD-105A7A9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50AA-B9D3-4C10-ABFE-8018EA0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AA3-E477-4C8C-B1B5-8739AE8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608A-560F-45B4-8F7A-6AA2385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634-58EC-4B53-8FEC-9CB25B91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EF1B-ADDA-44D7-A54F-C9B59827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FA6-EB41-45DA-A81D-CCB69E1D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DB2D-CD3D-49BD-8A08-9C634ACF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FA36-4628-4687-978B-58F2A3E3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2D890-81B9-439F-858D-BCAEF162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EFD9-D19F-4301-914A-4C4F1240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CE3B-5834-4C94-B1E6-1302FA2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D04E-0596-4520-A024-596C390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DCB-2AD8-458B-9F77-81103D4F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DC786-CA42-4702-8E0B-6408816E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E8AA-B2BC-423B-862C-E312440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4F5A-7FE1-4D74-9C03-95BC807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5893-F803-4F44-B755-D12A78BA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7423-D052-4016-B906-31F1FB8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0F5E1-585C-4F47-965B-93209D91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798E-F173-419C-BB9C-CF719046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33E1-23C1-4E3E-9A15-430668AE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35B4A-FDC2-41A0-B3D1-60CBD33A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888F-C03D-4906-A3B4-35259622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95E-0EF1-4AD3-8C34-A8F1255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78A5-13BF-4AD4-BD36-156A3999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6FF4-4780-41E5-B169-724F5A50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E73E-AF0F-400B-8642-6DB8256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34E4-1102-45C2-A23C-47256AF3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9B4C-C4C2-4EBA-B3A6-4B655F6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E948-410D-4E0F-9112-6315E64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568A-3FB1-4BE2-999B-C2F012C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DC441-0A5F-443A-A2A6-8FC53B26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81A9-F7E7-448A-A68A-93966211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B01-D6D4-4CF6-A843-E486A2C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DE8-3594-407C-A526-4879BB6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EE9-2C49-4E8E-ACB2-96CCA15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983-61B9-46D2-A3EA-1308B5F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34E-E859-4202-9682-44BCE7B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4B53-3677-4115-BC7F-A363EA5989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4186-7803-4331-B084-2A60E81B04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9AD7-049B-4B31-A9DB-E98FDA2946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B33-AF4E-4CEB-9A7E-E849DBEBA5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764640"/>
            <a:ext cx="78548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алитический отчёт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 проделанной работе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 межаттестационный период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2011 по 2016 год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5280" cy="936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4360" y="620640"/>
            <a:ext cx="431964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ю в МБДОУ № 17 с ноября 2001 год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едагогический стаж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: 15 ле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ов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редне-специально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нчила Волгодонской педагогический колледж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пециальность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0312 «Преподавание в                             начальных классах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валификац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:«Учитель начальных классов, домашний учитель, воспитател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атегория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валификационная категор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лучаю высшее образование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ижнетагильский государственный социально-педагогический институт (филиал) «Российский государственный профессионально-педагогический  университет» Факультет психолого-педагогического образован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одбор и внедрение здоровьесберегающих технологий в воспитательно - образовательный процесс с учётом возможностей детей с ОВЗ и реализуемой программой дошкольного учре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F:\для портфолио\DSCN2466.JPG"/>
          <p:cNvPicPr/>
          <p:nvPr/>
        </p:nvPicPr>
        <p:blipFill>
          <a:blip r:embed="rId2"/>
          <a:stretch/>
        </p:blipFill>
        <p:spPr>
          <a:xfrm>
            <a:off x="3132000" y="3500280"/>
            <a:ext cx="3032280" cy="238284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sp>
        <p:nvSpPr>
          <p:cNvPr id="200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в межаттестационный период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91520" cy="153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14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d0d9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 Создание единого педагогического пространства, объединяющего всех участников воспитательно – образовательного процесса в соответствии с ФГОС Д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C:\Users\Алекс\Desktop\image (4).jpg"/>
          <p:cNvPicPr/>
          <p:nvPr/>
        </p:nvPicPr>
        <p:blipFill>
          <a:blip r:embed="rId2"/>
          <a:stretch/>
        </p:blipFill>
        <p:spPr>
          <a:xfrm>
            <a:off x="1258920" y="2492280"/>
            <a:ext cx="2644920" cy="17287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2952720" cy="208116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80755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d0d9"/>
                </a:solidFill>
                <a:latin typeface="Times New Roman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Повышение уровня квалифик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фотографии\детский сад\20160118_154805.jpg"/>
          <p:cNvPicPr/>
          <p:nvPr/>
        </p:nvPicPr>
        <p:blipFill>
          <a:blip r:embed="rId2"/>
          <a:stretch/>
        </p:blipFill>
        <p:spPr>
          <a:xfrm>
            <a:off x="1692360" y="1413000"/>
            <a:ext cx="2743200" cy="20872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2808360" cy="20872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астие в общественной жизни МБДОУ № 17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Вместе с детьми и родителями участвую в выставках, конкурсах, акциях, КВ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Участник творческой группы по ОБЖ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Управляю сайтом МБДОУ № 1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Являюсь организатором проектов: «Наше здоровье – в наших руках», «В гостях у сказки», «Туристская прогулка», «ПДД нужно знать всем без исключен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аналитического отчёта</a:t>
            </a:r>
            <a:r>
              <a:rPr b="1" lang="en-US" sz="4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Анализ и оценка профессиональной деятельности за межаттестационный период</a:t>
            </a: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хема 5" descr=""/>
          <p:cNvPicPr/>
          <p:nvPr/>
        </p:nvPicPr>
        <p:blipFill>
          <a:blip r:embed="rId2"/>
          <a:stretch/>
        </p:blipFill>
        <p:spPr>
          <a:xfrm>
            <a:off x="1743120" y="2352600"/>
            <a:ext cx="7188120" cy="422424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" descr=""/>
          <p:cNvPicPr/>
          <p:nvPr/>
        </p:nvPicPr>
        <p:blipFill>
          <a:blip r:embed="rId3"/>
          <a:stretch/>
        </p:blipFill>
        <p:spPr>
          <a:xfrm>
            <a:off x="433440" y="2328840"/>
            <a:ext cx="1133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а следующий межаттестационный период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Сохранение и укрепление здоровья дет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Внедрение в работу современных педагогических технологий с учётом   развития   детей с ОВ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Реализация  долгосрочного проекта «Тропа здоровья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Внедрение в практику работы новых более эффективных форм работы взаимодействия с роди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205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спективное планирование педагогической деятельности на межаттестационный период с 2016 по 2021 г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Изучение рекомендаций предыдущей аттес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Изучение научной и учебно – методической литератур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Реализация долгосрочного проекта «Тропа здоровья»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родолжать работу по совершенствованию предметно-развивающей среды, внедрение новых образовательных технолог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овышение уровня квалифик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одготовка к последующей аттест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7-01-17T15:03:57Z</dcterms:modified>
  <cp:revision>25</cp:revision>
  <dc:subject/>
  <dc:title>Аналитический отчёт о проделанной работе за межаттестационный период  с 2006 по 2011 годы</dc:title>
</cp:coreProperties>
</file>