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0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DE8-342B-48BB-B3B8-4BC5449E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480-3CA9-4DF5-9561-202775BD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BC76-2C2D-4374-A857-92D16E07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2F3-745C-4FDB-A874-EA81BBBF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8D84-D366-4ED5-A603-0ECC60BA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3E48-07E8-4E5A-8C8C-F6EC25EB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871A-62FB-4F82-8E01-F724BA1B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916D-44AC-4EBD-8EA7-62D8685E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5DC5-03ED-4D32-AD92-B930A9F4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E68F-DEE3-47B3-9ADD-208D3422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2BA4-01FB-4C04-B886-FC8894D3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BCB-631D-4745-87AE-94D90A63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7610-F28C-485D-865E-BCE1924E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A2F7-1B05-40E6-B4A7-40E4B407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6BB1-AB6C-4CBB-A9EF-A968090EF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CBF1-CC36-421C-BED5-D65D3851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287E-D49F-40F3-8253-F3F3960A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6BA8F-B337-402B-ACD5-2BF2A11A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4BC50-483D-40F8-B07D-4D0F0C86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FF6AA-FDBB-42C5-B912-3BB54AE5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5BE4B-E954-475A-9695-C90E7CB7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9DBFE-C4E6-4210-8A05-0B31E762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18A-6286-4FC2-A639-E15185BB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F5E64-4571-45DD-A152-B43202DD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F091D-CFBE-4A3C-8573-A12BC14C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034B8-C16C-4E12-9280-692835F4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C55D1-56EC-4D88-96C9-22BBEC97A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92C52-1415-4C91-A11D-E97E0E71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24D7A-EBD0-4CA6-B076-7DA1FF5EC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2C152-83B7-4FE1-A9B7-2CB4BE6EA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1FDFE-E3B5-429A-A6B0-1C469C6DB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A91F2-B84D-4469-967C-54C9F670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94415-6414-4763-A276-07FA2D69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7AA3-838E-45C0-9C37-DF39F645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3502D-BD16-4183-A97A-3DE4B96F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A3ACC-C0A5-4850-8214-1E826786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16351-8C83-40A3-877E-C1662B53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0640E-F019-4BEE-B915-70795750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36354-86C9-4C56-BB37-F2D7455B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48636-1D73-4739-A7AA-398A5C06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3B169-309C-4995-87E7-4F43458E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B5BB8-1DF4-4C3D-869A-6046FE9A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E766C-8418-4CD9-89B8-B3039CD9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C97C-90CA-4F37-95BB-EE398FF7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E8F8-6249-419A-ABB9-481FD5BC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B5C-5EA4-41C3-9A36-8F9AA1E8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88E-E26A-40C1-8CC8-B8F9B9D6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204E-5C60-4A38-B293-74CC36A3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7CDA-0AD4-4644-BF77-9FED353FC55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CEB0-E3A3-4281-9714-ABD021DF600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6E46-BAD5-4A70-8B0A-8B0D68FD1A0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61888-8125-4D0A-B556-666C8999197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33160" y="764640"/>
            <a:ext cx="7854840" cy="4216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налитический отчёт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 проделанной работе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а межаттестационный период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 2011 по 2016 годы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5280" cy="936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imes New Roman"/>
              </a:rPr>
              <a:t>Спасибо за внимание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284360" y="620640"/>
            <a:ext cx="431964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ботаю в МБДОУ № 17 с ноября 2001 года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едагогический стаж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: 15 лет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Образовани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: средне-специальное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кончила Волгодонской педагогический колледж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Специальность: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0312 «Преподавание в                             начальных классах»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Квалификация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:«Учитель начальных классов, домашний учитель, воспитатель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Категория: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квалификационная категори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ffffff"/>
                </a:solidFill>
                <a:uFillTx/>
                <a:latin typeface="Times New Roman"/>
              </a:rPr>
              <a:t>Получаю высшее образование: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Нижнетагильский государственный социально-педагогический институт (филиал) «Российский государственный профессионально-педагогический  университет» Факультет психолого-педагогического образования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280360" cy="12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8000"/>
          </a:bodyPr>
          <a:p>
            <a:pPr marL="402120" indent="-402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Подбор и внедрение здоровьесберегающих технологий в воспитательно - образовательный процесс с учётом возможностей детей с ОВЗ и реализуемой программой дошкольного учрежд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0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F:\для портфолио\DSCN2466.JPG"/>
          <p:cNvPicPr/>
          <p:nvPr/>
        </p:nvPicPr>
        <p:blipFill>
          <a:blip r:embed="rId2"/>
          <a:stretch/>
        </p:blipFill>
        <p:spPr>
          <a:xfrm>
            <a:off x="3132000" y="3500280"/>
            <a:ext cx="3032280" cy="238284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sp>
        <p:nvSpPr>
          <p:cNvPr id="200" name="Заголовок 1"/>
          <p:cNvSpPr/>
          <p:nvPr/>
        </p:nvSpPr>
        <p:spPr>
          <a:xfrm>
            <a:off x="539640" y="404640"/>
            <a:ext cx="8229600" cy="11430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в межаттестационный период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291520" cy="153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marL="5144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bd0d9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. Создание единого педагогического пространства, объединяющего всех участников воспитательно – образовательного процесса в соответствии с ФГОС Д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3" descr="C:\Users\Алекс\Desktop\image (4).jpg"/>
          <p:cNvPicPr/>
          <p:nvPr/>
        </p:nvPicPr>
        <p:blipFill>
          <a:blip r:embed="rId2"/>
          <a:stretch/>
        </p:blipFill>
        <p:spPr>
          <a:xfrm>
            <a:off x="1258920" y="2492280"/>
            <a:ext cx="2644920" cy="172872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pic>
        <p:nvPicPr>
          <p:cNvPr id="204" name="Picture 5" descr=""/>
          <p:cNvPicPr/>
          <p:nvPr/>
        </p:nvPicPr>
        <p:blipFill>
          <a:blip r:embed="rId3"/>
          <a:stretch/>
        </p:blipFill>
        <p:spPr>
          <a:xfrm>
            <a:off x="5076720" y="4149720"/>
            <a:ext cx="2952720" cy="208116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755640" y="620640"/>
            <a:ext cx="807552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bd0d9"/>
                </a:solidFill>
                <a:latin typeface="Times New Roman"/>
                <a:ea typeface="Times New Roman"/>
              </a:rPr>
              <a:t>3.</a:t>
            </a:r>
            <a:r>
              <a:rPr b="1" lang="en-US" sz="24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Повышение уровня квалифик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D:\фотографии\детский сад\20160118_154805.jpg"/>
          <p:cNvPicPr/>
          <p:nvPr/>
        </p:nvPicPr>
        <p:blipFill>
          <a:blip r:embed="rId2"/>
          <a:stretch/>
        </p:blipFill>
        <p:spPr>
          <a:xfrm>
            <a:off x="1692360" y="1413000"/>
            <a:ext cx="2743200" cy="208728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  <p:pic>
        <p:nvPicPr>
          <p:cNvPr id="207" name="Picture 3" descr=""/>
          <p:cNvPicPr/>
          <p:nvPr/>
        </p:nvPicPr>
        <p:blipFill>
          <a:blip r:embed="rId3"/>
          <a:stretch/>
        </p:blipFill>
        <p:spPr>
          <a:xfrm>
            <a:off x="5076720" y="1413000"/>
            <a:ext cx="2808360" cy="2087280"/>
          </a:xfrm>
          <a:prstGeom prst="rect">
            <a:avLst/>
          </a:prstGeom>
          <a:ln w="381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152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Участие в общественной жизни МБДОУ № 17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Times New Roman"/>
              </a:rPr>
              <a:t>Вместе с детьми и родителями участвую в выставках, конкурсах, акциях, КВ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Times New Roman"/>
              </a:rPr>
              <a:t>Участник творческой группы по ОБЖ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Times New Roman"/>
              </a:rPr>
              <a:t>Управляю сайтом МБДОУ № 17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4617b"/>
                </a:solidFill>
                <a:latin typeface="Times New Roman"/>
              </a:rPr>
              <a:t>Являюсь организатором проектов: «Наше здоровье – в наших руках», «В гостях у сказки», «Туристская прогулка», «ПДД нужно знать всем без исключения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72072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аналитического отчёта</a:t>
            </a:r>
            <a:r>
              <a:rPr b="1" lang="en-US" sz="4400" spc="-1" strike="noStrike">
                <a:solidFill>
                  <a:srgbClr val="0f6fc6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964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115964"/>
                </a:solidFill>
                <a:latin typeface="Times New Roman"/>
                <a:ea typeface="Times New Roman"/>
              </a:rPr>
              <a:t>  </a:t>
            </a:r>
            <a:r>
              <a:rPr b="1" lang="ru-RU" sz="22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4617b"/>
                </a:solidFill>
                <a:latin typeface="Times New Roman"/>
              </a:rPr>
              <a:t>Анализ и оценка профессиональной деятельности за межаттестационный период</a:t>
            </a:r>
            <a:r>
              <a:rPr b="1" lang="ru-RU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Схема 5" descr=""/>
          <p:cNvPicPr/>
          <p:nvPr/>
        </p:nvPicPr>
        <p:blipFill>
          <a:blip r:embed="rId2"/>
          <a:stretch/>
        </p:blipFill>
        <p:spPr>
          <a:xfrm>
            <a:off x="1743120" y="2352600"/>
            <a:ext cx="7188120" cy="422424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6" descr=""/>
          <p:cNvPicPr/>
          <p:nvPr/>
        </p:nvPicPr>
        <p:blipFill>
          <a:blip r:embed="rId3"/>
          <a:stretch/>
        </p:blipFill>
        <p:spPr>
          <a:xfrm>
            <a:off x="433440" y="2328840"/>
            <a:ext cx="11332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2240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на следующий межаттестационный период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Times New Roman"/>
              </a:rPr>
              <a:t>Сохранение и укрепление здоровья дете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Times New Roman"/>
              </a:rPr>
              <a:t>Внедрение в работу современных педагогических технологий с учётом   развития   детей с ОВЗ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Times New Roman"/>
              </a:rPr>
              <a:t>Реализация  долгосрочного проекта «Тропа здоровья»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Times New Roman"/>
              </a:rPr>
              <a:t>Внедрение в практику работы новых более эффективных форм работы взаимодействия с родителям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22050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ерспективное планирование педагогической деятельности на межаттестационный период с 2016 по 2021 гг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21844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</a:rPr>
              <a:t>Изучение рекомендаций предыдущей аттест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</a:rPr>
              <a:t>Изучение научной и учебно – методической литературы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</a:rPr>
              <a:t>Реализация долгосрочного проекта «Тропа здоровья»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</a:rPr>
              <a:t>Продолжать работу по совершенствованию предметно-развивающей среды, внедрение новых образовательных технологи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</a:rPr>
              <a:t>Повышение уровня квалификаци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4617b"/>
                </a:solidFill>
                <a:latin typeface="Times New Roman"/>
              </a:rPr>
              <a:t>Подготовка к последующей аттеста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ACKEDITION</cp:lastModifiedBy>
  <dcterms:modified xsi:type="dcterms:W3CDTF">2017-01-17T15:03:57Z</dcterms:modified>
  <cp:revision>25</cp:revision>
  <dc:subject/>
  <dc:title>Аналитический отчёт о проделанной работе за межаттестационный период  с 2006 по 2011 годы</dc:title>
</cp:coreProperties>
</file>