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42640" y="445680"/>
            <a:ext cx="456732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6E25D-2DD9-4ECE-9C20-12D9FFD9EE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DBB9F-2CF4-469D-92F9-04846D6027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"/>
          <p:cNvSpPr/>
          <p:nvPr/>
        </p:nvSpPr>
        <p:spPr>
          <a:xfrm>
            <a:off x="1143000" y="449280"/>
            <a:ext cx="4572000" cy="390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4269-7AE2-4DB4-A7BD-F4C113A0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AF1E-FD1D-4AFB-8A62-0F99DEA3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32E-0F51-433B-9A75-3FF51B2C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34B-728E-4E16-B0BF-B8E790AC8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3EC0-6D36-4B90-9214-CE5C18535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9FD82-E21B-47B6-A167-3B396D60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5E26-4D95-4E07-AE3B-7FD83B61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C866-CED1-4024-8EE3-C2F8E716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58B3-C8BD-4F03-8B81-43BA2407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BF30-2338-4566-A449-CE6FF31D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99F74-E5A4-4EFF-A99C-B88CD690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B137-D5C7-4228-BE05-7417139C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DDF2-2F0A-4835-A2EF-A467647A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EFB5-2A07-4DE0-865B-6FBDE2AA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94C08-14C4-420A-8D3C-73ADC75A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AC58-EC90-42FD-9E07-794725FD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56EC-C879-4E6F-BFCA-580F562D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610-7873-4846-B19A-87CBB0C5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869-7047-4FA0-B066-A186D0EF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3286-A2D2-4041-85DA-F6D150B5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12F2-25F2-4A64-A061-13DB7857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6D8A-63E7-4E7C-9691-97204A78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022-8AB1-4398-AAF8-AA119EEA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7F8-85FD-4C16-9DDE-5AED068C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50723C-00C8-414D-9806-534C15F1917B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457BB5C-E42F-4137-BA73-37E568393BBC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-2376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720720" y="720720"/>
            <a:ext cx="766764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00"/>
                </a:solidFill>
                <a:latin typeface="Arial"/>
                <a:ea typeface="Arial"/>
              </a:rPr>
              <a:t>Выращивание кристаллов медного купороса в домашних условия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219640" y="4365720"/>
            <a:ext cx="392436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</a:rPr>
              <a:t>Работу выполни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</a:rPr>
              <a:t>Кустиков Антон, 5В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</a:rPr>
              <a:t>Руководител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Times New Roman"/>
              </a:rPr>
              <a:t>Попова Татьяна Дмитри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395280" y="189000"/>
            <a:ext cx="827892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щивание кристаллов медного купороса в домашних услов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учиться выращивать кристаллы медного купоро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омашних услов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знать, что такое кристал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ить процесс выращивания кристал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комится с мерами безопасности при работе с медным купорос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стить кристалл из соли медного купоро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полученные результ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-360" y="1599840"/>
            <a:ext cx="39956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выращивания кристалла медного купороса необходимы гранулы или порошок медного купороса, стеклянный сосуд, и немного воды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тка, палочка или карандаш, затравка (бусина или пуговица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Рисунок 3" descr=""/>
          <p:cNvPicPr/>
          <p:nvPr/>
        </p:nvPicPr>
        <p:blipFill>
          <a:blip r:embed="rId2"/>
          <a:stretch/>
        </p:blipFill>
        <p:spPr>
          <a:xfrm>
            <a:off x="4140360" y="1447920"/>
            <a:ext cx="500364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40564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Объект 3" descr=""/>
          <p:cNvPicPr/>
          <p:nvPr/>
        </p:nvPicPr>
        <p:blipFill>
          <a:blip r:embed="rId2"/>
          <a:stretch/>
        </p:blipFill>
        <p:spPr>
          <a:xfrm>
            <a:off x="0" y="1395360"/>
            <a:ext cx="4284720" cy="41943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"/>
          <p:cNvPicPr/>
          <p:nvPr/>
        </p:nvPicPr>
        <p:blipFill>
          <a:blip r:embed="rId3"/>
          <a:stretch/>
        </p:blipFill>
        <p:spPr>
          <a:xfrm>
            <a:off x="4284720" y="2276640"/>
            <a:ext cx="48592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341280" y="152280"/>
            <a:ext cx="8613720" cy="1274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4" descr="PICT1032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5" descr=""/>
          <p:cNvPicPr/>
          <p:nvPr/>
        </p:nvPicPr>
        <p:blipFill>
          <a:blip r:embed="rId1"/>
          <a:stretch/>
        </p:blipFill>
        <p:spPr>
          <a:xfrm>
            <a:off x="212760" y="182520"/>
            <a:ext cx="8712000" cy="2103480"/>
          </a:xfrm>
          <a:prstGeom prst="rect">
            <a:avLst/>
          </a:prstGeom>
          <a:ln w="0">
            <a:noFill/>
          </a:ln>
        </p:spPr>
      </p:pic>
      <p:pic>
        <p:nvPicPr>
          <p:cNvPr id="106" name="Объект 5" descr=""/>
          <p:cNvPicPr/>
          <p:nvPr/>
        </p:nvPicPr>
        <p:blipFill>
          <a:blip r:embed="rId2"/>
          <a:stretch/>
        </p:blipFill>
        <p:spPr>
          <a:xfrm>
            <a:off x="179280" y="2349360"/>
            <a:ext cx="4537080" cy="38163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"/>
          <p:cNvPicPr/>
          <p:nvPr/>
        </p:nvPicPr>
        <p:blipFill>
          <a:blip r:embed="rId3"/>
          <a:stretch/>
        </p:blipFill>
        <p:spPr>
          <a:xfrm>
            <a:off x="5148360" y="2997360"/>
            <a:ext cx="399564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5:27:56Z</dcterms:created>
  <dc:creator>эшонкулова мадина</dc:creator>
  <dc:description/>
  <dc:language>en-US</dc:language>
  <cp:lastModifiedBy>User</cp:lastModifiedBy>
  <dcterms:modified xsi:type="dcterms:W3CDTF">2017-01-17T17:44:10Z</dcterms:modified>
  <cp:revision>27</cp:revision>
  <dc:subject/>
  <dc:title>Слайд 1</dc:title>
</cp:coreProperties>
</file>