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42640" y="445680"/>
            <a:ext cx="456732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10A86-97D7-432D-9598-A1601C2847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E6248-DC2A-4646-A073-FE3FD7B866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1143000" y="449280"/>
            <a:ext cx="4572000" cy="39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F48-5353-4E66-A68B-478E97D3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B26-EA5C-47C3-AD72-7ECCC77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E65-C60A-4F70-BB05-B30A5408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109-2511-44CE-92D7-1F334DC5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F272-63DE-44BA-A516-861BEA33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5387-7A07-479F-8C39-380895B0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3806-2059-41DD-A140-B86800E6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B3AB-4E4A-48CE-9A0C-8A33058D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D3E9-6CCE-45E1-AC47-CAB0C4EF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1DFD-9CA3-427E-B98C-AF9DA17A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BEDE-D384-4C9B-AEB9-2E5D406A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6B0-088C-464C-BFCD-70AC3EC6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17BD-F730-42A7-8A0D-D38DA34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909A-2E01-41CF-A64C-25703AAA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5FC0-EAA5-423F-B88E-33CF4D01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20E4-7A12-4520-8477-1E58AB44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6381-778A-43E2-A648-1B13F136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3C8-7AD0-4BA0-A641-B05FA6CC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823-97AE-4C49-8D21-EB34D8B8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E5D-9559-4EA6-A3B5-9371215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569-A27D-40DF-9D82-62CB692B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CAE-8A35-49A7-B2E0-87354E0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CBF-5927-4E39-B007-03218BD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C44-ECA6-466B-A612-06D1CE26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DA32DD-2091-40EE-A17C-7EA9ADD9F21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CD1846-5DB9-482D-83F8-75D300A839E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-2376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20720" y="720720"/>
            <a:ext cx="76676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  <a:ea typeface="Arial"/>
              </a:rPr>
              <a:t>Выращивание кристаллов медного купороса в домашних услов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219640" y="4365720"/>
            <a:ext cx="392436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Кустиков Антон, 5В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Попова Татьяна Дмитри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95280" y="189000"/>
            <a:ext cx="827892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щивание кристаллов медного купороса в домашни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выращивать кристаллы медного купоро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омашни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, что такое кристал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процесс выращивания крист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комится с мерами безопасности при работе с медным купоро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стить кристалл из соли медного купоро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полученные результ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-360" y="1599840"/>
            <a:ext cx="3995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выращивания кристалла медного купороса необходимы гранулы или порошок медного купороса, стеклянный сосуд, и немного воды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тка, палочка или карандаш, затравка (бусина или пуговица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2"/>
          <a:stretch/>
        </p:blipFill>
        <p:spPr>
          <a:xfrm>
            <a:off x="4140360" y="1447920"/>
            <a:ext cx="500364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0564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2"/>
          <a:stretch/>
        </p:blipFill>
        <p:spPr>
          <a:xfrm>
            <a:off x="0" y="1395360"/>
            <a:ext cx="4284720" cy="4194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859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613720" cy="1274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4" descr="PICT1032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5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8712000" cy="210348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4537080" cy="3816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39956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5:27:56Z</dcterms:created>
  <dc:creator>эшонкулова мадина</dc:creator>
  <dc:description/>
  <dc:language>en-US</dc:language>
  <cp:lastModifiedBy>User</cp:lastModifiedBy>
  <dcterms:modified xsi:type="dcterms:W3CDTF">2017-01-17T17:44:10Z</dcterms:modified>
  <cp:revision>27</cp:revision>
  <dc:subject/>
  <dc:title>Слайд 1</dc:title>
</cp:coreProperties>
</file>