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6AB3-0595-4F2F-A5D3-0FE9603E8B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D20-1B80-41FC-9911-9F2634D0A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записывают правило для глагол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o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5A4F-7A49-4971-A074-372EE6220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обращают внимание на окончание глаго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ß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лице единственного чис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2668-64DC-434E-8746-FD8116ABA5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прягают глаголы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9B6D-D134-4B3A-AB9D-3C2096B9E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тавят глагол в нужную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D15E-1100-4593-BD8C-F41861AC0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тавят глагол в нужную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79E8-6BE5-4C77-9056-8FF14975D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проверяют отв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2493-5206-42D0-80B3-B85E18239A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проверяют отв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D070-67C9-4D30-8D73-2AB2E3ACF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проверяют отв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841D-45F6-4BE1-9C64-B7DB690A9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9AE2-7AC9-4939-995A-A2634ACFA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486E-D53E-44D6-A538-52013018B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C292-D2EC-4B8F-BBFC-CB7FEB953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BF7D-E2B7-4161-92B3-6DB957CE8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обращают внимание на окончания глаг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9910-2A4B-4DE9-97A6-DBF474BE6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выделяют окончания глаг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FEC2-A3F6-4ACF-9ED9-058A73D3F7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записывают прав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548-9CA6-4F79-8B6B-B5B58C58A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записывают прав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D1BA-8297-41C6-A106-ED0D9D4A1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DED-0C6F-4A7F-8E4E-5929DDF3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B5F-74C6-4532-83DD-5F76D4E7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6F299-88E0-4002-A3B4-C70967AF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14365-7582-4A86-B7AA-AF6B1845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03EF7-7D52-400D-8E2E-A95EEDE3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2B54A-4334-41A5-8B38-14027B32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204A6-5CCD-4078-9551-23F35635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BE0B4-E410-4DB2-B1DD-40F5CE0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4066E-DF87-4287-8A08-7263FB7D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D30B6-1D4F-4BC0-892E-E36736DE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F7A04-CAE1-4AEF-9233-E05B5D33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6AB6B-9E13-4AEF-A50F-2F7991CB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680-7842-419F-8111-BF323C6E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155FC-9713-464C-BCF3-FC4D06FB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F56AA-CBFB-45FF-8897-70292738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09096-2D41-47AC-95C0-A7EB3D75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0235C-223E-4583-84B1-B65B2036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CD0F4-4B65-47E5-AB18-7FBAD14E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1310D-0DC2-422A-BB98-67F30B9C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A8594-7321-4DEA-99D5-A237FA49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085C7-AC23-4B46-B7CF-DE6A86EB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46FEB-4090-48F9-AC41-F6DADA40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3C2FD-D070-4561-933A-82B98454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75A-F984-46A0-ACB0-EC616B36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57A9A-78DE-489F-AAE4-9C64E281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2E124-79AF-4CF7-AB69-CB31683C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A737A-1976-46DF-9033-991EE035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4F47-448C-4E99-8A46-8261393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4368C-034B-43FE-A0C4-350354D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048DC-848E-403C-8EFD-3E6A1F7D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FC61-5369-48DD-9C4B-21CD5A73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7032C-696F-48EF-9F0E-6996CCE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B01E4-248A-4FA9-A8A0-0A373E3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25E0D-B027-427C-8417-A88A252B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52D9-E0CA-4E77-B001-C3FA1482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8FCE-4056-4BBD-A521-204B745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FE3AC-99BA-4127-AB61-3FBF23A6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E1A06-5C35-4FA7-A750-A2B1D45F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B1253-1E61-47A1-A5B6-2860BE9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5ABF3-6873-4D11-B516-9695F91F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FEF7A-30DD-4C19-BCA4-EF3B756C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ADEAA-9A1B-4575-902F-65609819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317A1-4C28-4021-A7B5-86E4A18C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C03F8-0530-4C77-A24A-5C41F778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A9146-0402-4AF7-87DD-90685298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B561-FC30-497E-A06A-B3BEC703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22D36-5269-4FF4-80DF-537B823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43B66-0AA9-40A1-890B-BBAE9F34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3DAA1-CF9A-4F94-9C5D-362CC81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25E87-4B84-4593-99CD-A4716F80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A7C03-E4F8-423F-A80E-2FCC351D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FDF98-5DCB-464F-BCEF-BB0FCFEB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9F79C-A24D-44BD-8AE6-EEC8E231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1FAB2-88EE-42B1-8BEA-A199527F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DE1C1-8163-45D7-AA27-104B4397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C4CFD-FAA1-427D-8272-A66094F6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1A67-E76B-4B0D-85AC-2C211FAE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493B2-6AE8-47CF-B099-327EAA84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921D7-4200-4C59-A179-B817E337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D7CB3-09C5-4215-A625-1EB4149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B29DF-1083-4677-B104-57B8A584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3E6BC-5C89-4A67-9687-180A753C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694C2-4054-4CA9-912B-1D06592E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67DF7-9BAD-446B-93AF-CD94CA2C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5D736-77AD-4C37-8BB3-19A6D055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A779B-3D0C-4587-8C8B-9EB63F8B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C28EF-F8C5-4B16-ABE8-FF6A2F19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E644-35A2-41AA-B276-46650514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C5C6B-7234-4F92-9EA1-1A321052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E27C9-EAFB-460E-8041-9C1DA262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A2AA8-4A11-4721-89D1-00F6D1B7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BA765-A3D1-4FF7-BFB9-9F7D005B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CB632-3AA8-4BE7-A0C1-22FBD073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43104-FFB8-473C-AF07-D1B2F6A1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D0B1D-F57C-4120-BED1-55E6D25B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65622-1DF2-4FE3-B4EE-C8A36233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FE914-A66D-4EAA-8397-D2111E98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E8072-F48E-42AE-AC2B-A5DE781E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6D7E-D0E5-4C09-8F36-449261C6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45DDF-A9FE-4DB8-9BD4-AFF46CBD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5CDB1-3687-4D37-B411-A1DE4598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6CD3D-C6CC-4FE1-BD84-F6C7CF28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750A6-5F41-4C9D-A6BB-9A168651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A06BD-C2AA-4692-B44D-7DF8B9E6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B1159-FC5C-4928-AA9A-E1BE47E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16573-C6DF-4ECD-9260-0EFE4F6A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A1BEF-30EF-4B0A-8E57-0A6E44CF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A4635-4BFF-4854-94AA-F75C8003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946B1-3C33-46B8-96DF-B55464F4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F056-89EB-4970-8944-B397055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1DC49-9869-485C-8A01-9FE4AA46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176AC-42BF-4587-AB4D-5F4A74A4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80E9F-D791-4530-BC43-DC1E3F6E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2410E-B329-409C-8609-C18A124A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5583C-1AC3-4B70-A810-E6975CCF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7A0981-D561-4AB7-B608-69C351D0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DF7A4-C74C-4E13-BFF7-268BE515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B3725-3713-456B-BD4F-9A6A7F3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95BAA-02B1-4B2D-8E08-EE24C26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4FE02-9B43-40D4-9C57-EEB29F20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683C-6FBB-4717-9328-A2D69948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87D9B-0011-4795-9B92-7A1987CE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C27FD-DA06-4233-B986-FAFA6477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F27B2-57EF-4B63-8F9E-B7D0FF86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B4C4BC-EDC4-4702-B414-ACFBF041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671FB-6B95-41B9-BBBC-6BAE8A24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F227C-5B61-40DD-A16B-AC14BCCE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06B573-D5B3-4416-80B4-5C3D6B91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2BE12-EE2E-45BA-B691-CD4E1286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0B180-D197-400C-B321-1568E6DC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2CFFB-68F0-4BC6-A814-0040334E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29A-DDFC-4222-A43D-41C74AB2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4F07-B426-49E7-B982-11CBA710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84443-CBD0-419D-9030-925B8DE7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439E6-6CD4-45C2-ADCD-D83641F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3FBF4-6F08-4494-ADEB-6D850675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A701B-457F-4D59-9FFC-EDB4A3E9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B4421-CD18-4471-8693-2C3A1358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1860-3414-47D6-9C7A-15434CFE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6BDC-0572-4D60-9C51-7F6262F8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AB56-C7D8-47E6-92F8-974624B3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6014-4A20-4BF1-9F3E-B1416520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4911-1345-4433-BC92-6B25345A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2092-9D14-4588-AB9E-1FDA2BD7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C62C-2877-474A-9234-D10ACF06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EAD6-DCF0-4DC1-AD23-5E87EC78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18C1-FCAB-4753-9AD9-E12EEB85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300-926E-4698-9803-74728D07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7A2B-F994-4AEE-8E3E-6140A77E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02268-D87F-4E92-AEE7-BCF4B81D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8F62-0D21-4253-94C8-D78AC96C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4E8E-6D99-422F-AA81-D215376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29A9-23D2-4E74-BF49-3A6ECE1F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581D9-4172-465B-B6B0-6F3FB65A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9609E-D281-483C-9D6A-46AFD966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47477-F6F7-408F-8BB6-D3BF3158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8F93-6F6A-4D90-89F3-DB95BA20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24D0-54B7-4EEF-9AD2-B4F81785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9DF-71ED-4A40-9FA0-C3CBFB29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B924-8247-4A34-B8B2-37A48073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192D-FF7F-4D75-B84B-4A250F6C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716E-DB17-4953-ABAA-D2C9395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4FC3-8E87-4BD6-AE47-7CAD812E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33DF-72E7-48C4-AE0C-AFA81947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3AC3-BE24-4E77-9711-EEC37FA6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80882-A9BA-48EC-B82C-4CD71283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5270-8C00-4AA4-82A2-20111E22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D4FD7-9F58-4678-95BA-F3053A5D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0ECD7-25EA-4FFB-88EA-A8293859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CBB-2497-42A9-8B63-12DFC273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32C5F-F6C5-4E65-97E2-02A527BC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60EF4-68C3-4E2C-9EFA-2D9DEBDD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91B01-7EF9-4172-94DF-B478EE5B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C20A-23B8-4A19-9A35-C7ABA961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FE56D-2EC2-4F11-9A5C-00E5267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6896-03C8-4E7D-B93A-A83A77C7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5775-195D-4972-B844-46B6A42C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2EE3A-E406-4AF2-97ED-6057D4FE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C25D9-45DE-426A-B964-DBEB2E0F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E652B-30BE-4ACC-8736-72090612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034-D27F-4AD6-8B5B-AA2896FB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3E934-7259-4819-B62A-AA55A650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2EEF1-792C-4971-B9C2-7BA75A77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AEED4-3400-4C69-B926-54B6296C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5BA7-68B7-4D3E-B086-8306B659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A273-2BEF-4A7E-841E-5F7A9F61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3DED0-D991-4467-BBD2-A1086762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F307-C30F-4D8D-9413-17D9C21A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69A8-EB99-4CCE-8D23-96B54499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BD067-324E-448E-80F7-C512A3D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CE2EF-C74E-4917-A6DB-9E05CDF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4D7-581B-49F5-90DC-C4C9091F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3B2D8-64E4-4169-B66D-CC703FF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2546-EC3A-4D13-951D-7DF8A3AD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416DD-D33A-405A-967A-F7575747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516C8-169B-4D36-ABBD-72E7BB4D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82070-39FA-4BC9-AD7F-EED2B884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9099E-9F95-4E0A-BB58-F8E7583B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E0639-7EB3-4357-AD1D-2DAB57E3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03C8E-0C3C-4144-9752-87C2F4C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8AF54-1221-4005-A860-47CEC86E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FA15F-9E96-4295-8BA4-BA74475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435-F64D-4F48-AF0D-F9661BDC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D06C1-0A80-4680-A944-4F634FC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9CAB4-919D-4812-BE1C-CE788FAD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21854-A96F-492E-BF1A-3216ECAF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269FA-D6A7-48B7-885A-A01077E8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F9770-AAB4-495C-BB10-51B4C9F1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B67F7-57E9-4FAC-B7F9-9C6AD99B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B8ED5-07DC-4FFB-8E2E-A3CD8D31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669BA-29BB-43A0-BDF4-95CE39DE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888D-6722-4E9B-AFFC-A094522D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09EE1-5BE8-4136-BBCD-77E05CC7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089-57FE-4D54-BBE7-10FD23B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C2FF5-757C-444D-9C11-26C19B42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22B68-056E-4044-9BF8-652B04A7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8117-4D1D-457B-B5D1-B62C81E2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58070-32CD-467D-8090-D003971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959BF-03D2-42FF-85B2-9C759E70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224A6-F854-4395-B624-66208C82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9A983-39DC-43F0-A163-19BD8709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DA3A3-D53E-4203-80C8-9736EC35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8D71D-79AF-4D00-AAE8-0ED31CD6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76DAE-FAD1-4848-B02A-5E9CB143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7A3F-8466-4D52-A5A9-4305A6CABF4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11E3-0F86-4D51-95AB-6AC9E97D15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047F-C889-4849-B06A-8EFE6B3D19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5F0C-3B34-41FF-A937-E9A13D185E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BE91-2138-45E1-92AD-F6E041085D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76BB-EC07-4480-A83C-F3703A8A38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98D5-2237-4936-839B-50D428E290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AD89-FB15-404A-B5B2-D36DB7EE6E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489F-5A47-48C9-9120-D2E2A14169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4345-48A9-453D-A706-8AD3A2B5EB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3B0C-4678-47E5-AEBB-88D7267422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073B-4DC7-4801-B63B-60C9DA50BF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1753-11E2-471D-8DDB-76CBD968535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E0B0-54FC-498D-A162-02BC62417B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D8C6-AC69-44A9-8219-C1CB34EE16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FA2F-FA25-4E61-A855-68F131BADB3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BB74-B960-4B65-A997-FBCE666EFB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639880" y="228240"/>
            <a:ext cx="6591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Ich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e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in München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Рисунок 1" descr=""/>
          <p:cNvPicPr/>
          <p:nvPr/>
        </p:nvPicPr>
        <p:blipFill>
          <a:blip r:embed="rId1"/>
          <a:stretch/>
        </p:blipFill>
        <p:spPr>
          <a:xfrm>
            <a:off x="1104840" y="2117880"/>
            <a:ext cx="678204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1199880" y="990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Mögen</a:t>
            </a:r>
            <a:r>
              <a:rPr b="1" lang="ru-RU" sz="4000" spc="-1" strike="noStrike">
                <a:solidFill>
                  <a:srgbClr val="404040"/>
                </a:solidFill>
                <a:latin typeface="Century Gothic"/>
              </a:rPr>
              <a:t> любить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ich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я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6000" spc="-1" strike="noStrike">
                <a:solidFill>
                  <a:srgbClr val="404040"/>
                </a:solidFill>
                <a:latin typeface="Century Gothic"/>
              </a:rPr>
              <a:t>mag</a:t>
            </a:r>
            <a:r>
              <a:rPr b="1" lang="en-US" sz="6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du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ты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  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ag</a:t>
            </a: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st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   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r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он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ag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она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ag  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вы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ög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990720" y="2209680"/>
            <a:ext cx="7410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Century Gothic"/>
              </a:rPr>
              <a:t>heißen</a:t>
            </a:r>
            <a:endParaRPr b="0" lang="en-US" sz="6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404040"/>
                </a:solidFill>
                <a:latin typeface="Century Gothic"/>
              </a:rPr>
              <a:t>du</a:t>
            </a:r>
            <a:r>
              <a:rPr b="0" lang="en-US" sz="8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8000" spc="-1" strike="noStrike">
                <a:solidFill>
                  <a:srgbClr val="404040"/>
                </a:solidFill>
                <a:latin typeface="Century Gothic"/>
              </a:rPr>
              <a:t>ты</a:t>
            </a:r>
            <a:r>
              <a:rPr b="0" lang="en-US" sz="8000" spc="-1" strike="noStrike">
                <a:solidFill>
                  <a:srgbClr val="404040"/>
                </a:solidFill>
                <a:latin typeface="Century Gothic"/>
              </a:rPr>
              <a:t> heiß</a:t>
            </a:r>
            <a:r>
              <a:rPr b="1" lang="en-US" sz="8000" spc="-1" strike="noStrike">
                <a:solidFill>
                  <a:srgbClr val="404040"/>
                </a:solidFill>
                <a:latin typeface="Century Gothic"/>
              </a:rPr>
              <a:t>t</a:t>
            </a:r>
            <a:endParaRPr b="0" lang="en-US" sz="8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410080" y="626760"/>
            <a:ext cx="426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Ich …</a:t>
            </a:r>
            <a:br>
              <a:rPr sz="7200"/>
            </a:b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du …</a:t>
            </a:r>
            <a:br>
              <a:rPr sz="7200"/>
            </a:b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er … </a:t>
            </a:r>
            <a:br>
              <a:rPr sz="7200"/>
            </a:b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sie …</a:t>
            </a:r>
            <a:br>
              <a:rPr sz="7200"/>
            </a:b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Sie …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1218960" y="-789120"/>
            <a:ext cx="659124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hei</a:t>
            </a:r>
            <a:r>
              <a:rPr b="0" lang="el-GR" sz="4800" spc="-1" strike="noStrike">
                <a:solidFill>
                  <a:srgbClr val="404040"/>
                </a:solidFill>
                <a:latin typeface="Century Gothic"/>
                <a:ea typeface="Arial"/>
              </a:rPr>
              <a:t>β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telefonier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sag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komm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ach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lern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ög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1523880" y="456840"/>
            <a:ext cx="6591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Wie (heißen) du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Ich (heißen) Hannah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Wo (wohnen) du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Ich (wohnen) in Rom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Peter (wohnen) in Berlin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Sie (wohnen) in Bern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Woher (kommen) du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Jessica (kommen) aus Österreich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1523880" y="655560"/>
            <a:ext cx="701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Christian (kommen) aus der Schweiz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Klaus (spielen) Tennis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Ich (spielen) Schach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(spielen) du Tischtennis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Hans (spielen)Basketball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Ich (mögen) Radfahren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(mögen) du Schwimmen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Er (mögen) Fußball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199880" y="87588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Wie heißt du?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Ich heiße Hannah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Wo wohnst du?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Ich wohne in Rom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Peter wohnt in Berlin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Sie wohnen in Bern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1371240" y="12189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Woher kommst du?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Jessica kommt aus Österreich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Christian kommt aus der Schweiz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Klaus spielt Tennis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Ich spiele  Schach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1371240" y="12189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Spielst du Tischtennis?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Hans spielt Basketball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Ich mag Radfahren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Magst du Schwimmen?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Er mag Fußball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2133360" y="3045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st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du in Prag?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Рисунок 1" descr=""/>
          <p:cNvPicPr/>
          <p:nvPr/>
        </p:nvPicPr>
        <p:blipFill>
          <a:blip r:embed="rId1"/>
          <a:stretch/>
        </p:blipFill>
        <p:spPr>
          <a:xfrm>
            <a:off x="609480" y="1378080"/>
            <a:ext cx="8115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361960" y="3045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Sophie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t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in Belgien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Рисунок 1" descr=""/>
          <p:cNvPicPr/>
          <p:nvPr/>
        </p:nvPicPr>
        <p:blipFill>
          <a:blip r:embed="rId1"/>
          <a:stretch/>
        </p:blipFill>
        <p:spPr>
          <a:xfrm>
            <a:off x="1752480" y="2160720"/>
            <a:ext cx="70106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828440" y="15192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Jan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t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in Österreich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3" name="Рисунок 1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6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1447560" y="32184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Sie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en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in der Schweiz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6" name="Рисунок 1" descr=""/>
          <p:cNvPicPr/>
          <p:nvPr/>
        </p:nvPicPr>
        <p:blipFill>
          <a:blip r:embed="rId1"/>
          <a:stretch/>
        </p:blipFill>
        <p:spPr>
          <a:xfrm>
            <a:off x="1357200" y="2057400"/>
            <a:ext cx="66819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990720" y="140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wohne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wohnst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                 </a:t>
            </a: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wohnt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         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wohnen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9" name="Рисунок 1" descr=""/>
          <p:cNvPicPr/>
          <p:nvPr/>
        </p:nvPicPr>
        <p:blipFill>
          <a:blip r:embed="rId1"/>
          <a:stretch/>
        </p:blipFill>
        <p:spPr>
          <a:xfrm>
            <a:off x="5146560" y="4565520"/>
            <a:ext cx="3159360" cy="2140200"/>
          </a:xfrm>
          <a:prstGeom prst="rect">
            <a:avLst/>
          </a:prstGeom>
          <a:ln w="0">
            <a:noFill/>
          </a:ln>
        </p:spPr>
      </p:pic>
      <p:pic>
        <p:nvPicPr>
          <p:cNvPr id="1200" name="Рисунок 2" descr=""/>
          <p:cNvPicPr/>
          <p:nvPr/>
        </p:nvPicPr>
        <p:blipFill>
          <a:blip r:embed="rId2"/>
          <a:stretch/>
        </p:blipFill>
        <p:spPr>
          <a:xfrm>
            <a:off x="1065240" y="3583080"/>
            <a:ext cx="3127320" cy="2084400"/>
          </a:xfrm>
          <a:prstGeom prst="rect">
            <a:avLst/>
          </a:prstGeom>
          <a:ln w="0">
            <a:noFill/>
          </a:ln>
        </p:spPr>
      </p:pic>
      <p:pic>
        <p:nvPicPr>
          <p:cNvPr id="1201" name="Рисунок 3" descr=""/>
          <p:cNvPicPr/>
          <p:nvPr/>
        </p:nvPicPr>
        <p:blipFill>
          <a:blip r:embed="rId3"/>
          <a:stretch/>
        </p:blipFill>
        <p:spPr>
          <a:xfrm>
            <a:off x="5265720" y="16714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202" name="Рисунок 6" descr=""/>
          <p:cNvPicPr/>
          <p:nvPr/>
        </p:nvPicPr>
        <p:blipFill>
          <a:blip r:embed="rId4"/>
          <a:stretch/>
        </p:blipFill>
        <p:spPr>
          <a:xfrm>
            <a:off x="1333440" y="141120"/>
            <a:ext cx="33958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990720" y="140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entury Gothic"/>
              </a:rPr>
              <a:t>Ich</a:t>
            </a: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6600" spc="-1" strike="noStrike">
                <a:solidFill>
                  <a:srgbClr val="404040"/>
                </a:solidFill>
                <a:latin typeface="Century Gothic"/>
              </a:rPr>
              <a:t>e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entury Gothic"/>
              </a:rPr>
              <a:t>Du</a:t>
            </a: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6600" spc="-1" strike="noStrike">
                <a:solidFill>
                  <a:srgbClr val="404040"/>
                </a:solidFill>
                <a:latin typeface="Century Gothic"/>
              </a:rPr>
              <a:t>st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              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Jan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t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         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en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5" name="Рисунок 1" descr=""/>
          <p:cNvPicPr/>
          <p:nvPr/>
        </p:nvPicPr>
        <p:blipFill>
          <a:blip r:embed="rId1"/>
          <a:stretch/>
        </p:blipFill>
        <p:spPr>
          <a:xfrm>
            <a:off x="5257800" y="4624560"/>
            <a:ext cx="3159000" cy="213984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2" descr=""/>
          <p:cNvPicPr/>
          <p:nvPr/>
        </p:nvPicPr>
        <p:blipFill>
          <a:blip r:embed="rId2"/>
          <a:stretch/>
        </p:blipFill>
        <p:spPr>
          <a:xfrm>
            <a:off x="1065240" y="3583080"/>
            <a:ext cx="3127320" cy="2084400"/>
          </a:xfrm>
          <a:prstGeom prst="rect">
            <a:avLst/>
          </a:prstGeom>
          <a:ln w="0">
            <a:noFill/>
          </a:ln>
        </p:spPr>
      </p:pic>
      <p:pic>
        <p:nvPicPr>
          <p:cNvPr id="1207" name="Рисунок 3" descr=""/>
          <p:cNvPicPr/>
          <p:nvPr/>
        </p:nvPicPr>
        <p:blipFill>
          <a:blip r:embed="rId3"/>
          <a:stretch/>
        </p:blipFill>
        <p:spPr>
          <a:xfrm>
            <a:off x="5510160" y="1333440"/>
            <a:ext cx="3317760" cy="2211480"/>
          </a:xfrm>
          <a:prstGeom prst="rect">
            <a:avLst/>
          </a:prstGeom>
          <a:ln w="0">
            <a:noFill/>
          </a:ln>
        </p:spPr>
      </p:pic>
      <p:pic>
        <p:nvPicPr>
          <p:cNvPr id="1208" name="Рисунок 6" descr=""/>
          <p:cNvPicPr/>
          <p:nvPr/>
        </p:nvPicPr>
        <p:blipFill>
          <a:blip r:embed="rId4"/>
          <a:stretch/>
        </p:blipFill>
        <p:spPr>
          <a:xfrm>
            <a:off x="797040" y="144360"/>
            <a:ext cx="33955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666880" y="1806480"/>
            <a:ext cx="4114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ad650e"/>
                </a:solidFill>
                <a:latin typeface="Century Gothic"/>
              </a:rPr>
              <a:t>Pr</a:t>
            </a:r>
            <a:r>
              <a:rPr b="1" lang="ru-RU" sz="8000" spc="-1" strike="noStrike">
                <a:solidFill>
                  <a:srgbClr val="ad650e"/>
                </a:solidFill>
                <a:latin typeface="Century Gothic"/>
              </a:rPr>
              <a:t>ä</a:t>
            </a:r>
            <a:r>
              <a:rPr b="1" lang="en-US" sz="8000" spc="-1" strike="noStrike">
                <a:solidFill>
                  <a:srgbClr val="ad650e"/>
                </a:solidFill>
                <a:latin typeface="Century Gothic"/>
              </a:rPr>
              <a:t>sens</a:t>
            </a:r>
            <a:r>
              <a:rPr b="1" lang="ru-RU" sz="8000" spc="-1" strike="noStrike">
                <a:solidFill>
                  <a:srgbClr val="ad650e"/>
                </a:solidFill>
                <a:latin typeface="Century Gothic"/>
              </a:rPr>
              <a:t> 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1752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636e58"/>
                </a:solidFill>
                <a:latin typeface="Century Gothic"/>
              </a:rPr>
              <a:t>(настоящее время)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199880" y="141732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404040"/>
                </a:solidFill>
                <a:uFillTx/>
                <a:latin typeface="Century Gothic"/>
              </a:rPr>
              <a:t>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n </a:t>
            </a:r>
            <a:r>
              <a:rPr b="1" lang="ru-RU" sz="4000" spc="-1" strike="noStrike">
                <a:solidFill>
                  <a:srgbClr val="404040"/>
                </a:solidFill>
                <a:latin typeface="Century Gothic"/>
              </a:rPr>
              <a:t>жить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ich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я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  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du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ты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t     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r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он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t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она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t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вы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n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ия Кашина</cp:lastModifiedBy>
  <dcterms:modified xsi:type="dcterms:W3CDTF">2016-11-24T14:11:2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