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0412-EFCA-4EEB-9A4A-47B6B624A9C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читают предложения и пере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E111-C9F4-4503-BBA4-D1B49A037E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записывают правило для глагол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moe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A2DB-E400-413F-BD30-3FC6AD37DA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обращают внимание на окончание глагол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iße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тором лице единственного чис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D35B-7395-4E16-9AEB-4D6F4589F6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прягают глаголы ус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40CE-6945-4107-A2AB-0817E88E6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тавят глагол в нужную фор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5BFD-9D2D-4C16-88EC-AF45CF9F0D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тавят глагол в нужную фор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A8A2-587C-4754-B7FD-B764A7F539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проверяют отв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FDE7-3180-4468-8219-951A6D2A6E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проверяют отв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6D63-4945-4A3A-AC8D-CA8CE7F0A6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проверяют отв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1DCD-2A79-4A24-AC09-F8BB65B568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читают предложения и пере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B387-7B11-4405-A464-0C9FB8547E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читают предложения и пере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C123-4028-49B3-920C-1790C206B2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читают предложения и пере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A73B-65D8-4D6D-9476-15C665474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читают предложения и перевод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1ABD-E12B-43EC-96C2-E6B7F633F0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обращают внимание на окончания глаго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92E4-DA61-4C4E-A8A5-E9F0A66E59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выделяют окончания глаго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1FF3-C919-4E87-9DAD-0174029E1C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записывают прави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D8C6-A887-4F86-8249-7A1282C8F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записывают прави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AD7B-EB6D-4F5D-B491-9A861A095A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F52-EBA5-4F0E-8300-AB464219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BE7-F395-4895-8269-A2AE30AE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196F5-1C44-47AA-8046-BA1D753A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AB2CB-312D-4265-8C59-44B0A1AD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6295E-CF7D-4B64-86D6-E6E7D24E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88B80-6E8E-44D0-8697-A79609A9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EC943-9473-4F50-9971-BBCA426D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863DA-7BAD-4ADF-B584-289485CE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2BF6A-8387-4BC5-B8B3-E2FE967D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7670A8-44CD-4872-9806-1F125151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C18FC-106A-4824-B570-CAF9F265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90CEF-7449-45C1-95F7-821733A1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EBF9-ACB6-4F8E-9724-09E437ED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71B61-BAEC-47EE-8C6D-A0F33597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4673F-E6BD-4E4C-B05A-67679D1D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5439AF-7BA5-4444-AB7B-CAFFE06E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7A568-BCD1-4647-8195-0176B8CB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A168F-4649-462F-BC4B-AEAF1E28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BB70C-102B-4CFE-85A9-DC836EB6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DD377-D9F9-4FB2-8F20-A8565DE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D5C16-F9AB-4612-B679-B1EA21AA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8C2AA-1754-4AE3-9336-39E54AA1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AC670-3CD6-4492-AEC7-7A11560E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DC6-FE90-4974-8DC5-544B0C72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0E15C-A987-4536-BF8C-E41A738A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FAC40-6542-4238-9091-911565F11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7DC50-64A0-46CC-B940-343BFCF2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6EF44-3C19-41B1-AECE-5E8F3C5A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6FF5C-1065-4B4F-9CC5-60AB8357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21779-E0BC-4D71-ADEF-44E0F6FA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EFA3F-6A22-4F47-8469-A99281AE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414FE-89FA-4C09-A008-42218236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7A807-C15E-464B-A52D-7E422672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E32F6-106B-42DA-8793-1CDF3372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9780-8A5C-4600-8A63-37ACE93ED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FA340-E9E3-472A-8216-9C0DE894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9A158-DC8E-40B4-95E2-DE2D2672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7ABDD-CE3F-4EF4-BBA8-CD0E7CBC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983F9-BC73-4F36-86AB-ABB69F4A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3CE15-EEE7-4898-BE6C-CD6E3620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3E846-7373-4B5D-929A-0B28E641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A1738D-2C09-40A2-BF33-DF651FB6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BF77A-1BAB-458B-BE4D-67DBE495D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3AA35-5162-4243-A24D-17FBB707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C4EB7-8C5C-4CCD-A414-96F9798E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A2DD-878E-471C-955F-F21592FC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47233-39A8-41FF-90F0-D398DD99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6C12E-D657-4629-B0FC-A8B55F72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46066-50E9-4C63-B4E4-00415F43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F4CA7-FA8D-4D2A-BC3B-7C3CB148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CCC29-8FD5-4128-8E37-DC6817AB4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401A88-BC21-4150-9DF0-D2881F91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54BB1-5E86-4091-8404-7DDCB476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184012-D7A3-408C-B42D-00052524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2EFCF-FA6C-4D1B-BD41-1FC9A9E0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7E2F8-819A-48FF-868C-CEFFA604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50B4-A017-4D29-A3DA-54E60618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B872A6-0080-4F2D-81C8-50D2CAFA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D5AB7-20E2-4E43-87C4-436991FC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E5B8C-F150-4F80-A1B4-FF5E4056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26FA5-2DBD-46A1-B5F5-797B909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980BC-79BA-472C-8B26-AD794204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DB067-8421-48E9-BD96-17236F99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049D4-BB30-4818-91CE-47C5317D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96AFF-1A8C-4CAB-8133-D8116B1B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4B543C-3EFA-4BF3-8DC3-3562166B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36906-176B-4683-8376-303A9177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D9EF-46F8-4575-B2CD-385BC068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5ED71-0E61-4DD5-90AC-2069478F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E8B04-56AB-4027-A506-266243C2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48C0AE-3A03-4ACB-877A-BAF0CAB7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273072-7D27-489D-8D46-7EDFAC7A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612E6-54AE-44E8-938D-ED37828B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E8CA9F-AE91-477F-8DB9-FB36F173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F58B5-D6C4-49E6-B751-0AC71ACF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24FD9-5C12-4597-9F5F-3FB08ACA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8EAED-EBF6-428A-A04D-06A112F3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FF8858-568A-4C3F-9F7D-3E968C7C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E14F-104E-405B-99A2-997C0586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939565-5779-4E1E-97C9-E91650DD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914A6-67BA-467B-95D8-FAA071F9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0D607-C720-46A1-95C3-60D71D68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EAF19-FA9A-40C8-B248-47774785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7E56A-447D-413E-9291-3564C547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14FFCD-3CDA-4895-BD6E-449FA68C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6DCCF8-449B-4B52-A261-7392ADD9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1A8278-B1C6-4F1F-80D5-CE963638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C6A7FE-3642-40BA-881A-934A7623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E83E18-F626-471E-A76C-2D4DF183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24C1-2383-4228-BB5F-6AF04511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8B11C-486F-464C-84A0-66A93DEF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6AAAB-7492-42BD-9E93-2F8F29A1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30445-1C65-4086-915D-1415B660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0AE77-F996-4C73-BF02-7F26DAC4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E3A4A4-388D-4B9D-A9B1-14148862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A12AF5-0BCD-4A3B-808C-177463D3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9CFCA-6410-441F-8B31-EFAAB5CF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A3226-F449-4807-9EE9-34E3D918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2E53E2-4217-485D-9AA1-821D6ED7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C6567-F54F-4752-8142-F23BE75E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B70B4-EA32-4D68-A132-937D627E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15C20-6803-4FA4-AC9F-7B146C5F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FB85B8-9E13-45F7-A773-1B901B0A0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66A7B-4530-47A7-AB16-CBD74034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8D2B2-08EB-43FE-A61D-A24141DF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A735A-7EEE-4F10-B962-EF397013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6395F-1AEA-41E4-BE3E-90E71166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DB61D1-4C13-415F-BE85-42D733C2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628EC-5C83-43A9-A6EE-3DB389E7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3AF1E-A46A-4052-8667-E8F62789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800A5A-DEAA-408B-BF7F-3442E72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ABF-CD93-407A-AE24-C66A6441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CF35-18E1-476A-9016-553CA38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2E9777-A4FA-4BDD-93EF-A1D5F3D7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CE4807-A03F-472F-9232-BAE8603D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CC7355-A147-4AE2-896F-319ED281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28373-754E-473C-9929-0A23C889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23C40-31B9-4795-BE0B-DF24C650D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0046-640E-4C54-A3AB-DDB4E9FD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418A-D280-4799-9EDB-7C61D0CA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A656-D270-4F4C-9E33-70925189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8364C-8E52-4F61-AE7F-B886FE55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90FD3-8FC6-49F9-95CE-F5D143F0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5CB86-E6D6-4344-AE45-7409086D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7899B-64B6-43D7-826F-CE11BF45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C1294-9426-4C1B-A046-8EC34729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DC2CD-3CA3-4FDB-95D5-FC56868A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3E8F-C1F1-44E2-997A-FE997E8C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4BB48-6E7C-46F7-B30E-187A6A9A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FAB7-4704-4A8C-8F48-AB861EB7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35EB9-AA53-4CFE-A73D-F116D97E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AD868-9182-4403-93E2-0B84B0CF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5D9B7-1636-48BD-98E4-9E622584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1D198-678F-48B0-A14D-2C7E9A66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CE5FB-7853-42CF-B8FF-067FCE42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6EC4F-6951-47A4-9A8D-4C2DCDA2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29E0F-15DC-4E12-B6A8-8C3CB4A3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66331-D3D7-473D-8C23-C494C390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481-944A-40F8-BD53-91665F3E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52E5B-1CBA-4A09-934D-56423481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72113-ABA9-42BD-92F3-C24C77FF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E67E6-809F-42F3-BA0C-DA7D2969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8B88-BA75-470C-BB18-261D5A27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7C104-F99E-4A0D-949D-64A89B1F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3CEE2-358C-4814-B3C9-DB129F1C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5684-8918-4931-BB64-533E2E07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AFC7C-2021-4128-8A67-4015E67A8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70EE3-39DF-4C0E-B54C-9B0F1A52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43D84-DB60-4AD5-9412-EECDF602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5E0-B8F2-4412-B594-A6FFA3D6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15A23-5ACB-4202-8B3F-C0B1F344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D4B34-8741-4595-9DC3-16C86C6D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E71C8-0D77-4055-B132-E03AA422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DE974-EDE4-41DA-A240-0A880834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0A432-DA6D-4649-B016-29CDD840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61B38-5781-421B-946A-C412803E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12F01-EFA8-4B1B-978B-5F2C4F0A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6D258-AAF3-469D-AACD-C73FB0BA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D13EB-CBA5-49E1-B3C6-6F03059F4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D5504-5DC8-41F2-B5CD-9E9953A8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A88E-EEAD-4EF3-B4AB-189EF125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E95AF-F8A9-4212-84F5-AE99B1552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B21DC-A232-430D-AEFB-867CBDF2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461CA-40AD-4483-8565-7671591F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27D39-704D-4351-B283-C3FE19FF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C126C-3AD8-471C-8FD3-DDDFF7F6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36FF7-E910-45B7-9CE8-D1CF3979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0E6FF-E02A-4E38-B2E9-AEEC2F4D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6FD0B-096A-4C88-BCEB-A0980A61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29983-5B84-4852-974D-532A531D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023CD-7836-460E-B88B-BF48CD5B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C58-4421-43C9-BDDF-F52C1AA0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2ED65-6965-4F64-9AC4-0A2BFFC7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32ADB-9EAA-4DE2-BC69-092905A0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6E9B9-22F9-455A-93E5-1AFB65CC4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93021-92FC-468D-84A6-CDE16C7EB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BD189-7DB7-4F0A-A3DB-3BE5CA0A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45960-6AFE-4BEC-9DBA-FD128F04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3D913-A6AF-4356-AA3E-8577F91B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B94E2-BE6B-45BB-8877-C8A5547D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4C9A6-E606-492F-A78C-0F98F2C1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6A6CC-458C-4D83-8F79-2844B4D8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587-28E7-427F-A2F1-53A68DA0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5AF20-0474-4212-904A-72A0D7AF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23F18-B2B7-4C49-B6E4-3086352F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EFD87-73D8-4B45-AB67-C47CB92F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5992A-FCA2-4CD5-A9E9-97BFF21A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5D33A-C4E3-4415-8EF1-849F3D29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A89E8-3C6D-474A-806E-0C585DEE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4A80F-2B37-44BA-9C48-53609B69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89278-A1CF-4A6C-AB84-BC80D38A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55E30-BFCA-4A4C-B64D-A8306B8E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E96891-353F-4890-8EB4-01056A3F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4E12-3201-4082-BE03-464FEDC8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A5E29-80FB-4DBA-B0D1-B5554C0B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4E45E-F1F9-4E24-B1FB-F171488F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589D60-BE88-448B-9216-A877574F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F83C9-BAE1-47F9-8255-B0E0BED1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08D89-DA54-41CD-A18E-078B5902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2A09A-B2AE-462C-A682-D26E6734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85EA9-E797-45F5-93E3-6290679C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843AD-BB2E-4D4F-B1F9-730BA305E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5927A-E572-40DF-87EF-DC53A8AE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CCB4B-8272-4040-A73E-184DC3C9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8352-CC9F-4C9D-8A52-3285BBCF24E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C746-004F-47D2-AC68-64AD60268E5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D498-2ECD-43F2-A4C0-C218562A0CC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0060-5B45-434D-A78F-721F5F999AA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F534-6DFE-4675-92E8-6C9F5CC6317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6D30-8DB1-4F9E-8D0F-52A28E6C02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5220-1240-4A12-8661-BF89BF6B0BD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2323-41AA-4075-9B54-D39AD07ADBA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EDA3-38EA-44E3-9F65-13BED3842D4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86B4-6CA8-4734-B6D4-D34212C462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596C-9B7E-4741-8A2D-1FC8BC7C0C0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7DE5-64C5-4E56-8F93-2F969078DA8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449B-61F2-4F6F-81A8-D62362C0A93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C0F3-7F4C-4748-A213-0C61276B1AF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00B1-2F61-4FF0-A0A2-DBE7CA2E9DE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CABB-8359-47C4-9B05-5B7B7C47BA3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9530-0259-4E18-BBEF-0B855A88051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2639880" y="228240"/>
            <a:ext cx="6591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Ich 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wohne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in München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5" name="Рисунок 1" descr=""/>
          <p:cNvPicPr/>
          <p:nvPr/>
        </p:nvPicPr>
        <p:blipFill>
          <a:blip r:embed="rId1"/>
          <a:stretch/>
        </p:blipFill>
        <p:spPr>
          <a:xfrm>
            <a:off x="1104840" y="2117880"/>
            <a:ext cx="678204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r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ä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ens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настоящее время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1199880" y="990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Mögen</a:t>
            </a:r>
            <a:r>
              <a:rPr b="1" lang="ru-RU" sz="4000" spc="-1" strike="noStrike">
                <a:solidFill>
                  <a:srgbClr val="404040"/>
                </a:solidFill>
                <a:latin typeface="Century Gothic"/>
              </a:rPr>
              <a:t> любить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ich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я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6000" spc="-1" strike="noStrike">
                <a:solidFill>
                  <a:srgbClr val="404040"/>
                </a:solidFill>
                <a:latin typeface="Century Gothic"/>
              </a:rPr>
              <a:t>mag</a:t>
            </a:r>
            <a:r>
              <a:rPr b="1" lang="en-US" sz="6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du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ты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   </a:t>
            </a: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mag</a:t>
            </a:r>
            <a:r>
              <a:rPr b="1" lang="en-US" sz="4800" spc="-1" strike="noStrike">
                <a:solidFill>
                  <a:srgbClr val="404040"/>
                </a:solidFill>
                <a:latin typeface="Century Gothic"/>
              </a:rPr>
              <a:t>st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   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er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он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mag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sie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она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mag  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46960" indent="-24696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Sie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вы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    </a:t>
            </a: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mög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r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ä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ens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настоящее время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990720" y="2209680"/>
            <a:ext cx="7410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404040"/>
                </a:solidFill>
                <a:latin typeface="Century Gothic"/>
              </a:rPr>
              <a:t>heißen</a:t>
            </a:r>
            <a:endParaRPr b="0" lang="en-US" sz="6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404040"/>
                </a:solidFill>
                <a:latin typeface="Century Gothic"/>
              </a:rPr>
              <a:t>du</a:t>
            </a:r>
            <a:r>
              <a:rPr b="0" lang="en-US" sz="8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8000" spc="-1" strike="noStrike">
                <a:solidFill>
                  <a:srgbClr val="404040"/>
                </a:solidFill>
                <a:latin typeface="Century Gothic"/>
              </a:rPr>
              <a:t>ты</a:t>
            </a:r>
            <a:r>
              <a:rPr b="0" lang="en-US" sz="8000" spc="-1" strike="noStrike">
                <a:solidFill>
                  <a:srgbClr val="404040"/>
                </a:solidFill>
                <a:latin typeface="Century Gothic"/>
              </a:rPr>
              <a:t> heiß</a:t>
            </a:r>
            <a:r>
              <a:rPr b="1" lang="en-US" sz="8000" spc="-1" strike="noStrike">
                <a:solidFill>
                  <a:srgbClr val="404040"/>
                </a:solidFill>
                <a:latin typeface="Century Gothic"/>
              </a:rPr>
              <a:t>t</a:t>
            </a:r>
            <a:endParaRPr b="0" lang="en-US" sz="8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410080" y="626760"/>
            <a:ext cx="4267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262626"/>
                </a:solidFill>
                <a:latin typeface="Century Gothic"/>
              </a:rPr>
              <a:t>Ich …</a:t>
            </a:r>
            <a:br>
              <a:rPr sz="7200"/>
            </a:br>
            <a:r>
              <a:rPr b="0" lang="en-US" sz="7200" spc="-1" strike="noStrike">
                <a:solidFill>
                  <a:srgbClr val="262626"/>
                </a:solidFill>
                <a:latin typeface="Century Gothic"/>
              </a:rPr>
              <a:t>du …</a:t>
            </a:r>
            <a:br>
              <a:rPr sz="7200"/>
            </a:br>
            <a:r>
              <a:rPr b="0" lang="en-US" sz="7200" spc="-1" strike="noStrike">
                <a:solidFill>
                  <a:srgbClr val="262626"/>
                </a:solidFill>
                <a:latin typeface="Century Gothic"/>
              </a:rPr>
              <a:t>er … </a:t>
            </a:r>
            <a:br>
              <a:rPr sz="7200"/>
            </a:br>
            <a:r>
              <a:rPr b="0" lang="en-US" sz="7200" spc="-1" strike="noStrike">
                <a:solidFill>
                  <a:srgbClr val="262626"/>
                </a:solidFill>
                <a:latin typeface="Century Gothic"/>
              </a:rPr>
              <a:t>sie …</a:t>
            </a:r>
            <a:br>
              <a:rPr sz="7200"/>
            </a:br>
            <a:r>
              <a:rPr b="0" lang="en-US" sz="7200" spc="-1" strike="noStrike">
                <a:solidFill>
                  <a:srgbClr val="262626"/>
                </a:solidFill>
                <a:latin typeface="Century Gothic"/>
              </a:rPr>
              <a:t>Sie …</a:t>
            </a:r>
            <a:endParaRPr b="0" lang="en-US" sz="7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1218960" y="-789120"/>
            <a:ext cx="659124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hei</a:t>
            </a:r>
            <a:r>
              <a:rPr b="0" lang="el-GR" sz="4800" spc="-1" strike="noStrike">
                <a:solidFill>
                  <a:srgbClr val="404040"/>
                </a:solidFill>
                <a:latin typeface="Century Gothic"/>
                <a:ea typeface="Arial"/>
              </a:rPr>
              <a:t>β</a:t>
            </a: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telefonier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sag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komm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mach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lern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entury Gothic"/>
              </a:rPr>
              <a:t>mögen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 txBox="1"/>
          <p:nvPr/>
        </p:nvSpPr>
        <p:spPr>
          <a:xfrm>
            <a:off x="1523880" y="456840"/>
            <a:ext cx="65916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Wie (heißen) du?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Ich (heißen) Hannah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Wo (wohnen) du?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Ich (wohnen) in Rom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Peter (wohnen) in Berlin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Sie (wohnen) in Bern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Woher (kommen) du?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Jessica (kommen) aus Österreich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260640" indent="-2606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 txBox="1"/>
          <p:nvPr/>
        </p:nvSpPr>
        <p:spPr>
          <a:xfrm>
            <a:off x="1523880" y="655560"/>
            <a:ext cx="7010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Christian (kommen) aus der Schweiz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Klaus (spielen) Tennis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Ich (spielen) Schach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(spielen) du Tischtennis?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Hans (spielen)Basketball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Ich (mögen) Radfahren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(mögen) du Schwimmen?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Century Gothic"/>
              </a:rPr>
              <a:t>Er (mögen) Fußball.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r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ä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ens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настоящее время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199880" y="87588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404040"/>
                </a:solidFill>
                <a:latin typeface="Century Gothic"/>
              </a:rPr>
              <a:t>Wie heißt du?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404040"/>
                </a:solidFill>
                <a:latin typeface="Century Gothic"/>
              </a:rPr>
              <a:t>Ich heiße Hannah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404040"/>
                </a:solidFill>
                <a:latin typeface="Century Gothic"/>
              </a:rPr>
              <a:t>Wo wohnst du?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404040"/>
                </a:solidFill>
                <a:latin typeface="Century Gothic"/>
              </a:rPr>
              <a:t>Ich wohne in Rom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404040"/>
                </a:solidFill>
                <a:latin typeface="Century Gothic"/>
              </a:rPr>
              <a:t>Peter wohnt in Berlin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  <a:p>
            <a:pPr marL="250200" indent="-2502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404040"/>
                </a:solidFill>
                <a:latin typeface="Century Gothic"/>
              </a:rPr>
              <a:t>Sie wohnen in Bern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r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ä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ens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настоящее время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1371240" y="12189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404040"/>
                </a:solidFill>
                <a:latin typeface="Century Gothic"/>
              </a:rPr>
              <a:t>Woher kommst du?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404040"/>
                </a:solidFill>
                <a:latin typeface="Century Gothic"/>
              </a:rPr>
              <a:t>Jessica kommt aus Österreich.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404040"/>
                </a:solidFill>
                <a:latin typeface="Century Gothic"/>
              </a:rPr>
              <a:t>Christian kommt aus der Schweiz.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i="1" lang="en-US" sz="4000" spc="-1" strike="noStrike">
                <a:solidFill>
                  <a:srgbClr val="404040"/>
                </a:solidFill>
                <a:latin typeface="Century Gothic"/>
              </a:rPr>
              <a:t>Klaus spielt Tennis.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000" spc="-1" strike="noStrike">
                <a:solidFill>
                  <a:srgbClr val="404040"/>
                </a:solidFill>
                <a:latin typeface="Century Gothic"/>
              </a:rPr>
              <a:t>Ich spiele  Schach.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8440" indent="-2984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r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ä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ens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настоящее время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1371240" y="12189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404040"/>
                </a:solidFill>
                <a:latin typeface="Century Gothic"/>
              </a:rPr>
              <a:t>Spielst du Tischtennis?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404040"/>
                </a:solidFill>
                <a:latin typeface="Century Gothic"/>
              </a:rPr>
              <a:t>Hans spielt Basketball.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404040"/>
                </a:solidFill>
                <a:latin typeface="Century Gothic"/>
              </a:rPr>
              <a:t>Ich mag Radfahren.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404040"/>
                </a:solidFill>
                <a:latin typeface="Century Gothic"/>
              </a:rPr>
              <a:t>Magst du Schwimmen?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400" spc="-1" strike="noStrike">
                <a:solidFill>
                  <a:srgbClr val="404040"/>
                </a:solidFill>
                <a:latin typeface="Century Gothic"/>
              </a:rPr>
              <a:t>Er mag Fußball.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  <a:p>
            <a:pPr marL="325800" indent="-3258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"/>
          <p:cNvSpPr txBox="1"/>
          <p:nvPr/>
        </p:nvSpPr>
        <p:spPr>
          <a:xfrm>
            <a:off x="2133360" y="3045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Wohnst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du in Prag?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87" name="Рисунок 1" descr=""/>
          <p:cNvPicPr/>
          <p:nvPr/>
        </p:nvPicPr>
        <p:blipFill>
          <a:blip r:embed="rId1"/>
          <a:stretch/>
        </p:blipFill>
        <p:spPr>
          <a:xfrm>
            <a:off x="609480" y="1378080"/>
            <a:ext cx="8115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361960" y="3045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Sophie 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wohnt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in Belgien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0" name="Рисунок 1" descr=""/>
          <p:cNvPicPr/>
          <p:nvPr/>
        </p:nvPicPr>
        <p:blipFill>
          <a:blip r:embed="rId1"/>
          <a:stretch/>
        </p:blipFill>
        <p:spPr>
          <a:xfrm>
            <a:off x="1752480" y="2160720"/>
            <a:ext cx="70106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828440" y="15192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Jan 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wohnt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in Österreich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3" name="Рисунок 1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6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1447560" y="32184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Sie 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wohnen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in der Schweiz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6" name="Рисунок 1" descr=""/>
          <p:cNvPicPr/>
          <p:nvPr/>
        </p:nvPicPr>
        <p:blipFill>
          <a:blip r:embed="rId1"/>
          <a:stretch/>
        </p:blipFill>
        <p:spPr>
          <a:xfrm>
            <a:off x="1357200" y="2057400"/>
            <a:ext cx="668196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990720" y="140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wohne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wohnst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                  </a:t>
            </a: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wohnt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          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01680" indent="-3016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wohnen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9" name="Рисунок 1" descr=""/>
          <p:cNvPicPr/>
          <p:nvPr/>
        </p:nvPicPr>
        <p:blipFill>
          <a:blip r:embed="rId1"/>
          <a:stretch/>
        </p:blipFill>
        <p:spPr>
          <a:xfrm>
            <a:off x="5146560" y="4565520"/>
            <a:ext cx="3159360" cy="2140200"/>
          </a:xfrm>
          <a:prstGeom prst="rect">
            <a:avLst/>
          </a:prstGeom>
          <a:ln w="0">
            <a:noFill/>
          </a:ln>
        </p:spPr>
      </p:pic>
      <p:pic>
        <p:nvPicPr>
          <p:cNvPr id="1200" name="Рисунок 2" descr=""/>
          <p:cNvPicPr/>
          <p:nvPr/>
        </p:nvPicPr>
        <p:blipFill>
          <a:blip r:embed="rId2"/>
          <a:stretch/>
        </p:blipFill>
        <p:spPr>
          <a:xfrm>
            <a:off x="1065240" y="3583080"/>
            <a:ext cx="3127320" cy="2084400"/>
          </a:xfrm>
          <a:prstGeom prst="rect">
            <a:avLst/>
          </a:prstGeom>
          <a:ln w="0">
            <a:noFill/>
          </a:ln>
        </p:spPr>
      </p:pic>
      <p:pic>
        <p:nvPicPr>
          <p:cNvPr id="1201" name="Рисунок 3" descr=""/>
          <p:cNvPicPr/>
          <p:nvPr/>
        </p:nvPicPr>
        <p:blipFill>
          <a:blip r:embed="rId3"/>
          <a:stretch/>
        </p:blipFill>
        <p:spPr>
          <a:xfrm>
            <a:off x="5265720" y="16714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202" name="Рисунок 6" descr=""/>
          <p:cNvPicPr/>
          <p:nvPr/>
        </p:nvPicPr>
        <p:blipFill>
          <a:blip r:embed="rId4"/>
          <a:stretch/>
        </p:blipFill>
        <p:spPr>
          <a:xfrm>
            <a:off x="1333440" y="141120"/>
            <a:ext cx="33958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990720" y="140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entury Gothic"/>
              </a:rPr>
              <a:t>Ich</a:t>
            </a: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6600" spc="-1" strike="noStrike">
                <a:solidFill>
                  <a:srgbClr val="404040"/>
                </a:solidFill>
                <a:latin typeface="Century Gothic"/>
              </a:rPr>
              <a:t>e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Century Gothic"/>
              </a:rPr>
              <a:t>Du</a:t>
            </a: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6600" spc="-1" strike="noStrike">
                <a:solidFill>
                  <a:srgbClr val="404040"/>
                </a:solidFill>
                <a:latin typeface="Century Gothic"/>
              </a:rPr>
              <a:t>st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                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Jan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t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404040"/>
                </a:solidFill>
                <a:latin typeface="Century Gothic"/>
              </a:rPr>
              <a:t>          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Sie</a:t>
            </a:r>
            <a:r>
              <a:rPr b="0" lang="en-US" sz="54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5400" spc="-1" strike="noStrike">
                <a:solidFill>
                  <a:srgbClr val="404040"/>
                </a:solidFill>
                <a:latin typeface="Century Gothic"/>
              </a:rPr>
              <a:t>en</a:t>
            </a:r>
            <a:endParaRPr b="0" lang="en-US" sz="5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5" name="Рисунок 1" descr=""/>
          <p:cNvPicPr/>
          <p:nvPr/>
        </p:nvPicPr>
        <p:blipFill>
          <a:blip r:embed="rId1"/>
          <a:stretch/>
        </p:blipFill>
        <p:spPr>
          <a:xfrm>
            <a:off x="5257800" y="4624560"/>
            <a:ext cx="3159000" cy="2139840"/>
          </a:xfrm>
          <a:prstGeom prst="rect">
            <a:avLst/>
          </a:prstGeom>
          <a:ln w="0">
            <a:noFill/>
          </a:ln>
        </p:spPr>
      </p:pic>
      <p:pic>
        <p:nvPicPr>
          <p:cNvPr id="1206" name="Рисунок 2" descr=""/>
          <p:cNvPicPr/>
          <p:nvPr/>
        </p:nvPicPr>
        <p:blipFill>
          <a:blip r:embed="rId2"/>
          <a:stretch/>
        </p:blipFill>
        <p:spPr>
          <a:xfrm>
            <a:off x="1065240" y="3583080"/>
            <a:ext cx="3127320" cy="2084400"/>
          </a:xfrm>
          <a:prstGeom prst="rect">
            <a:avLst/>
          </a:prstGeom>
          <a:ln w="0">
            <a:noFill/>
          </a:ln>
        </p:spPr>
      </p:pic>
      <p:pic>
        <p:nvPicPr>
          <p:cNvPr id="1207" name="Рисунок 3" descr=""/>
          <p:cNvPicPr/>
          <p:nvPr/>
        </p:nvPicPr>
        <p:blipFill>
          <a:blip r:embed="rId3"/>
          <a:stretch/>
        </p:blipFill>
        <p:spPr>
          <a:xfrm>
            <a:off x="5510160" y="1333440"/>
            <a:ext cx="3317760" cy="2211480"/>
          </a:xfrm>
          <a:prstGeom prst="rect">
            <a:avLst/>
          </a:prstGeom>
          <a:ln w="0">
            <a:noFill/>
          </a:ln>
        </p:spPr>
      </p:pic>
      <p:pic>
        <p:nvPicPr>
          <p:cNvPr id="1208" name="Рисунок 6" descr=""/>
          <p:cNvPicPr/>
          <p:nvPr/>
        </p:nvPicPr>
        <p:blipFill>
          <a:blip r:embed="rId4"/>
          <a:stretch/>
        </p:blipFill>
        <p:spPr>
          <a:xfrm>
            <a:off x="797040" y="144360"/>
            <a:ext cx="339552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666880" y="1806480"/>
            <a:ext cx="4114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0" spc="-1" strike="noStrike">
                <a:solidFill>
                  <a:srgbClr val="ad650e"/>
                </a:solidFill>
                <a:latin typeface="Century Gothic"/>
              </a:rPr>
              <a:t>Pr</a:t>
            </a:r>
            <a:r>
              <a:rPr b="1" lang="ru-RU" sz="8000" spc="-1" strike="noStrike">
                <a:solidFill>
                  <a:srgbClr val="ad650e"/>
                </a:solidFill>
                <a:latin typeface="Century Gothic"/>
              </a:rPr>
              <a:t>ä</a:t>
            </a:r>
            <a:r>
              <a:rPr b="1" lang="en-US" sz="8000" spc="-1" strike="noStrike">
                <a:solidFill>
                  <a:srgbClr val="ad650e"/>
                </a:solidFill>
                <a:latin typeface="Century Gothic"/>
              </a:rPr>
              <a:t>sens</a:t>
            </a:r>
            <a:r>
              <a:rPr b="1" lang="ru-RU" sz="8000" spc="-1" strike="noStrike">
                <a:solidFill>
                  <a:srgbClr val="ad650e"/>
                </a:solidFill>
                <a:latin typeface="Century Gothic"/>
              </a:rPr>
              <a:t> </a:t>
            </a:r>
            <a:br>
              <a:rPr sz="8000"/>
            </a:br>
            <a:br>
              <a:rPr sz="8000"/>
            </a:br>
            <a:endParaRPr b="0" lang="en-US" sz="8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subTitle"/>
          </p:nvPr>
        </p:nvSpPr>
        <p:spPr>
          <a:xfrm>
            <a:off x="175248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636e58"/>
                </a:solidFill>
                <a:latin typeface="Century Gothic"/>
              </a:rPr>
              <a:t>(настоящее время)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7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Pr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ä</a:t>
            </a: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sens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настоящее время</a:t>
            </a:r>
            <a:br>
              <a:rPr sz="3600"/>
            </a:b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199880" y="141732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 u="sng">
                <a:solidFill>
                  <a:srgbClr val="404040"/>
                </a:solidFill>
                <a:uFillTx/>
                <a:latin typeface="Century Gothic"/>
              </a:rPr>
              <a:t>Wohn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en </a:t>
            </a:r>
            <a:r>
              <a:rPr b="1" lang="ru-RU" sz="4000" spc="-1" strike="noStrike">
                <a:solidFill>
                  <a:srgbClr val="404040"/>
                </a:solidFill>
                <a:latin typeface="Century Gothic"/>
              </a:rPr>
              <a:t>жить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ich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я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 wohn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e  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du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ты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st     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er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он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wohn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t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sie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она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t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   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  <a:p>
            <a:pPr marL="294840" indent="-294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Sie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404040"/>
                </a:solidFill>
                <a:latin typeface="Century Gothic"/>
              </a:rPr>
              <a:t>вы</a:t>
            </a:r>
            <a:r>
              <a:rPr b="0" lang="en-US" sz="4000" spc="-1" strike="noStrike">
                <a:solidFill>
                  <a:srgbClr val="404040"/>
                </a:solidFill>
                <a:latin typeface="Century Gothic"/>
              </a:rPr>
              <a:t> wohn</a:t>
            </a:r>
            <a:r>
              <a:rPr b="1" lang="en-US" sz="4000" spc="-1" strike="noStrike">
                <a:solidFill>
                  <a:srgbClr val="404040"/>
                </a:solidFill>
                <a:latin typeface="Century Gothic"/>
              </a:rPr>
              <a:t>en</a:t>
            </a:r>
            <a:endParaRPr b="0" lang="en-US" sz="4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лерия Кашина</cp:lastModifiedBy>
  <dcterms:modified xsi:type="dcterms:W3CDTF">2016-11-24T14:11:2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