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click.wav" ContentType="audio/x-wav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1.png" ContentType="image/pn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B0B-4116-4029-8A90-0ADB4820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E95-E8F1-4CC5-A97A-254ABF4A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8D7-7FE3-4B98-85DC-C103A314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73E-057B-42B9-AD7F-F807F43F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ACF52-94AA-46FC-A2EA-E2B25365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AF6C4-17DF-479E-A93C-2C79C46B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BF08D-A34C-4A16-A806-AD540BAF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EECA1-453E-4B72-A4E9-03FDF8D3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419B5-3505-4ADE-888A-6BF12CAE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6DC90-77D9-4C9E-872D-D2EF26C9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46878-437A-444B-B49B-82ABC44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D5D-E338-487C-A8F3-0F25DBCD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C1DB4-B7F1-4D16-AB6E-6B7029D7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1B975-FAD2-4C40-BBB9-EADDFC58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4F18E-46DF-4F44-BFB9-317CDECC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42990-FB08-45C7-978C-45DDDF69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CFFE6-E7FA-4678-A201-D2964DBC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77A-E5F7-4303-9E4B-ADBD169E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5FF-AF64-44EE-B869-8E350287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00B-2CBB-43A4-96B9-AAFCDA6B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ACF-74CD-4F09-86F6-B390F0E6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D82-C133-4878-B2C8-5502A30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A51-E451-4B12-AA97-3B7C797B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564-2D94-46CC-953F-AE7AAD2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EB6B-C206-495F-9882-ABDA7D3EBD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680C-068D-4D4A-AA73-58C2899E7C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file:///tmp/home/.config/libreoffice/4/user/gallery/wind.wav" TargetMode="External"/><Relationship Id="rId6" Type="http://schemas.microsoft.com/office/2007/relationships/media" Target="file:///tmp/home/.config/libreoffice/4/user/gallery/wind.wav" TargetMode="External"/><Relationship Id="rId7" Type="http://schemas.openxmlformats.org/officeDocument/2006/relationships/image" Target="../media/image23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8dabe"/>
                </a:solidFill>
                <a:latin typeface="Monotype Corsiva"/>
              </a:rPr>
              <a:t>Роберт</a:t>
            </a:r>
            <a:r>
              <a:rPr b="1" lang="en-US" sz="7200" spc="-1" strike="noStrike">
                <a:solidFill>
                  <a:srgbClr val="58dabe"/>
                </a:solidFill>
                <a:latin typeface="Monotype Corsiva"/>
              </a:rPr>
              <a:t> Бёрнс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7164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Monotype Corsiva"/>
              </a:rPr>
              <a:t>Robert Burn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4365720"/>
            <a:ext cx="7345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dabe"/>
                </a:solidFill>
                <a:latin typeface="Monotype Corsiva"/>
              </a:rPr>
              <a:t>национальный</a:t>
            </a:r>
            <a:r>
              <a:rPr b="1" lang="en-US" sz="4400" spc="-1" strike="noStrike">
                <a:solidFill>
                  <a:srgbClr val="58dabe"/>
                </a:solidFill>
                <a:latin typeface="Monotype Corsiva"/>
              </a:rPr>
              <a:t> поэт Шотланд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14972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653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700280"/>
            <a:ext cx="66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Monotype Corsiva"/>
              </a:rPr>
              <a:t>the National Scottish Po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057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228240"/>
            <a:ext cx="79236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82e2"/>
                </a:solidFill>
                <a:latin typeface="Georgia"/>
              </a:rPr>
              <a:t>КРОССВОР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76500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76500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76500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64000" y="2781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328464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64000" y="429264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70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8036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850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85080" y="3284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85080" y="2781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5080" y="4292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85080" y="4797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85080" y="5300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43280" y="1773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3280" y="2781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3280" y="3284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3280" y="4292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3280" y="4797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1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40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3280" y="5300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4328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4000" y="126828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0" y="1773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32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260280"/>
            <a:ext cx="521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Comin’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           </a:t>
            </a: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thro’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                    </a:t>
            </a: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the ry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659640" y="2349360"/>
            <a:ext cx="237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500"/>
                            </p:stCondLst>
                            <p:childTnLst>
                              <p:par>
                                <p:cTn id="6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Verdana"/>
              </a:rPr>
              <a:t>Scot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Garamond"/>
              </a:rPr>
              <a:t>На нашем уроке мы узнаем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1700280"/>
            <a:ext cx="9144000" cy="3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о жизни и творчестве великого поэт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в какой стране он жил и творил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какие проблемы больше всего волновали поэт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кто из русских писателей наиболее полно открыл творчество этого поэта для читател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9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7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Monotype Corsiva"/>
              </a:rPr>
              <a:t>Заполните пропуски подходящими на ваш взгляд фразам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__________________ , my heart is not 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My heart’s in the Highlands, ____________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Farewell to the Highlands, ______________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____________________, the country of Wo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Wherever I wander,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_____________________ forever I love.</a:t>
            </a:r>
            <a:r>
              <a:rPr b="1" lang="en-US" sz="2800" spc="-1" strike="noStrike">
                <a:solidFill>
                  <a:srgbClr val="ea2a0a"/>
                </a:solidFill>
                <a:latin typeface="Franklin Gothic Medium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95280" y="458136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3e3ff"/>
                </a:solidFill>
                <a:uFillTx/>
                <a:latin typeface="Georgia"/>
              </a:rPr>
              <a:t>Используйте фраз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Georgia"/>
              </a:rPr>
              <a:t>- </a:t>
            </a:r>
            <a:r>
              <a:rPr b="1" lang="en-US" sz="2000" spc="-1" strike="noStrike">
                <a:solidFill>
                  <a:srgbClr val="e3e3ff"/>
                </a:solidFill>
                <a:latin typeface="Georgia"/>
              </a:rPr>
              <a:t>a-chasing the deer                              - The birthplace of Val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Georgia"/>
              </a:rPr>
              <a:t>- My heart in the Highlands              - wherever I 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Georgia"/>
              </a:rPr>
              <a:t>- farewell to the North                        - wherever I r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Georgia"/>
              </a:rPr>
              <a:t>- Chasing the wild deer                        - The hills of the High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6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3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000"/>
                            </p:stCondLst>
                            <p:childTnLst>
                              <p:par>
                                <p:cTn id="6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7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1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5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9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3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7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1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5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My heart’s in the Highlands, my heart is not her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My heart’s in the Highlands a-chasing the deer-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Farewell to the Highlands, farewell to the North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The birthplace of Valour, the country of Worth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Wherever I wander, wherever I rov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The hills of the Highlands forever I love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6400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С.Я.Маршак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Monotype Corsiva"/>
              </a:rPr>
              <a:t>«Сочинять стихи начал лет с четырех…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Monotype Corsiva"/>
              </a:rPr>
              <a:t>К 11 годам написал уже несколько длиннейших поэм», вспоминал поэт о себе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amuel Marsha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956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Мудрость лирических сонетов Шекспира, жизнелюбие труженика Бёрнса, ненавидящего знатных тунеядцев, замечательные стихи Джанни Родари – всё это открыл русскому читателю многолетний труд Маршака-переводчика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446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3418"/>
                </a:solidFill>
                <a:latin typeface="Garamond"/>
              </a:rPr>
              <a:t>S C O T L A N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643280" cy="2808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4500720" cy="2808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3280" y="371628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748720" y="6453360"/>
            <a:ext cx="81000" cy="8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179280" y="6381720"/>
            <a:ext cx="21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73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7000"/>
                            </p:stCondLst>
                            <p:childTnLst>
                              <p:par>
                                <p:cTn id="7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9000"/>
                            </p:stCondLst>
                            <p:childTnLst>
                              <p:par>
                                <p:cTn id="7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6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2343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4643280" cy="2303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64328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500"/>
                            </p:stCondLst>
                            <p:childTnLst>
                              <p:par>
                                <p:cTn id="8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364000" y="333360"/>
            <a:ext cx="37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318960"/>
            <a:ext cx="4211640" cy="78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Wherever we speak of Scotland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the name of Scotland’s B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Robert Bur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is always ther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as the ever-living, never-d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symbol of the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5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8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4" dur="20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Monotype Corsiva"/>
              </a:rPr>
              <a:t>Подведем итоги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o was our lesson dedicated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ыном какой страны был Роберт Бернс и какой стране посвятил большую часть своих произвед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did Robert Burns write in his poems abo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ого считают лучшим переводчиком стихов Роберта Берн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042920" y="189000"/>
            <a:ext cx="828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Monotype Corsiva"/>
              </a:rPr>
              <a:t>Спасибо за работу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90040" y="2637000"/>
            <a:ext cx="676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Thank you for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your work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01840" y="404280"/>
            <a:ext cx="5041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e3ff"/>
                </a:solidFill>
                <a:latin typeface="Monotype Corsiva"/>
              </a:rPr>
              <a:t>Robert Burns was born </a:t>
            </a:r>
            <a:br>
              <a:rPr sz="6000"/>
            </a:br>
            <a:r>
              <a:rPr b="1" lang="en-US" sz="6000" spc="-1" strike="noStrike">
                <a:solidFill>
                  <a:srgbClr val="e3e3ff"/>
                </a:solidFill>
                <a:latin typeface="Monotype Corsiva"/>
              </a:rPr>
              <a:t>in 1759, </a:t>
            </a:r>
            <a:br>
              <a:rPr sz="6000"/>
            </a:br>
            <a:r>
              <a:rPr b="1" lang="en-US" sz="6000" spc="-1" strike="noStrike">
                <a:solidFill>
                  <a:srgbClr val="e3e3ff"/>
                </a:solidFill>
                <a:latin typeface="Monotype Corsiva"/>
              </a:rPr>
              <a:t>on the 25-th of January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067280" y="260280"/>
            <a:ext cx="44575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30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Monotype Corsiva"/>
              </a:rPr>
              <a:t>Robert Burns Cottag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5229360"/>
            <a:ext cx="8964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В этом доме прошло детство Роберта Бернса и сюда же, в 1784 году, он возвращается вновь, после смерти своего от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63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b9ea"/>
                </a:solidFill>
                <a:latin typeface="Monotype Corsiva"/>
              </a:rPr>
              <a:t>Match the dates and the facts of Burns’s biograph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136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7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9</a:t>
            </a:r>
            <a:r>
              <a:rPr b="0" lang="ru-RU" sz="2800" spc="-1" strike="noStrike">
                <a:solidFill>
                  <a:srgbClr val="99ff3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835280" y="1483920"/>
            <a:ext cx="73087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Burns was bo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берт продает свою ферму, не достигнув успеха в раб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Burns published a book of poems which made him pop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берт Бернс организовал общество молодых людей, которых волновали моральные, политические и социальные проблемы того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ец послал Роберта учиться в шко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Burns Began to write po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возрасте 37 лет Роберт Бернс умер в бед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Burns began to work at a farm because his father had di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59</a:t>
            </a:r>
            <a:r>
              <a:rPr b="1" lang="en-US" sz="28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Monotype Corsiva"/>
              </a:rPr>
              <a:t>– Robert Burns was born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65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тец послал Роберта учиться в шко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db6"/>
                </a:solidFill>
                <a:latin typeface="Monotype Corsiva"/>
              </a:rPr>
              <a:t>1774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obert Burns began to write p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77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оберт Бернс организовал общество молодых людей, которых волновали моральные, политические и социальные проблемы того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db6"/>
                </a:solidFill>
                <a:latin typeface="Monotype Corsiva"/>
              </a:rPr>
              <a:t>1784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obert Burns began to work at a farm because his father had 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86</a:t>
            </a:r>
            <a:r>
              <a:rPr b="0" lang="en-US" sz="2800" spc="-1" strike="noStrike">
                <a:solidFill>
                  <a:srgbClr val="d12db6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– Robert Burns published a book of poems, which made him 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91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оберт Бернс продает свою ферму, не достигнув успеха рабо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db6"/>
                </a:solidFill>
                <a:latin typeface="Monotype Corsiva"/>
              </a:rPr>
              <a:t>1796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– В возрасте 37 лет Роберт Бернс умирает в бед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360" y="0"/>
            <a:ext cx="23972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2511"/>
                </a:solidFill>
                <a:latin typeface="Monotype Corsiva"/>
              </a:rPr>
              <a:t>Robert Burns wrote his poems about </a:t>
            </a:r>
            <a:br>
              <a:rPr sz="4400"/>
            </a:br>
            <a:r>
              <a:rPr b="1" lang="en-US" sz="4400" spc="-1" strike="noStrike">
                <a:solidFill>
                  <a:srgbClr val="e32511"/>
                </a:solidFill>
                <a:latin typeface="Monotype Corsiva"/>
              </a:rPr>
              <a:t>and</a:t>
            </a:r>
            <a:r>
              <a:rPr b="1" lang="ru-RU" sz="4400" spc="-1" strike="noStrike">
                <a:solidFill>
                  <a:srgbClr val="e32511"/>
                </a:solidFill>
                <a:latin typeface="Monotype Corsiv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e32511"/>
                </a:solidFill>
                <a:latin typeface="Monotype Corsiva"/>
              </a:rPr>
              <a:t>for common people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228240"/>
            <a:ext cx="79236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0cd4e"/>
                </a:solidFill>
                <a:latin typeface="Georgia"/>
              </a:rPr>
              <a:t>КРОССВОР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76500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76500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76500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2781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328464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429264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850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85080" y="3284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85080" y="2781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85080" y="4292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4797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85080" y="5300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1773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781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3284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4292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4797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40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5300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4000" y="126828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1773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507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33"/>
                </a:solidFill>
                <a:latin typeface="Century Gothic"/>
              </a:rPr>
              <a:t>Check Yourself!</a:t>
            </a:r>
            <a:br>
              <a:rPr sz="6000"/>
            </a:br>
            <a:r>
              <a:rPr b="0" lang="ru-RU" sz="6000" spc="-1" strike="noStrike">
                <a:solidFill>
                  <a:srgbClr val="58dabe"/>
                </a:solidFill>
                <a:latin typeface="Century Gothic"/>
              </a:rPr>
              <a:t>Проверь себя!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Л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БОГАТ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ПОЗ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БРЕВ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ЧЕС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РА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ТРЯП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БЕ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7:24:26Z</dcterms:created>
  <dc:creator>Slot^^</dc:creator>
  <dc:description/>
  <dc:language>en-US</dc:language>
  <cp:lastModifiedBy>vadim</cp:lastModifiedBy>
  <dcterms:modified xsi:type="dcterms:W3CDTF">2011-01-27T17:25:05Z</dcterms:modified>
  <cp:revision>26</cp:revision>
  <dc:subject/>
  <dc:title>Роберт Бернс</dc:title>
</cp:coreProperties>
</file>