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click.wav" ContentType="audio/x-wav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.png" ContentType="image/png"/>
  <Override PartName="/ppt/media/image13.jpeg" ContentType="image/jpeg"/>
  <Override PartName="/ppt/media/image23.png" ContentType="image/png"/>
  <Override PartName="/ppt/media/image14.jpeg" ContentType="image/jpeg"/>
  <Override PartName="/ppt/media/image15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21D6-BC7D-4C54-9B8A-0E5FD55E8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B62-EA19-461A-ADE1-70D6EFBA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B214-3AC0-4F04-AEBC-F2F64469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5EF1-995E-496C-8AA8-2B2F816D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786B6-7BD1-422F-885C-4FA2692A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F3D28-4955-47CA-BFBD-ECA24CC2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F6EB5-8933-4EF2-8F17-3D66ADE7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D474F-A332-4DBB-A82E-CDCB466F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E4476-C5CE-41FF-AF71-2D9BC590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44736-1E9D-4707-99CC-F841CD21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7D6B7-268D-49D9-831E-A1C414F7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799-A5B8-4DC1-8628-13E9BBB9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588B4-2910-49D6-ACCA-14978FA2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E9F6D-DEB3-403C-A865-E9DD7BF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81761-8205-4CE4-A426-C7DF0481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8311D-4670-4D71-8DE5-B50C19B7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17E6FC-9F15-483E-8452-82BE8C29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271-B036-48CA-8A78-683EBCC8F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549-AD2F-4FCC-88D9-1FCA9990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0F8-893B-406D-BB57-1AE7E91A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AA00-78DC-4785-8D8E-CFAE25EB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4151-C24D-4188-A18E-DFCB5319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307F-2C36-42D5-B794-377A1984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B1B-9A28-4BF7-A6A9-C09ADE86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AF79-7F95-45D6-8EB6-533B73204F2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18D0-8316-4068-99A0-C2A481668F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audio" Target="file:///tmp/home/.config/libreoffice/4/user/gallery/wind.wav" TargetMode="External"/><Relationship Id="rId6" Type="http://schemas.microsoft.com/office/2007/relationships/media" Target="file:///tmp/home/.config/libreoffice/4/user/gallery/wind.wav" TargetMode="External"/><Relationship Id="rId7" Type="http://schemas.openxmlformats.org/officeDocument/2006/relationships/image" Target="../media/image23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58dabe"/>
                </a:solidFill>
                <a:latin typeface="Monotype Corsiva"/>
              </a:rPr>
              <a:t>Роберт</a:t>
            </a:r>
            <a:r>
              <a:rPr b="1" lang="en-US" sz="7200" spc="-1" strike="noStrike">
                <a:solidFill>
                  <a:srgbClr val="58dabe"/>
                </a:solidFill>
                <a:latin typeface="Monotype Corsiva"/>
              </a:rPr>
              <a:t> Бёрнс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71640" y="47628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Monotype Corsiva"/>
              </a:rPr>
              <a:t>Robert Burn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4365720"/>
            <a:ext cx="7345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dabe"/>
                </a:solidFill>
                <a:latin typeface="Monotype Corsiva"/>
              </a:rPr>
              <a:t>национальный</a:t>
            </a:r>
            <a:r>
              <a:rPr b="1" lang="en-US" sz="4400" spc="-1" strike="noStrike">
                <a:solidFill>
                  <a:srgbClr val="58dabe"/>
                </a:solidFill>
                <a:latin typeface="Monotype Corsiva"/>
              </a:rPr>
              <a:t> поэт Шотланд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14972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5280" y="4653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4508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700280"/>
            <a:ext cx="66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the National Scottish Po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057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8920" y="228240"/>
            <a:ext cx="79236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82e2"/>
                </a:solidFill>
                <a:latin typeface="Georgia"/>
              </a:rPr>
              <a:t>КРОССВОР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76500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64000" y="2781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64000" y="3284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356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51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48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0" y="4292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6728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77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80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885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8850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8850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50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8850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8850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43280" y="1773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432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32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432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1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40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35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432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43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340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48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51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126828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64000" y="1773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4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4000" y="32846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1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68360" y="260280"/>
            <a:ext cx="521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Comin’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           </a:t>
            </a: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thro’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                    </a:t>
            </a:r>
            <a:r>
              <a:rPr b="1" lang="en-US" sz="5400" spc="-1" strike="noStrike">
                <a:solidFill>
                  <a:srgbClr val="ff0066"/>
                </a:solidFill>
                <a:latin typeface="Monotype Corsiva"/>
              </a:rPr>
              <a:t>the rye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659640" y="2349360"/>
            <a:ext cx="237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500"/>
                            </p:stCondLst>
                            <p:childTnLst>
                              <p:par>
                                <p:cTn id="6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Verdana"/>
              </a:rPr>
              <a:t>Scotla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0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Garamond"/>
              </a:rPr>
              <a:t>На нашем уроке мы узнаем: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0" y="1700280"/>
            <a:ext cx="9144000" cy="34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о жизни и творчестве великого поэт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в какой стране он жил и творил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какие проблемы больше всего волновали поэта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e3e3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Monotype Corsiva"/>
              </a:rPr>
              <a:t>кто из русских писателей наиболее полно открыл творчество этого поэта для читател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9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7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Monotype Corsiva"/>
              </a:rPr>
              <a:t>Заполните пропуски подходящими на ваш взгляд фразам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__________________ , my heart is not her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My heart’s in the Highlands, ____________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Farewell to the Highlands, ______________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____________________, the country of Wor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Wherever I wander,___________________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Georgia"/>
              </a:rPr>
              <a:t>_____________________ forever I love.</a:t>
            </a:r>
            <a:r>
              <a:rPr b="1" lang="en-US" sz="2800" spc="-1" strike="noStrike">
                <a:solidFill>
                  <a:srgbClr val="ea2a0a"/>
                </a:solidFill>
                <a:latin typeface="Franklin Gothic Medium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95280" y="4581360"/>
            <a:ext cx="82915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e3e3ff"/>
                </a:solidFill>
                <a:uFillTx/>
                <a:latin typeface="Georgia"/>
              </a:rPr>
              <a:t>Используйте фраз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3e3ff"/>
                </a:solidFill>
                <a:latin typeface="Georgia"/>
              </a:rPr>
              <a:t>- </a:t>
            </a: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a-chasing the deer                              - The birthplace of Val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- My heart in the Highlands              - wherever I 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- farewell to the North                        - wherever I ro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e3ff"/>
                </a:solidFill>
                <a:latin typeface="Georgia"/>
              </a:rPr>
              <a:t>- Chasing the wild deer                        - The hills of the Highlan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4000"/>
                            </p:stCondLst>
                            <p:childTnLst>
                              <p:par>
                                <p:cTn id="6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3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6000"/>
                            </p:stCondLst>
                            <p:childTnLst>
                              <p:par>
                                <p:cTn id="6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7" dur="2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8000"/>
                            </p:stCondLst>
                            <p:childTnLst>
                              <p:par>
                                <p:cTn id="6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1" dur="2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7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5" dur="20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9" dur="20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3" dur="2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6000"/>
                            </p:stCondLst>
                            <p:childTnLst>
                              <p:par>
                                <p:cTn id="71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7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1" dur="2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5" dur="2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9" dur="2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My heart’s in the Highlands, my heart is not here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My heart’s in the Highlands a-chasing the deer-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Farewell to the Highlands, farewell to the North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The birthplace of Valour, the country of Worth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Wherever I wander, wherever I rov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e3e3ff"/>
                </a:solidFill>
                <a:latin typeface="Georgia"/>
              </a:rPr>
              <a:t>The hills of the Highlands forever I love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64000" y="0"/>
            <a:ext cx="3780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Garamond"/>
              </a:rPr>
              <a:t>С.Я.Маршак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Monotype Corsiva"/>
              </a:rPr>
              <a:t>«Сочинять стихи начал лет с четырех… </a:t>
            </a:r>
            <a:br>
              <a:rPr sz="4000"/>
            </a:br>
            <a:r>
              <a:rPr b="1" lang="en-US" sz="4000" spc="-1" strike="noStrike">
                <a:solidFill>
                  <a:srgbClr val="e3e3ff"/>
                </a:solidFill>
                <a:latin typeface="Monotype Corsiva"/>
              </a:rPr>
              <a:t>К 11 годам написал уже несколько длиннейших поэм», вспоминал поэт о себе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0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Samuel Marsha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44956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Мудрость лирических сонетов Шекспира, жизнелюбие труженика Бёрнса, ненавидящего знатных тунеядцев, замечательные стихи Джанни Родари – всё это открыл русскому читателю многолетний труд Маршака-переводчика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500720" y="1341360"/>
            <a:ext cx="446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4000"/>
                            </p:stCondLst>
                            <p:childTnLst>
                              <p:par>
                                <p:cTn id="7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c3418"/>
                </a:solidFill>
                <a:latin typeface="Garamond"/>
              </a:rPr>
              <a:t>S C O T L A N 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4643280" cy="2808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4500720" cy="28083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0" y="3716280"/>
            <a:ext cx="4643280" cy="3141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3280" y="3716280"/>
            <a:ext cx="4500720" cy="3141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748720" y="6453360"/>
            <a:ext cx="81000" cy="806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8"/>
          <a:stretch/>
        </p:blipFill>
        <p:spPr>
          <a:xfrm>
            <a:off x="179280" y="6381720"/>
            <a:ext cx="216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0"/>
                            </p:stCondLst>
                            <p:childTnLst>
                              <p:par>
                                <p:cTn id="7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773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7000"/>
                            </p:stCondLst>
                            <p:childTnLst>
                              <p:par>
                                <p:cTn id="7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9000"/>
                            </p:stCondLst>
                            <p:childTnLst>
                              <p:par>
                                <p:cTn id="78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6"/>
                </p:tgtEl>
              </p:cMediaNode>
            </p:audio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824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23432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4643280" cy="23036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64328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4500"/>
                            </p:stCondLst>
                            <p:childTnLst>
                              <p:par>
                                <p:cTn id="8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5364000" y="333360"/>
            <a:ext cx="37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318960"/>
            <a:ext cx="421164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Wherever we speak of Scotland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the name of Scotland’s Bar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Robert Bur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is always ther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as the ever-living, never-dy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Monotype Corsiva"/>
              </a:rPr>
              <a:t>symbol of the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3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8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1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4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Monotype Corsiva"/>
              </a:rPr>
              <a:t>Подведем итоги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o was our lesson dedicated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ыном какой страны был Роберт Бернс и какой стране посвятил большую часть своих произведений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hat did Robert Burns write in his poems abou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ого считают лучшим переводчиком стихов Роберта Берн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0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042920" y="189000"/>
            <a:ext cx="828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Monotype Corsiva"/>
              </a:rPr>
              <a:t>Спасибо за работу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90040" y="2637000"/>
            <a:ext cx="6761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Thank you for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Monotype Corsiva"/>
              </a:rPr>
              <a:t>your work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01840" y="404280"/>
            <a:ext cx="5041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e3ff"/>
                </a:solidFill>
                <a:latin typeface="Monotype Corsiva"/>
              </a:rPr>
              <a:t>Robert Burns was born </a:t>
            </a:r>
            <a:br>
              <a:rPr sz="6000"/>
            </a:br>
            <a:r>
              <a:rPr b="1" lang="en-US" sz="6000" spc="-1" strike="noStrike">
                <a:solidFill>
                  <a:srgbClr val="e3e3ff"/>
                </a:solidFill>
                <a:latin typeface="Monotype Corsiva"/>
              </a:rPr>
              <a:t>in 1759, </a:t>
            </a:r>
            <a:br>
              <a:rPr sz="6000"/>
            </a:br>
            <a:r>
              <a:rPr b="1" lang="en-US" sz="6000" spc="-1" strike="noStrike">
                <a:solidFill>
                  <a:srgbClr val="e3e3ff"/>
                </a:solidFill>
                <a:latin typeface="Monotype Corsiva"/>
              </a:rPr>
              <a:t>on the 25-th of January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067280" y="260280"/>
            <a:ext cx="445752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308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Monotype Corsiva"/>
              </a:rPr>
              <a:t>Robert Burns Cottag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5229360"/>
            <a:ext cx="8964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Monotype Corsiva"/>
              </a:rPr>
              <a:t>В этом доме прошло детство Роберта Бернса и сюда же, в 1784 году, он возвращается вновь, после смерти своего от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63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fb9ea"/>
                </a:solidFill>
                <a:latin typeface="Monotype Corsiva"/>
              </a:rPr>
              <a:t>Match the dates and the facts of Burns’s biography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136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5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7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8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8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33"/>
                </a:solidFill>
                <a:latin typeface="Arial"/>
              </a:rPr>
              <a:t>179</a:t>
            </a:r>
            <a:r>
              <a:rPr b="0" lang="ru-RU" sz="2800" spc="-1" strike="noStrike">
                <a:solidFill>
                  <a:srgbClr val="99ff33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835280" y="1483920"/>
            <a:ext cx="730872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was bo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берт продает свою ферму, не достигнув успеха в рабо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published a book of poems which made him popul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берт Бернс организовал общество молодых людей, которых волновали моральные, политические и социальные проблемы того врем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ец послал Роберта учиться в школ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Began to write poem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возрасте 37 лет Роберт Бернс умер в бед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e3e3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bert Burns began to work at a farm because his father had di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5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5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5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59</a:t>
            </a:r>
            <a:r>
              <a:rPr b="1" lang="en-US" sz="28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e3e3ff"/>
                </a:solidFill>
                <a:latin typeface="Monotype Corsiva"/>
              </a:rPr>
              <a:t>– Robert Burns was born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65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тец послал Роберта учиться в школ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db6"/>
                </a:solidFill>
                <a:latin typeface="Monotype Corsiva"/>
              </a:rPr>
              <a:t>1774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obert Burns began to write po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77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берт Бернс организовал общество молодых людей, которых волновали моральные, политические и социальные проблемы того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db6"/>
                </a:solidFill>
                <a:latin typeface="Monotype Corsiva"/>
              </a:rPr>
              <a:t>1784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Robert Burns began to work at a farm because his father had d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86</a:t>
            </a:r>
            <a:r>
              <a:rPr b="0" lang="en-US" sz="2800" spc="-1" strike="noStrike">
                <a:solidFill>
                  <a:srgbClr val="d12db6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– Robert Burns published a book of poems, which made him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12db6"/>
                </a:solidFill>
                <a:latin typeface="Monotype Corsiva"/>
              </a:rPr>
              <a:t>1791</a:t>
            </a:r>
            <a:r>
              <a:rPr b="0" lang="en-US" sz="28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Роберт Бернс продает свою ферму, не достигнув успеха рабо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2db6"/>
                </a:solidFill>
                <a:latin typeface="Monotype Corsiva"/>
              </a:rPr>
              <a:t>1796</a:t>
            </a: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 – В возрасте 37 лет Роберт Бернс умирает в бед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360" y="0"/>
            <a:ext cx="23972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2511"/>
                </a:solidFill>
                <a:latin typeface="Monotype Corsiva"/>
              </a:rPr>
              <a:t>Robert Burns wrote his poems about </a:t>
            </a:r>
            <a:br>
              <a:rPr sz="4400"/>
            </a:br>
            <a:r>
              <a:rPr b="1" lang="en-US" sz="4400" spc="-1" strike="noStrike">
                <a:solidFill>
                  <a:srgbClr val="e32511"/>
                </a:solidFill>
                <a:latin typeface="Monotype Corsiva"/>
              </a:rPr>
              <a:t>and</a:t>
            </a:r>
            <a:r>
              <a:rPr b="1" lang="ru-RU" sz="4400" spc="-1" strike="noStrike">
                <a:solidFill>
                  <a:srgbClr val="e32511"/>
                </a:solidFill>
                <a:latin typeface="Monotype Corsiv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e32511"/>
                </a:solidFill>
                <a:latin typeface="Monotype Corsiva"/>
              </a:rPr>
              <a:t>for common people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8920" y="228240"/>
            <a:ext cx="792360" cy="622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0cd4e"/>
                </a:solidFill>
                <a:latin typeface="Georgia"/>
              </a:rPr>
              <a:t>КРОССВОРД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56000" y="76500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59280" y="76500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59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2781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3284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64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56000" y="2276640"/>
            <a:ext cx="50508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4328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429264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850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850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8850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8850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850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4000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3280" y="1773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781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3284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4292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43280" y="4797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48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1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40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528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32000" y="3789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530064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43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40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2a0a"/>
                </a:solidFill>
                <a:latin typeface="Arial"/>
              </a:rPr>
              <a:t>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51280" y="5805360"/>
            <a:ext cx="504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64000" y="126828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1773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64000" y="3789360"/>
            <a:ext cx="50508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276640"/>
            <a:ext cx="504720" cy="50292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507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ff33"/>
                </a:solidFill>
                <a:latin typeface="Century Gothic"/>
              </a:rPr>
              <a:t>Check Yourself!</a:t>
            </a:r>
            <a:br>
              <a:rPr sz="6000"/>
            </a:br>
            <a:r>
              <a:rPr b="0" lang="ru-RU" sz="6000" spc="-1" strike="noStrike">
                <a:solidFill>
                  <a:srgbClr val="58dabe"/>
                </a:solidFill>
                <a:latin typeface="Century Gothic"/>
              </a:rPr>
              <a:t>Проверь себя!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509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Л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БОГАТ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ПОЗ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БРЕВ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ЧЕСТ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РА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ТРЯПЬ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Arial Black"/>
              </a:rPr>
              <a:t>БЕДНО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9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0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7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17:24:26Z</dcterms:created>
  <dc:creator>Slot^^</dc:creator>
  <dc:description/>
  <dc:language>en-US</dc:language>
  <cp:lastModifiedBy>vadim</cp:lastModifiedBy>
  <dcterms:modified xsi:type="dcterms:W3CDTF">2011-01-27T17:25:05Z</dcterms:modified>
  <cp:revision>26</cp:revision>
  <dc:subject/>
  <dc:title>Роберт Бернс</dc:title>
</cp:coreProperties>
</file>