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B48-BA5A-4587-A48C-78F6327D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2C0-99B2-42C0-921B-61DA20A8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A788E-3FE3-418D-B838-7BE341DD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9B050-FEC9-4304-932D-05E107A0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0D296-3D94-433E-AE27-BA0364A8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9B9B0-F8E8-4F5D-BA47-62031BF7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71BF2-945C-44C6-BFB0-D33E56F0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D7F72-C85B-4ACE-A747-0A075F15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24B57-C2FD-48BE-A3E2-9EB4EF53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E4393-326D-4AEB-BAEC-5424870A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ED6C5-E22E-4698-9918-3A8E7D45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88F-4B89-46DB-B3E3-29BC9560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397-80A4-42A8-87F5-4F0D2A19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3C82-D4C2-45BE-88A5-296D0653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272C-60CF-4A6D-854F-10C379F9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E0EF-F0A1-45BE-A3BF-1BE70E1C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7864-C13C-4599-BCD7-7ED6598D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5599-A3BD-4D8C-90C6-B7A6718E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CB6F-047D-47FF-A104-0FF78A59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8A10-5EEA-4DB8-8146-0FB1627A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899-8B2D-4772-96B9-3755B5F0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1643-5E3A-442A-8370-FC447CF8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4171-3F6A-4EE9-BCD9-CCBB218E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8F12-23BA-446D-B7FA-B7A5C439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13A6-AFE4-43EC-BFEE-455F84F7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0916-DC0B-45FE-8A66-FA1CE41C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0D8D-E0CB-4C1D-AE73-5C2FB9D4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933D0-B3BE-421D-ABB8-318FA9D7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7A3DA-DA2D-4998-A1B3-023BDC11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BAF1F-FC65-4EB8-9765-6DB4520C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3FE8D-688C-48B1-ABDA-0A43583B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3A9-09E1-4728-B3FB-6304DAB1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16B48-D07F-4C4E-B099-F0C91461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9C363-998F-4231-B0DA-CF240200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4C66-4353-446A-954C-BF98FB1A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6AF97-2FE0-4D78-81F6-826C2F6E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9F2CD-EA5F-43D8-AB80-568F6317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7FF5A-6CCB-4716-85F9-C228DF73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3CD0-9A22-49CB-8AC6-9A7014C5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BE050-DE47-4D0A-AC37-803CC8A7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DD050-0DCE-486D-BFAE-6F799172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F22BC-D450-406E-A43F-A6F482B8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CE0D-97A1-41E0-A1CA-8BA13AC4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313FB-B416-452F-9FC6-7F97F7ED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6BBF-CCFD-4407-A7A7-C8DCFA42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F51BB-930E-44AD-81CD-14AE6A98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891D9-93B5-4F64-9542-78FB4047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05E84-8B82-441D-8719-A2EB6B21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0C229-3A0D-4A89-A07F-22198BE2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905A9-5FC1-46FA-A771-F5D65E9A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1B7D-E264-4B5F-99F1-9A624F1A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15C3A-F003-40AD-86D6-1AAF53EB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95A11-8528-455F-9E0A-0F909F4F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E55-6D37-4FF9-B808-05C4E925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0736A-4379-4CFF-B07F-495C47CB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CFA33-A4E6-4B16-A548-0044B96E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6EFC4-81DC-4587-A67A-81FC0055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42483-EBFE-4309-A236-D504BA50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5865F-B745-4B4C-BF78-627E479D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C5F2F-C845-433F-822B-3F8E6842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B534A-0459-4E9F-A7F2-89ED0C38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459CB-4C81-45A1-8F59-F280304E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93301-70C1-4107-BF3E-C214648E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7C1DC-D7B2-45E7-B445-91D2D7A1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E85D-CEB6-4D45-9AF3-255EB5FA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5515C-7E29-440F-B5F4-A13D97B1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BAEED-186B-4480-A15A-D415569E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E835E-06B1-49AC-9305-1BF4CB0E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94A32-5667-4DA9-98E7-17098001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BBB7A-4AD9-4F5F-A203-C0786A93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22A93-1368-4449-BA86-B7888086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763EB-66BD-4D36-9FFA-403394E3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18BAE-F2B7-47AC-A5DD-D9D0D3DC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F107E-D193-437E-8D9C-BDE162DA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8CC22-E7B6-42D8-9494-D3D5D571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B4B-3D56-474E-A8C2-26AE99CD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2B9ED-8E4F-419C-8448-7A141737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4271F-A76E-4F75-9D18-18666A18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614A2-591F-412F-A555-347533B8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4EAB3-F3CE-425C-931A-A35A79D4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F0B0E-13DD-4F57-B92D-7C82221D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A76B8-0B79-43F5-9C03-EFE8A9D5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83324-E095-4DF3-BFC0-E9B73B3E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18211-C77E-43A1-ABE7-446B71FF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41EA0-B9E5-4538-BFA5-B5705988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BCC50-C6C9-4B05-B2AE-BC9DBC44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AE0E-BF08-4C82-BBB6-4120AEBF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59838-BB74-456A-B343-7F15A411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D2AAC-A332-4106-94ED-F4C92758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F9B4B-BBBA-4970-8030-30DE9B15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64F00-AD79-4A5B-9135-A42964EF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6FC79-7D0E-4EBE-A4FA-A6104566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4D306-4E98-4AC9-88F5-D9C90A99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22954-9AA6-40C8-8120-660F468A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09069-F817-4C6F-9DFC-8FEEAEEC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A5B8E-EDEE-4CE5-AC49-22B2A7D3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50187-D2F8-44FB-87EF-AFE8F720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052-DAE0-44D3-B531-EEF1AA01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FD10A-8474-4AB6-8708-9836D9B2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8129B-B25D-4485-8398-DFA515B4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5BB8D-4560-4455-9340-7D3A1A71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912F8-2076-4668-BC42-938287F3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ABAAB-DCEB-4A87-B157-E57E020B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910E9-592F-44BB-948D-B36612B5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65765-9BE4-4117-9A0D-7879902C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E796B-1C3D-4F97-8345-129EA11C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AA22B-5204-4CA4-99C3-D48A4939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7E953-EB5F-45B9-B0C9-DF290D04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E212-7C78-4D8C-A48D-556916CA79C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82BF-211F-4E20-8924-7ED19E85391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182D-AF90-4F9F-8EF0-D9ACEC7054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6AAE-EA29-4D0C-A0BC-7B5ED4140F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0D7F-057B-47A3-B5FE-1805F506F79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2B73-EE3F-4C20-8F78-675A8FA2D4A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F4D1-07C0-4DC5-AB76-2FE1C4BC682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9C23-365C-4A0E-AC2A-9116DEC6A6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3B88-417C-4A49-A7CB-26AD3891E7D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1187280" y="765000"/>
            <a:ext cx="7201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Основные правила нашего урока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) Правильный ответ - хорошо! Неправильный ответ – тоже хорошо. Не ошибается только тот, кто ничего не делает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</a:rPr>
              <a:t>2) Нам важен не только результат, но и путь его достиж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3) Только то, что воспринято с радостью и удовольствием, усваивается хорошо и проч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Желаю вам хорошего настроения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4" descr="6808424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СИММЕТРИЯ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В ПРИРОДЕ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3" name="Picture 8" descr="symmetry"/>
          <p:cNvPicPr/>
          <p:nvPr/>
        </p:nvPicPr>
        <p:blipFill>
          <a:blip r:embed="rId2"/>
          <a:stretch/>
        </p:blipFill>
        <p:spPr>
          <a:xfrm rot="666600">
            <a:off x="484200" y="262728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" descr="180px-Snechinka"/>
          <p:cNvPicPr/>
          <p:nvPr/>
        </p:nvPicPr>
        <p:blipFill>
          <a:blip r:embed="rId3"/>
          <a:stretch/>
        </p:blipFill>
        <p:spPr>
          <a:xfrm rot="20530800">
            <a:off x="7308720" y="259920"/>
            <a:ext cx="123372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СИММЕТРИЯ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В ТЕХНИКЕ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6" name="Picture 5" descr="4244b7a0714236bdd36917d1695b36ce"/>
          <p:cNvPicPr/>
          <p:nvPr/>
        </p:nvPicPr>
        <p:blipFill>
          <a:blip r:embed="rId1"/>
          <a:stretch/>
        </p:blipFill>
        <p:spPr>
          <a:xfrm>
            <a:off x="4859280" y="3500280"/>
            <a:ext cx="3990960" cy="29941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1" descr="post-55875-1239236285"/>
          <p:cNvPicPr/>
          <p:nvPr/>
        </p:nvPicPr>
        <p:blipFill>
          <a:blip r:embed="rId2"/>
          <a:stretch/>
        </p:blipFill>
        <p:spPr>
          <a:xfrm>
            <a:off x="611280" y="1989000"/>
            <a:ext cx="468144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СИММЕТРИЯ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В БЫТУ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9" name="Picture 4" descr="JH11226"/>
          <p:cNvPicPr/>
          <p:nvPr/>
        </p:nvPicPr>
        <p:blipFill>
          <a:blip r:embed="rId1"/>
          <a:stretch/>
        </p:blipFill>
        <p:spPr>
          <a:xfrm rot="19201800">
            <a:off x="1160280" y="2033280"/>
            <a:ext cx="3744720" cy="3744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Изображение155пап"/>
          <p:cNvPicPr/>
          <p:nvPr/>
        </p:nvPicPr>
        <p:blipFill>
          <a:blip r:embed="rId2"/>
          <a:stretch/>
        </p:blipFill>
        <p:spPr>
          <a:xfrm>
            <a:off x="4932360" y="549360"/>
            <a:ext cx="395280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" descr="abm49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4920" y="5084640"/>
            <a:ext cx="845028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Franklin Gothic Medium"/>
              </a:rPr>
              <a:t>СИММЕТРИ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Franklin Gothic Medium"/>
              </a:rPr>
              <a:t>В АРХИТЕКТУР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СИММЕТРИЯ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У ЧЕЛОВЕКА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84" name="Picture 7" descr="rcr"/>
          <p:cNvPicPr/>
          <p:nvPr/>
        </p:nvPicPr>
        <p:blipFill>
          <a:blip r:embed="rId1"/>
          <a:stretch/>
        </p:blipFill>
        <p:spPr>
          <a:xfrm>
            <a:off x="826920" y="1700280"/>
            <a:ext cx="3346560" cy="46800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8"/>
          <p:cNvSpPr/>
          <p:nvPr/>
        </p:nvSpPr>
        <p:spPr>
          <a:xfrm>
            <a:off x="5148360" y="285264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ло человека построено                                 по принципу двухсторонней                        симмет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4"/>
          <p:cNvSpPr/>
          <p:nvPr/>
        </p:nvSpPr>
        <p:spPr>
          <a:xfrm>
            <a:off x="684360" y="2133720"/>
            <a:ext cx="80643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                    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Times New Roman"/>
              </a:rPr>
              <a:t>Симметрия на клетчатой бумаг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7" name="Picture 6" descr="shkola_"/>
          <p:cNvPicPr/>
          <p:nvPr/>
        </p:nvPicPr>
        <p:blipFill>
          <a:blip r:embed="rId1"/>
          <a:stretch/>
        </p:blipFill>
        <p:spPr>
          <a:xfrm>
            <a:off x="2627280" y="4175280"/>
            <a:ext cx="50418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5"/>
          <p:cNvSpPr/>
          <p:nvPr/>
        </p:nvSpPr>
        <p:spPr>
          <a:xfrm>
            <a:off x="971640" y="1268280"/>
            <a:ext cx="7416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Сегодня мы закрепим ум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тмечать точки и чертить фигуры, симметричные данным, относительно прямо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7" descr="shkola_"/>
          <p:cNvPicPr/>
          <p:nvPr/>
        </p:nvPicPr>
        <p:blipFill>
          <a:blip r:embed="rId1"/>
          <a:stretch/>
        </p:blipFill>
        <p:spPr>
          <a:xfrm>
            <a:off x="2700360" y="4005360"/>
            <a:ext cx="45496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5"/>
          <p:cNvSpPr/>
          <p:nvPr/>
        </p:nvSpPr>
        <p:spPr>
          <a:xfrm>
            <a:off x="741240" y="1192680"/>
            <a:ext cx="7661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тог. Рефлекс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- Что такое ось симметри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Какое свойство симметрии мы применя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на сегодняшнем уроке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- Как построить симметричные фигур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Где в жизни можно применять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знания симметрии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Людям каких професс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необходимы знания симметрии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4"/>
          <p:cNvSpPr/>
          <p:nvPr/>
        </p:nvSpPr>
        <p:spPr>
          <a:xfrm>
            <a:off x="826920" y="1700280"/>
            <a:ext cx="756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лан уро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1 этап – повторени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2 этап – «открытие» знани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3 этап – закрепле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4 этап – итог, рефлекс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3">
            <a:hlinkClick r:id="rId1" action="ppaction://hlinksldjump"/>
          </p:cNvPr>
          <p:cNvSpPr/>
          <p:nvPr/>
        </p:nvSpPr>
        <p:spPr>
          <a:xfrm>
            <a:off x="1090080" y="692280"/>
            <a:ext cx="1378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Georgia"/>
              </a:rPr>
              <a:t>Деле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3276720" y="1268280"/>
            <a:ext cx="187956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Georgia"/>
              </a:rPr>
              <a:t>Вычита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1227600" y="1989000"/>
            <a:ext cx="161496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Georgia"/>
              </a:rPr>
              <a:t>Сложе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Box 6"/>
          <p:cNvSpPr/>
          <p:nvPr/>
        </p:nvSpPr>
        <p:spPr>
          <a:xfrm>
            <a:off x="3382200" y="2637000"/>
            <a:ext cx="1847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Georgia"/>
              </a:rPr>
              <a:t>Умноже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1728360" y="3357720"/>
            <a:ext cx="121536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Georgia"/>
              </a:rPr>
              <a:t>Задач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Box 9"/>
          <p:cNvSpPr/>
          <p:nvPr/>
        </p:nvSpPr>
        <p:spPr>
          <a:xfrm>
            <a:off x="5187240" y="3645000"/>
            <a:ext cx="251244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Georgia"/>
              </a:rPr>
              <a:t>Геометрическ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Georgia"/>
              </a:rPr>
              <a:t>материа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8172360" y="5877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Picture 23" descr="shkola_"/>
          <p:cNvPicPr/>
          <p:nvPr/>
        </p:nvPicPr>
        <p:blipFill>
          <a:blip r:embed="rId2"/>
          <a:stretch/>
        </p:blipFill>
        <p:spPr>
          <a:xfrm>
            <a:off x="755640" y="3995640"/>
            <a:ext cx="47530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4"/>
          <p:cNvSpPr/>
          <p:nvPr/>
        </p:nvSpPr>
        <p:spPr>
          <a:xfrm>
            <a:off x="4788000" y="1844640"/>
            <a:ext cx="1727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 :       =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 7  = 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2 :        = 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4   = 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2 :       =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7 =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53661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4790160" y="2276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536616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TextBox 10"/>
          <p:cNvSpPr/>
          <p:nvPr/>
        </p:nvSpPr>
        <p:spPr>
          <a:xfrm>
            <a:off x="4790160" y="321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Box 11"/>
          <p:cNvSpPr/>
          <p:nvPr/>
        </p:nvSpPr>
        <p:spPr>
          <a:xfrm>
            <a:off x="536616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Box 14"/>
          <p:cNvSpPr/>
          <p:nvPr/>
        </p:nvSpPr>
        <p:spPr>
          <a:xfrm>
            <a:off x="4788000" y="41497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TextBox 15"/>
          <p:cNvSpPr/>
          <p:nvPr/>
        </p:nvSpPr>
        <p:spPr>
          <a:xfrm>
            <a:off x="6590520" y="1916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Box 16"/>
          <p:cNvSpPr/>
          <p:nvPr/>
        </p:nvSpPr>
        <p:spPr>
          <a:xfrm>
            <a:off x="7310880" y="234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Box 17"/>
          <p:cNvSpPr/>
          <p:nvPr/>
        </p:nvSpPr>
        <p:spPr>
          <a:xfrm>
            <a:off x="6661800" y="2781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Box 18"/>
          <p:cNvSpPr/>
          <p:nvPr/>
        </p:nvSpPr>
        <p:spPr>
          <a:xfrm>
            <a:off x="723780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extBox 19"/>
          <p:cNvSpPr/>
          <p:nvPr/>
        </p:nvSpPr>
        <p:spPr>
          <a:xfrm>
            <a:off x="6734880" y="3716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TextBox 20"/>
          <p:cNvSpPr/>
          <p:nvPr/>
        </p:nvSpPr>
        <p:spPr>
          <a:xfrm>
            <a:off x="7382160" y="414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Box 21"/>
          <p:cNvSpPr/>
          <p:nvPr/>
        </p:nvSpPr>
        <p:spPr>
          <a:xfrm>
            <a:off x="6661800" y="465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26"/>
          <p:cNvSpPr/>
          <p:nvPr/>
        </p:nvSpPr>
        <p:spPr>
          <a:xfrm>
            <a:off x="6588000" y="1916280"/>
            <a:ext cx="2556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:  3  =  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64 :      = 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: 2  =   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28 :      = 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:  6 = 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16 :       = 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: 5 =  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AutoShape 30"/>
          <p:cNvSpPr/>
          <p:nvPr/>
        </p:nvSpPr>
        <p:spPr>
          <a:xfrm>
            <a:off x="8172360" y="5877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5" name="Picture 34" descr="shkola_"/>
          <p:cNvPicPr/>
          <p:nvPr/>
        </p:nvPicPr>
        <p:blipFill>
          <a:blip r:embed="rId1"/>
          <a:stretch/>
        </p:blipFill>
        <p:spPr>
          <a:xfrm>
            <a:off x="324000" y="3573360"/>
            <a:ext cx="39607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4356000" y="513720"/>
            <a:ext cx="256068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2 · 9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3 · 8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5 · 9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7 · 3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4 · 6 =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9 · 9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6191280" y="328680"/>
            <a:ext cx="295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5 · 9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3 · 9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2 · 5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4 · 3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4 · 8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3 · 3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8346600" y="4580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8439480" y="3715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Rectangle 13"/>
          <p:cNvSpPr/>
          <p:nvPr/>
        </p:nvSpPr>
        <p:spPr>
          <a:xfrm>
            <a:off x="8439480" y="2851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angle 14"/>
          <p:cNvSpPr/>
          <p:nvPr/>
        </p:nvSpPr>
        <p:spPr>
          <a:xfrm>
            <a:off x="8229960" y="1988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Rectangle 15"/>
          <p:cNvSpPr/>
          <p:nvPr/>
        </p:nvSpPr>
        <p:spPr>
          <a:xfrm>
            <a:off x="8439480" y="1195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8439480" y="259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Rectangle 17"/>
          <p:cNvSpPr/>
          <p:nvPr/>
        </p:nvSpPr>
        <p:spPr>
          <a:xfrm>
            <a:off x="6285240" y="4507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19"/>
          <p:cNvSpPr/>
          <p:nvPr/>
        </p:nvSpPr>
        <p:spPr>
          <a:xfrm>
            <a:off x="6213960" y="3859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ctangle 20"/>
          <p:cNvSpPr/>
          <p:nvPr/>
        </p:nvSpPr>
        <p:spPr>
          <a:xfrm>
            <a:off x="6285240" y="2996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21"/>
          <p:cNvSpPr/>
          <p:nvPr/>
        </p:nvSpPr>
        <p:spPr>
          <a:xfrm>
            <a:off x="6285240" y="2204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22"/>
          <p:cNvSpPr/>
          <p:nvPr/>
        </p:nvSpPr>
        <p:spPr>
          <a:xfrm>
            <a:off x="6285240" y="1340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Rectangle 23"/>
          <p:cNvSpPr/>
          <p:nvPr/>
        </p:nvSpPr>
        <p:spPr>
          <a:xfrm>
            <a:off x="6213960" y="475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AutoShape 25"/>
          <p:cNvSpPr/>
          <p:nvPr/>
        </p:nvSpPr>
        <p:spPr>
          <a:xfrm>
            <a:off x="8172360" y="5877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27" descr="shkola_"/>
          <p:cNvPicPr/>
          <p:nvPr/>
        </p:nvPicPr>
        <p:blipFill>
          <a:blip r:embed="rId1"/>
          <a:stretch/>
        </p:blipFill>
        <p:spPr>
          <a:xfrm>
            <a:off x="395280" y="3645000"/>
            <a:ext cx="47530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"/>
          <p:cNvSpPr/>
          <p:nvPr/>
        </p:nvSpPr>
        <p:spPr>
          <a:xfrm>
            <a:off x="3780000" y="1543680"/>
            <a:ext cx="40734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245 + 15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131+ 10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50 + 19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177 + 13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39 + 101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14"/>
          <p:cNvSpPr/>
          <p:nvPr/>
        </p:nvSpPr>
        <p:spPr>
          <a:xfrm>
            <a:off x="7093080" y="4723560"/>
            <a:ext cx="12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Rectangle 17"/>
          <p:cNvSpPr/>
          <p:nvPr/>
        </p:nvSpPr>
        <p:spPr>
          <a:xfrm>
            <a:off x="6948360" y="407592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9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18"/>
          <p:cNvSpPr/>
          <p:nvPr/>
        </p:nvSpPr>
        <p:spPr>
          <a:xfrm>
            <a:off x="6877080" y="3212280"/>
            <a:ext cx="9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angle 19"/>
          <p:cNvSpPr/>
          <p:nvPr/>
        </p:nvSpPr>
        <p:spPr>
          <a:xfrm>
            <a:off x="6877080" y="2419920"/>
            <a:ext cx="11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4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20"/>
          <p:cNvSpPr/>
          <p:nvPr/>
        </p:nvSpPr>
        <p:spPr>
          <a:xfrm>
            <a:off x="6948360" y="155628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6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21"/>
          <p:cNvSpPr/>
          <p:nvPr/>
        </p:nvSpPr>
        <p:spPr>
          <a:xfrm>
            <a:off x="8172360" y="5877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23" descr="shkola_"/>
          <p:cNvPicPr/>
          <p:nvPr/>
        </p:nvPicPr>
        <p:blipFill>
          <a:blip r:embed="rId1"/>
          <a:stretch/>
        </p:blipFill>
        <p:spPr>
          <a:xfrm>
            <a:off x="250920" y="4292640"/>
            <a:ext cx="38876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5"/>
          <p:cNvSpPr/>
          <p:nvPr/>
        </p:nvSpPr>
        <p:spPr>
          <a:xfrm>
            <a:off x="4716360" y="1543680"/>
            <a:ext cx="313704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245 - 15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131- 10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177 - 13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163 - 30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391 - 101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7465680" y="47235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9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7465680" y="40759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3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7322760" y="321228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6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7249680" y="23486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2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7321320" y="14835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AutoShape 13"/>
          <p:cNvSpPr/>
          <p:nvPr/>
        </p:nvSpPr>
        <p:spPr>
          <a:xfrm>
            <a:off x="8172360" y="5877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7" name="Picture 15" descr="shkola_"/>
          <p:cNvPicPr/>
          <p:nvPr/>
        </p:nvPicPr>
        <p:blipFill>
          <a:blip r:embed="rId1"/>
          <a:stretch/>
        </p:blipFill>
        <p:spPr>
          <a:xfrm>
            <a:off x="900000" y="4005360"/>
            <a:ext cx="47530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4"/>
          <p:cNvSpPr/>
          <p:nvPr/>
        </p:nvSpPr>
        <p:spPr>
          <a:xfrm>
            <a:off x="4643280" y="765000"/>
            <a:ext cx="33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атя купила в магазине 4 карандаша по 9 рублей каждый и 3 ручки по 10 рублей одна. Сколько денег потратила Катя на покупк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4572000" y="378936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9 </a:t>
            </a:r>
            <a:r>
              <a:rPr b="1" lang="en-US" sz="2000" spc="-1" strike="noStrike">
                <a:solidFill>
                  <a:srgbClr val="cc0099"/>
                </a:solidFill>
                <a:latin typeface="Verdana"/>
              </a:rPr>
              <a:t>·</a:t>
            </a: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 4 + 10 </a:t>
            </a:r>
            <a:r>
              <a:rPr b="1" lang="en-US" sz="2000" spc="-1" strike="noStrike">
                <a:solidFill>
                  <a:srgbClr val="cc0099"/>
                </a:solidFill>
                <a:latin typeface="Verdana"/>
              </a:rPr>
              <a:t>·</a:t>
            </a: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 3 = 66 рубл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16"/>
          <p:cNvSpPr/>
          <p:nvPr/>
        </p:nvSpPr>
        <p:spPr>
          <a:xfrm>
            <a:off x="4572000" y="1268280"/>
            <a:ext cx="409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 Вити было 140 рублей. Он купил 8 тетрадей по 5 рублей каждая. Сколько денег осталос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 Вит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17"/>
          <p:cNvSpPr/>
          <p:nvPr/>
        </p:nvSpPr>
        <p:spPr>
          <a:xfrm>
            <a:off x="4643280" y="335772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Verdana"/>
              </a:rPr>
              <a:t>140 – 5 </a:t>
            </a:r>
            <a:r>
              <a:rPr b="1" lang="en-US" sz="1800" spc="-1" strike="noStrike">
                <a:solidFill>
                  <a:srgbClr val="cc0099"/>
                </a:solidFill>
                <a:latin typeface="Verdana"/>
              </a:rPr>
              <a:t>·</a:t>
            </a:r>
            <a:r>
              <a:rPr b="1" lang="ru-RU" sz="1800" spc="-1" strike="noStrike">
                <a:solidFill>
                  <a:srgbClr val="cc0099"/>
                </a:solidFill>
                <a:latin typeface="Verdana"/>
              </a:rPr>
              <a:t> 8 = 100 </a:t>
            </a:r>
            <a:r>
              <a:rPr b="1" lang="ru-RU" sz="1400" spc="-1" strike="noStrike">
                <a:solidFill>
                  <a:srgbClr val="cc0099"/>
                </a:solidFill>
                <a:latin typeface="Verdana"/>
              </a:rPr>
              <a:t>рубл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AutoShape 18"/>
          <p:cNvSpPr/>
          <p:nvPr/>
        </p:nvSpPr>
        <p:spPr>
          <a:xfrm>
            <a:off x="8172360" y="5877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Picture 20" descr="shkola_"/>
          <p:cNvPicPr/>
          <p:nvPr/>
        </p:nvPicPr>
        <p:blipFill>
          <a:blip r:embed="rId1"/>
          <a:stretch/>
        </p:blipFill>
        <p:spPr>
          <a:xfrm>
            <a:off x="1258920" y="3906720"/>
            <a:ext cx="5545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5" descr="shkola_"/>
          <p:cNvPicPr/>
          <p:nvPr/>
        </p:nvPicPr>
        <p:blipFill>
          <a:blip r:embed="rId1"/>
          <a:stretch/>
        </p:blipFill>
        <p:spPr>
          <a:xfrm>
            <a:off x="5327640" y="4827600"/>
            <a:ext cx="3816360" cy="203040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1332000" y="1052640"/>
            <a:ext cx="1655640" cy="1655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Oval 7"/>
          <p:cNvSpPr/>
          <p:nvPr/>
        </p:nvSpPr>
        <p:spPr>
          <a:xfrm>
            <a:off x="395280" y="3933720"/>
            <a:ext cx="2085840" cy="201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AutoShape 8"/>
          <p:cNvSpPr/>
          <p:nvPr/>
        </p:nvSpPr>
        <p:spPr>
          <a:xfrm>
            <a:off x="3132000" y="3933720"/>
            <a:ext cx="1944720" cy="187164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6156360" y="836640"/>
            <a:ext cx="2303280" cy="1512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AutoShape 12"/>
          <p:cNvSpPr/>
          <p:nvPr/>
        </p:nvSpPr>
        <p:spPr>
          <a:xfrm>
            <a:off x="5724360" y="2924280"/>
            <a:ext cx="2303640" cy="1657080"/>
          </a:xfrm>
          <a:prstGeom prst="flowChartPunchedCar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AutoShape 13"/>
          <p:cNvSpPr/>
          <p:nvPr/>
        </p:nvSpPr>
        <p:spPr>
          <a:xfrm>
            <a:off x="3708360" y="836640"/>
            <a:ext cx="1636920" cy="24494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4:31:34Z</dcterms:created>
  <dc:creator>Oksana</dc:creator>
  <dc:description/>
  <dc:language>en-US</dc:language>
  <cp:lastModifiedBy>USER</cp:lastModifiedBy>
  <dcterms:modified xsi:type="dcterms:W3CDTF">2017-01-17T15:19:50Z</dcterms:modified>
  <cp:revision>28</cp:revision>
  <dc:subject/>
  <dc:title>Слайд 1</dc:title>
</cp:coreProperties>
</file>