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FEB-8718-4FBA-B7C7-EA46B253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E1F-4F40-410E-9EBC-B0F422DB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C5517-FB64-48F5-8199-AE86F415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82A46-808D-4DAE-9F9A-30A95F4A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DE963-563A-4BE3-8C25-7A100FEF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937FA-A955-476E-947E-A0E2388C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00328-5C38-4217-B888-A7F28F80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6DADA-4B38-4484-BDCE-6DA341E9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B8A7F-E7B1-4933-9C43-E715C80D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E4FB96-796B-4235-9D2F-54A1CB1D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2A7FC-B02D-48E9-9354-4AE0FA49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CE04-899B-42CA-A20C-387C86D1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2AE5-EFDA-4A28-B524-31BD9689A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0326-2A40-4D36-99EF-59E24CE6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9282-2AAC-42B7-AAFE-1DD0A82B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0212-67EB-41F4-AD8E-E1B005B2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EADC-B111-403E-BF52-A0D02D56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2D02-549C-453A-AB65-D2991BEF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27F7-768D-487A-8720-24C506D1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DD2B-8EB4-45DB-8FA2-A7686747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371-8463-4B1C-845B-49797CE5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4C4A-5FEE-4CBD-A2E4-C21CA654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F772-B2EB-44AA-AD85-D7BF7266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5E44-88ED-435B-AB6B-C08E424B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C015-FE00-4E65-9E5B-92B5D5DE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76CC-2D77-40E1-9CFF-F9B92B29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168ED-7820-4E33-9579-B4D99AD6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CDE6-8E84-47AF-A02E-7E7643C2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427A0-6558-464D-B305-564FF7F0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320E1-D102-4C41-AA41-F3F8689E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DF6C0-7338-44A0-BD84-755E9BAA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785-90FB-4D48-82EC-7F3B5E33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D207-A13E-4499-8B81-7D29C278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B66E-06A8-40E0-AB84-CBDCF53D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366A4-B232-4040-AFAE-0E93BFBF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97FA1-0367-4BC7-A91C-174499C2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48B93-2DBA-44BD-BA47-FFE0EDD9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499E-DE5B-40C9-A5C7-59C4BD284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B1C4C-023F-496C-9AE2-CB4D669C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01E09-F33B-42E1-A58E-9064C293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F8129-FCE8-4865-AD35-A6087963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1D56-A042-4670-9BBC-6EB2EA94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6CC3-0A09-4D61-8919-378D89E6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8360E-34CC-4A73-AECB-D6DC5194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9A95-3DB0-4895-8D46-AAD7C51D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4E7B3-7B9F-4A35-A3B4-24E93784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11C51-217D-4679-A561-F6C9C06B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9F35C-72F9-4EEF-997E-1B2B3539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69D95-4333-4F5A-ACD0-74000F83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4E44F-B876-4193-A5B7-BC63285A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DC6CB-1642-4321-B7FA-AE293795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4DD2-A95F-46BD-BDE4-3A0F83B9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6C20D-34FC-4412-8946-9099F8BB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D5AE-6631-40AB-8DBC-EF8279B7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F9782-8433-4999-BA7C-C2260288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D7BD5-53A7-4B74-9B5A-ADA8453A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380DF-4D28-4228-9BCC-FA77A968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D1701-22CB-4B8A-A18B-543332B7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1B09E-3E43-4FF3-A0B8-F6649097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A0D9D-2D92-4A11-846D-35F1514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E91F6-5B8D-4559-9AAB-E6223A13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F4C64-2CFF-4708-A95F-56BAB81F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0460-6116-4FD0-BB03-23DEFCDC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2F51B-3554-4D7B-B597-F3E5D865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7B9B-E526-423C-B41A-59CE7F51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C1F9D-F163-4393-B54F-25B2D97E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6E5FD-2840-4785-8491-E7F49E34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B8A13-B0BD-49D1-90F9-CC068F64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80875-6A4A-42CD-BBAE-7B05EC06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74B53-8B45-4B74-850D-7759D6E1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1354E-27BA-414C-8714-EB926E33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48F68-7995-494A-AB95-3544FB2D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61B5A-8088-43D7-8776-5DF577B5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3FFEA-2242-4211-84C7-C104992E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EDB3D-B506-4DF4-B323-2268AC89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51EE-F2BE-4151-8A55-D56509B9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470E4-D4F3-4B09-A025-511FE3E5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99F81-3F51-4E96-8E6F-649A7F5E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FC065-EF48-4A4C-8619-6A7D40E3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9A227-5317-44CD-AB9B-625C29314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6CCEA-0933-436B-B88C-36AD995B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1F1F4-487A-4707-A551-697C8554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2254E-2C47-4B5E-BD9D-DC14E12E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FA12A-31C2-4F19-AB31-11D95435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0EDD1-6276-4F31-8CB7-1694B145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AACAB-199F-481D-A720-BD406B1F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F296-6C62-46F5-B163-EE064425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B34EA-9885-4B97-AFEB-251BB08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F5EC5-FCAB-41AC-943D-20E8E50B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5E53F-98E5-4FCA-9531-1C2CF841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C0E9E-77B0-49A7-8BBC-FB9D221DB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3F652-80CF-4DC4-8253-49ED3146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AD930-256B-4604-BCCF-B24E8F1F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4E36C-AA93-466A-9588-DEBD6B70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EB5E7-E8C8-4B24-95AA-8B0190D0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D9D6A-9556-40E2-9FC8-6B060591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B613B-86D9-4483-8092-ED22C831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E8E3-38D0-4874-AFD4-9FCBFEE3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251E3-9E97-4465-8EFB-F859F025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7072A-0FAE-486B-B4CC-A90A128A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1FC12-542B-4B9A-A0E2-B0CFF9C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FBA46-106E-46B6-88FF-9EF7613C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318A3-1C89-459E-8171-317C8951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DD307-A2CD-4165-BC6E-54A6CD58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3C5B3-BC74-4663-B5DA-F9E5389F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2ABA6-34D5-43F1-B83E-038F4356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09D50-F1C8-4B60-80BA-D11284BC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A6443-7432-4063-B787-CD68F10D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413B-580D-44DC-AF8E-EE063F4C9C7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6FCE-B0C5-4252-9D86-3C2ABCF982E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58A1-5311-4A25-8F7E-49F2EA092AE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4B5A-4EDD-4E2A-98FB-60FE52113F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10A2-22C3-4EDC-A753-148777E23B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7E50-4239-4BF7-8B18-3DC4EA00857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B72F-086A-427D-B6A5-C0617FDC9A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B656-DE26-4CA2-A677-215790738BA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E64B-EE9A-4743-9658-1F49DA52C81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4"/>
          <p:cNvSpPr/>
          <p:nvPr/>
        </p:nvSpPr>
        <p:spPr>
          <a:xfrm>
            <a:off x="1187280" y="765000"/>
            <a:ext cx="72010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Основные правила нашего урока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1) Правильный ответ - хорошо! Неправильный ответ – тоже хорошо. Не ошибается только тот, кто ничего не делает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Times New Roman"/>
              </a:rPr>
              <a:t>2) Нам важен не только результат, но и путь его достиж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</a:rPr>
              <a:t>3) Только то, что воспринято с радостью и удовольствием, усваивается хорошо и прочн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Times New Roman"/>
              </a:rPr>
              <a:t>Желаю вам хорошего настроения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4" descr="6808424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СИММЕТР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В ПРИРОДЕ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3" name="Picture 8" descr="symmetry"/>
          <p:cNvPicPr/>
          <p:nvPr/>
        </p:nvPicPr>
        <p:blipFill>
          <a:blip r:embed="rId2"/>
          <a:stretch/>
        </p:blipFill>
        <p:spPr>
          <a:xfrm rot="666600">
            <a:off x="484200" y="262728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4" descr="180px-Snechinka"/>
          <p:cNvPicPr/>
          <p:nvPr/>
        </p:nvPicPr>
        <p:blipFill>
          <a:blip r:embed="rId3"/>
          <a:stretch/>
        </p:blipFill>
        <p:spPr>
          <a:xfrm rot="20530800">
            <a:off x="7308720" y="259920"/>
            <a:ext cx="123372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СИММЕТР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В ТЕХНИКЕ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6" name="Picture 5" descr="4244b7a0714236bdd36917d1695b36ce"/>
          <p:cNvPicPr/>
          <p:nvPr/>
        </p:nvPicPr>
        <p:blipFill>
          <a:blip r:embed="rId1"/>
          <a:stretch/>
        </p:blipFill>
        <p:spPr>
          <a:xfrm>
            <a:off x="4859280" y="3500280"/>
            <a:ext cx="3990960" cy="29941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1" descr="post-55875-1239236285"/>
          <p:cNvPicPr/>
          <p:nvPr/>
        </p:nvPicPr>
        <p:blipFill>
          <a:blip r:embed="rId2"/>
          <a:stretch/>
        </p:blipFill>
        <p:spPr>
          <a:xfrm>
            <a:off x="611280" y="1989000"/>
            <a:ext cx="468144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СИММЕТР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В БЫТУ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79" name="Picture 4" descr="JH11226"/>
          <p:cNvPicPr/>
          <p:nvPr/>
        </p:nvPicPr>
        <p:blipFill>
          <a:blip r:embed="rId1"/>
          <a:stretch/>
        </p:blipFill>
        <p:spPr>
          <a:xfrm rot="19201800">
            <a:off x="1160280" y="2033280"/>
            <a:ext cx="3744720" cy="3744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Изображение155пап"/>
          <p:cNvPicPr/>
          <p:nvPr/>
        </p:nvPicPr>
        <p:blipFill>
          <a:blip r:embed="rId2"/>
          <a:stretch/>
        </p:blipFill>
        <p:spPr>
          <a:xfrm>
            <a:off x="4932360" y="549360"/>
            <a:ext cx="395280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5" descr="abm49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5084640"/>
            <a:ext cx="845028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Franklin Gothic Medium"/>
              </a:rPr>
              <a:t>СИММЕТРИ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Franklin Gothic Medium"/>
              </a:rPr>
              <a:t>В АРХИТЕКТУРЕ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СИММЕТРИЯ </a:t>
            </a:r>
            <a:br>
              <a:rPr sz="3200"/>
            </a:b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У ЧЕЛОВЕКА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84" name="Picture 7" descr="rcr"/>
          <p:cNvPicPr/>
          <p:nvPr/>
        </p:nvPicPr>
        <p:blipFill>
          <a:blip r:embed="rId1"/>
          <a:stretch/>
        </p:blipFill>
        <p:spPr>
          <a:xfrm>
            <a:off x="826920" y="1700280"/>
            <a:ext cx="3346560" cy="46800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5148360" y="2852640"/>
            <a:ext cx="295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ло человека построено                                 по принципу двухсторонней                        симмет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4"/>
          <p:cNvSpPr/>
          <p:nvPr/>
        </p:nvSpPr>
        <p:spPr>
          <a:xfrm>
            <a:off x="684360" y="2133720"/>
            <a:ext cx="8064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                      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Тема урок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99"/>
                </a:solidFill>
                <a:latin typeface="Times New Roman"/>
              </a:rPr>
              <a:t>Симметрия на клетчатой бумаг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7" name="Picture 6" descr="shkola_"/>
          <p:cNvPicPr/>
          <p:nvPr/>
        </p:nvPicPr>
        <p:blipFill>
          <a:blip r:embed="rId1"/>
          <a:stretch/>
        </p:blipFill>
        <p:spPr>
          <a:xfrm>
            <a:off x="2627280" y="4175280"/>
            <a:ext cx="50418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971640" y="1268280"/>
            <a:ext cx="741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Сегодня мы закрепим ум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тмечать точки и чертить фигуры, симметричные данным, относительно прямо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7" descr="shkola_"/>
          <p:cNvPicPr/>
          <p:nvPr/>
        </p:nvPicPr>
        <p:blipFill>
          <a:blip r:embed="rId1"/>
          <a:stretch/>
        </p:blipFill>
        <p:spPr>
          <a:xfrm>
            <a:off x="2700360" y="4005360"/>
            <a:ext cx="45496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5"/>
          <p:cNvSpPr/>
          <p:nvPr/>
        </p:nvSpPr>
        <p:spPr>
          <a:xfrm>
            <a:off x="741240" y="1192680"/>
            <a:ext cx="766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Итог. Рефлекс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- Что такое ось симметри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Какое свойство симметрии мы применя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на сегодняшнем уроке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- Как построить симметричные фигуры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Где в жизни можно применять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знания симметрии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Людям каких професс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необходимы знания симметрии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4"/>
          <p:cNvSpPr/>
          <p:nvPr/>
        </p:nvSpPr>
        <p:spPr>
          <a:xfrm>
            <a:off x="826920" y="1700280"/>
            <a:ext cx="7561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План уро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1 этап – повтор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00cc00"/>
                </a:solidFill>
                <a:latin typeface="Times New Roman"/>
              </a:rPr>
              <a:t>2 этап – «открытие» знаний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9900"/>
                </a:solidFill>
                <a:latin typeface="Times New Roman"/>
              </a:rPr>
              <a:t>3 этап – закрепл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cc0099"/>
                </a:solidFill>
                <a:latin typeface="Times New Roman"/>
              </a:rPr>
              <a:t>4 этап – итог, рефлекс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3">
            <a:hlinkClick r:id="rId1" action="ppaction://hlinksldjump"/>
          </p:cNvPr>
          <p:cNvSpPr/>
          <p:nvPr/>
        </p:nvSpPr>
        <p:spPr>
          <a:xfrm>
            <a:off x="1090080" y="692280"/>
            <a:ext cx="1378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Деле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3276720" y="1268280"/>
            <a:ext cx="18795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Вычита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1227600" y="1989000"/>
            <a:ext cx="16149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Сложе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3382200" y="2637000"/>
            <a:ext cx="18478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Умноже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TextBox 8"/>
          <p:cNvSpPr/>
          <p:nvPr/>
        </p:nvSpPr>
        <p:spPr>
          <a:xfrm>
            <a:off x="1728360" y="3357720"/>
            <a:ext cx="121536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Задач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TextBox 9"/>
          <p:cNvSpPr/>
          <p:nvPr/>
        </p:nvSpPr>
        <p:spPr>
          <a:xfrm>
            <a:off x="5187240" y="3645000"/>
            <a:ext cx="2512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Геометриче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Georgia"/>
              </a:rPr>
              <a:t>материа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AutoShape 14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8" name="Picture 23" descr="shkola_"/>
          <p:cNvPicPr/>
          <p:nvPr/>
        </p:nvPicPr>
        <p:blipFill>
          <a:blip r:embed="rId2"/>
          <a:stretch/>
        </p:blipFill>
        <p:spPr>
          <a:xfrm>
            <a:off x="755640" y="3995640"/>
            <a:ext cx="47530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4"/>
          <p:cNvSpPr/>
          <p:nvPr/>
        </p:nvSpPr>
        <p:spPr>
          <a:xfrm>
            <a:off x="4788000" y="1844640"/>
            <a:ext cx="1727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8 :       = 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 7  = 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2 :        =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4   = 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2 :       =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 7 =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Box 6"/>
          <p:cNvSpPr/>
          <p:nvPr/>
        </p:nvSpPr>
        <p:spPr>
          <a:xfrm>
            <a:off x="5366160" y="184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TextBox 7"/>
          <p:cNvSpPr/>
          <p:nvPr/>
        </p:nvSpPr>
        <p:spPr>
          <a:xfrm>
            <a:off x="4790160" y="2276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TextBox 8"/>
          <p:cNvSpPr/>
          <p:nvPr/>
        </p:nvSpPr>
        <p:spPr>
          <a:xfrm>
            <a:off x="536616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TextBox 10"/>
          <p:cNvSpPr/>
          <p:nvPr/>
        </p:nvSpPr>
        <p:spPr>
          <a:xfrm>
            <a:off x="4790160" y="321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TextBox 11"/>
          <p:cNvSpPr/>
          <p:nvPr/>
        </p:nvSpPr>
        <p:spPr>
          <a:xfrm>
            <a:off x="5366160" y="364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TextBox 14"/>
          <p:cNvSpPr/>
          <p:nvPr/>
        </p:nvSpPr>
        <p:spPr>
          <a:xfrm>
            <a:off x="4788000" y="4149720"/>
            <a:ext cx="5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TextBox 15"/>
          <p:cNvSpPr/>
          <p:nvPr/>
        </p:nvSpPr>
        <p:spPr>
          <a:xfrm>
            <a:off x="6590520" y="1916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TextBox 16"/>
          <p:cNvSpPr/>
          <p:nvPr/>
        </p:nvSpPr>
        <p:spPr>
          <a:xfrm>
            <a:off x="7310880" y="234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TextBox 17"/>
          <p:cNvSpPr/>
          <p:nvPr/>
        </p:nvSpPr>
        <p:spPr>
          <a:xfrm>
            <a:off x="6661800" y="2781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TextBox 18"/>
          <p:cNvSpPr/>
          <p:nvPr/>
        </p:nvSpPr>
        <p:spPr>
          <a:xfrm>
            <a:off x="7237800" y="3284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TextBox 19"/>
          <p:cNvSpPr/>
          <p:nvPr/>
        </p:nvSpPr>
        <p:spPr>
          <a:xfrm>
            <a:off x="6734880" y="3716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TextBox 20"/>
          <p:cNvSpPr/>
          <p:nvPr/>
        </p:nvSpPr>
        <p:spPr>
          <a:xfrm>
            <a:off x="7382160" y="41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TextBox 21"/>
          <p:cNvSpPr/>
          <p:nvPr/>
        </p:nvSpPr>
        <p:spPr>
          <a:xfrm>
            <a:off x="6661800" y="4653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Text Box 26"/>
          <p:cNvSpPr/>
          <p:nvPr/>
        </p:nvSpPr>
        <p:spPr>
          <a:xfrm>
            <a:off x="6588000" y="1916280"/>
            <a:ext cx="2556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:  3  =  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64 :      =  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    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: 2  =  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28 :      =  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:  6 =  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16 :       =  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: 5 =  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AutoShape 30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5" name="Picture 34" descr="shkola_"/>
          <p:cNvPicPr/>
          <p:nvPr/>
        </p:nvPicPr>
        <p:blipFill>
          <a:blip r:embed="rId1"/>
          <a:stretch/>
        </p:blipFill>
        <p:spPr>
          <a:xfrm>
            <a:off x="324000" y="3573360"/>
            <a:ext cx="39607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4356000" y="513720"/>
            <a:ext cx="256068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2 · 9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3 · 8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5 · 9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7 · 3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4 · 6 =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9 · 9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6191280" y="328680"/>
            <a:ext cx="2952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5 · 9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3 · 9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2 · 5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4 · 3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4 · 8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3 · 3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8346600" y="4580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8439480" y="3715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3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8439480" y="2851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Rectangle 14"/>
          <p:cNvSpPr/>
          <p:nvPr/>
        </p:nvSpPr>
        <p:spPr>
          <a:xfrm>
            <a:off x="8229960" y="1988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Rectangle 15"/>
          <p:cNvSpPr/>
          <p:nvPr/>
        </p:nvSpPr>
        <p:spPr>
          <a:xfrm>
            <a:off x="8439480" y="119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Rectangle 16"/>
          <p:cNvSpPr/>
          <p:nvPr/>
        </p:nvSpPr>
        <p:spPr>
          <a:xfrm>
            <a:off x="8439480" y="259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Rectangle 17"/>
          <p:cNvSpPr/>
          <p:nvPr/>
        </p:nvSpPr>
        <p:spPr>
          <a:xfrm>
            <a:off x="6285240" y="4507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8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19"/>
          <p:cNvSpPr/>
          <p:nvPr/>
        </p:nvSpPr>
        <p:spPr>
          <a:xfrm>
            <a:off x="6213960" y="3859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20"/>
          <p:cNvSpPr/>
          <p:nvPr/>
        </p:nvSpPr>
        <p:spPr>
          <a:xfrm>
            <a:off x="6285240" y="2996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1"/>
          <p:cNvSpPr/>
          <p:nvPr/>
        </p:nvSpPr>
        <p:spPr>
          <a:xfrm>
            <a:off x="6285240" y="2204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22"/>
          <p:cNvSpPr/>
          <p:nvPr/>
        </p:nvSpPr>
        <p:spPr>
          <a:xfrm>
            <a:off x="6285240" y="1340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23"/>
          <p:cNvSpPr/>
          <p:nvPr/>
        </p:nvSpPr>
        <p:spPr>
          <a:xfrm>
            <a:off x="6213960" y="4752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AutoShape 25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Picture 27" descr="shkola_"/>
          <p:cNvPicPr/>
          <p:nvPr/>
        </p:nvPicPr>
        <p:blipFill>
          <a:blip r:embed="rId1"/>
          <a:stretch/>
        </p:blipFill>
        <p:spPr>
          <a:xfrm>
            <a:off x="395280" y="3645000"/>
            <a:ext cx="47530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5"/>
          <p:cNvSpPr/>
          <p:nvPr/>
        </p:nvSpPr>
        <p:spPr>
          <a:xfrm>
            <a:off x="3780000" y="1543680"/>
            <a:ext cx="407340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245 + 15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31+ 10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50 + 19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77 + 13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39 + 101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14"/>
          <p:cNvSpPr/>
          <p:nvPr/>
        </p:nvSpPr>
        <p:spPr>
          <a:xfrm>
            <a:off x="7093080" y="4723560"/>
            <a:ext cx="12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Rectangle 17"/>
          <p:cNvSpPr/>
          <p:nvPr/>
        </p:nvSpPr>
        <p:spPr>
          <a:xfrm>
            <a:off x="6948360" y="407592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18"/>
          <p:cNvSpPr/>
          <p:nvPr/>
        </p:nvSpPr>
        <p:spPr>
          <a:xfrm>
            <a:off x="6877080" y="3212280"/>
            <a:ext cx="9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6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Rectangle 19"/>
          <p:cNvSpPr/>
          <p:nvPr/>
        </p:nvSpPr>
        <p:spPr>
          <a:xfrm>
            <a:off x="6877080" y="2419920"/>
            <a:ext cx="11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4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Rectangle 20"/>
          <p:cNvSpPr/>
          <p:nvPr/>
        </p:nvSpPr>
        <p:spPr>
          <a:xfrm>
            <a:off x="6948360" y="155628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6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21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23" descr="shkola_"/>
          <p:cNvPicPr/>
          <p:nvPr/>
        </p:nvPicPr>
        <p:blipFill>
          <a:blip r:embed="rId1"/>
          <a:stretch/>
        </p:blipFill>
        <p:spPr>
          <a:xfrm>
            <a:off x="250920" y="4292640"/>
            <a:ext cx="38876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4716360" y="1543680"/>
            <a:ext cx="313704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245 - 15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31- 10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77 - 13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163 - 30 =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391 - 101 =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7465680" y="47235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9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7465680" y="407592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3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9"/>
          <p:cNvSpPr/>
          <p:nvPr/>
        </p:nvSpPr>
        <p:spPr>
          <a:xfrm>
            <a:off x="7322760" y="321228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6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11"/>
          <p:cNvSpPr/>
          <p:nvPr/>
        </p:nvSpPr>
        <p:spPr>
          <a:xfrm>
            <a:off x="7249680" y="23486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1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Rectangle 12"/>
          <p:cNvSpPr/>
          <p:nvPr/>
        </p:nvSpPr>
        <p:spPr>
          <a:xfrm>
            <a:off x="7321320" y="14835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23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AutoShape 13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7" name="Picture 15" descr="shkola_"/>
          <p:cNvPicPr/>
          <p:nvPr/>
        </p:nvPicPr>
        <p:blipFill>
          <a:blip r:embed="rId1"/>
          <a:stretch/>
        </p:blipFill>
        <p:spPr>
          <a:xfrm>
            <a:off x="900000" y="4005360"/>
            <a:ext cx="475308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4"/>
          <p:cNvSpPr/>
          <p:nvPr/>
        </p:nvSpPr>
        <p:spPr>
          <a:xfrm>
            <a:off x="4643280" y="765000"/>
            <a:ext cx="338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Катя купила в магазине 4 карандаша по 9 рублей каждый и 3 ручки по 10 рублей одна. Сколько денег потратила Катя на покуп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4572000" y="378936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9 </a:t>
            </a:r>
            <a:r>
              <a:rPr b="1" lang="en-US" sz="2000" spc="-1" strike="noStrike">
                <a:solidFill>
                  <a:srgbClr val="cc0099"/>
                </a:solidFill>
                <a:latin typeface="Verdana"/>
              </a:rPr>
              <a:t>·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4 + 10 </a:t>
            </a:r>
            <a:r>
              <a:rPr b="1" lang="en-US" sz="2000" spc="-1" strike="noStrike">
                <a:solidFill>
                  <a:srgbClr val="cc0099"/>
                </a:solidFill>
                <a:latin typeface="Verdana"/>
              </a:rPr>
              <a:t>·</a:t>
            </a:r>
            <a:r>
              <a:rPr b="1" lang="ru-RU" sz="2000" spc="-1" strike="noStrike">
                <a:solidFill>
                  <a:srgbClr val="cc0099"/>
                </a:solidFill>
                <a:latin typeface="Verdana"/>
              </a:rPr>
              <a:t> 3 = 66 рубл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4572000" y="1268280"/>
            <a:ext cx="409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 Вити было 140 рублей. Он купил 8 тетрадей по 5 рублей каждая. Сколько денег осталос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у Вит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4643280" y="335772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99"/>
                </a:solidFill>
                <a:latin typeface="Verdana"/>
              </a:rPr>
              <a:t>140 – 5 </a:t>
            </a:r>
            <a:r>
              <a:rPr b="1" lang="en-US" sz="1800" spc="-1" strike="noStrike">
                <a:solidFill>
                  <a:srgbClr val="cc0099"/>
                </a:solidFill>
                <a:latin typeface="Verdana"/>
              </a:rPr>
              <a:t>·</a:t>
            </a:r>
            <a:r>
              <a:rPr b="1" lang="ru-RU" sz="1800" spc="-1" strike="noStrike">
                <a:solidFill>
                  <a:srgbClr val="cc0099"/>
                </a:solidFill>
                <a:latin typeface="Verdana"/>
              </a:rPr>
              <a:t> 8 = 100 </a:t>
            </a:r>
            <a:r>
              <a:rPr b="1" lang="ru-RU" sz="1400" spc="-1" strike="noStrike">
                <a:solidFill>
                  <a:srgbClr val="cc0099"/>
                </a:solidFill>
                <a:latin typeface="Verdana"/>
              </a:rPr>
              <a:t>рубл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AutoShape 18"/>
          <p:cNvSpPr/>
          <p:nvPr/>
        </p:nvSpPr>
        <p:spPr>
          <a:xfrm>
            <a:off x="8172360" y="5877000"/>
            <a:ext cx="576360" cy="576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3" name="Picture 20" descr="shkola_"/>
          <p:cNvPicPr/>
          <p:nvPr/>
        </p:nvPicPr>
        <p:blipFill>
          <a:blip r:embed="rId1"/>
          <a:stretch/>
        </p:blipFill>
        <p:spPr>
          <a:xfrm>
            <a:off x="1258920" y="3906720"/>
            <a:ext cx="554508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5" descr="shkola_"/>
          <p:cNvPicPr/>
          <p:nvPr/>
        </p:nvPicPr>
        <p:blipFill>
          <a:blip r:embed="rId1"/>
          <a:stretch/>
        </p:blipFill>
        <p:spPr>
          <a:xfrm>
            <a:off x="5327640" y="4827600"/>
            <a:ext cx="3816360" cy="203040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1332000" y="1052640"/>
            <a:ext cx="1655640" cy="1655640"/>
          </a:xfrm>
          <a:prstGeom prst="rect">
            <a:avLst/>
          </a:prstGeom>
          <a:solidFill>
            <a:srgbClr val="cc00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Oval 7"/>
          <p:cNvSpPr/>
          <p:nvPr/>
        </p:nvSpPr>
        <p:spPr>
          <a:xfrm>
            <a:off x="395280" y="3933720"/>
            <a:ext cx="2085840" cy="2016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3132000" y="3933720"/>
            <a:ext cx="1944720" cy="187164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6156360" y="836640"/>
            <a:ext cx="2303280" cy="1512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AutoShape 12"/>
          <p:cNvSpPr/>
          <p:nvPr/>
        </p:nvSpPr>
        <p:spPr>
          <a:xfrm>
            <a:off x="5724360" y="2924280"/>
            <a:ext cx="2303640" cy="1657080"/>
          </a:xfrm>
          <a:prstGeom prst="flowChartPunchedCar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AutoShape 13"/>
          <p:cNvSpPr/>
          <p:nvPr/>
        </p:nvSpPr>
        <p:spPr>
          <a:xfrm>
            <a:off x="3708360" y="836640"/>
            <a:ext cx="1636920" cy="244944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4:31:34Z</dcterms:created>
  <dc:creator>Oksana</dc:creator>
  <dc:description/>
  <dc:language>en-US</dc:language>
  <cp:lastModifiedBy>USER</cp:lastModifiedBy>
  <dcterms:modified xsi:type="dcterms:W3CDTF">2017-01-17T15:19:50Z</dcterms:modified>
  <cp:revision>28</cp:revision>
  <dc:subject/>
  <dc:title>Слайд 1</dc:title>
</cp:coreProperties>
</file>