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31C8-8BD8-4869-ABBD-AAEB334998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B5DD-75F7-4FCC-89CB-CCF579100C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F77-5893-4EFC-8657-AA33861C63B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3D48-2A7F-4962-95FF-68E498E3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D227-7128-44B3-BD43-A4C5DB05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8CA-70EB-4C26-A008-64DC617B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6C3-2771-4395-B70A-8761F40DD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ED4E-707D-4E70-8AFF-7600C6D6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0884-5032-427F-B0E8-D920CAF7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5D6B2-CAE1-4EF3-BB27-6F2282FA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999B-D19E-45B7-8546-B59891F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7970-A948-4E11-9501-D7174D75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868F-B6E8-4D14-8C84-2A67E386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B22D-9AFF-4A66-BF3B-55EE9DD2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B68-3402-4BC4-AB63-C0B3824E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6C4A-E96B-4E7C-93F1-29F3D19E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6314-A6E5-4A56-90B5-20620538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A514-4787-4940-8A87-79BA8F4F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EFA7-D6F9-4D7B-8A65-2743E893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E2A9-E55A-475F-B7C9-656FC204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8A2A-3786-4FB5-BBC8-BAC98C0A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E9B-AAD0-48E0-8D66-B6D0F3E4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062-554B-43DE-B08A-378E79FA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75E-5CD8-424A-8560-2BD6651D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FD0-B05D-4E21-8475-F2A2490D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A93-B80D-428B-AE8D-3014E583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FB6C-24FF-4B89-90C2-E8FFF297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76C2-6795-41B7-B5AE-AE44874207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9D34-80BD-4704-A18D-BF20A5F128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Arial"/>
              </a:rPr>
              <a:t>СЛОВООБРАЗОВАН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908000" y="731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getImage?photoId=369010235748&amp;photoType=13"/>
          <p:cNvPicPr/>
          <p:nvPr/>
        </p:nvPicPr>
        <p:blipFill>
          <a:blip r:embed="rId1"/>
          <a:stretch/>
        </p:blipFill>
        <p:spPr>
          <a:xfrm>
            <a:off x="755640" y="18900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3988440" y="3592440"/>
            <a:ext cx="530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полнила учитель русского язы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литературы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Буревестников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кол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жанова Любовь Василь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городский район Нижегородск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НАЙДИ ПАР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тлый- светле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ёрн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лён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мн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ежи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зрослый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о был беспокойный челове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определение, взять пристав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яки не страшатся бур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сказуемого взять кор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авить суффикс прилагательного прелест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громный шар поднялся в неб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нчание взять у опреде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БРАЗУЙТЕ ОТ ГЛАГОЛА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ffcc00"/>
                </a:solidFill>
                <a:uFillTx/>
                <a:latin typeface="Arial"/>
              </a:rPr>
              <a:t>УЧИТЬ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ловек, который учит, преподаё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ваивать 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наизу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зано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ГО КАК ЗОВУ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а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е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е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ыж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вез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л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шист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47660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ОДОЛЖ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рить – бурильщи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ди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кет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лемёт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арабан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ардероб -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МЕНИТЬ ОДНИМ СЛОВОМ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дают листья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ёд колот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дить по канату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одить гром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оить самолёты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овить птиц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сить орден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ить стал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ОДБЕРИ ПАРУ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                               еж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анк                              о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р                                  точ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                                к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л                                р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й                                мар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но                              ри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ипа                               ок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                                 ва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ИЗ ДВУХ - ТРЕТЬ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 + РОМ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Т + 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ОБ + У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ВА + КАР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7" name="AutoShape 4"/>
          <p:cNvCxnSpPr>
            <a:stCxn id="206" idx="1"/>
            <a:endCxn id="206" idx="1"/>
          </p:cNvCxnSpPr>
          <p:nvPr/>
        </p:nvCxnSpPr>
        <p:spPr>
          <a:xfrm>
            <a:off x="323640" y="39650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НАЙДИ ЛИШНЕЕ СЛОВ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сной, лесного, лесник, лес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лесок, передатчик, переделка, передела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ава, пошла, справа, прохла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ень мой находится в «цене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«очерке» найди приставку м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ффикс мой в «тетрадке» все встреч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ОДНО ЛИ ЭТО СЛОВ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ма- дом- около до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и- река- у ре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ды-сад- в са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и- книга- с книг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«списке» вы мой обнаружите корен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ффикс в «собрании» встретится вскор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лове «рассказ» вы приставку найдёт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целом – по мне на уроки пойдё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БЕРИ СЛОВЕЧК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нем с «дорогой» родни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«сборке» приставка таит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ффикс – как в слове «дневник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 уже в космос прони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179280" y="189000"/>
            <a:ext cx="3924360" cy="3500280"/>
            <a:chOff x="179280" y="189000"/>
            <a:chExt cx="3924360" cy="3500280"/>
          </a:xfrm>
        </p:grpSpPr>
        <p:sp>
          <p:nvSpPr>
            <p:cNvPr id="217" name="AutoShape 50"/>
            <p:cNvSpPr/>
            <p:nvPr/>
          </p:nvSpPr>
          <p:spPr>
            <a:xfrm>
              <a:off x="179280" y="189000"/>
              <a:ext cx="3924360" cy="3500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51"/>
            <p:cNvSpPr/>
            <p:nvPr/>
          </p:nvSpPr>
          <p:spPr>
            <a:xfrm flipV="1">
              <a:off x="395640" y="613800"/>
              <a:ext cx="2753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52"/>
            <p:cNvSpPr/>
            <p:nvPr/>
          </p:nvSpPr>
          <p:spPr>
            <a:xfrm>
              <a:off x="395640" y="6174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53"/>
            <p:cNvSpPr/>
            <p:nvPr/>
          </p:nvSpPr>
          <p:spPr>
            <a:xfrm flipV="1">
              <a:off x="395640" y="932040"/>
              <a:ext cx="275328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54"/>
            <p:cNvSpPr/>
            <p:nvPr/>
          </p:nvSpPr>
          <p:spPr>
            <a:xfrm flipH="1">
              <a:off x="603360" y="405720"/>
              <a:ext cx="3600" cy="17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55"/>
            <p:cNvSpPr/>
            <p:nvPr/>
          </p:nvSpPr>
          <p:spPr>
            <a:xfrm>
              <a:off x="607320" y="405720"/>
              <a:ext cx="31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56"/>
            <p:cNvSpPr/>
            <p:nvPr/>
          </p:nvSpPr>
          <p:spPr>
            <a:xfrm flipH="1">
              <a:off x="921240" y="405720"/>
              <a:ext cx="2880" cy="179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57"/>
            <p:cNvSpPr/>
            <p:nvPr/>
          </p:nvSpPr>
          <p:spPr>
            <a:xfrm>
              <a:off x="1239840" y="613800"/>
              <a:ext cx="720" cy="222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58"/>
            <p:cNvSpPr/>
            <p:nvPr/>
          </p:nvSpPr>
          <p:spPr>
            <a:xfrm>
              <a:off x="1541520" y="657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59"/>
            <p:cNvSpPr/>
            <p:nvPr/>
          </p:nvSpPr>
          <p:spPr>
            <a:xfrm flipH="1">
              <a:off x="1558080" y="613800"/>
              <a:ext cx="720" cy="222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60"/>
            <p:cNvSpPr/>
            <p:nvPr/>
          </p:nvSpPr>
          <p:spPr>
            <a:xfrm>
              <a:off x="1770120" y="613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61"/>
            <p:cNvSpPr/>
            <p:nvPr/>
          </p:nvSpPr>
          <p:spPr>
            <a:xfrm>
              <a:off x="187596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62"/>
            <p:cNvSpPr/>
            <p:nvPr/>
          </p:nvSpPr>
          <p:spPr>
            <a:xfrm>
              <a:off x="219456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63"/>
            <p:cNvSpPr/>
            <p:nvPr/>
          </p:nvSpPr>
          <p:spPr>
            <a:xfrm>
              <a:off x="251244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4"/>
            <p:cNvSpPr/>
            <p:nvPr/>
          </p:nvSpPr>
          <p:spPr>
            <a:xfrm>
              <a:off x="283140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5"/>
            <p:cNvSpPr/>
            <p:nvPr/>
          </p:nvSpPr>
          <p:spPr>
            <a:xfrm>
              <a:off x="3149280" y="61380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6"/>
            <p:cNvSpPr/>
            <p:nvPr/>
          </p:nvSpPr>
          <p:spPr>
            <a:xfrm>
              <a:off x="603360" y="124992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7"/>
            <p:cNvSpPr/>
            <p:nvPr/>
          </p:nvSpPr>
          <p:spPr>
            <a:xfrm>
              <a:off x="603360" y="156852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8"/>
            <p:cNvSpPr/>
            <p:nvPr/>
          </p:nvSpPr>
          <p:spPr>
            <a:xfrm>
              <a:off x="603360" y="188640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9"/>
            <p:cNvSpPr/>
            <p:nvPr/>
          </p:nvSpPr>
          <p:spPr>
            <a:xfrm>
              <a:off x="603360" y="2204640"/>
              <a:ext cx="31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70"/>
            <p:cNvSpPr/>
            <p:nvPr/>
          </p:nvSpPr>
          <p:spPr>
            <a:xfrm>
              <a:off x="921240" y="2204640"/>
              <a:ext cx="2864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1"/>
            <p:cNvSpPr/>
            <p:nvPr/>
          </p:nvSpPr>
          <p:spPr>
            <a:xfrm>
              <a:off x="92124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2"/>
            <p:cNvSpPr/>
            <p:nvPr/>
          </p:nvSpPr>
          <p:spPr>
            <a:xfrm>
              <a:off x="921240" y="2522880"/>
              <a:ext cx="28641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3"/>
            <p:cNvSpPr/>
            <p:nvPr/>
          </p:nvSpPr>
          <p:spPr>
            <a:xfrm>
              <a:off x="18759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74"/>
            <p:cNvSpPr/>
            <p:nvPr/>
          </p:nvSpPr>
          <p:spPr>
            <a:xfrm>
              <a:off x="21945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75"/>
            <p:cNvSpPr/>
            <p:nvPr/>
          </p:nvSpPr>
          <p:spPr>
            <a:xfrm>
              <a:off x="251244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76"/>
            <p:cNvSpPr/>
            <p:nvPr/>
          </p:nvSpPr>
          <p:spPr>
            <a:xfrm>
              <a:off x="283140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77"/>
            <p:cNvSpPr/>
            <p:nvPr/>
          </p:nvSpPr>
          <p:spPr>
            <a:xfrm>
              <a:off x="314928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78"/>
            <p:cNvSpPr/>
            <p:nvPr/>
          </p:nvSpPr>
          <p:spPr>
            <a:xfrm>
              <a:off x="34671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79"/>
            <p:cNvSpPr/>
            <p:nvPr/>
          </p:nvSpPr>
          <p:spPr>
            <a:xfrm>
              <a:off x="3785760" y="22046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80"/>
            <p:cNvSpPr/>
            <p:nvPr/>
          </p:nvSpPr>
          <p:spPr>
            <a:xfrm>
              <a:off x="2831400" y="1568520"/>
              <a:ext cx="360" cy="6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81"/>
            <p:cNvSpPr/>
            <p:nvPr/>
          </p:nvSpPr>
          <p:spPr>
            <a:xfrm>
              <a:off x="3149280" y="1568520"/>
              <a:ext cx="360" cy="6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82"/>
            <p:cNvSpPr/>
            <p:nvPr/>
          </p:nvSpPr>
          <p:spPr>
            <a:xfrm>
              <a:off x="2831400" y="19922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83"/>
            <p:cNvSpPr/>
            <p:nvPr/>
          </p:nvSpPr>
          <p:spPr>
            <a:xfrm>
              <a:off x="2831400" y="188640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84"/>
            <p:cNvSpPr/>
            <p:nvPr/>
          </p:nvSpPr>
          <p:spPr>
            <a:xfrm>
              <a:off x="2831400" y="15685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85"/>
            <p:cNvSpPr/>
            <p:nvPr/>
          </p:nvSpPr>
          <p:spPr>
            <a:xfrm>
              <a:off x="2831400" y="2522880"/>
              <a:ext cx="0" cy="9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6"/>
            <p:cNvSpPr/>
            <p:nvPr/>
          </p:nvSpPr>
          <p:spPr>
            <a:xfrm>
              <a:off x="3149280" y="2522880"/>
              <a:ext cx="360" cy="95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87"/>
            <p:cNvSpPr/>
            <p:nvPr/>
          </p:nvSpPr>
          <p:spPr>
            <a:xfrm>
              <a:off x="2831400" y="28411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88"/>
            <p:cNvSpPr/>
            <p:nvPr/>
          </p:nvSpPr>
          <p:spPr>
            <a:xfrm>
              <a:off x="2831400" y="315936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89"/>
            <p:cNvSpPr/>
            <p:nvPr/>
          </p:nvSpPr>
          <p:spPr>
            <a:xfrm>
              <a:off x="2831400" y="347760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90"/>
            <p:cNvSpPr/>
            <p:nvPr/>
          </p:nvSpPr>
          <p:spPr>
            <a:xfrm>
              <a:off x="1239840" y="28411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91"/>
            <p:cNvSpPr/>
            <p:nvPr/>
          </p:nvSpPr>
          <p:spPr>
            <a:xfrm>
              <a:off x="1239840" y="12499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92"/>
            <p:cNvSpPr/>
            <p:nvPr/>
          </p:nvSpPr>
          <p:spPr>
            <a:xfrm>
              <a:off x="1239840" y="15685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93"/>
            <p:cNvSpPr/>
            <p:nvPr/>
          </p:nvSpPr>
          <p:spPr>
            <a:xfrm>
              <a:off x="1239840" y="188640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Text Box 94"/>
            <p:cNvSpPr/>
            <p:nvPr/>
          </p:nvSpPr>
          <p:spPr>
            <a:xfrm>
              <a:off x="603360" y="401400"/>
              <a:ext cx="317520" cy="21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Text Box 95"/>
            <p:cNvSpPr/>
            <p:nvPr/>
          </p:nvSpPr>
          <p:spPr>
            <a:xfrm>
              <a:off x="371880" y="595440"/>
              <a:ext cx="231480" cy="3355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96"/>
            <p:cNvSpPr/>
            <p:nvPr/>
          </p:nvSpPr>
          <p:spPr>
            <a:xfrm>
              <a:off x="1239840" y="612720"/>
              <a:ext cx="317880" cy="31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97"/>
            <p:cNvSpPr/>
            <p:nvPr/>
          </p:nvSpPr>
          <p:spPr>
            <a:xfrm>
              <a:off x="921240" y="2203920"/>
              <a:ext cx="318600" cy="317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98"/>
            <p:cNvSpPr/>
            <p:nvPr/>
          </p:nvSpPr>
          <p:spPr>
            <a:xfrm>
              <a:off x="2830320" y="1551600"/>
              <a:ext cx="318600" cy="334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9"/>
          <p:cNvSpPr/>
          <p:nvPr/>
        </p:nvSpPr>
        <p:spPr>
          <a:xfrm>
            <a:off x="4211640" y="18900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00"/>
          <p:cNvSpPr/>
          <p:nvPr/>
        </p:nvSpPr>
        <p:spPr>
          <a:xfrm>
            <a:off x="4500720" y="657360"/>
            <a:ext cx="3958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01"/>
          <p:cNvSpPr/>
          <p:nvPr/>
        </p:nvSpPr>
        <p:spPr>
          <a:xfrm>
            <a:off x="4067280" y="333360"/>
            <a:ext cx="50767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ые части сл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Главная значимая часть слова, в которой заключено общее значение однокоренн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Значимая часть, которая стоит перед корнем и служит для образования нов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Значимая часть слова, которая находится после корня и служит для образования новых 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Значимая часть слова, которая служит для форм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Часть слова без оконч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 rot="4714800">
            <a:off x="1009800" y="1263600"/>
            <a:ext cx="1434960" cy="165744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 rot="18603000">
            <a:off x="6118920" y="2345040"/>
            <a:ext cx="2305080" cy="223380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Freeform 4"/>
          <p:cNvSpPr/>
          <p:nvPr/>
        </p:nvSpPr>
        <p:spPr>
          <a:xfrm rot="14120400">
            <a:off x="4977360" y="268920"/>
            <a:ext cx="1711440" cy="198900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Freeform 5"/>
          <p:cNvSpPr/>
          <p:nvPr/>
        </p:nvSpPr>
        <p:spPr>
          <a:xfrm>
            <a:off x="2390760" y="1138320"/>
            <a:ext cx="4576680" cy="5386320"/>
          </a:xfrm>
          <a:custGeom>
            <a:avLst/>
            <a:gdLst/>
            <a:ahLst/>
            <a:rect l="l" t="t" r="r" b="b"/>
            <a:pathLst>
              <a:path w="2883" h="3393">
                <a:moveTo>
                  <a:pt x="1032" y="456"/>
                </a:moveTo>
                <a:cubicBezTo>
                  <a:pt x="1008" y="423"/>
                  <a:pt x="1209" y="659"/>
                  <a:pt x="1296" y="784"/>
                </a:cubicBezTo>
                <a:cubicBezTo>
                  <a:pt x="1383" y="909"/>
                  <a:pt x="1503" y="1325"/>
                  <a:pt x="1552" y="1208"/>
                </a:cubicBezTo>
                <a:cubicBezTo>
                  <a:pt x="1601" y="1091"/>
                  <a:pt x="1577" y="0"/>
                  <a:pt x="1592" y="80"/>
                </a:cubicBezTo>
                <a:cubicBezTo>
                  <a:pt x="1607" y="160"/>
                  <a:pt x="1640" y="1688"/>
                  <a:pt x="1640" y="1688"/>
                </a:cubicBezTo>
                <a:cubicBezTo>
                  <a:pt x="1733" y="1535"/>
                  <a:pt x="2077" y="916"/>
                  <a:pt x="2200" y="768"/>
                </a:cubicBezTo>
                <a:cubicBezTo>
                  <a:pt x="2252" y="820"/>
                  <a:pt x="2306" y="792"/>
                  <a:pt x="2376" y="800"/>
                </a:cubicBezTo>
                <a:cubicBezTo>
                  <a:pt x="2376" y="800"/>
                  <a:pt x="2776" y="968"/>
                  <a:pt x="2776" y="968"/>
                </a:cubicBezTo>
                <a:cubicBezTo>
                  <a:pt x="2883" y="932"/>
                  <a:pt x="2741" y="923"/>
                  <a:pt x="2672" y="920"/>
                </a:cubicBezTo>
                <a:cubicBezTo>
                  <a:pt x="2567" y="901"/>
                  <a:pt x="2267" y="796"/>
                  <a:pt x="2144" y="856"/>
                </a:cubicBezTo>
                <a:cubicBezTo>
                  <a:pt x="2069" y="916"/>
                  <a:pt x="1995" y="1189"/>
                  <a:pt x="1936" y="1280"/>
                </a:cubicBezTo>
                <a:cubicBezTo>
                  <a:pt x="1863" y="1485"/>
                  <a:pt x="1739" y="1776"/>
                  <a:pt x="1736" y="2088"/>
                </a:cubicBezTo>
                <a:cubicBezTo>
                  <a:pt x="1714" y="2392"/>
                  <a:pt x="1764" y="2901"/>
                  <a:pt x="1856" y="3104"/>
                </a:cubicBezTo>
                <a:cubicBezTo>
                  <a:pt x="1948" y="3307"/>
                  <a:pt x="2263" y="3272"/>
                  <a:pt x="2288" y="3304"/>
                </a:cubicBezTo>
                <a:cubicBezTo>
                  <a:pt x="2225" y="3279"/>
                  <a:pt x="2074" y="3309"/>
                  <a:pt x="2008" y="3296"/>
                </a:cubicBezTo>
                <a:cubicBezTo>
                  <a:pt x="1952" y="3268"/>
                  <a:pt x="1901" y="3263"/>
                  <a:pt x="1840" y="3256"/>
                </a:cubicBezTo>
                <a:cubicBezTo>
                  <a:pt x="1824" y="3251"/>
                  <a:pt x="1808" y="3246"/>
                  <a:pt x="1792" y="3240"/>
                </a:cubicBezTo>
                <a:cubicBezTo>
                  <a:pt x="1781" y="3236"/>
                  <a:pt x="1772" y="3222"/>
                  <a:pt x="1760" y="3224"/>
                </a:cubicBezTo>
                <a:cubicBezTo>
                  <a:pt x="1752" y="3226"/>
                  <a:pt x="1755" y="3240"/>
                  <a:pt x="1752" y="3248"/>
                </a:cubicBezTo>
                <a:cubicBezTo>
                  <a:pt x="1749" y="3293"/>
                  <a:pt x="1771" y="3348"/>
                  <a:pt x="1744" y="3384"/>
                </a:cubicBezTo>
                <a:cubicBezTo>
                  <a:pt x="1729" y="3393"/>
                  <a:pt x="1713" y="3341"/>
                  <a:pt x="1664" y="3304"/>
                </a:cubicBezTo>
                <a:cubicBezTo>
                  <a:pt x="1641" y="3272"/>
                  <a:pt x="1657" y="3192"/>
                  <a:pt x="1568" y="3200"/>
                </a:cubicBezTo>
                <a:cubicBezTo>
                  <a:pt x="1487" y="3213"/>
                  <a:pt x="976" y="3335"/>
                  <a:pt x="912" y="3352"/>
                </a:cubicBezTo>
                <a:cubicBezTo>
                  <a:pt x="928" y="3348"/>
                  <a:pt x="1024" y="3312"/>
                  <a:pt x="1024" y="3312"/>
                </a:cubicBezTo>
                <a:cubicBezTo>
                  <a:pt x="1064" y="3285"/>
                  <a:pt x="1163" y="3252"/>
                  <a:pt x="1216" y="3192"/>
                </a:cubicBezTo>
                <a:cubicBezTo>
                  <a:pt x="1269" y="3132"/>
                  <a:pt x="1304" y="3039"/>
                  <a:pt x="1344" y="2952"/>
                </a:cubicBezTo>
                <a:cubicBezTo>
                  <a:pt x="1384" y="2865"/>
                  <a:pt x="1428" y="2794"/>
                  <a:pt x="1456" y="2672"/>
                </a:cubicBezTo>
                <a:cubicBezTo>
                  <a:pt x="1525" y="2496"/>
                  <a:pt x="1503" y="2308"/>
                  <a:pt x="1512" y="2216"/>
                </a:cubicBezTo>
                <a:cubicBezTo>
                  <a:pt x="1527" y="2022"/>
                  <a:pt x="1548" y="1626"/>
                  <a:pt x="1545" y="1505"/>
                </a:cubicBezTo>
                <a:cubicBezTo>
                  <a:pt x="1517" y="1262"/>
                  <a:pt x="1509" y="1312"/>
                  <a:pt x="1424" y="1112"/>
                </a:cubicBezTo>
                <a:cubicBezTo>
                  <a:pt x="1356" y="1034"/>
                  <a:pt x="1276" y="971"/>
                  <a:pt x="1136" y="1040"/>
                </a:cubicBezTo>
                <a:cubicBezTo>
                  <a:pt x="996" y="1109"/>
                  <a:pt x="603" y="1540"/>
                  <a:pt x="584" y="1528"/>
                </a:cubicBezTo>
                <a:cubicBezTo>
                  <a:pt x="565" y="1516"/>
                  <a:pt x="1117" y="1111"/>
                  <a:pt x="1024" y="968"/>
                </a:cubicBezTo>
                <a:cubicBezTo>
                  <a:pt x="931" y="825"/>
                  <a:pt x="0" y="677"/>
                  <a:pt x="24" y="672"/>
                </a:cubicBezTo>
                <a:cubicBezTo>
                  <a:pt x="48" y="667"/>
                  <a:pt x="948" y="888"/>
                  <a:pt x="1168" y="936"/>
                </a:cubicBezTo>
                <a:cubicBezTo>
                  <a:pt x="1388" y="984"/>
                  <a:pt x="1367" y="1040"/>
                  <a:pt x="1344" y="960"/>
                </a:cubicBezTo>
                <a:cubicBezTo>
                  <a:pt x="1344" y="960"/>
                  <a:pt x="1032" y="456"/>
                  <a:pt x="1032" y="456"/>
                </a:cubicBezTo>
                <a:close/>
              </a:path>
            </a:pathLst>
          </a:custGeom>
          <a:solidFill>
            <a:srgbClr val="000080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4428720" y="573408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са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101960" y="173520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сад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5077080" y="941400"/>
            <a:ext cx="110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ад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9"/>
          <p:cNvSpPr/>
          <p:nvPr/>
        </p:nvSpPr>
        <p:spPr>
          <a:xfrm rot="2256600">
            <a:off x="1690200" y="3030480"/>
            <a:ext cx="1871640" cy="180036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Freeform 10"/>
          <p:cNvSpPr/>
          <p:nvPr/>
        </p:nvSpPr>
        <p:spPr>
          <a:xfrm rot="6514800">
            <a:off x="2562840" y="284760"/>
            <a:ext cx="1863720" cy="2170080"/>
          </a:xfrm>
          <a:custGeom>
            <a:avLst/>
            <a:gdLst/>
            <a:ahLst/>
            <a:rect l="l" t="t" r="r" b="b"/>
            <a:pathLst>
              <a:path w="1175" h="1180">
                <a:moveTo>
                  <a:pt x="797" y="194"/>
                </a:moveTo>
                <a:cubicBezTo>
                  <a:pt x="763" y="184"/>
                  <a:pt x="688" y="75"/>
                  <a:pt x="652" y="65"/>
                </a:cubicBezTo>
                <a:cubicBezTo>
                  <a:pt x="575" y="0"/>
                  <a:pt x="296" y="50"/>
                  <a:pt x="286" y="50"/>
                </a:cubicBezTo>
                <a:cubicBezTo>
                  <a:pt x="239" y="62"/>
                  <a:pt x="205" y="89"/>
                  <a:pt x="157" y="103"/>
                </a:cubicBezTo>
                <a:cubicBezTo>
                  <a:pt x="121" y="123"/>
                  <a:pt x="104" y="153"/>
                  <a:pt x="75" y="177"/>
                </a:cubicBezTo>
                <a:cubicBezTo>
                  <a:pt x="6" y="343"/>
                  <a:pt x="0" y="535"/>
                  <a:pt x="129" y="675"/>
                </a:cubicBezTo>
                <a:cubicBezTo>
                  <a:pt x="152" y="730"/>
                  <a:pt x="120" y="663"/>
                  <a:pt x="167" y="720"/>
                </a:cubicBezTo>
                <a:cubicBezTo>
                  <a:pt x="178" y="734"/>
                  <a:pt x="184" y="750"/>
                  <a:pt x="194" y="764"/>
                </a:cubicBezTo>
                <a:cubicBezTo>
                  <a:pt x="204" y="798"/>
                  <a:pt x="221" y="808"/>
                  <a:pt x="239" y="839"/>
                </a:cubicBezTo>
                <a:cubicBezTo>
                  <a:pt x="265" y="943"/>
                  <a:pt x="244" y="1048"/>
                  <a:pt x="277" y="1151"/>
                </a:cubicBezTo>
                <a:cubicBezTo>
                  <a:pt x="307" y="1180"/>
                  <a:pt x="395" y="1058"/>
                  <a:pt x="441" y="1028"/>
                </a:cubicBezTo>
                <a:cubicBezTo>
                  <a:pt x="486" y="1015"/>
                  <a:pt x="506" y="985"/>
                  <a:pt x="551" y="973"/>
                </a:cubicBezTo>
                <a:cubicBezTo>
                  <a:pt x="580" y="958"/>
                  <a:pt x="606" y="954"/>
                  <a:pt x="634" y="943"/>
                </a:cubicBezTo>
                <a:cubicBezTo>
                  <a:pt x="691" y="922"/>
                  <a:pt x="740" y="903"/>
                  <a:pt x="799" y="891"/>
                </a:cubicBezTo>
                <a:cubicBezTo>
                  <a:pt x="859" y="869"/>
                  <a:pt x="947" y="847"/>
                  <a:pt x="992" y="817"/>
                </a:cubicBezTo>
                <a:cubicBezTo>
                  <a:pt x="1040" y="781"/>
                  <a:pt x="1103" y="726"/>
                  <a:pt x="1124" y="694"/>
                </a:cubicBezTo>
                <a:cubicBezTo>
                  <a:pt x="1150" y="654"/>
                  <a:pt x="1169" y="619"/>
                  <a:pt x="1175" y="566"/>
                </a:cubicBezTo>
                <a:cubicBezTo>
                  <a:pt x="1174" y="533"/>
                  <a:pt x="1169" y="398"/>
                  <a:pt x="1139" y="337"/>
                </a:cubicBezTo>
                <a:cubicBezTo>
                  <a:pt x="1109" y="276"/>
                  <a:pt x="1049" y="223"/>
                  <a:pt x="992" y="199"/>
                </a:cubicBezTo>
                <a:cubicBezTo>
                  <a:pt x="948" y="176"/>
                  <a:pt x="854" y="215"/>
                  <a:pt x="797" y="194"/>
                </a:cubicBezTo>
                <a:close/>
              </a:path>
            </a:pathLst>
          </a:custGeom>
          <a:solidFill>
            <a:srgbClr val="4c9800"/>
          </a:solidFill>
          <a:ln cap="rnd" w="76320">
            <a:solidFill>
              <a:srgbClr val="008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907640" y="3749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расса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6301080" y="310212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адов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 rot="19603800">
            <a:off x="2775960" y="1382400"/>
            <a:ext cx="14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адо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14"/>
          <p:cNvGrpSpPr/>
          <p:nvPr/>
        </p:nvGrpSpPr>
        <p:grpSpPr>
          <a:xfrm>
            <a:off x="250920" y="189000"/>
            <a:ext cx="8713800" cy="6408720"/>
            <a:chOff x="250920" y="189000"/>
            <a:chExt cx="8713800" cy="6408720"/>
          </a:xfrm>
        </p:grpSpPr>
        <p:sp>
          <p:nvSpPr>
            <p:cNvPr id="282" name="Line 15"/>
            <p:cNvSpPr/>
            <p:nvPr/>
          </p:nvSpPr>
          <p:spPr>
            <a:xfrm>
              <a:off x="250920" y="189000"/>
              <a:ext cx="8713800" cy="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250920" y="189000"/>
              <a:ext cx="0" cy="64087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17"/>
            <p:cNvSpPr/>
            <p:nvPr/>
          </p:nvSpPr>
          <p:spPr>
            <a:xfrm>
              <a:off x="250920" y="6597720"/>
              <a:ext cx="8713800" cy="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>
              <a:off x="8964720" y="189000"/>
              <a:ext cx="0" cy="6408720"/>
            </a:xfrm>
            <a:prstGeom prst="line">
              <a:avLst/>
            </a:prstGeom>
            <a:ln w="763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АК РАСТУТ СЛО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-то много лет наз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Посадил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нный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был сад фруктовым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ыл он только слов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о слово - слово-корен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статься стало вскор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плоды нам принесло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из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ам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рассад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т ещё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посадки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я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вот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ово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с ним </a:t>
            </a:r>
            <a:r>
              <a:rPr b="1" i="1" lang="ru-RU" sz="2400" spc="-1" strike="noStrike">
                <a:solidFill>
                  <a:srgbClr val="ffcc00"/>
                </a:solidFill>
                <a:latin typeface="Arial"/>
              </a:rPr>
              <a:t>садовн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дё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чень интересно гулять в саду словесн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cc00"/>
                </a:solidFill>
                <a:latin typeface="Arial"/>
              </a:rPr>
              <a:t>СПАСИБО ЗА ВНИМАНИЕ!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92d050"/>
                </a:solidFill>
                <a:latin typeface="KZ Taurus"/>
              </a:rPr>
              <a:t>	</a:t>
            </a:r>
            <a:r>
              <a:rPr b="1" lang="ru-RU" sz="3600" spc="-1" strike="noStrike">
                <a:solidFill>
                  <a:srgbClr val="ffcc00"/>
                </a:solidFill>
                <a:latin typeface="KZ Taurus"/>
              </a:rPr>
              <a:t>Выпишите в два столб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ика</a:t>
            </a:r>
            <a:r>
              <a:rPr b="1" lang="ru-RU" sz="3600" spc="-1" strike="noStrike">
                <a:solidFill>
                  <a:srgbClr val="ffcc00"/>
                </a:solidFill>
                <a:latin typeface="KZ Taurus"/>
              </a:rPr>
              <a:t> родственные слова и формы</a:t>
            </a:r>
            <a:br>
              <a:rPr sz="3600"/>
            </a:br>
            <a:r>
              <a:rPr b="1" lang="ru-RU" sz="3600" spc="-1" strike="noStrike">
                <a:solidFill>
                  <a:srgbClr val="ffcc00"/>
                </a:solidFill>
                <a:latin typeface="KZ Taurus"/>
              </a:rPr>
              <a:t>одного и того же сло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287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расный, краснеть, красные, краснота, красноватый, красн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Земля, земной, землистый, землёй, землями, земель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Кровь, кровью, кровавый, бескровный, крови, кровянист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Вкус, вкусить, вкусы, безвкусный, вкусовой, вку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Полный, дополнить, полная, полнота, полные, переполненный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УЗНАЙ МОРФЕМ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-                         -ушк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вед-                         -н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еньк-                       -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д-                          по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-                           -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рад-                        -и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лов-                       -лет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умать слова с данными морфем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ТО БЫСТРЕ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 по разведению сад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нал для выхода дыма из труб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усская народная игра-пляс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ппарат для помола коф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алист по разведению пчё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т, кто рубит л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□         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  <a:ea typeface="Arial"/>
              </a:rPr>
              <a:t>нет □        с  □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роз, время, поздний, внезапно, первый, снег, слегка, дует, ветры, дни, пасмурный, неподвижно, стоит, деревья, вдруг, проглянет, солнце, засверкает, лес, тишина, очень, даль, простор, изд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НАЙДИ ЛИШНЕЕ</a:t>
            </a: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ожить, полагаться, ложечка, при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ножный, нога, подножка, ножик, нож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готок, ногти, ногтевой, ног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щий, вещунья, вести, вещ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ПРОДОЛЖ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абрость,…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елать, …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вёр-самолёт, …,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емлетрясение,…,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ведра,…,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ТО У КОГ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гр – тигрё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лк – волчон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в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ышь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ак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ова -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инья -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 flipV="1">
            <a:off x="4932360" y="100400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47:12Z</dcterms:created>
  <dc:creator>Буревестник</dc:creator>
  <dc:description/>
  <dc:language>en-US</dc:language>
  <cp:lastModifiedBy>Васильевна</cp:lastModifiedBy>
  <dcterms:modified xsi:type="dcterms:W3CDTF">2017-01-17T11:22:56Z</dcterms:modified>
  <cp:revision>15</cp:revision>
  <dc:subject/>
  <dc:title>СЛОВООБРАЗОВАНИЕ</dc:title>
</cp:coreProperties>
</file>