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0231-A8FC-4547-A0DE-418F9405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6488-0C14-4DEE-8AA1-A914BB8B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472-83F2-4BEA-97BF-80FE854D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091-BB25-4E58-83B1-FA9616FD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87CB-7757-414D-85D6-A227881F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B6FF-6B1B-4DCD-8039-0F5FFDDF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B836-BF30-4832-A616-05F33D22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C017-4795-49A6-A069-E1F2E2A3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4165-1F4A-4EAD-A761-B01770EB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FEE2-DB3D-4F2A-B78A-3A5C1201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C2E5-56F0-4B1C-B4DA-7A75A2CB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31F-8642-44BB-85AE-56F1F5A2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D46A-8A6E-4C8E-8350-E6E0DFC1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5BC2-4BC3-497A-8A17-C70D5BC5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B393-3AD1-4DB0-95E3-31000F06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B474-CD41-4FBE-B72B-22994202D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C9A3-7679-4FD3-B3C9-1E2464E4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5DF9-7050-4DFE-A358-2F521B8E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76404-92C4-4EA9-B231-F9994819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7864-2D86-4015-A8D5-D3657EB2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F905B-345C-48EE-8F33-7EF3348D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7E8C-A0F8-4632-92DA-FB8DD0EC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427-70EF-40A9-B141-2D485CDD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FD68-4DF0-406B-9E2D-C8670AA7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8F00B-936C-448C-ADBC-32AF15CA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71302-0E3B-4C58-A9E4-457D84D3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B1A75-ED7F-40F1-AF03-0FADB33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49667-9D85-469E-8084-0BC59673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20E12-695A-44B4-A7F9-207B8E59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123D8-2502-4E6C-8925-9AB022BF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7B76-C88E-4B8F-91C9-C661BC421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6C45D-29B1-401E-B564-13F26885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2E9DA-C39C-4A41-8DAC-72DF59B2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E1C2-EAFB-4E55-845D-CF0F7B7C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C1359-C79B-4086-B066-F26D1663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5F208-0A55-43BA-B764-B5716891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236B3-61B3-4089-8707-1D5EA255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5036E-4EF5-45FE-B5B7-06B36996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BE8E-4B34-4DCD-B4EA-1E2E60A0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194DF-CDA2-463D-81BF-9894B841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8E9C8-EA07-45D2-A9BD-E8290801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B93F8-A83E-4438-9697-6F9114DD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E1456-3507-4421-AC9C-93A9EFF8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4F86-FB25-42B7-9CE7-263C0218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E97A-CC8D-4646-BAED-462CC4F0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034-CE50-4E7D-94FB-3A0EA7A6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3DB-89B5-4FEB-B3E7-E1F69678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BB6D-70BA-4EB3-91A1-49A86BEC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5A80-5210-4A46-AE6F-8394F216532C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4083-9E97-4FED-87B7-08F565F317FE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F632-056C-465E-9877-1186959D4D47}" type="slidenum">
              <a:rPr b="0" lang="ru-RU" sz="1200" spc="-1" strike="noStrike">
                <a:solidFill>
                  <a:srgbClr val="c8c8c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5729-3135-485B-BA63-AB322D4C7911}" type="slidenum">
              <a:rPr b="0" lang="ru-RU" sz="1200" spc="-1" strike="noStrike">
                <a:solidFill>
                  <a:srgbClr val="61616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3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28.xml"/><Relationship Id="rId7" Type="http://schemas.openxmlformats.org/officeDocument/2006/relationships/slide" Target="slide32.xml"/><Relationship Id="rId8" Type="http://schemas.openxmlformats.org/officeDocument/2006/relationships/slide" Target="slide31.xm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9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93560" y="2139840"/>
            <a:ext cx="8412480" cy="18957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464292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91919"/>
                </a:solidFill>
                <a:latin typeface="Constantia"/>
              </a:rPr>
              <a:t>По материалам пособи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91919"/>
                </a:solidFill>
                <a:latin typeface="Constantia"/>
              </a:rPr>
              <a:t>А.Г Нарушевича «Русский язык: сочинение на ЕГЭ: формулировки, аргументы, комментарии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Прямоугольник 3" descr=""/>
          <p:cNvPicPr/>
          <p:nvPr/>
        </p:nvPicPr>
        <p:blipFill>
          <a:blip r:embed="rId2"/>
          <a:stretch/>
        </p:blipFill>
        <p:spPr>
          <a:xfrm>
            <a:off x="-55440" y="847800"/>
            <a:ext cx="9169200" cy="13050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924360" y="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1"/>
          <p:cNvSpPr/>
          <p:nvPr/>
        </p:nvSpPr>
        <p:spPr>
          <a:xfrm>
            <a:off x="0" y="785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Нравственные пробле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"/>
          <p:cNvSpPr/>
          <p:nvPr/>
        </p:nvSpPr>
        <p:spPr>
          <a:xfrm>
            <a:off x="142920" y="178596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вязаны с внутренними духовными качествами, которыми руководствуется человек с определёнными правилами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285840" y="2928960"/>
            <a:ext cx="792936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Что такое совесть? (порядочность, интеллигентность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Всегда ли нужно прислушиваться к мнению старш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Следует ли помогать ближн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214200" y="785880"/>
            <a:ext cx="892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Как сформулировать проблему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5"/>
          <p:cNvSpPr/>
          <p:nvPr/>
        </p:nvSpPr>
        <p:spPr>
          <a:xfrm>
            <a:off x="571680" y="2643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Если формулировка не очень сложна и может быть выражена одним словом или словосочетанием, ИСПОЛЬЗУЕТСЯ КОНСТРУКЦИЯ </a:t>
            </a:r>
            <a:r>
              <a:rPr b="1" lang="ru-RU" sz="1800" spc="-1" strike="noStrike">
                <a:solidFill>
                  <a:srgbClr val="ff0000"/>
                </a:solidFill>
                <a:latin typeface="Constantia"/>
              </a:rPr>
              <a:t> ПРОБЛЕМА (чего?) Р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6"/>
          <p:cNvSpPr/>
          <p:nvPr/>
        </p:nvSpPr>
        <p:spPr>
          <a:xfrm>
            <a:off x="642960" y="364320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49e"/>
                </a:solidFill>
                <a:latin typeface="Constantia"/>
              </a:rPr>
              <a:t>Автор рассуждает над проблемой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49e"/>
                </a:solidFill>
                <a:latin typeface="Constantia"/>
              </a:rPr>
              <a:t>В тексте поднимается пробле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449e"/>
                </a:solidFill>
                <a:latin typeface="Constantia"/>
              </a:rPr>
              <a:t>Текст заставляет каждого из нас задуматься над проблем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642960" y="264312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Избежать неудачных конструкций поможет второй способ формулирования проблемы –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ВОПРОСИТЕЛЬНОЕ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500040" y="3571920"/>
            <a:ext cx="7786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449e"/>
                </a:solidFill>
                <a:latin typeface="Constantia"/>
              </a:rPr>
              <a:t>Возможно ли гармоничное сочетание духовного и материального в жизни человека? Этой сложной проблеме посвящает свой текс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onstantia"/>
              </a:rPr>
              <a:t>Автор размышляет над судьбой русского языка и предлагает задуматься над следующей проблемой: обогащается или портится русский язык благодаря заимствовани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49e"/>
                </a:solidFill>
                <a:latin typeface="Constantia"/>
              </a:rPr>
              <a:t>Что может помочь не только выжить в нечеловеческих условиях , но не утратить человеческого достоинства? Эту проблему рассматривает автор на примере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1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285840" y="642960"/>
            <a:ext cx="8643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Употребление слова ПРОБЛЕМА в контекс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428760" y="2357280"/>
            <a:ext cx="80722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e005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А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чего: войны, мира, экономики, образования, вос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А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сложная , трудная, важная, серьёзная, глубокая, основная, главная, актуальная, злободневная, острая, назревшая, философская, нравственно-этическ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Постановка, изучение, исследование, рассмотрение, значение, важность, сложность какой-либо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Ы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Точка зрения на какую-либо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У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Коснуться какой-либо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Ы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Уделить внимание какой-либо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Е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Над какой-либо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ОЙ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думать, рабо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e6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Какая-либо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ПРОБЛЕМА </a:t>
            </a:r>
            <a:r>
              <a:rPr b="1" i="1" lang="ru-RU" sz="2000" spc="-1" strike="noStrike">
                <a:solidFill>
                  <a:srgbClr val="002e69"/>
                </a:solidFill>
                <a:latin typeface="Constantia"/>
              </a:rPr>
              <a:t>возникает, встаёт, представляет интерес, заслуживает внимания, ждёт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Управляющая кнопка: домой 5">
            <a:hlinkClick r:id="rId1" action="ppaction://hlinksldjump"/>
          </p:cNvPr>
          <p:cNvSpPr/>
          <p:nvPr/>
        </p:nvSpPr>
        <p:spPr>
          <a:xfrm>
            <a:off x="8143920" y="6000840"/>
            <a:ext cx="1000080" cy="857160"/>
          </a:xfrm>
          <a:custGeom>
            <a:avLst/>
            <a:gdLst>
              <a:gd name="textAreaLeft" fmla="*/ 55440 w 1000080"/>
              <a:gd name="textAreaRight" fmla="*/ 944640 w 100008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5200" h="21600">
                <a:moveTo>
                  <a:pt x="0" y="0"/>
                </a:moveTo>
                <a:lnTo>
                  <a:pt x="25200" y="0"/>
                </a:lnTo>
                <a:lnTo>
                  <a:pt x="25200" y="21600"/>
                </a:lnTo>
                <a:lnTo>
                  <a:pt x="0" y="21600"/>
                </a:lnTo>
                <a:close/>
              </a:path>
              <a:path fill="lightenLess" w="25200" h="21600">
                <a:moveTo>
                  <a:pt x="0" y="0"/>
                </a:moveTo>
                <a:lnTo>
                  <a:pt x="25200" y="0"/>
                </a:lnTo>
                <a:lnTo>
                  <a:pt x="23800" y="1400"/>
                </a:lnTo>
                <a:lnTo>
                  <a:pt x="1400" y="1400"/>
                </a:lnTo>
                <a:close/>
              </a:path>
              <a:path fill="darken" w="25200" h="21600">
                <a:moveTo>
                  <a:pt x="25200" y="0"/>
                </a:moveTo>
                <a:lnTo>
                  <a:pt x="25200" y="21600"/>
                </a:lnTo>
                <a:lnTo>
                  <a:pt x="23800" y="20200"/>
                </a:lnTo>
                <a:lnTo>
                  <a:pt x="23800" y="1400"/>
                </a:lnTo>
                <a:close/>
              </a:path>
              <a:path fill="darkenLess" w="25200" h="21600">
                <a:moveTo>
                  <a:pt x="2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0" y="20200"/>
                </a:lnTo>
                <a:close/>
              </a:path>
              <a:path fill="lighten" w="2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0" h="21600">
                <a:moveTo>
                  <a:pt x="12600" y="3837"/>
                </a:moveTo>
                <a:lnTo>
                  <a:pt x="15176" y="6448"/>
                </a:lnTo>
                <a:lnTo>
                  <a:pt x="15176" y="4707"/>
                </a:lnTo>
                <a:lnTo>
                  <a:pt x="16952" y="4707"/>
                </a:lnTo>
                <a:lnTo>
                  <a:pt x="16952" y="8224"/>
                </a:lnTo>
                <a:lnTo>
                  <a:pt x="19563" y="10800"/>
                </a:lnTo>
                <a:lnTo>
                  <a:pt x="17909" y="10800"/>
                </a:lnTo>
                <a:lnTo>
                  <a:pt x="17909" y="17989"/>
                </a:lnTo>
                <a:lnTo>
                  <a:pt x="7291" y="17989"/>
                </a:lnTo>
                <a:lnTo>
                  <a:pt x="7291" y="10800"/>
                </a:lnTo>
                <a:lnTo>
                  <a:pt x="5637" y="10800"/>
                </a:lnTo>
                <a:close/>
              </a:path>
              <a:path fill="darkenLess" w="25200" h="21600">
                <a:moveTo>
                  <a:pt x="15176" y="6448"/>
                </a:moveTo>
                <a:lnTo>
                  <a:pt x="15176" y="4707"/>
                </a:lnTo>
                <a:lnTo>
                  <a:pt x="16952" y="4707"/>
                </a:lnTo>
                <a:lnTo>
                  <a:pt x="16952" y="8224"/>
                </a:lnTo>
                <a:close/>
              </a:path>
              <a:path fill="darkenLess" w="25200" h="21600">
                <a:moveTo>
                  <a:pt x="11677" y="14299"/>
                </a:moveTo>
                <a:lnTo>
                  <a:pt x="13523" y="14299"/>
                </a:lnTo>
                <a:lnTo>
                  <a:pt x="13523" y="17989"/>
                </a:lnTo>
                <a:lnTo>
                  <a:pt x="17909" y="17989"/>
                </a:lnTo>
                <a:lnTo>
                  <a:pt x="17909" y="10800"/>
                </a:lnTo>
                <a:lnTo>
                  <a:pt x="7291" y="10800"/>
                </a:lnTo>
                <a:lnTo>
                  <a:pt x="7291" y="17989"/>
                </a:lnTo>
                <a:lnTo>
                  <a:pt x="11677" y="17989"/>
                </a:lnTo>
                <a:close/>
              </a:path>
            </a:pathLst>
          </a:custGeom>
          <a:solidFill>
            <a:srgbClr val="00349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932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285840" y="64296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Что такое комментари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"/>
          <p:cNvSpPr/>
          <p:nvPr/>
        </p:nvSpPr>
        <p:spPr>
          <a:xfrm>
            <a:off x="500040" y="1714680"/>
            <a:ext cx="82152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Комментарии – рассуждения, пояснительные и критические замечания о чём-либо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( Толковый словарь русского языка под ред. Д.Н.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642960" y="3714840"/>
            <a:ext cx="778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5151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Комментарий показывает, насколько глубоко и полно понимается выделенная пробле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51515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Комментарий должен осуществляться  с опорой на прочитанный тек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6"/>
          <p:cNvGrpSpPr/>
          <p:nvPr/>
        </p:nvGrpSpPr>
        <p:grpSpPr>
          <a:xfrm>
            <a:off x="428760" y="1571760"/>
            <a:ext cx="8429400" cy="6055920"/>
            <a:chOff x="428760" y="1571760"/>
            <a:chExt cx="8429400" cy="6055920"/>
          </a:xfrm>
        </p:grpSpPr>
        <p:sp>
          <p:nvSpPr>
            <p:cNvPr id="246" name="Блок-схема: процесс 4"/>
            <p:cNvSpPr/>
            <p:nvPr/>
          </p:nvSpPr>
          <p:spPr>
            <a:xfrm>
              <a:off x="500040" y="1571760"/>
              <a:ext cx="8286840" cy="4786200"/>
            </a:xfrm>
            <a:prstGeom prst="flowChartProcess">
              <a:avLst/>
            </a:prstGeom>
            <a:solidFill>
              <a:srgbClr val="75005f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Box 5"/>
            <p:cNvSpPr/>
            <p:nvPr/>
          </p:nvSpPr>
          <p:spPr>
            <a:xfrm>
              <a:off x="428760" y="1571760"/>
              <a:ext cx="8429400" cy="6055920"/>
            </a:xfrm>
            <a:prstGeom prst="rect">
              <a:avLst/>
            </a:prstGeom>
            <a:solidFill>
              <a:srgbClr val="7500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 u="sng">
                  <a:solidFill>
                    <a:srgbClr val="ffffff"/>
                  </a:solidFill>
                  <a:uFillTx/>
                  <a:latin typeface="Constantia"/>
                </a:rPr>
                <a:t>Объяснение текста с опорой на вопросы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a4f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1a4f"/>
                  </a:solidFill>
                  <a:latin typeface="Constantia"/>
                </a:rPr>
                <a:t>Как, на каком материале автор раскрывает проблему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a4f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1a4f"/>
                  </a:solidFill>
                  <a:latin typeface="Constantia"/>
                </a:rPr>
                <a:t>На чём заостряет внимание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a4f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1a4f"/>
                  </a:solidFill>
                  <a:latin typeface="Constantia"/>
                </a:rPr>
                <a:t>Какие аспекты проблемы рассматриваются в тексте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a4f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1a4f"/>
                  </a:solidFill>
                  <a:latin typeface="Constantia"/>
                </a:rPr>
                <a:t>Как выражено авторское отношение к изображаемому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1a4f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1a4f"/>
                  </a:solidFill>
                  <a:latin typeface="Constantia"/>
                </a:rPr>
                <a:t>Какие эмоции автора выражены в тексте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Constant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"/>
          <p:cNvSpPr/>
          <p:nvPr/>
        </p:nvSpPr>
        <p:spPr>
          <a:xfrm>
            <a:off x="214200" y="428760"/>
            <a:ext cx="821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Как оформить комментарий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357120" y="2286000"/>
            <a:ext cx="8286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b004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Автор раскрывает проблему на пример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500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В центре внимания автор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500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Автор говорит о том, чт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500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Автор обращает внимание на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500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Автор доказывает (убеждает, осуждает, иронизирует, одобряет, поддерживает, негодует, восхищается, удивляется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5005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 </a:t>
            </a:r>
            <a:r>
              <a:rPr b="1" i="1" lang="ru-RU" sz="2800" spc="-1" strike="noStrike">
                <a:solidFill>
                  <a:srgbClr val="00449e"/>
                </a:solidFill>
                <a:latin typeface="Constantia"/>
              </a:rPr>
              <a:t>Автора волнует (тревожит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Группа 6" descr=""/>
          <p:cNvPicPr/>
          <p:nvPr/>
        </p:nvPicPr>
        <p:blipFill>
          <a:blip r:embed="rId1"/>
          <a:stretch/>
        </p:blipFill>
        <p:spPr>
          <a:xfrm>
            <a:off x="304920" y="2114640"/>
            <a:ext cx="8607240" cy="4322520"/>
          </a:xfrm>
          <a:prstGeom prst="rect">
            <a:avLst/>
          </a:prstGeom>
          <a:ln w="0">
            <a:noFill/>
          </a:ln>
        </p:spPr>
      </p:pic>
      <p:pic>
        <p:nvPicPr>
          <p:cNvPr id="251" name="Схема 5" descr=""/>
          <p:cNvPicPr/>
          <p:nvPr/>
        </p:nvPicPr>
        <p:blipFill>
          <a:blip r:embed="rId2"/>
          <a:stretch/>
        </p:blipFill>
        <p:spPr>
          <a:xfrm>
            <a:off x="785880" y="2822400"/>
            <a:ext cx="7711920" cy="3505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357120" y="42876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nstantia"/>
              </a:rPr>
              <a:t>Обратите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Схема 3" descr=""/>
          <p:cNvPicPr/>
          <p:nvPr/>
        </p:nvPicPr>
        <p:blipFill>
          <a:blip r:embed="rId1"/>
          <a:stretch/>
        </p:blipFill>
        <p:spPr>
          <a:xfrm>
            <a:off x="103320" y="1779480"/>
            <a:ext cx="8059680" cy="4797360"/>
          </a:xfrm>
          <a:prstGeom prst="rect">
            <a:avLst/>
          </a:prstGeom>
          <a:ln w="0">
            <a:noFill/>
          </a:ln>
        </p:spPr>
      </p:pic>
      <p:sp>
        <p:nvSpPr>
          <p:cNvPr id="254" name="Управляющая кнопка: домой 5"/>
          <p:cNvSpPr/>
          <p:nvPr/>
        </p:nvSpPr>
        <p:spPr>
          <a:xfrm>
            <a:off x="8215200" y="5929200"/>
            <a:ext cx="928800" cy="92880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349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932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animClr clrSpc="rgb">
                                      <p:cBhvr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40059"/>
                                      </p:to>
                                    </p:animClr>
                                    <p:set>
                                      <p:cBhvr>
                                        <p:cTn id="181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1"/>
          <p:cNvSpPr/>
          <p:nvPr/>
        </p:nvSpPr>
        <p:spPr>
          <a:xfrm>
            <a:off x="500040" y="42876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Что такое позиция авто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714240" y="2214720"/>
            <a:ext cx="7000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Позиция автора – это вывод, к которому приходит автор, рассуждая по поводу той или иной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285840" y="4572000"/>
            <a:ext cx="871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onstantia"/>
              </a:rPr>
              <a:t>ПРОБЛЕМА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 = ВОПРОС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Constantia"/>
              </a:rPr>
              <a:t>ПОЗИЦИЯ АВТОРА </a:t>
            </a:r>
            <a:r>
              <a:rPr b="1" i="1" lang="ru-RU" sz="2800" spc="-1" strike="noStrike">
                <a:solidFill>
                  <a:srgbClr val="ff0000"/>
                </a:solidFill>
                <a:latin typeface="Constantia"/>
              </a:rPr>
              <a:t>= ОТВЕТ НА  ЭТОТ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214200" y="42876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Как выявить позицию авто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Схема 2" descr=""/>
          <p:cNvPicPr/>
          <p:nvPr/>
        </p:nvPicPr>
        <p:blipFill>
          <a:blip r:embed="rId1"/>
          <a:stretch/>
        </p:blipFill>
        <p:spPr>
          <a:xfrm>
            <a:off x="695160" y="2682720"/>
            <a:ext cx="7467840" cy="40528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500040" y="20001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Constantia"/>
              </a:rPr>
              <a:t>Авторская позиция проявляетс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1"/>
          <p:cNvSpPr/>
          <p:nvPr/>
        </p:nvSpPr>
        <p:spPr>
          <a:xfrm>
            <a:off x="214200" y="6429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nstantia"/>
              </a:rPr>
              <a:t>Языковые средства, выражающие авторскую позиц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Group 22" descr=""/>
          <p:cNvPicPr/>
          <p:nvPr/>
        </p:nvPicPr>
        <p:blipFill>
          <a:blip r:embed="rId1"/>
          <a:stretch/>
        </p:blipFill>
        <p:spPr>
          <a:xfrm>
            <a:off x="128520" y="1974960"/>
            <a:ext cx="3243240" cy="43466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3" descr=""/>
          <p:cNvPicPr/>
          <p:nvPr/>
        </p:nvPicPr>
        <p:blipFill>
          <a:blip r:embed="rId2"/>
          <a:stretch/>
        </p:blipFill>
        <p:spPr>
          <a:xfrm>
            <a:off x="3048120" y="1974960"/>
            <a:ext cx="3181320" cy="43466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4" descr=""/>
          <p:cNvPicPr/>
          <p:nvPr/>
        </p:nvPicPr>
        <p:blipFill>
          <a:blip r:embed="rId3"/>
          <a:stretch/>
        </p:blipFill>
        <p:spPr>
          <a:xfrm>
            <a:off x="5857920" y="1974960"/>
            <a:ext cx="3084480" cy="434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214200" y="3571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Как сформулировать позицию автор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642960" y="1903320"/>
            <a:ext cx="778680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e003f"/>
                </a:solidFill>
                <a:uFillTx/>
                <a:latin typeface="Constantia"/>
              </a:rPr>
              <a:t>Постарайтесь ответить на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Что хотел сказать своим читателям автор, создавая тек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Как автор оценивает описываемую конкретную ситуацию, поступки герое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Какие слова, художественные приёмы, которые выражают авторское отношение, дают оценку описываемым факт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4"/>
          <p:cNvSpPr/>
          <p:nvPr/>
        </p:nvSpPr>
        <p:spPr>
          <a:xfrm>
            <a:off x="1000080" y="2214720"/>
            <a:ext cx="750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Группа 6" descr=""/>
          <p:cNvPicPr/>
          <p:nvPr/>
        </p:nvPicPr>
        <p:blipFill>
          <a:blip r:embed="rId1"/>
          <a:stretch/>
        </p:blipFill>
        <p:spPr>
          <a:xfrm>
            <a:off x="195120" y="1981080"/>
            <a:ext cx="8680680" cy="47545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428760" y="4000680"/>
            <a:ext cx="8358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99ff"/>
                </a:solidFill>
                <a:latin typeface="Constantia"/>
              </a:rPr>
              <a:t>Позиция автора таков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99ff"/>
                </a:solidFill>
                <a:latin typeface="Constantia"/>
              </a:rPr>
              <a:t>Автор считает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99ff"/>
                </a:solidFill>
                <a:latin typeface="Constantia"/>
              </a:rPr>
              <a:t>Автор стремится донести до читателя мысль о том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99ff"/>
                </a:solidFill>
                <a:latin typeface="Constantia"/>
              </a:rPr>
              <a:t>Автор убеждает нас в том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99ff"/>
                </a:solidFill>
                <a:latin typeface="Constantia"/>
              </a:rPr>
              <a:t>В тексте доказывается мысль о том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99ff"/>
                </a:solidFill>
                <a:latin typeface="Constantia"/>
              </a:rPr>
              <a:t>Основная мысль текста заключается в том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Управляющая кнопка: домой 10"/>
          <p:cNvSpPr/>
          <p:nvPr/>
        </p:nvSpPr>
        <p:spPr>
          <a:xfrm>
            <a:off x="8358120" y="6000840"/>
            <a:ext cx="785880" cy="857160"/>
          </a:xfrm>
          <a:custGeom>
            <a:avLst/>
            <a:gdLst>
              <a:gd name="textAreaLeft" fmla="*/ 50760 w 785880"/>
              <a:gd name="textAreaRight" fmla="*/ 735120 w 785880"/>
              <a:gd name="textAreaTop" fmla="*/ 50760 h 857160"/>
              <a:gd name="textAreaBottom" fmla="*/ 806400 h 857160"/>
            </a:gdLst>
            <a:ahLst/>
            <a:rect l="textAreaLeft" t="textAreaTop" r="textAreaRight" b="textAreaBottom"/>
            <a:pathLst>
              <a:path w="21600" h="23558">
                <a:moveTo>
                  <a:pt x="0" y="0"/>
                </a:moveTo>
                <a:lnTo>
                  <a:pt x="21600" y="0"/>
                </a:lnTo>
                <a:lnTo>
                  <a:pt x="21600" y="23558"/>
                </a:lnTo>
                <a:lnTo>
                  <a:pt x="0" y="23558"/>
                </a:lnTo>
                <a:close/>
              </a:path>
              <a:path fill="lightenLess" w="21600" h="235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58">
                <a:moveTo>
                  <a:pt x="21600" y="0"/>
                </a:moveTo>
                <a:lnTo>
                  <a:pt x="21600" y="23558"/>
                </a:lnTo>
                <a:lnTo>
                  <a:pt x="20200" y="22158"/>
                </a:lnTo>
                <a:lnTo>
                  <a:pt x="20200" y="1400"/>
                </a:lnTo>
                <a:close/>
              </a:path>
              <a:path fill="darkenLess" w="21600" h="23558">
                <a:moveTo>
                  <a:pt x="21600" y="23558"/>
                </a:moveTo>
                <a:lnTo>
                  <a:pt x="0" y="23558"/>
                </a:lnTo>
                <a:lnTo>
                  <a:pt x="1400" y="22158"/>
                </a:lnTo>
                <a:lnTo>
                  <a:pt x="20200" y="22158"/>
                </a:lnTo>
                <a:close/>
              </a:path>
              <a:path fill="lighten" w="21600" h="23558">
                <a:moveTo>
                  <a:pt x="0" y="235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58"/>
                </a:lnTo>
                <a:close/>
              </a:path>
              <a:path fill="darken" w="21600" h="23558">
                <a:moveTo>
                  <a:pt x="10800" y="4816"/>
                </a:moveTo>
                <a:lnTo>
                  <a:pt x="13376" y="7427"/>
                </a:lnTo>
                <a:lnTo>
                  <a:pt x="13376" y="5687"/>
                </a:lnTo>
                <a:lnTo>
                  <a:pt x="15152" y="5687"/>
                </a:lnTo>
                <a:lnTo>
                  <a:pt x="15152" y="9203"/>
                </a:lnTo>
                <a:lnTo>
                  <a:pt x="17763" y="11779"/>
                </a:lnTo>
                <a:lnTo>
                  <a:pt x="16109" y="11779"/>
                </a:lnTo>
                <a:lnTo>
                  <a:pt x="16109" y="18968"/>
                </a:lnTo>
                <a:lnTo>
                  <a:pt x="5491" y="18968"/>
                </a:lnTo>
                <a:lnTo>
                  <a:pt x="5491" y="11779"/>
                </a:lnTo>
                <a:lnTo>
                  <a:pt x="3837" y="11779"/>
                </a:lnTo>
                <a:close/>
              </a:path>
              <a:path fill="darkenLess" w="21600" h="23558">
                <a:moveTo>
                  <a:pt x="13376" y="7427"/>
                </a:moveTo>
                <a:lnTo>
                  <a:pt x="13376" y="5687"/>
                </a:lnTo>
                <a:lnTo>
                  <a:pt x="15152" y="5687"/>
                </a:lnTo>
                <a:lnTo>
                  <a:pt x="15152" y="9203"/>
                </a:lnTo>
                <a:close/>
              </a:path>
              <a:path fill="darkenLess" w="21600" h="23558">
                <a:moveTo>
                  <a:pt x="9877" y="15278"/>
                </a:moveTo>
                <a:lnTo>
                  <a:pt x="11723" y="15278"/>
                </a:lnTo>
                <a:lnTo>
                  <a:pt x="11723" y="18968"/>
                </a:lnTo>
                <a:lnTo>
                  <a:pt x="16109" y="18968"/>
                </a:lnTo>
                <a:lnTo>
                  <a:pt x="16109" y="11779"/>
                </a:lnTo>
                <a:lnTo>
                  <a:pt x="5491" y="11779"/>
                </a:lnTo>
                <a:lnTo>
                  <a:pt x="5491" y="18968"/>
                </a:lnTo>
                <a:lnTo>
                  <a:pt x="9877" y="18968"/>
                </a:lnTo>
                <a:close/>
              </a:path>
            </a:pathLst>
          </a:custGeom>
          <a:solidFill>
            <a:srgbClr val="00349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932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56800" y="1500120"/>
            <a:ext cx="765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1" action="ppaction://hlinksldjump"/>
              </a:rPr>
              <a:t>Задание части 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2" action="ppaction://hlinksldjump"/>
              </a:rPr>
              <a:t>Формулируем проблему текст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1a4f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3" action="ppaction://hlinksldjump"/>
              </a:rPr>
              <a:t>Учимся комментиров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1a4f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4" action="ppaction://hlinksldjump"/>
              </a:rPr>
              <a:t>Позиция авто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5" action="ppaction://hlinksldjump"/>
              </a:rPr>
              <a:t> Своя позиция и аргумент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1a4f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6" action="ppaction://hlinksldjump"/>
              </a:rPr>
              <a:t>Композиция сочине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1a4f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7" action="ppaction://hlinksldjump"/>
              </a:rPr>
              <a:t>Поговорим об ошибка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72002c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1a4f"/>
                </a:solidFill>
                <a:latin typeface="Constantia"/>
              </a:rPr>
              <a:t> </a:t>
            </a:r>
            <a:r>
              <a:rPr b="0" lang="ru-RU" sz="2600" spc="-1" strike="noStrike" u="sng">
                <a:solidFill>
                  <a:srgbClr val="17bbfd"/>
                </a:solidFill>
                <a:uFillTx/>
                <a:latin typeface="Constantia"/>
                <a:hlinkClick r:id="rId8" action="ppaction://hlinksldjump"/>
              </a:rPr>
              <a:t>Обобщ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Прямоугольник 3" descr=""/>
          <p:cNvPicPr/>
          <p:nvPr/>
        </p:nvPicPr>
        <p:blipFill>
          <a:blip r:embed="rId9"/>
          <a:stretch/>
        </p:blipFill>
        <p:spPr>
          <a:xfrm>
            <a:off x="1914480" y="231840"/>
            <a:ext cx="6004080" cy="115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14200" y="35712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Структура второй части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Схема 2" descr=""/>
          <p:cNvPicPr/>
          <p:nvPr/>
        </p:nvPicPr>
        <p:blipFill>
          <a:blip r:embed="rId1"/>
          <a:stretch/>
        </p:blipFill>
        <p:spPr>
          <a:xfrm>
            <a:off x="493560" y="2109960"/>
            <a:ext cx="8229600" cy="4614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214200" y="5000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Тези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642960" y="164304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сочинении ЕГЭ тезис – это позиция автора текста, которую вы стараетесь обосновать, доказать или опровергну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642960" y="300024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Тезис подчиняется следующим правил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785880" y="3500280"/>
            <a:ext cx="68580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Формулируется чётко и недвусмысл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е изменяется в течение всего обос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Его истинность должна быть доказана неопровержи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Доказательства не могут исходить из те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1"/>
          <p:cNvSpPr/>
          <p:nvPr/>
        </p:nvSpPr>
        <p:spPr>
          <a:xfrm>
            <a:off x="214200" y="35712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Constantia"/>
              </a:rPr>
              <a:t>Конструкции для выражения своей пози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Схема 4" descr=""/>
          <p:cNvPicPr/>
          <p:nvPr/>
        </p:nvPicPr>
        <p:blipFill>
          <a:blip r:embed="rId1"/>
          <a:stretch/>
        </p:blipFill>
        <p:spPr>
          <a:xfrm>
            <a:off x="66600" y="1962000"/>
            <a:ext cx="8742600" cy="4640400"/>
          </a:xfrm>
          <a:prstGeom prst="rect">
            <a:avLst/>
          </a:prstGeom>
          <a:ln w="0">
            <a:noFill/>
          </a:ln>
        </p:spPr>
      </p:pic>
      <p:sp>
        <p:nvSpPr>
          <p:cNvPr id="279" name="Скругленный прямоугольник 3"/>
          <p:cNvSpPr/>
          <p:nvPr/>
        </p:nvSpPr>
        <p:spPr>
          <a:xfrm>
            <a:off x="3286080" y="5072040"/>
            <a:ext cx="5572080" cy="1357200"/>
          </a:xfrm>
          <a:prstGeom prst="roundRect">
            <a:avLst>
              <a:gd name="adj" fmla="val 16667"/>
            </a:avLst>
          </a:prstGeom>
          <a:solidFill>
            <a:srgbClr val="002e69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большинстве текстов утверждаются очевидные истины, которые вряд ли целесообразно оспаривать. НЕ СТОИТ СТРЕМИТЬСЯ К «СПОРУ РАДИ СП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Скругленный прямоугольник 5"/>
          <p:cNvSpPr/>
          <p:nvPr/>
        </p:nvSpPr>
        <p:spPr>
          <a:xfrm>
            <a:off x="3286080" y="5072040"/>
            <a:ext cx="5572080" cy="1428840"/>
          </a:xfrm>
          <a:prstGeom prst="roundRect">
            <a:avLst>
              <a:gd name="adj" fmla="val 16667"/>
            </a:avLst>
          </a:prstGeom>
          <a:solidFill>
            <a:srgbClr val="002e69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nstantia"/>
              </a:rPr>
              <a:t>Спор с автором требует от пишущего подчёркнутой корректности, вежл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1"/>
          <p:cNvSpPr/>
          <p:nvPr/>
        </p:nvSpPr>
        <p:spPr>
          <a:xfrm>
            <a:off x="214200" y="5000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Что такое аргументация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500040" y="1428840"/>
            <a:ext cx="814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Аргументация – это приведение доказательств, объяснений, примеров для обоснования какой-либо мысли перед слушателями (читателями) или собесед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428760" y="314316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4003f"/>
                </a:solidFill>
                <a:latin typeface="Constantia"/>
              </a:rPr>
              <a:t>Аргументация – это доказательства, приводимые в поддержку тез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357120" y="4286160"/>
            <a:ext cx="87868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6"/>
                </a:solidFill>
                <a:latin typeface="Constantia"/>
              </a:rPr>
              <a:t>От тезиса к аргументам можно поставить вопрос: «Почему?», а аргументы отвечают: «Потому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b0043"/>
                </a:solidFill>
                <a:uFillTx/>
                <a:latin typeface="Constantia"/>
              </a:rPr>
              <a:t>Аргументы надо приводить в системе </a:t>
            </a:r>
            <a:r>
              <a:rPr b="1" lang="ru-RU" sz="2400" spc="-1" strike="noStrike">
                <a:solidFill>
                  <a:srgbClr val="262626"/>
                </a:solidFill>
                <a:latin typeface="Constantia"/>
              </a:rPr>
              <a:t>(</a:t>
            </a:r>
            <a:r>
              <a:rPr b="1" lang="ru-RU" sz="2000" spc="-1" strike="noStrike">
                <a:solidFill>
                  <a:srgbClr val="262626"/>
                </a:solidFill>
                <a:latin typeface="Constantia"/>
              </a:rPr>
              <a:t>Рекомендуют располагать аргументы таким образом, чтобы их доказательная сила возрастала</a:t>
            </a:r>
            <a:r>
              <a:rPr b="1" lang="ru-RU" sz="2400" spc="-1" strike="noStrike">
                <a:solidFill>
                  <a:srgbClr val="262626"/>
                </a:solidFill>
                <a:latin typeface="Constantia"/>
              </a:rPr>
              <a:t>)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 u="sng">
                <a:solidFill>
                  <a:srgbClr val="ab0043"/>
                </a:solidFill>
                <a:uFillTx/>
                <a:latin typeface="Constantia"/>
              </a:rPr>
              <a:t>Последний аргумент фиксируется в памяти лучш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Прямоугольник 1"/>
          <p:cNvSpPr/>
          <p:nvPr/>
        </p:nvSpPr>
        <p:spPr>
          <a:xfrm>
            <a:off x="214200" y="5000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Типы аргуме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"/>
          <p:cNvSpPr/>
          <p:nvPr/>
        </p:nvSpPr>
        <p:spPr>
          <a:xfrm>
            <a:off x="428760" y="150012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Чаще всего используются следующие аргум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Факты и со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    </a:t>
            </a: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Ссылки на авторитетных людей, цитаты из    их трудов и произвед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     </a:t>
            </a: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Пословицы и п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    </a:t>
            </a: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Примеры из личной жизни и жизни окружающ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     </a:t>
            </a: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Примеры из художественн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Прямоугольник 1"/>
          <p:cNvSpPr/>
          <p:nvPr/>
        </p:nvSpPr>
        <p:spPr>
          <a:xfrm>
            <a:off x="214200" y="5000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Типы аргумен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3"/>
          <p:cNvSpPr/>
          <p:nvPr/>
        </p:nvSpPr>
        <p:spPr>
          <a:xfrm>
            <a:off x="428760" y="1428840"/>
            <a:ext cx="8143920" cy="4429080"/>
          </a:xfrm>
          <a:prstGeom prst="rect">
            <a:avLst/>
          </a:prstGeom>
          <a:solidFill>
            <a:srgbClr val="75005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c71ff"/>
                </a:solidFill>
                <a:latin typeface="Constantia"/>
              </a:rPr>
              <a:t>По характеру связи с тезисом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различают аргументы </a:t>
            </a: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ЗА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(свой тезис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аргументы </a:t>
            </a:r>
            <a:r>
              <a:rPr b="1" lang="ru-RU" sz="2400" spc="-1" strike="noStrike">
                <a:solidFill>
                  <a:srgbClr val="0d0d0d"/>
                </a:solidFill>
                <a:latin typeface="Constantia"/>
              </a:rPr>
              <a:t>ПРОТИВ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(чужого тез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Группа 10" descr=""/>
          <p:cNvPicPr/>
          <p:nvPr/>
        </p:nvPicPr>
        <p:blipFill>
          <a:blip r:embed="rId1"/>
          <a:stretch/>
        </p:blipFill>
        <p:spPr>
          <a:xfrm>
            <a:off x="554040" y="2554200"/>
            <a:ext cx="31100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290" name="Группа 12"/>
          <p:cNvGrpSpPr/>
          <p:nvPr/>
        </p:nvGrpSpPr>
        <p:grpSpPr>
          <a:xfrm>
            <a:off x="5214960" y="2500200"/>
            <a:ext cx="2928960" cy="3431520"/>
            <a:chOff x="5214960" y="2500200"/>
            <a:chExt cx="2928960" cy="3431520"/>
          </a:xfrm>
        </p:grpSpPr>
        <p:sp>
          <p:nvSpPr>
            <p:cNvPr id="291" name="Выноска со стрелкой вверх 5"/>
            <p:cNvSpPr/>
            <p:nvPr/>
          </p:nvSpPr>
          <p:spPr>
            <a:xfrm>
              <a:off x="5214960" y="2500200"/>
              <a:ext cx="2857680" cy="3214800"/>
            </a:xfrm>
            <a:prstGeom prst="upArrowCallout">
              <a:avLst>
                <a:gd name="adj1" fmla="val 25002"/>
                <a:gd name="adj2" fmla="val 25000"/>
                <a:gd name="adj3" fmla="val 24999"/>
                <a:gd name="adj4" fmla="val 70041"/>
              </a:avLst>
            </a:prstGeom>
            <a:solidFill>
              <a:srgbClr val="ffc000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7"/>
            <p:cNvSpPr/>
            <p:nvPr/>
          </p:nvSpPr>
          <p:spPr>
            <a:xfrm>
              <a:off x="6143760" y="285732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проти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Box 11"/>
            <p:cNvSpPr/>
            <p:nvPr/>
          </p:nvSpPr>
          <p:spPr>
            <a:xfrm>
              <a:off x="5286240" y="3643200"/>
              <a:ext cx="28576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nstantia"/>
                </a:rPr>
                <a:t>Должны убедить в том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что доводы, приводимые в поддержку критикуемого вами тезиса, слабые, не выдерживают критик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Прямоугольник 13"/>
          <p:cNvSpPr/>
          <p:nvPr/>
        </p:nvSpPr>
        <p:spPr>
          <a:xfrm>
            <a:off x="428760" y="1428840"/>
            <a:ext cx="8143920" cy="4429080"/>
          </a:xfrm>
          <a:prstGeom prst="rect">
            <a:avLst/>
          </a:prstGeom>
          <a:solidFill>
            <a:srgbClr val="68007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c71ff"/>
                </a:solidFill>
                <a:latin typeface="Constantia"/>
              </a:rPr>
              <a:t>С точки зрения содержания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принято различать арг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Блок-схема: решение 15"/>
          <p:cNvSpPr/>
          <p:nvPr/>
        </p:nvSpPr>
        <p:spPr>
          <a:xfrm>
            <a:off x="4071960" y="2928960"/>
            <a:ext cx="4929120" cy="2428920"/>
          </a:xfrm>
          <a:prstGeom prst="flowChartDecision">
            <a:avLst/>
          </a:prstGeom>
          <a:solidFill>
            <a:srgbClr val="00b050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кус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Блок-схема: решение 14"/>
          <p:cNvSpPr/>
          <p:nvPr/>
        </p:nvSpPr>
        <p:spPr>
          <a:xfrm>
            <a:off x="142920" y="2928960"/>
            <a:ext cx="4714920" cy="2428920"/>
          </a:xfrm>
          <a:prstGeom prst="flowChartDecision">
            <a:avLst/>
          </a:prstGeom>
          <a:solidFill>
            <a:srgbClr val="00449e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есте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Управляющая кнопка: домой 17"/>
          <p:cNvSpPr/>
          <p:nvPr/>
        </p:nvSpPr>
        <p:spPr>
          <a:xfrm>
            <a:off x="8143920" y="6000840"/>
            <a:ext cx="1000080" cy="857160"/>
          </a:xfrm>
          <a:custGeom>
            <a:avLst/>
            <a:gdLst>
              <a:gd name="textAreaLeft" fmla="*/ 55440 w 1000080"/>
              <a:gd name="textAreaRight" fmla="*/ 944640 w 100008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5200" h="21600">
                <a:moveTo>
                  <a:pt x="0" y="0"/>
                </a:moveTo>
                <a:lnTo>
                  <a:pt x="25200" y="0"/>
                </a:lnTo>
                <a:lnTo>
                  <a:pt x="25200" y="21600"/>
                </a:lnTo>
                <a:lnTo>
                  <a:pt x="0" y="21600"/>
                </a:lnTo>
                <a:close/>
              </a:path>
              <a:path fill="lightenLess" w="25200" h="21600">
                <a:moveTo>
                  <a:pt x="0" y="0"/>
                </a:moveTo>
                <a:lnTo>
                  <a:pt x="25200" y="0"/>
                </a:lnTo>
                <a:lnTo>
                  <a:pt x="23800" y="1400"/>
                </a:lnTo>
                <a:lnTo>
                  <a:pt x="1400" y="1400"/>
                </a:lnTo>
                <a:close/>
              </a:path>
              <a:path fill="darken" w="25200" h="21600">
                <a:moveTo>
                  <a:pt x="25200" y="0"/>
                </a:moveTo>
                <a:lnTo>
                  <a:pt x="25200" y="21600"/>
                </a:lnTo>
                <a:lnTo>
                  <a:pt x="23800" y="20200"/>
                </a:lnTo>
                <a:lnTo>
                  <a:pt x="23800" y="1400"/>
                </a:lnTo>
                <a:close/>
              </a:path>
              <a:path fill="darkenLess" w="25200" h="21600">
                <a:moveTo>
                  <a:pt x="2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0" y="20200"/>
                </a:lnTo>
                <a:close/>
              </a:path>
              <a:path fill="lighten" w="2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0" h="21600">
                <a:moveTo>
                  <a:pt x="12600" y="3837"/>
                </a:moveTo>
                <a:lnTo>
                  <a:pt x="15176" y="6448"/>
                </a:lnTo>
                <a:lnTo>
                  <a:pt x="15176" y="4707"/>
                </a:lnTo>
                <a:lnTo>
                  <a:pt x="16952" y="4707"/>
                </a:lnTo>
                <a:lnTo>
                  <a:pt x="16952" y="8224"/>
                </a:lnTo>
                <a:lnTo>
                  <a:pt x="19563" y="10800"/>
                </a:lnTo>
                <a:lnTo>
                  <a:pt x="17909" y="10800"/>
                </a:lnTo>
                <a:lnTo>
                  <a:pt x="17909" y="17989"/>
                </a:lnTo>
                <a:lnTo>
                  <a:pt x="7291" y="17989"/>
                </a:lnTo>
                <a:lnTo>
                  <a:pt x="7291" y="10800"/>
                </a:lnTo>
                <a:lnTo>
                  <a:pt x="5637" y="10800"/>
                </a:lnTo>
                <a:close/>
              </a:path>
              <a:path fill="darkenLess" w="25200" h="21600">
                <a:moveTo>
                  <a:pt x="15176" y="6448"/>
                </a:moveTo>
                <a:lnTo>
                  <a:pt x="15176" y="4707"/>
                </a:lnTo>
                <a:lnTo>
                  <a:pt x="16952" y="4707"/>
                </a:lnTo>
                <a:lnTo>
                  <a:pt x="16952" y="8224"/>
                </a:lnTo>
                <a:close/>
              </a:path>
              <a:path fill="darkenLess" w="25200" h="21600">
                <a:moveTo>
                  <a:pt x="11677" y="14299"/>
                </a:moveTo>
                <a:lnTo>
                  <a:pt x="13523" y="14299"/>
                </a:lnTo>
                <a:lnTo>
                  <a:pt x="13523" y="17989"/>
                </a:lnTo>
                <a:lnTo>
                  <a:pt x="17909" y="17989"/>
                </a:lnTo>
                <a:lnTo>
                  <a:pt x="17909" y="10800"/>
                </a:lnTo>
                <a:lnTo>
                  <a:pt x="7291" y="10800"/>
                </a:lnTo>
                <a:lnTo>
                  <a:pt x="7291" y="17989"/>
                </a:lnTo>
                <a:lnTo>
                  <a:pt x="11677" y="17989"/>
                </a:lnTo>
                <a:close/>
              </a:path>
            </a:pathLst>
          </a:custGeom>
          <a:solidFill>
            <a:srgbClr val="00349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932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2"/>
          <p:cNvSpPr/>
          <p:nvPr/>
        </p:nvSpPr>
        <p:spPr>
          <a:xfrm>
            <a:off x="214200" y="2858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Естественные аргумен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571680" y="20001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Естественные аргументы – это показания свидетелей, документы, то есть всё то, что удостоверено людьми благодаря тому, что они видели или слышали. Существуют в «готовом вид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Схема 5" descr=""/>
          <p:cNvPicPr/>
          <p:nvPr/>
        </p:nvPicPr>
        <p:blipFill>
          <a:blip r:embed="rId1"/>
          <a:stretch/>
        </p:blipFill>
        <p:spPr>
          <a:xfrm>
            <a:off x="633240" y="2036880"/>
            <a:ext cx="7589880" cy="4572000"/>
          </a:xfrm>
          <a:prstGeom prst="rect">
            <a:avLst/>
          </a:prstGeom>
          <a:ln w="0">
            <a:noFill/>
          </a:ln>
        </p:spPr>
      </p:pic>
      <p:sp>
        <p:nvSpPr>
          <p:cNvPr id="301" name="Управляющая кнопка: возврат 6"/>
          <p:cNvSpPr/>
          <p:nvPr/>
        </p:nvSpPr>
        <p:spPr>
          <a:xfrm>
            <a:off x="8143920" y="62150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68007f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1e0027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8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8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2"/>
          <p:cNvSpPr/>
          <p:nvPr/>
        </p:nvSpPr>
        <p:spPr>
          <a:xfrm>
            <a:off x="214200" y="2858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Искусственные аргумен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3"/>
          <p:cNvSpPr/>
          <p:nvPr/>
        </p:nvSpPr>
        <p:spPr>
          <a:xfrm>
            <a:off x="1143000" y="2357280"/>
            <a:ext cx="692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Искусственные аргументы так или иначе связаны с необходимостью рассуждать. Мы создаём их сами, обращаясь к разуму или чувствам убежда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Схема 4" descr=""/>
          <p:cNvPicPr/>
          <p:nvPr/>
        </p:nvPicPr>
        <p:blipFill>
          <a:blip r:embed="rId1"/>
          <a:stretch/>
        </p:blipFill>
        <p:spPr>
          <a:xfrm>
            <a:off x="66600" y="1974960"/>
            <a:ext cx="8906040" cy="4687920"/>
          </a:xfrm>
          <a:prstGeom prst="rect">
            <a:avLst/>
          </a:prstGeom>
          <a:ln w="0">
            <a:noFill/>
          </a:ln>
        </p:spPr>
      </p:pic>
      <p:sp>
        <p:nvSpPr>
          <p:cNvPr id="305" name="Управляющая кнопка: возврат 6"/>
          <p:cNvSpPr/>
          <p:nvPr/>
        </p:nvSpPr>
        <p:spPr>
          <a:xfrm>
            <a:off x="8143920" y="6215040"/>
            <a:ext cx="1000080" cy="642960"/>
          </a:xfrm>
          <a:custGeom>
            <a:avLst/>
            <a:gdLst>
              <a:gd name="textAreaLeft" fmla="*/ 41400 w 1000080"/>
              <a:gd name="textAreaRight" fmla="*/ 958680 w 10000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3591" h="21600">
                <a:moveTo>
                  <a:pt x="0" y="0"/>
                </a:moveTo>
                <a:lnTo>
                  <a:pt x="33591" y="0"/>
                </a:lnTo>
                <a:lnTo>
                  <a:pt x="33591" y="21600"/>
                </a:lnTo>
                <a:lnTo>
                  <a:pt x="0" y="21600"/>
                </a:lnTo>
                <a:close/>
              </a:path>
              <a:path fill="lightenLess" w="33591" h="21600">
                <a:moveTo>
                  <a:pt x="0" y="0"/>
                </a:moveTo>
                <a:lnTo>
                  <a:pt x="33591" y="0"/>
                </a:lnTo>
                <a:lnTo>
                  <a:pt x="32191" y="1400"/>
                </a:lnTo>
                <a:lnTo>
                  <a:pt x="1400" y="1400"/>
                </a:lnTo>
                <a:close/>
              </a:path>
              <a:path fill="darken" w="33591" h="21600">
                <a:moveTo>
                  <a:pt x="33591" y="0"/>
                </a:moveTo>
                <a:lnTo>
                  <a:pt x="33591" y="21600"/>
                </a:lnTo>
                <a:lnTo>
                  <a:pt x="32191" y="20200"/>
                </a:lnTo>
                <a:lnTo>
                  <a:pt x="32191" y="1400"/>
                </a:lnTo>
                <a:close/>
              </a:path>
              <a:path fill="darkenLess" w="33591" h="21600">
                <a:moveTo>
                  <a:pt x="335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1" y="20200"/>
                </a:lnTo>
                <a:close/>
              </a:path>
              <a:path fill="lighten" w="335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1" h="21600">
                <a:moveTo>
                  <a:pt x="9789" y="7493"/>
                </a:moveTo>
                <a:lnTo>
                  <a:pt x="13296" y="7493"/>
                </a:lnTo>
                <a:lnTo>
                  <a:pt x="13296" y="12828"/>
                </a:lnTo>
                <a:cubicBezTo>
                  <a:pt x="13296" y="13751"/>
                  <a:pt x="14097" y="14482"/>
                  <a:pt x="15133" y="14482"/>
                </a:cubicBezTo>
                <a:lnTo>
                  <a:pt x="16795" y="14482"/>
                </a:lnTo>
                <a:cubicBezTo>
                  <a:pt x="17831" y="14482"/>
                  <a:pt x="18632" y="13751"/>
                  <a:pt x="18632" y="12828"/>
                </a:cubicBezTo>
                <a:lnTo>
                  <a:pt x="18632" y="7493"/>
                </a:lnTo>
                <a:lnTo>
                  <a:pt x="16795" y="7493"/>
                </a:lnTo>
                <a:lnTo>
                  <a:pt x="20303" y="3985"/>
                </a:lnTo>
                <a:lnTo>
                  <a:pt x="23976" y="7493"/>
                </a:lnTo>
                <a:lnTo>
                  <a:pt x="22139" y="7493"/>
                </a:lnTo>
                <a:lnTo>
                  <a:pt x="22139" y="12828"/>
                </a:lnTo>
                <a:cubicBezTo>
                  <a:pt x="22139" y="15596"/>
                  <a:pt x="19563" y="18155"/>
                  <a:pt x="16795" y="18155"/>
                </a:cubicBezTo>
                <a:lnTo>
                  <a:pt x="15133" y="18155"/>
                </a:lnTo>
                <a:cubicBezTo>
                  <a:pt x="12365" y="18155"/>
                  <a:pt x="9789" y="15596"/>
                  <a:pt x="9789" y="12828"/>
                </a:cubicBezTo>
                <a:close/>
              </a:path>
            </a:pathLst>
          </a:custGeom>
          <a:solidFill>
            <a:srgbClr val="68007f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1e0027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8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1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6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1"/>
          <p:cNvSpPr/>
          <p:nvPr/>
        </p:nvSpPr>
        <p:spPr>
          <a:xfrm>
            <a:off x="214200" y="285840"/>
            <a:ext cx="864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Композиция сочине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Схема 3" descr=""/>
          <p:cNvPicPr/>
          <p:nvPr/>
        </p:nvPicPr>
        <p:blipFill>
          <a:blip r:embed="rId1"/>
          <a:stretch/>
        </p:blipFill>
        <p:spPr>
          <a:xfrm>
            <a:off x="609480" y="1359000"/>
            <a:ext cx="8315280" cy="5322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1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214200" y="21420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С чего нача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2"/>
          <p:cNvSpPr/>
          <p:nvPr/>
        </p:nvSpPr>
        <p:spPr>
          <a:xfrm>
            <a:off x="714240" y="1143000"/>
            <a:ext cx="75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Начало сочинения – это  визитная карточка автора сочинения. По первым фразам можно сделать определённые выводы о богатстве словарного запаса пишущего, о его умении мыслить и строить тек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3"/>
          <p:cNvSpPr/>
          <p:nvPr/>
        </p:nvSpPr>
        <p:spPr>
          <a:xfrm>
            <a:off x="428760" y="2887560"/>
            <a:ext cx="82864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ЗА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776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Не должен быть очень больш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776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Должен быть органично связан с основным текстом сочинения не только по содержанию, но и по эмоциональному настрою, использованию средств выразитель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776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776"/>
                </a:solidFill>
                <a:latin typeface="Constantia"/>
              </a:rPr>
              <a:t>Основная цель вступления – подвести к формулировк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8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785880" y="1571400"/>
            <a:ext cx="79293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пишите сочинение по прочитанному текст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формулируйте и прокомментируйте одну из проблем, поставленных автором текста (избегайте чрезмерного цитирования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формулируйте позицию автора. Напишите, согласны или не согласны вы с точкой зрения автора прочитанного текста. Объясните почему. Свой ответ аргументируйте, опираясь на знания, жизненный или читательский опыт (учитываются первые два аргумента).           Объём сочинения не менее 150 сл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Прямоугольник 3" descr=""/>
          <p:cNvPicPr/>
          <p:nvPr/>
        </p:nvPicPr>
        <p:blipFill>
          <a:blip r:embed="rId1"/>
          <a:stretch/>
        </p:blipFill>
        <p:spPr>
          <a:xfrm>
            <a:off x="1670040" y="231840"/>
            <a:ext cx="6394320" cy="1152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1"/>
          <p:cNvSpPr/>
          <p:nvPr/>
        </p:nvSpPr>
        <p:spPr>
          <a:xfrm>
            <a:off x="214200" y="28584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Чем закончить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Управляющая кнопка: домой 4"/>
          <p:cNvSpPr/>
          <p:nvPr/>
        </p:nvSpPr>
        <p:spPr>
          <a:xfrm>
            <a:off x="8215200" y="5929200"/>
            <a:ext cx="928800" cy="928800"/>
          </a:xfrm>
          <a:custGeom>
            <a:avLst/>
            <a:gdLst>
              <a:gd name="textAreaLeft" fmla="*/ 60120 w 928800"/>
              <a:gd name="textAreaRight" fmla="*/ 868680 w 928800"/>
              <a:gd name="textAreaTop" fmla="*/ 60120 h 928800"/>
              <a:gd name="textAreaBottom" fmla="*/ 86868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349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932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714240" y="1357200"/>
            <a:ext cx="785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Основное требование к заключению: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заключение должно быть таким, чтобы читатель понял, что самое главное уже сказано и говорить больше не о чем.</a:t>
            </a:r>
            <a:r>
              <a:rPr b="1" i="1" lang="ru-RU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642960" y="3071880"/>
            <a:ext cx="70722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Constantia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Должно быть коротким и ём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Должно быть логически связано с основной част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onstantia"/>
              </a:rPr>
              <a:t>Как и вступление, должно быть выдержано в той же эмоциональной тональности, что и основная ча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-225360"/>
            <a:ext cx="8515080" cy="22255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2"/>
          <p:cNvSpPr/>
          <p:nvPr/>
        </p:nvSpPr>
        <p:spPr>
          <a:xfrm>
            <a:off x="0" y="1928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776"/>
                </a:solidFill>
                <a:uFillTx/>
                <a:latin typeface="Constantia"/>
              </a:rPr>
              <a:t>ОСНОВНЫЕ ЭТАПЫ РАБОТЫ НАД СО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142920" y="2428920"/>
            <a:ext cx="900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ab0043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Внимательно прочитайте текст 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(обратить внимание на ключевые фразы и оценочные слова, чтобы выделить проблему и позицию авт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b0043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Сформулируйте проблему и позицию автор</a:t>
            </a:r>
            <a:r>
              <a:rPr b="1" i="1" lang="ru-RU" sz="2800" spc="-1" strike="noStrike">
                <a:solidFill>
                  <a:srgbClr val="34003f"/>
                </a:solidFill>
                <a:latin typeface="Constantia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b0043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Продумайте комментарий 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( следите, чтобы он логично связал формулировку проблемы и позицию автора. Подберите цитаты из текста, которые помогут подтвердить правильность вашего понимания авторского тек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ab0043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Определите своё отношение к позиции автора 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(согласие/несогласие). </a:t>
            </a: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Подберите аргументы 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(они должны подтверждать или опровергать мнение автор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-225360"/>
            <a:ext cx="8515080" cy="22255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2"/>
          <p:cNvSpPr/>
          <p:nvPr/>
        </p:nvSpPr>
        <p:spPr>
          <a:xfrm>
            <a:off x="0" y="1928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2776"/>
                </a:solidFill>
                <a:uFillTx/>
                <a:latin typeface="Constantia"/>
              </a:rPr>
              <a:t>ОСНОВНЫЕ ЭТАПЫ РАБОТЫ НАД СОЧИН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42920" y="2571840"/>
            <a:ext cx="900108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5. Продумайте композицию сочинения 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(определите, какой тип зачина и заключения будет использов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6. Работая над черновиком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, продумайте логические связки между частями. Проверьте, насколько логика вашего сочинения соотносится с рассуждениями автора. Проверьте правильность деления на абза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7. Переписывая сочинение 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в бланк ответа, будьте внимательны. Не допускайте ошибок при переписы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b0043"/>
                </a:solidFill>
                <a:latin typeface="Constantia"/>
              </a:rPr>
              <a:t>8. Перечитайте сочинение</a:t>
            </a:r>
            <a:r>
              <a:rPr b="1" i="1" lang="ru-RU" sz="2000" spc="-1" strike="noStrike">
                <a:solidFill>
                  <a:srgbClr val="34003f"/>
                </a:solidFill>
                <a:latin typeface="Constantia"/>
              </a:rPr>
              <a:t>, чтобы исправить допущенные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Управляющая кнопка: домой 4"/>
          <p:cNvSpPr/>
          <p:nvPr/>
        </p:nvSpPr>
        <p:spPr>
          <a:xfrm>
            <a:off x="8143920" y="6000840"/>
            <a:ext cx="1000080" cy="857160"/>
          </a:xfrm>
          <a:custGeom>
            <a:avLst/>
            <a:gdLst>
              <a:gd name="textAreaLeft" fmla="*/ 55440 w 1000080"/>
              <a:gd name="textAreaRight" fmla="*/ 944640 w 100008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5200" h="21600">
                <a:moveTo>
                  <a:pt x="0" y="0"/>
                </a:moveTo>
                <a:lnTo>
                  <a:pt x="25200" y="0"/>
                </a:lnTo>
                <a:lnTo>
                  <a:pt x="25200" y="21600"/>
                </a:lnTo>
                <a:lnTo>
                  <a:pt x="0" y="21600"/>
                </a:lnTo>
                <a:close/>
              </a:path>
              <a:path fill="lightenLess" w="25200" h="21600">
                <a:moveTo>
                  <a:pt x="0" y="0"/>
                </a:moveTo>
                <a:lnTo>
                  <a:pt x="25200" y="0"/>
                </a:lnTo>
                <a:lnTo>
                  <a:pt x="23800" y="1400"/>
                </a:lnTo>
                <a:lnTo>
                  <a:pt x="1400" y="1400"/>
                </a:lnTo>
                <a:close/>
              </a:path>
              <a:path fill="darken" w="25200" h="21600">
                <a:moveTo>
                  <a:pt x="25200" y="0"/>
                </a:moveTo>
                <a:lnTo>
                  <a:pt x="25200" y="21600"/>
                </a:lnTo>
                <a:lnTo>
                  <a:pt x="23800" y="20200"/>
                </a:lnTo>
                <a:lnTo>
                  <a:pt x="23800" y="1400"/>
                </a:lnTo>
                <a:close/>
              </a:path>
              <a:path fill="darkenLess" w="25200" h="21600">
                <a:moveTo>
                  <a:pt x="25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0" y="20200"/>
                </a:lnTo>
                <a:close/>
              </a:path>
              <a:path fill="lighten" w="25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0" h="21600">
                <a:moveTo>
                  <a:pt x="12600" y="3837"/>
                </a:moveTo>
                <a:lnTo>
                  <a:pt x="15176" y="6448"/>
                </a:lnTo>
                <a:lnTo>
                  <a:pt x="15176" y="4707"/>
                </a:lnTo>
                <a:lnTo>
                  <a:pt x="16952" y="4707"/>
                </a:lnTo>
                <a:lnTo>
                  <a:pt x="16952" y="8224"/>
                </a:lnTo>
                <a:lnTo>
                  <a:pt x="19563" y="10800"/>
                </a:lnTo>
                <a:lnTo>
                  <a:pt x="17909" y="10800"/>
                </a:lnTo>
                <a:lnTo>
                  <a:pt x="17909" y="17989"/>
                </a:lnTo>
                <a:lnTo>
                  <a:pt x="7291" y="17989"/>
                </a:lnTo>
                <a:lnTo>
                  <a:pt x="7291" y="10800"/>
                </a:lnTo>
                <a:lnTo>
                  <a:pt x="5637" y="10800"/>
                </a:lnTo>
                <a:close/>
              </a:path>
              <a:path fill="darkenLess" w="25200" h="21600">
                <a:moveTo>
                  <a:pt x="15176" y="6448"/>
                </a:moveTo>
                <a:lnTo>
                  <a:pt x="15176" y="4707"/>
                </a:lnTo>
                <a:lnTo>
                  <a:pt x="16952" y="4707"/>
                </a:lnTo>
                <a:lnTo>
                  <a:pt x="16952" y="8224"/>
                </a:lnTo>
                <a:close/>
              </a:path>
              <a:path fill="darkenLess" w="25200" h="21600">
                <a:moveTo>
                  <a:pt x="11677" y="14299"/>
                </a:moveTo>
                <a:lnTo>
                  <a:pt x="13523" y="14299"/>
                </a:lnTo>
                <a:lnTo>
                  <a:pt x="13523" y="17989"/>
                </a:lnTo>
                <a:lnTo>
                  <a:pt x="17909" y="17989"/>
                </a:lnTo>
                <a:lnTo>
                  <a:pt x="17909" y="10800"/>
                </a:lnTo>
                <a:lnTo>
                  <a:pt x="7291" y="10800"/>
                </a:lnTo>
                <a:lnTo>
                  <a:pt x="7291" y="17989"/>
                </a:lnTo>
                <a:lnTo>
                  <a:pt x="11677" y="17989"/>
                </a:lnTo>
                <a:close/>
              </a:path>
            </a:pathLst>
          </a:custGeom>
          <a:solidFill>
            <a:srgbClr val="00349e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932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0" y="500040"/>
            <a:ext cx="930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Что такое проблема текст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Заголовок 4"/>
          <p:cNvSpPr/>
          <p:nvPr/>
        </p:nvSpPr>
        <p:spPr>
          <a:xfrm>
            <a:off x="428760" y="2500200"/>
            <a:ext cx="78516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Problema (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лат.)-задача, вопрос</a:t>
            </a: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Сложный теоретический  или практический вопрос, требующий решения, исследования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( См.Словарь русского языка. В 4-х т. / под ред. А.П.Евгеньевой. – М., 1981-1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Группа 3" descr=""/>
          <p:cNvPicPr/>
          <p:nvPr/>
        </p:nvPicPr>
        <p:blipFill>
          <a:blip r:embed="rId1"/>
          <a:stretch/>
        </p:blipFill>
        <p:spPr>
          <a:xfrm>
            <a:off x="341280" y="2341440"/>
            <a:ext cx="8534520" cy="3913200"/>
          </a:xfrm>
          <a:prstGeom prst="rect">
            <a:avLst/>
          </a:prstGeom>
          <a:ln w="0">
            <a:noFill/>
          </a:ln>
        </p:spPr>
      </p:pic>
      <p:grpSp>
        <p:nvGrpSpPr>
          <p:cNvPr id="206" name="Группа 6"/>
          <p:cNvGrpSpPr/>
          <p:nvPr/>
        </p:nvGrpSpPr>
        <p:grpSpPr>
          <a:xfrm>
            <a:off x="357120" y="2357280"/>
            <a:ext cx="8501040" cy="3861000"/>
            <a:chOff x="357120" y="2357280"/>
            <a:chExt cx="8501040" cy="3861000"/>
          </a:xfrm>
        </p:grpSpPr>
        <p:sp>
          <p:nvSpPr>
            <p:cNvPr id="207" name="Блок-схема: процесс 7"/>
            <p:cNvSpPr/>
            <p:nvPr/>
          </p:nvSpPr>
          <p:spPr>
            <a:xfrm>
              <a:off x="357120" y="2357280"/>
              <a:ext cx="8501040" cy="3861000"/>
            </a:xfrm>
            <a:prstGeom prst="flowChartProcess">
              <a:avLst/>
            </a:prstGeom>
            <a:solidFill>
              <a:srgbClr val="75005f"/>
            </a:solidFill>
            <a:ln w="25560">
              <a:solidFill>
                <a:srgbClr val="bc26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8"/>
            <p:cNvSpPr/>
            <p:nvPr/>
          </p:nvSpPr>
          <p:spPr>
            <a:xfrm>
              <a:off x="785520" y="2525400"/>
              <a:ext cx="7215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onstantia"/>
                </a:rPr>
                <a:t>Если сформулировать проблему не удаётся, подумайте о следующем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Constantia"/>
                </a:rPr>
                <a:t>Основная мысль текста – это ответ на некоторый вопрос, над которым размышлял автор. На какой вопрос отвечает автор своим текстом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2c71ff"/>
                  </a:solidFill>
                  <a:latin typeface="Constantia"/>
                </a:rPr>
                <a:t>ЭТОТ ВОПРОС И ЕСТЬ ПРОБЛЕ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Прямоугольник 1" descr=""/>
          <p:cNvPicPr/>
          <p:nvPr/>
        </p:nvPicPr>
        <p:blipFill>
          <a:blip r:embed="rId1"/>
          <a:stretch/>
        </p:blipFill>
        <p:spPr>
          <a:xfrm>
            <a:off x="1560600" y="371520"/>
            <a:ext cx="5864040" cy="11523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1692360" y="1916280"/>
            <a:ext cx="2590560" cy="2017440"/>
          </a:xfrm>
          <a:prstGeom prst="rect">
            <a:avLst/>
          </a:prstGeom>
          <a:solidFill>
            <a:srgbClr val="7500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bbfd"/>
                </a:solidFill>
                <a:uFillTx/>
                <a:latin typeface="Arial Black"/>
                <a:hlinkClick r:id="rId2" action="ppaction://hlinksldjump"/>
              </a:rPr>
              <a:t>философ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468360" y="4292640"/>
            <a:ext cx="2663640" cy="2017800"/>
          </a:xfrm>
          <a:prstGeom prst="rect">
            <a:avLst/>
          </a:prstGeom>
          <a:solidFill>
            <a:srgbClr val="7500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bbfd"/>
                </a:solidFill>
                <a:uFillTx/>
                <a:latin typeface="Arial Black"/>
                <a:hlinkClick r:id="rId3" action="ppaction://hlinksldjump"/>
              </a:rPr>
              <a:t>полит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6300720" y="4292640"/>
            <a:ext cx="2592360" cy="2017800"/>
          </a:xfrm>
          <a:prstGeom prst="rect">
            <a:avLst/>
          </a:prstGeom>
          <a:solidFill>
            <a:srgbClr val="7500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bbfd"/>
                </a:solidFill>
                <a:uFillTx/>
                <a:latin typeface="Arial Black"/>
                <a:hlinkClick r:id="rId4" action="ppaction://hlinksldjump"/>
              </a:rPr>
              <a:t>нрав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348000" y="4292640"/>
            <a:ext cx="2736720" cy="2017800"/>
          </a:xfrm>
          <a:prstGeom prst="rect">
            <a:avLst/>
          </a:prstGeom>
          <a:solidFill>
            <a:srgbClr val="7500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bbfd"/>
                </a:solidFill>
                <a:uFillTx/>
                <a:latin typeface="Arial Black"/>
                <a:hlinkClick r:id="rId5" action="ppaction://hlinksldjump"/>
              </a:rPr>
              <a:t>эколог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4859280" y="1916280"/>
            <a:ext cx="2592360" cy="2017440"/>
          </a:xfrm>
          <a:prstGeom prst="rect">
            <a:avLst/>
          </a:prstGeom>
          <a:solidFill>
            <a:srgbClr val="7500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bbfd"/>
                </a:solidFill>
                <a:uFillTx/>
                <a:latin typeface="Arial Black"/>
                <a:hlinkClick r:id="rId6" action="ppaction://hlinksldjump"/>
              </a:rPr>
              <a:t>со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79200" y="585720"/>
            <a:ext cx="9156960" cy="115092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928800" y="200016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трагивают самые общие особенности развития природы, общества,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928800" y="3000240"/>
            <a:ext cx="7000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В чём смысл человеческой жиз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Что такое свобо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ак связаны человек и мышл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Управляющая кнопка: возврат 5">
            <a:hlinkClick r:id="rId2" action="ppaction://hlinksldjump"/>
          </p:cNvPr>
          <p:cNvSpPr/>
          <p:nvPr/>
        </p:nvSpPr>
        <p:spPr>
          <a:xfrm>
            <a:off x="7929720" y="6215040"/>
            <a:ext cx="1214280" cy="642960"/>
          </a:xfrm>
          <a:custGeom>
            <a:avLst/>
            <a:gdLst>
              <a:gd name="textAreaLeft" fmla="*/ 41400 w 1214280"/>
              <a:gd name="textAreaRight" fmla="*/ 1172880 w 12142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40783" h="21600">
                <a:moveTo>
                  <a:pt x="0" y="0"/>
                </a:moveTo>
                <a:lnTo>
                  <a:pt x="40783" y="0"/>
                </a:lnTo>
                <a:lnTo>
                  <a:pt x="40783" y="21600"/>
                </a:lnTo>
                <a:lnTo>
                  <a:pt x="0" y="21600"/>
                </a:lnTo>
                <a:close/>
              </a:path>
              <a:path fill="lightenLess" w="40783" h="21600">
                <a:moveTo>
                  <a:pt x="0" y="0"/>
                </a:moveTo>
                <a:lnTo>
                  <a:pt x="40783" y="0"/>
                </a:lnTo>
                <a:lnTo>
                  <a:pt x="39383" y="1400"/>
                </a:lnTo>
                <a:lnTo>
                  <a:pt x="1400" y="1400"/>
                </a:lnTo>
                <a:close/>
              </a:path>
              <a:path fill="darken" w="40783" h="21600">
                <a:moveTo>
                  <a:pt x="40783" y="0"/>
                </a:moveTo>
                <a:lnTo>
                  <a:pt x="40783" y="21600"/>
                </a:lnTo>
                <a:lnTo>
                  <a:pt x="39383" y="20200"/>
                </a:lnTo>
                <a:lnTo>
                  <a:pt x="39383" y="1400"/>
                </a:lnTo>
                <a:close/>
              </a:path>
              <a:path fill="darkenLess" w="40783" h="21600">
                <a:moveTo>
                  <a:pt x="40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3" y="20200"/>
                </a:lnTo>
                <a:close/>
              </a:path>
              <a:path fill="lighten" w="40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83" h="21600">
                <a:moveTo>
                  <a:pt x="13385" y="7493"/>
                </a:moveTo>
                <a:lnTo>
                  <a:pt x="16892" y="7493"/>
                </a:lnTo>
                <a:lnTo>
                  <a:pt x="16892" y="12828"/>
                </a:lnTo>
                <a:cubicBezTo>
                  <a:pt x="16892" y="13751"/>
                  <a:pt x="17693" y="14482"/>
                  <a:pt x="18729" y="14482"/>
                </a:cubicBezTo>
                <a:lnTo>
                  <a:pt x="20391" y="14482"/>
                </a:lnTo>
                <a:cubicBezTo>
                  <a:pt x="21427" y="14482"/>
                  <a:pt x="22228" y="13751"/>
                  <a:pt x="22228" y="12828"/>
                </a:cubicBezTo>
                <a:lnTo>
                  <a:pt x="22228" y="7493"/>
                </a:lnTo>
                <a:lnTo>
                  <a:pt x="20391" y="7493"/>
                </a:lnTo>
                <a:lnTo>
                  <a:pt x="23899" y="3985"/>
                </a:lnTo>
                <a:lnTo>
                  <a:pt x="27572" y="7493"/>
                </a:lnTo>
                <a:lnTo>
                  <a:pt x="25735" y="7493"/>
                </a:lnTo>
                <a:lnTo>
                  <a:pt x="25735" y="12828"/>
                </a:lnTo>
                <a:cubicBezTo>
                  <a:pt x="25735" y="15596"/>
                  <a:pt x="23159" y="18155"/>
                  <a:pt x="20391" y="18155"/>
                </a:cubicBezTo>
                <a:lnTo>
                  <a:pt x="18729" y="18155"/>
                </a:lnTo>
                <a:cubicBezTo>
                  <a:pt x="15961" y="18155"/>
                  <a:pt x="13385" y="15596"/>
                  <a:pt x="13385" y="12828"/>
                </a:cubicBezTo>
                <a:close/>
              </a:path>
            </a:pathLst>
          </a:custGeom>
          <a:solidFill>
            <a:srgbClr val="68007f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1e0027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Прямоугольник 1" descr=""/>
          <p:cNvPicPr/>
          <p:nvPr/>
        </p:nvPicPr>
        <p:blipFill>
          <a:blip r:embed="rId1"/>
          <a:stretch/>
        </p:blipFill>
        <p:spPr>
          <a:xfrm>
            <a:off x="73080" y="585720"/>
            <a:ext cx="8839080" cy="115092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1214280" y="185724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саются устройства и жизни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571680" y="2500200"/>
            <a:ext cx="7715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Можно ли избежать социальной несправедлив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Возможно ли построение идеального обще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Что такое подлинный и мнимый патриотиз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Управляющая кнопка: возврат 7">
            <a:hlinkClick r:id="rId2" action="ppaction://hlinksldjump"/>
          </p:cNvPr>
          <p:cNvSpPr/>
          <p:nvPr/>
        </p:nvSpPr>
        <p:spPr>
          <a:xfrm>
            <a:off x="7858080" y="6143760"/>
            <a:ext cx="1285920" cy="714240"/>
          </a:xfrm>
          <a:custGeom>
            <a:avLst/>
            <a:gdLst>
              <a:gd name="textAreaLeft" fmla="*/ 46080 w 1285920"/>
              <a:gd name="textAreaRight" fmla="*/ 1239840 w 1285920"/>
              <a:gd name="textAreaTop" fmla="*/ 46080 h 714240"/>
              <a:gd name="textAreaBottom" fmla="*/ 668160 h 714240"/>
            </a:gdLst>
            <a:ahLst/>
            <a:rect l="textAreaLeft" t="textAreaTop" r="textAreaRight" b="textAreaBottom"/>
            <a:pathLst>
              <a:path w="38880" h="21600">
                <a:moveTo>
                  <a:pt x="0" y="0"/>
                </a:moveTo>
                <a:lnTo>
                  <a:pt x="38880" y="0"/>
                </a:lnTo>
                <a:lnTo>
                  <a:pt x="38880" y="21600"/>
                </a:lnTo>
                <a:lnTo>
                  <a:pt x="0" y="21600"/>
                </a:lnTo>
                <a:close/>
              </a:path>
              <a:path fill="lightenLess" w="38880" h="21600">
                <a:moveTo>
                  <a:pt x="0" y="0"/>
                </a:moveTo>
                <a:lnTo>
                  <a:pt x="38880" y="0"/>
                </a:lnTo>
                <a:lnTo>
                  <a:pt x="37480" y="1400"/>
                </a:lnTo>
                <a:lnTo>
                  <a:pt x="1400" y="1400"/>
                </a:lnTo>
                <a:close/>
              </a:path>
              <a:path fill="darken" w="38880" h="21600">
                <a:moveTo>
                  <a:pt x="38880" y="0"/>
                </a:moveTo>
                <a:lnTo>
                  <a:pt x="38880" y="21600"/>
                </a:lnTo>
                <a:lnTo>
                  <a:pt x="37480" y="20200"/>
                </a:lnTo>
                <a:lnTo>
                  <a:pt x="37480" y="1400"/>
                </a:lnTo>
                <a:close/>
              </a:path>
              <a:path fill="darkenLess" w="38880" h="21600">
                <a:moveTo>
                  <a:pt x="38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0" y="20200"/>
                </a:lnTo>
                <a:close/>
              </a:path>
              <a:path fill="lighten" w="38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0" h="21600">
                <a:moveTo>
                  <a:pt x="12434" y="7493"/>
                </a:moveTo>
                <a:lnTo>
                  <a:pt x="15941" y="7493"/>
                </a:lnTo>
                <a:lnTo>
                  <a:pt x="15941" y="12828"/>
                </a:lnTo>
                <a:cubicBezTo>
                  <a:pt x="15941" y="13751"/>
                  <a:pt x="16742" y="14482"/>
                  <a:pt x="17778" y="14482"/>
                </a:cubicBezTo>
                <a:lnTo>
                  <a:pt x="19440" y="14482"/>
                </a:lnTo>
                <a:cubicBezTo>
                  <a:pt x="20476" y="14482"/>
                  <a:pt x="21276" y="13751"/>
                  <a:pt x="21276" y="12828"/>
                </a:cubicBezTo>
                <a:lnTo>
                  <a:pt x="21276" y="7493"/>
                </a:lnTo>
                <a:lnTo>
                  <a:pt x="19440" y="7493"/>
                </a:lnTo>
                <a:lnTo>
                  <a:pt x="22948" y="3985"/>
                </a:lnTo>
                <a:lnTo>
                  <a:pt x="26621" y="7493"/>
                </a:lnTo>
                <a:lnTo>
                  <a:pt x="24784" y="7493"/>
                </a:lnTo>
                <a:lnTo>
                  <a:pt x="24784" y="12828"/>
                </a:lnTo>
                <a:cubicBezTo>
                  <a:pt x="24784" y="15596"/>
                  <a:pt x="22208" y="18155"/>
                  <a:pt x="19440" y="18155"/>
                </a:cubicBezTo>
                <a:lnTo>
                  <a:pt x="17778" y="18155"/>
                </a:lnTo>
                <a:cubicBezTo>
                  <a:pt x="15010" y="18155"/>
                  <a:pt x="12434" y="15596"/>
                  <a:pt x="12434" y="12828"/>
                </a:cubicBezTo>
                <a:close/>
              </a:path>
            </a:pathLst>
          </a:custGeom>
          <a:solidFill>
            <a:srgbClr val="68007f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1e0027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142920" y="785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Политические пробле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928800" y="2071800"/>
            <a:ext cx="71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вязаны с деятельностью государственной власти, партий или общественных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642960" y="3000240"/>
            <a:ext cx="7000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ак создать правовое государств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ак защитить политические права и свободы челове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Нужна ли обществу ценз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Управляющая кнопка: возврат 5">
            <a:hlinkClick r:id="rId1" action="ppaction://hlinksldjump"/>
          </p:cNvPr>
          <p:cNvSpPr/>
          <p:nvPr/>
        </p:nvSpPr>
        <p:spPr>
          <a:xfrm>
            <a:off x="7929720" y="6215040"/>
            <a:ext cx="1214280" cy="642960"/>
          </a:xfrm>
          <a:custGeom>
            <a:avLst/>
            <a:gdLst>
              <a:gd name="textAreaLeft" fmla="*/ 41400 w 1214280"/>
              <a:gd name="textAreaRight" fmla="*/ 1172880 w 121428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40783" h="21600">
                <a:moveTo>
                  <a:pt x="0" y="0"/>
                </a:moveTo>
                <a:lnTo>
                  <a:pt x="40783" y="0"/>
                </a:lnTo>
                <a:lnTo>
                  <a:pt x="40783" y="21600"/>
                </a:lnTo>
                <a:lnTo>
                  <a:pt x="0" y="21600"/>
                </a:lnTo>
                <a:close/>
              </a:path>
              <a:path fill="lightenLess" w="40783" h="21600">
                <a:moveTo>
                  <a:pt x="0" y="0"/>
                </a:moveTo>
                <a:lnTo>
                  <a:pt x="40783" y="0"/>
                </a:lnTo>
                <a:lnTo>
                  <a:pt x="39383" y="1400"/>
                </a:lnTo>
                <a:lnTo>
                  <a:pt x="1400" y="1400"/>
                </a:lnTo>
                <a:close/>
              </a:path>
              <a:path fill="darken" w="40783" h="21600">
                <a:moveTo>
                  <a:pt x="40783" y="0"/>
                </a:moveTo>
                <a:lnTo>
                  <a:pt x="40783" y="21600"/>
                </a:lnTo>
                <a:lnTo>
                  <a:pt x="39383" y="20200"/>
                </a:lnTo>
                <a:lnTo>
                  <a:pt x="39383" y="1400"/>
                </a:lnTo>
                <a:close/>
              </a:path>
              <a:path fill="darkenLess" w="40783" h="21600">
                <a:moveTo>
                  <a:pt x="40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83" y="20200"/>
                </a:lnTo>
                <a:close/>
              </a:path>
              <a:path fill="lighten" w="40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83" h="21600">
                <a:moveTo>
                  <a:pt x="13385" y="7493"/>
                </a:moveTo>
                <a:lnTo>
                  <a:pt x="16892" y="7493"/>
                </a:lnTo>
                <a:lnTo>
                  <a:pt x="16892" y="12828"/>
                </a:lnTo>
                <a:cubicBezTo>
                  <a:pt x="16892" y="13751"/>
                  <a:pt x="17693" y="14482"/>
                  <a:pt x="18729" y="14482"/>
                </a:cubicBezTo>
                <a:lnTo>
                  <a:pt x="20391" y="14482"/>
                </a:lnTo>
                <a:cubicBezTo>
                  <a:pt x="21427" y="14482"/>
                  <a:pt x="22228" y="13751"/>
                  <a:pt x="22228" y="12828"/>
                </a:cubicBezTo>
                <a:lnTo>
                  <a:pt x="22228" y="7493"/>
                </a:lnTo>
                <a:lnTo>
                  <a:pt x="20391" y="7493"/>
                </a:lnTo>
                <a:lnTo>
                  <a:pt x="23899" y="3985"/>
                </a:lnTo>
                <a:lnTo>
                  <a:pt x="27572" y="7493"/>
                </a:lnTo>
                <a:lnTo>
                  <a:pt x="25735" y="7493"/>
                </a:lnTo>
                <a:lnTo>
                  <a:pt x="25735" y="12828"/>
                </a:lnTo>
                <a:cubicBezTo>
                  <a:pt x="25735" y="15596"/>
                  <a:pt x="23159" y="18155"/>
                  <a:pt x="20391" y="18155"/>
                </a:cubicBezTo>
                <a:lnTo>
                  <a:pt x="18729" y="18155"/>
                </a:lnTo>
                <a:cubicBezTo>
                  <a:pt x="15961" y="18155"/>
                  <a:pt x="13385" y="15596"/>
                  <a:pt x="13385" y="12828"/>
                </a:cubicBezTo>
                <a:close/>
              </a:path>
            </a:pathLst>
          </a:custGeom>
          <a:solidFill>
            <a:srgbClr val="68007f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1e0027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0" y="571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nstantia"/>
              </a:rPr>
              <a:t>Экологические пробле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428760" y="142884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тражают взаимодействие человека и окружающ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285840" y="2214720"/>
            <a:ext cx="7286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Имеет ли человек право вмешиваться в жизнь приро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аким должно быть гармоничное взаимодействие человека и окружающей сре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onstantia"/>
              </a:rPr>
              <a:t>Как уберечь нашу планету от экологической катастроф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Управляющая кнопка: возврат 5">
            <a:hlinkClick r:id="rId1" action="ppaction://hlinksldjump"/>
          </p:cNvPr>
          <p:cNvSpPr/>
          <p:nvPr/>
        </p:nvSpPr>
        <p:spPr>
          <a:xfrm>
            <a:off x="8143920" y="6072120"/>
            <a:ext cx="1000080" cy="785880"/>
          </a:xfrm>
          <a:custGeom>
            <a:avLst/>
            <a:gdLst>
              <a:gd name="textAreaLeft" fmla="*/ 50760 w 1000080"/>
              <a:gd name="textAreaRight" fmla="*/ 949320 w 1000080"/>
              <a:gd name="textAreaTop" fmla="*/ 50760 h 785880"/>
              <a:gd name="textAreaBottom" fmla="*/ 735120 h 785880"/>
            </a:gdLst>
            <a:ahLst/>
            <a:rect l="textAreaLeft" t="textAreaTop" r="textAreaRight" b="textAreaBottom"/>
            <a:pathLst>
              <a:path w="27485" h="21600">
                <a:moveTo>
                  <a:pt x="0" y="0"/>
                </a:moveTo>
                <a:lnTo>
                  <a:pt x="27485" y="0"/>
                </a:lnTo>
                <a:lnTo>
                  <a:pt x="27485" y="21600"/>
                </a:lnTo>
                <a:lnTo>
                  <a:pt x="0" y="21600"/>
                </a:lnTo>
                <a:close/>
              </a:path>
              <a:path fill="lightenLess" w="27485" h="21600">
                <a:moveTo>
                  <a:pt x="0" y="0"/>
                </a:moveTo>
                <a:lnTo>
                  <a:pt x="27485" y="0"/>
                </a:lnTo>
                <a:lnTo>
                  <a:pt x="26085" y="1400"/>
                </a:lnTo>
                <a:lnTo>
                  <a:pt x="1400" y="1400"/>
                </a:lnTo>
                <a:close/>
              </a:path>
              <a:path fill="darken" w="27485" h="21600">
                <a:moveTo>
                  <a:pt x="27485" y="0"/>
                </a:moveTo>
                <a:lnTo>
                  <a:pt x="27485" y="21600"/>
                </a:lnTo>
                <a:lnTo>
                  <a:pt x="26085" y="20200"/>
                </a:lnTo>
                <a:lnTo>
                  <a:pt x="26085" y="1400"/>
                </a:lnTo>
                <a:close/>
              </a:path>
              <a:path fill="darkenLess" w="27485" h="21600">
                <a:moveTo>
                  <a:pt x="27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5" y="20200"/>
                </a:lnTo>
                <a:close/>
              </a:path>
              <a:path fill="lighten" w="27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5" h="21600">
                <a:moveTo>
                  <a:pt x="6736" y="7493"/>
                </a:moveTo>
                <a:lnTo>
                  <a:pt x="10243" y="7493"/>
                </a:lnTo>
                <a:lnTo>
                  <a:pt x="10243" y="12828"/>
                </a:lnTo>
                <a:cubicBezTo>
                  <a:pt x="10243" y="13751"/>
                  <a:pt x="11044" y="14482"/>
                  <a:pt x="12080" y="14482"/>
                </a:cubicBezTo>
                <a:lnTo>
                  <a:pt x="13742" y="14482"/>
                </a:lnTo>
                <a:cubicBezTo>
                  <a:pt x="14778" y="14482"/>
                  <a:pt x="15579" y="13751"/>
                  <a:pt x="15579" y="12828"/>
                </a:cubicBezTo>
                <a:lnTo>
                  <a:pt x="15579" y="7493"/>
                </a:lnTo>
                <a:lnTo>
                  <a:pt x="13742" y="7493"/>
                </a:lnTo>
                <a:lnTo>
                  <a:pt x="17250" y="3985"/>
                </a:lnTo>
                <a:lnTo>
                  <a:pt x="20923" y="7493"/>
                </a:lnTo>
                <a:lnTo>
                  <a:pt x="19086" y="7493"/>
                </a:lnTo>
                <a:lnTo>
                  <a:pt x="19086" y="12828"/>
                </a:lnTo>
                <a:cubicBezTo>
                  <a:pt x="19086" y="15596"/>
                  <a:pt x="16510" y="18155"/>
                  <a:pt x="13742" y="18155"/>
                </a:cubicBezTo>
                <a:lnTo>
                  <a:pt x="12080" y="18155"/>
                </a:lnTo>
                <a:cubicBezTo>
                  <a:pt x="9312" y="18155"/>
                  <a:pt x="6736" y="15596"/>
                  <a:pt x="6736" y="12828"/>
                </a:cubicBezTo>
                <a:close/>
              </a:path>
            </a:pathLst>
          </a:custGeom>
          <a:solidFill>
            <a:srgbClr val="68007f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1e0027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14:23:12Z</dcterms:created>
  <dc:creator>я</dc:creator>
  <dc:description>rusedu.ru</dc:description>
  <dc:language>en-US</dc:language>
  <cp:lastModifiedBy>Name</cp:lastModifiedBy>
  <dcterms:modified xsi:type="dcterms:W3CDTF">2010-07-06T07:05:48Z</dcterms:modified>
  <cp:revision>80</cp:revision>
  <dc:subject/>
  <dc:title>Сочинение по литерату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224000000000001024140</vt:lpwstr>
  </property>
</Properties>
</file>