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75B-CBFD-4D20-8E07-B44D1A94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D8D-3D74-476E-B289-302252B7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E9F-0C10-4017-AB17-63BF6F17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016-E97D-4ABC-A74D-B5B9A8ED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57D4-FBBC-473F-94E9-6206B03A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AC1E-AF4B-4602-BA59-40B24390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5BFB-7A6C-4D1F-A305-4A9C8B95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E707-2EAF-4254-87D0-D120CFA9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5774-724D-41BE-803A-2794EAE8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F825-AE3A-45D1-80CB-64E273EE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3413-7691-4533-82B1-03D05C33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B6EA-47A7-4A74-AC60-653E9CF0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2B45-6404-4F99-9189-21B8BF5F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ECDA-DC41-4C00-9ADA-EEB27FE1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7215-0102-42D3-A0C2-BCDC7C33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1CDC-BF61-46AE-BF52-73EB1ADB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06DE-2026-4B7D-A2D2-5E714CF1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9B825-D421-4B76-8965-9CC19499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6FE78-77CB-479C-BA9E-99FC1BD7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FA6A9-68C8-4944-997C-CF6D9FCD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946F3-DB13-461B-972F-35DBA24D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C4C92-BC34-438A-B81C-93D95D74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6DF-D31F-4DFF-8BBD-BBD3DE70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A8BD7-E050-4669-99D9-48F456F1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AD0D3-3D02-4019-A998-814D8874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776BE-9E3C-4306-8228-0EED4D64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8B4AD-56AD-4A0C-B6DC-858CB57B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A8CF-01FD-4337-965B-CA862883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39EB0-CA09-4B54-BBAB-957E6DC1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FAF2D-EB96-40E6-96BC-EBE0A814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AA33E-FCC0-4AAD-B7B1-A89FB6AF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59723-5C43-420B-B6BA-53AE1491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5C7C5-AFC0-40AC-98DB-36F6E75A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35EE-38FA-45E8-A1AA-686147F7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A1283-7FE8-4FD4-AF19-D168AC09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F0A27-844D-429C-AFFB-C5FAF84E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EF5A0-A64C-4632-839F-EA6CF462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2144E-42EE-4162-A870-E6C3DA88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F5DFD-6173-4EDF-B118-72D6E14D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039E1-EEF7-43B0-B53B-34D0650F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765F7-9F5D-4F26-8604-9EE9A215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9D10B-4A92-45A5-8408-E2DB0C2C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4BA7E-820E-48E9-9161-6C5ADAE7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D43-2AD8-477D-8011-806946BD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8A8-82F3-4157-BFE0-47B26029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17D-5C30-4BF5-A345-1DB7682F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47C-B8A1-4A2A-AED1-94F7DE54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7C9-1CF7-4196-97A0-8823287D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3B67-AD4D-4D40-8D8D-1F6516E5F320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2751-BAD0-442E-9830-9E5196CF3741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CA54-9BCF-461D-B88D-FF73096729AB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ED29-79A8-4519-AF66-69BC7EDC50F2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3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28.xml"/><Relationship Id="rId7" Type="http://schemas.openxmlformats.org/officeDocument/2006/relationships/slide" Target="slide32.xml"/><Relationship Id="rId8" Type="http://schemas.openxmlformats.org/officeDocument/2006/relationships/slide" Target="slide31.xm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93560" y="2139840"/>
            <a:ext cx="8412480" cy="1895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46429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91919"/>
                </a:solidFill>
                <a:latin typeface="Constantia"/>
              </a:rPr>
              <a:t>По материалам пособ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91919"/>
                </a:solidFill>
                <a:latin typeface="Constantia"/>
              </a:rPr>
              <a:t>А.Г Нарушевича «Русский язык: сочинение на ЕГЭ: формулировки, аргументы, комментарии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Прямоугольник 3" descr=""/>
          <p:cNvPicPr/>
          <p:nvPr/>
        </p:nvPicPr>
        <p:blipFill>
          <a:blip r:embed="rId2"/>
          <a:stretch/>
        </p:blipFill>
        <p:spPr>
          <a:xfrm>
            <a:off x="-55440" y="847800"/>
            <a:ext cx="9169200" cy="1305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924360" y="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0" y="785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Нравственные пробле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142920" y="178596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вязаны с внутренними духовными качествами, которыми руководствуется человек с определёнными правилами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285840" y="2928960"/>
            <a:ext cx="792936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Что такое совесть? (порядочность, интеллигентность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Всегда ли нужно прислушиваться к мнению старш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Следует ли помогать ближ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214200" y="78588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Как сформулировать проблему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571680" y="264312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Если формулировка не очень сложна и может быть выражена одним словом или словосочетанием, ИСПОЛЬЗУЕТСЯ КОНСТРУКЦИЯ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 ПРОБЛЕМА (чего?) Р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642960" y="364320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b00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49e"/>
                </a:solidFill>
                <a:latin typeface="Constantia"/>
              </a:rPr>
              <a:t>Автор рассуждает над проблемой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b00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49e"/>
                </a:solidFill>
                <a:latin typeface="Constantia"/>
              </a:rPr>
              <a:t>В тексте поднимается проблем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b00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49e"/>
                </a:solidFill>
                <a:latin typeface="Constantia"/>
              </a:rPr>
              <a:t>Текст заставляет каждого из нас задуматься над пробле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642960" y="264312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Избежать неудачных конструкций поможет второй способ формулирования проблемы –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ВОПРОСИТЕЛЬНОЕ ПРЕД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500040" y="3571920"/>
            <a:ext cx="7786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b00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49e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449e"/>
                </a:solidFill>
                <a:latin typeface="Constantia"/>
              </a:rPr>
              <a:t>Возможно ли гармоничное сочетание духовного и материального в жизни человека? Этой сложной проблеме посвящает свой текст ав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b00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49e"/>
                </a:solidFill>
                <a:latin typeface="Constantia"/>
              </a:rPr>
              <a:t>Автор размышляет над судьбой русского языка и предлагает задуматься над следующей проблемой: обогащается или портится русский язык благодаря заимствования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b00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49e"/>
                </a:solidFill>
                <a:latin typeface="Constantia"/>
              </a:rPr>
              <a:t>Что может помочь не только выжить в нечеловеческих условиях , но не утратить человеческого достоинства? Эту проблему рассматривает автор на пример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285840" y="642960"/>
            <a:ext cx="8643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Употребление слова ПРОБЛЕМА в контекс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428760" y="2357280"/>
            <a:ext cx="807228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e00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ПРОБЛЕМА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чего: войны, мира, экономики, образования,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ПРОБЛЕМА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сложная , трудная, важная, серьёзная, глубокая, основная, главная, актуальная, злободневная, острая, назревшая, философская, нравственно-эти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Постановка, изучение, исследование, рассмотрение, значение, важность, сложность какой-либо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ПРОБЛЕМЫ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 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Точка зрения на какую-либо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ПРОБЛЕМУ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Коснуться какой-либо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ПРОБЛЕМЫ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Уделить внимание какой-либо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ПРОБЛЕМЕ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Над какой-либо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ПРОБЛЕМОЙ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думать, рабо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Какая-либо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ПРОБЛЕМА 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возникает, встаёт, представляет интерес, заслуживает внимания, ждёт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Управляющая кнопка: домой 5">
            <a:hlinkClick r:id="rId1" action="ppaction://hlinksldjump"/>
          </p:cNvPr>
          <p:cNvSpPr/>
          <p:nvPr/>
        </p:nvSpPr>
        <p:spPr>
          <a:xfrm>
            <a:off x="8143920" y="6000840"/>
            <a:ext cx="1000080" cy="857160"/>
          </a:xfrm>
          <a:custGeom>
            <a:avLst/>
            <a:gdLst>
              <a:gd name="textAreaLeft" fmla="*/ 55440 w 1000080"/>
              <a:gd name="textAreaRight" fmla="*/ 944640 w 100008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5200" h="21600">
                <a:moveTo>
                  <a:pt x="0" y="0"/>
                </a:moveTo>
                <a:lnTo>
                  <a:pt x="25200" y="0"/>
                </a:lnTo>
                <a:lnTo>
                  <a:pt x="25200" y="21600"/>
                </a:lnTo>
                <a:lnTo>
                  <a:pt x="0" y="21600"/>
                </a:lnTo>
                <a:close/>
              </a:path>
              <a:path fill="lightenLess" w="25200" h="21600">
                <a:moveTo>
                  <a:pt x="0" y="0"/>
                </a:moveTo>
                <a:lnTo>
                  <a:pt x="25200" y="0"/>
                </a:lnTo>
                <a:lnTo>
                  <a:pt x="23800" y="1400"/>
                </a:lnTo>
                <a:lnTo>
                  <a:pt x="1400" y="1400"/>
                </a:lnTo>
                <a:close/>
              </a:path>
              <a:path fill="darken" w="25200" h="21600">
                <a:moveTo>
                  <a:pt x="25200" y="0"/>
                </a:moveTo>
                <a:lnTo>
                  <a:pt x="25200" y="21600"/>
                </a:lnTo>
                <a:lnTo>
                  <a:pt x="23800" y="20200"/>
                </a:lnTo>
                <a:lnTo>
                  <a:pt x="23800" y="1400"/>
                </a:lnTo>
                <a:close/>
              </a:path>
              <a:path fill="darkenLess" w="25200" h="21600">
                <a:moveTo>
                  <a:pt x="25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0" y="20200"/>
                </a:lnTo>
                <a:close/>
              </a:path>
              <a:path fill="lighten" w="25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0" h="21600">
                <a:moveTo>
                  <a:pt x="12600" y="3837"/>
                </a:moveTo>
                <a:lnTo>
                  <a:pt x="15176" y="6448"/>
                </a:lnTo>
                <a:lnTo>
                  <a:pt x="15176" y="4707"/>
                </a:lnTo>
                <a:lnTo>
                  <a:pt x="16952" y="4707"/>
                </a:lnTo>
                <a:lnTo>
                  <a:pt x="16952" y="8224"/>
                </a:lnTo>
                <a:lnTo>
                  <a:pt x="19563" y="10800"/>
                </a:lnTo>
                <a:lnTo>
                  <a:pt x="17909" y="10800"/>
                </a:lnTo>
                <a:lnTo>
                  <a:pt x="17909" y="17989"/>
                </a:lnTo>
                <a:lnTo>
                  <a:pt x="7291" y="17989"/>
                </a:lnTo>
                <a:lnTo>
                  <a:pt x="7291" y="10800"/>
                </a:lnTo>
                <a:lnTo>
                  <a:pt x="5637" y="10800"/>
                </a:lnTo>
                <a:close/>
              </a:path>
              <a:path fill="darkenLess" w="25200" h="21600">
                <a:moveTo>
                  <a:pt x="15176" y="6448"/>
                </a:moveTo>
                <a:lnTo>
                  <a:pt x="15176" y="4707"/>
                </a:lnTo>
                <a:lnTo>
                  <a:pt x="16952" y="4707"/>
                </a:lnTo>
                <a:lnTo>
                  <a:pt x="16952" y="8224"/>
                </a:lnTo>
                <a:close/>
              </a:path>
              <a:path fill="darkenLess" w="25200" h="21600">
                <a:moveTo>
                  <a:pt x="11677" y="14299"/>
                </a:moveTo>
                <a:lnTo>
                  <a:pt x="13523" y="14299"/>
                </a:lnTo>
                <a:lnTo>
                  <a:pt x="13523" y="17989"/>
                </a:lnTo>
                <a:lnTo>
                  <a:pt x="17909" y="17989"/>
                </a:lnTo>
                <a:lnTo>
                  <a:pt x="17909" y="10800"/>
                </a:lnTo>
                <a:lnTo>
                  <a:pt x="7291" y="10800"/>
                </a:lnTo>
                <a:lnTo>
                  <a:pt x="7291" y="17989"/>
                </a:lnTo>
                <a:lnTo>
                  <a:pt x="11677" y="17989"/>
                </a:lnTo>
                <a:close/>
              </a:path>
            </a:pathLst>
          </a:custGeom>
          <a:solidFill>
            <a:srgbClr val="00349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932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285840" y="64296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Что такое комментарий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"/>
          <p:cNvSpPr/>
          <p:nvPr/>
        </p:nvSpPr>
        <p:spPr>
          <a:xfrm>
            <a:off x="500040" y="1714680"/>
            <a:ext cx="82152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Комментарии – рассуждения, пояснительные и критические замечания о чём-либо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( Толковый словарь русского языка под ред. Д.Н.Уша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642960" y="3714840"/>
            <a:ext cx="778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5151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Комментарий показывает, насколько глубоко и полно понимается выделенная пробл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5151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Комментарий должен осуществляться  с опорой на прочитанный 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Группа 6"/>
          <p:cNvGrpSpPr/>
          <p:nvPr/>
        </p:nvGrpSpPr>
        <p:grpSpPr>
          <a:xfrm>
            <a:off x="428760" y="1571760"/>
            <a:ext cx="8429400" cy="6055920"/>
            <a:chOff x="428760" y="1571760"/>
            <a:chExt cx="8429400" cy="6055920"/>
          </a:xfrm>
        </p:grpSpPr>
        <p:sp>
          <p:nvSpPr>
            <p:cNvPr id="246" name="Блок-схема: процесс 4"/>
            <p:cNvSpPr/>
            <p:nvPr/>
          </p:nvSpPr>
          <p:spPr>
            <a:xfrm>
              <a:off x="500040" y="1571760"/>
              <a:ext cx="8286840" cy="4786200"/>
            </a:xfrm>
            <a:prstGeom prst="flowChartProcess">
              <a:avLst/>
            </a:prstGeom>
            <a:solidFill>
              <a:srgbClr val="75005f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"/>
            <p:cNvSpPr/>
            <p:nvPr/>
          </p:nvSpPr>
          <p:spPr>
            <a:xfrm>
              <a:off x="428760" y="1571760"/>
              <a:ext cx="8429400" cy="6055920"/>
            </a:xfrm>
            <a:prstGeom prst="rect">
              <a:avLst/>
            </a:prstGeom>
            <a:solidFill>
              <a:srgbClr val="750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Constantia"/>
                </a:rPr>
                <a:t>Объяснение текста с опорой на вопросы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a4f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1a4f"/>
                  </a:solidFill>
                  <a:latin typeface="Constantia"/>
                </a:rPr>
                <a:t>Как, на каком материале автор раскрывает проблему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a4f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1a4f"/>
                  </a:solidFill>
                  <a:latin typeface="Constantia"/>
                </a:rPr>
                <a:t>На чём заостряет внимание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a4f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1a4f"/>
                  </a:solidFill>
                  <a:latin typeface="Constantia"/>
                </a:rPr>
                <a:t>Какие аспекты проблемы рассматриваются в тексте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a4f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1a4f"/>
                  </a:solidFill>
                  <a:latin typeface="Constantia"/>
                </a:rPr>
                <a:t>Как выражено авторское отношение к изображаемому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a4f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1a4f"/>
                  </a:solidFill>
                  <a:latin typeface="Constantia"/>
                </a:rPr>
                <a:t>Какие эмоции автора выражены в тексте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214200" y="428760"/>
            <a:ext cx="821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Как оформить комментарий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357120" y="2286000"/>
            <a:ext cx="8286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b004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Автор раскрывает проблему на пример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5005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В центре внимания автор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5005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Автор говорит о том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5005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Автор обращает внимание н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5005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Автор доказывает (убеждает, осуждает, иронизирует, одобряет, поддерживает, негодует, восхищается, удивляется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5005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Автора волнует (тревожит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Группа 6" descr=""/>
          <p:cNvPicPr/>
          <p:nvPr/>
        </p:nvPicPr>
        <p:blipFill>
          <a:blip r:embed="rId1"/>
          <a:stretch/>
        </p:blipFill>
        <p:spPr>
          <a:xfrm>
            <a:off x="304920" y="2114640"/>
            <a:ext cx="8607240" cy="4322520"/>
          </a:xfrm>
          <a:prstGeom prst="rect">
            <a:avLst/>
          </a:prstGeom>
          <a:ln w="0">
            <a:noFill/>
          </a:ln>
        </p:spPr>
      </p:pic>
      <p:pic>
        <p:nvPicPr>
          <p:cNvPr id="251" name="Схема 5" descr=""/>
          <p:cNvPicPr/>
          <p:nvPr/>
        </p:nvPicPr>
        <p:blipFill>
          <a:blip r:embed="rId2"/>
          <a:stretch/>
        </p:blipFill>
        <p:spPr>
          <a:xfrm>
            <a:off x="785880" y="2822400"/>
            <a:ext cx="7711920" cy="3505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357120" y="42876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Обратите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Схема 3" descr=""/>
          <p:cNvPicPr/>
          <p:nvPr/>
        </p:nvPicPr>
        <p:blipFill>
          <a:blip r:embed="rId1"/>
          <a:stretch/>
        </p:blipFill>
        <p:spPr>
          <a:xfrm>
            <a:off x="103320" y="1779480"/>
            <a:ext cx="8059680" cy="4797360"/>
          </a:xfrm>
          <a:prstGeom prst="rect">
            <a:avLst/>
          </a:prstGeom>
          <a:ln w="0">
            <a:noFill/>
          </a:ln>
        </p:spPr>
      </p:pic>
      <p:sp>
        <p:nvSpPr>
          <p:cNvPr id="254" name="Управляющая кнопка: домой 5"/>
          <p:cNvSpPr/>
          <p:nvPr/>
        </p:nvSpPr>
        <p:spPr>
          <a:xfrm>
            <a:off x="8215200" y="5929200"/>
            <a:ext cx="928800" cy="928800"/>
          </a:xfrm>
          <a:custGeom>
            <a:avLst/>
            <a:gdLst>
              <a:gd name="textAreaLeft" fmla="*/ 60120 w 928800"/>
              <a:gd name="textAreaRight" fmla="*/ 868680 w 928800"/>
              <a:gd name="textAreaTop" fmla="*/ 60120 h 928800"/>
              <a:gd name="textAreaBottom" fmla="*/ 868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349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932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181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500040" y="42876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Что такое позиция автор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714240" y="2214720"/>
            <a:ext cx="70009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Позиция автора – это вывод, к которому приходит автор, рассуждая по поводу той или иной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285840" y="4572000"/>
            <a:ext cx="871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onstantia"/>
              </a:rPr>
              <a:t>ПРОБЛЕМА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 = ВОПРОС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onstantia"/>
              </a:rPr>
              <a:t>ПОЗИЦИЯ АВТОРА 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= ОТВЕТ НА  ЭТОТ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214200" y="42876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Как выявить позицию автор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Схема 2" descr=""/>
          <p:cNvPicPr/>
          <p:nvPr/>
        </p:nvPicPr>
        <p:blipFill>
          <a:blip r:embed="rId1"/>
          <a:stretch/>
        </p:blipFill>
        <p:spPr>
          <a:xfrm>
            <a:off x="695160" y="2682720"/>
            <a:ext cx="7467840" cy="405288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"/>
          <p:cNvSpPr/>
          <p:nvPr/>
        </p:nvSpPr>
        <p:spPr>
          <a:xfrm>
            <a:off x="500040" y="200016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onstantia"/>
              </a:rPr>
              <a:t>Авторская позиция проявляетс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214200" y="6429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nstantia"/>
              </a:rPr>
              <a:t>Языковые средства, выражающие авторскую позиц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Group 22" descr=""/>
          <p:cNvPicPr/>
          <p:nvPr/>
        </p:nvPicPr>
        <p:blipFill>
          <a:blip r:embed="rId1"/>
          <a:stretch/>
        </p:blipFill>
        <p:spPr>
          <a:xfrm>
            <a:off x="128520" y="1974960"/>
            <a:ext cx="3243240" cy="4346640"/>
          </a:xfrm>
          <a:prstGeom prst="rect">
            <a:avLst/>
          </a:prstGeom>
          <a:ln w="0">
            <a:noFill/>
          </a:ln>
        </p:spPr>
      </p:pic>
      <p:pic>
        <p:nvPicPr>
          <p:cNvPr id="263" name="Group 23" descr=""/>
          <p:cNvPicPr/>
          <p:nvPr/>
        </p:nvPicPr>
        <p:blipFill>
          <a:blip r:embed="rId2"/>
          <a:stretch/>
        </p:blipFill>
        <p:spPr>
          <a:xfrm>
            <a:off x="3048120" y="1974960"/>
            <a:ext cx="3181320" cy="4346640"/>
          </a:xfrm>
          <a:prstGeom prst="rect">
            <a:avLst/>
          </a:prstGeom>
          <a:ln w="0">
            <a:noFill/>
          </a:ln>
        </p:spPr>
      </p:pic>
      <p:pic>
        <p:nvPicPr>
          <p:cNvPr id="264" name="Group 24" descr=""/>
          <p:cNvPicPr/>
          <p:nvPr/>
        </p:nvPicPr>
        <p:blipFill>
          <a:blip r:embed="rId3"/>
          <a:stretch/>
        </p:blipFill>
        <p:spPr>
          <a:xfrm>
            <a:off x="5857920" y="1974960"/>
            <a:ext cx="3084480" cy="4346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214200" y="3571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Как сформулировать позицию автор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642960" y="1903320"/>
            <a:ext cx="778680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4e003f"/>
                </a:solidFill>
                <a:uFillTx/>
                <a:latin typeface="Constantia"/>
              </a:rPr>
              <a:t>Постарайтесь ответить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Что хотел сказать своим читателям автор, создавая текс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Как автор оценивает описываемую конкретную ситуацию, поступки герое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Какие слова, художественные приёмы, которые выражают авторское отношение, дают оценку описываемым факт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1000080" y="2214720"/>
            <a:ext cx="7500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Группа 6" descr=""/>
          <p:cNvPicPr/>
          <p:nvPr/>
        </p:nvPicPr>
        <p:blipFill>
          <a:blip r:embed="rId1"/>
          <a:stretch/>
        </p:blipFill>
        <p:spPr>
          <a:xfrm>
            <a:off x="195120" y="1981080"/>
            <a:ext cx="8680680" cy="47545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428760" y="400068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99ff"/>
                </a:solidFill>
                <a:latin typeface="Constantia"/>
              </a:rPr>
              <a:t>Позиция автора таков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99ff"/>
                </a:solidFill>
                <a:latin typeface="Constantia"/>
              </a:rPr>
              <a:t>Автор считает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99ff"/>
                </a:solidFill>
                <a:latin typeface="Constantia"/>
              </a:rPr>
              <a:t>Автор стремится донести до читателя мысль о том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99ff"/>
                </a:solidFill>
                <a:latin typeface="Constantia"/>
              </a:rPr>
              <a:t>Автор убеждает нас в том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99ff"/>
                </a:solidFill>
                <a:latin typeface="Constantia"/>
              </a:rPr>
              <a:t>В тексте доказывается мысль о том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99ff"/>
                </a:solidFill>
                <a:latin typeface="Constantia"/>
              </a:rPr>
              <a:t>Основная мысль текста заключается в том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Управляющая кнопка: домой 10"/>
          <p:cNvSpPr/>
          <p:nvPr/>
        </p:nvSpPr>
        <p:spPr>
          <a:xfrm>
            <a:off x="8358120" y="6000840"/>
            <a:ext cx="785880" cy="85716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57160"/>
              <a:gd name="textAreaBottom" fmla="*/ 806400 h 857160"/>
            </a:gdLst>
            <a:ahLst/>
            <a:rect l="textAreaLeft" t="textAreaTop" r="textAreaRight" b="textAreaBottom"/>
            <a:pathLst>
              <a:path w="21600" h="23558">
                <a:moveTo>
                  <a:pt x="0" y="0"/>
                </a:moveTo>
                <a:lnTo>
                  <a:pt x="21600" y="0"/>
                </a:lnTo>
                <a:lnTo>
                  <a:pt x="21600" y="23558"/>
                </a:lnTo>
                <a:lnTo>
                  <a:pt x="0" y="23558"/>
                </a:lnTo>
                <a:close/>
              </a:path>
              <a:path fill="lightenLess" w="21600" h="235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8">
                <a:moveTo>
                  <a:pt x="21600" y="0"/>
                </a:moveTo>
                <a:lnTo>
                  <a:pt x="21600" y="23558"/>
                </a:lnTo>
                <a:lnTo>
                  <a:pt x="20200" y="22158"/>
                </a:lnTo>
                <a:lnTo>
                  <a:pt x="20200" y="1400"/>
                </a:lnTo>
                <a:close/>
              </a:path>
              <a:path fill="darkenLess" w="21600" h="23558">
                <a:moveTo>
                  <a:pt x="21600" y="23558"/>
                </a:moveTo>
                <a:lnTo>
                  <a:pt x="0" y="23558"/>
                </a:lnTo>
                <a:lnTo>
                  <a:pt x="1400" y="22158"/>
                </a:lnTo>
                <a:lnTo>
                  <a:pt x="20200" y="22158"/>
                </a:lnTo>
                <a:close/>
              </a:path>
              <a:path fill="lighten" w="21600" h="23558">
                <a:moveTo>
                  <a:pt x="0" y="235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8"/>
                </a:lnTo>
                <a:close/>
              </a:path>
              <a:path fill="darken" w="21600" h="23558">
                <a:moveTo>
                  <a:pt x="10800" y="4816"/>
                </a:moveTo>
                <a:lnTo>
                  <a:pt x="13376" y="7427"/>
                </a:lnTo>
                <a:lnTo>
                  <a:pt x="13376" y="5687"/>
                </a:lnTo>
                <a:lnTo>
                  <a:pt x="15152" y="5687"/>
                </a:lnTo>
                <a:lnTo>
                  <a:pt x="15152" y="9203"/>
                </a:lnTo>
                <a:lnTo>
                  <a:pt x="17763" y="11779"/>
                </a:lnTo>
                <a:lnTo>
                  <a:pt x="16109" y="11779"/>
                </a:lnTo>
                <a:lnTo>
                  <a:pt x="16109" y="18968"/>
                </a:lnTo>
                <a:lnTo>
                  <a:pt x="5491" y="18968"/>
                </a:lnTo>
                <a:lnTo>
                  <a:pt x="5491" y="11779"/>
                </a:lnTo>
                <a:lnTo>
                  <a:pt x="3837" y="11779"/>
                </a:lnTo>
                <a:close/>
              </a:path>
              <a:path fill="darkenLess" w="21600" h="23558">
                <a:moveTo>
                  <a:pt x="13376" y="7427"/>
                </a:moveTo>
                <a:lnTo>
                  <a:pt x="13376" y="5687"/>
                </a:lnTo>
                <a:lnTo>
                  <a:pt x="15152" y="5687"/>
                </a:lnTo>
                <a:lnTo>
                  <a:pt x="15152" y="9203"/>
                </a:lnTo>
                <a:close/>
              </a:path>
              <a:path fill="darkenLess" w="21600" h="23558">
                <a:moveTo>
                  <a:pt x="9877" y="15278"/>
                </a:moveTo>
                <a:lnTo>
                  <a:pt x="11723" y="15278"/>
                </a:lnTo>
                <a:lnTo>
                  <a:pt x="11723" y="18968"/>
                </a:lnTo>
                <a:lnTo>
                  <a:pt x="16109" y="18968"/>
                </a:lnTo>
                <a:lnTo>
                  <a:pt x="16109" y="11779"/>
                </a:lnTo>
                <a:lnTo>
                  <a:pt x="5491" y="11779"/>
                </a:lnTo>
                <a:lnTo>
                  <a:pt x="5491" y="18968"/>
                </a:lnTo>
                <a:lnTo>
                  <a:pt x="9877" y="18968"/>
                </a:lnTo>
                <a:close/>
              </a:path>
            </a:pathLst>
          </a:custGeom>
          <a:solidFill>
            <a:srgbClr val="00349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932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56800" y="1500120"/>
            <a:ext cx="765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2002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 u="sng">
                <a:solidFill>
                  <a:srgbClr val="17bbfd"/>
                </a:solidFill>
                <a:uFillTx/>
                <a:latin typeface="Constantia"/>
                <a:hlinkClick r:id="rId1" action="ppaction://hlinksldjump"/>
              </a:rPr>
              <a:t>Задание части 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72002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17bbfd"/>
                </a:solidFill>
                <a:uFillTx/>
                <a:latin typeface="Constantia"/>
                <a:hlinkClick r:id="rId2" action="ppaction://hlinksldjump"/>
              </a:rPr>
              <a:t>Формулируем проблему текс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72002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1a4f"/>
                </a:solidFill>
                <a:latin typeface="Constantia"/>
              </a:rPr>
              <a:t> </a:t>
            </a:r>
            <a:r>
              <a:rPr b="0" lang="ru-RU" sz="2600" spc="-1" strike="noStrike" u="sng">
                <a:solidFill>
                  <a:srgbClr val="17bbfd"/>
                </a:solidFill>
                <a:uFillTx/>
                <a:latin typeface="Constantia"/>
                <a:hlinkClick r:id="rId3" action="ppaction://hlinksldjump"/>
              </a:rPr>
              <a:t>Учимся комментиров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72002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1a4f"/>
                </a:solidFill>
                <a:latin typeface="Constantia"/>
              </a:rPr>
              <a:t> </a:t>
            </a:r>
            <a:r>
              <a:rPr b="0" lang="ru-RU" sz="2600" spc="-1" strike="noStrike" u="sng">
                <a:solidFill>
                  <a:srgbClr val="17bbfd"/>
                </a:solidFill>
                <a:uFillTx/>
                <a:latin typeface="Constantia"/>
                <a:hlinkClick r:id="rId4" action="ppaction://hlinksldjump"/>
              </a:rPr>
              <a:t>Позиция авто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72002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17bbfd"/>
                </a:solidFill>
                <a:uFillTx/>
                <a:latin typeface="Constantia"/>
                <a:hlinkClick r:id="rId5" action="ppaction://hlinksldjump"/>
              </a:rPr>
              <a:t> Своя позиция и аргумен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72002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1a4f"/>
                </a:solidFill>
                <a:latin typeface="Constantia"/>
              </a:rPr>
              <a:t> </a:t>
            </a:r>
            <a:r>
              <a:rPr b="0" lang="ru-RU" sz="2600" spc="-1" strike="noStrike" u="sng">
                <a:solidFill>
                  <a:srgbClr val="17bbfd"/>
                </a:solidFill>
                <a:uFillTx/>
                <a:latin typeface="Constantia"/>
                <a:hlinkClick r:id="rId6" action="ppaction://hlinksldjump"/>
              </a:rPr>
              <a:t>Композиция сочин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72002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1a4f"/>
                </a:solidFill>
                <a:latin typeface="Constantia"/>
              </a:rPr>
              <a:t> </a:t>
            </a:r>
            <a:r>
              <a:rPr b="0" lang="ru-RU" sz="2600" spc="-1" strike="noStrike" u="sng">
                <a:solidFill>
                  <a:srgbClr val="17bbfd"/>
                </a:solidFill>
                <a:uFillTx/>
                <a:latin typeface="Constantia"/>
                <a:hlinkClick r:id="rId7" action="ppaction://hlinksldjump"/>
              </a:rPr>
              <a:t>Поговорим об ошибка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72002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1a4f"/>
                </a:solidFill>
                <a:latin typeface="Constantia"/>
              </a:rPr>
              <a:t> </a:t>
            </a:r>
            <a:r>
              <a:rPr b="0" lang="ru-RU" sz="2600" spc="-1" strike="noStrike" u="sng">
                <a:solidFill>
                  <a:srgbClr val="17bbfd"/>
                </a:solidFill>
                <a:uFillTx/>
                <a:latin typeface="Constantia"/>
                <a:hlinkClick r:id="rId8" action="ppaction://hlinksldjump"/>
              </a:rPr>
              <a:t>Обобщ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Прямоугольник 3" descr=""/>
          <p:cNvPicPr/>
          <p:nvPr/>
        </p:nvPicPr>
        <p:blipFill>
          <a:blip r:embed="rId9"/>
          <a:stretch/>
        </p:blipFill>
        <p:spPr>
          <a:xfrm>
            <a:off x="1914480" y="231840"/>
            <a:ext cx="6004080" cy="115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14200" y="3571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Структура второй части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Схема 2" descr=""/>
          <p:cNvPicPr/>
          <p:nvPr/>
        </p:nvPicPr>
        <p:blipFill>
          <a:blip r:embed="rId1"/>
          <a:stretch/>
        </p:blipFill>
        <p:spPr>
          <a:xfrm>
            <a:off x="493560" y="2109960"/>
            <a:ext cx="8229600" cy="46148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214200" y="50004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Тези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642960" y="16430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сочинении ЕГЭ тезис – это позиция автора текста, которую вы стараетесь обосновать, доказать или опровергн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642960" y="300024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Тезис подчиняется следующим правил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785880" y="3500280"/>
            <a:ext cx="6858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Формулируется чётко и недвусмысл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Не изменяется в течение всего об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Его истинность должна быть доказана неопровержи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Доказательства не могут исходить из тез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214200" y="357120"/>
            <a:ext cx="864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onstantia"/>
              </a:rPr>
              <a:t>Конструкции для выражения своей пози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Схема 4" descr=""/>
          <p:cNvPicPr/>
          <p:nvPr/>
        </p:nvPicPr>
        <p:blipFill>
          <a:blip r:embed="rId1"/>
          <a:stretch/>
        </p:blipFill>
        <p:spPr>
          <a:xfrm>
            <a:off x="66600" y="1962000"/>
            <a:ext cx="8742600" cy="4640400"/>
          </a:xfrm>
          <a:prstGeom prst="rect">
            <a:avLst/>
          </a:prstGeom>
          <a:ln w="0">
            <a:noFill/>
          </a:ln>
        </p:spPr>
      </p:pic>
      <p:sp>
        <p:nvSpPr>
          <p:cNvPr id="279" name="Скругленный прямоугольник 3"/>
          <p:cNvSpPr/>
          <p:nvPr/>
        </p:nvSpPr>
        <p:spPr>
          <a:xfrm>
            <a:off x="3286080" y="5072040"/>
            <a:ext cx="5572080" cy="1357200"/>
          </a:xfrm>
          <a:prstGeom prst="roundRect">
            <a:avLst>
              <a:gd name="adj" fmla="val 16667"/>
            </a:avLst>
          </a:prstGeom>
          <a:solidFill>
            <a:srgbClr val="002e69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большинстве текстов утверждаются очевидные истины, которые вряд ли целесообразно оспаривать. НЕ СТОИТ СТРЕМИТЬСЯ К «СПОРУ РАДИ СПО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5"/>
          <p:cNvSpPr/>
          <p:nvPr/>
        </p:nvSpPr>
        <p:spPr>
          <a:xfrm>
            <a:off x="3286080" y="5072040"/>
            <a:ext cx="5572080" cy="1428840"/>
          </a:xfrm>
          <a:prstGeom prst="roundRect">
            <a:avLst>
              <a:gd name="adj" fmla="val 16667"/>
            </a:avLst>
          </a:prstGeom>
          <a:solidFill>
            <a:srgbClr val="002e69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Спор с автором требует от пишущего подчёркнутой корректности, вежл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1"/>
          <p:cNvSpPr/>
          <p:nvPr/>
        </p:nvSpPr>
        <p:spPr>
          <a:xfrm>
            <a:off x="214200" y="5000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Что такое аргументаци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"/>
          <p:cNvSpPr/>
          <p:nvPr/>
        </p:nvSpPr>
        <p:spPr>
          <a:xfrm>
            <a:off x="500040" y="1428840"/>
            <a:ext cx="814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Аргументация – это приведение доказательств, объяснений, примеров для обоснования какой-либо мысли перед слушателями (читателями) или собесед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428760" y="314316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003f"/>
                </a:solidFill>
                <a:latin typeface="Constantia"/>
              </a:rPr>
              <a:t>Аргументация – это доказательства, приводимые в поддержку тез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4"/>
          <p:cNvSpPr/>
          <p:nvPr/>
        </p:nvSpPr>
        <p:spPr>
          <a:xfrm>
            <a:off x="357120" y="4286160"/>
            <a:ext cx="87868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6"/>
                </a:solidFill>
                <a:latin typeface="Constantia"/>
              </a:rPr>
              <a:t>От тезиса к аргументам можно поставить вопрос: «Почему?», а аргументы отвечают: «Потому ч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b0043"/>
                </a:solidFill>
                <a:uFillTx/>
                <a:latin typeface="Constantia"/>
              </a:rPr>
              <a:t>Аргументы надо приводить в системе </a:t>
            </a:r>
            <a:r>
              <a:rPr b="1" lang="ru-RU" sz="2400" spc="-1" strike="noStrike">
                <a:solidFill>
                  <a:srgbClr val="262626"/>
                </a:solidFill>
                <a:latin typeface="Constantia"/>
              </a:rPr>
              <a:t>(</a:t>
            </a:r>
            <a:r>
              <a:rPr b="1" lang="ru-RU" sz="2000" spc="-1" strike="noStrike">
                <a:solidFill>
                  <a:srgbClr val="262626"/>
                </a:solidFill>
                <a:latin typeface="Constantia"/>
              </a:rPr>
              <a:t>Рекомендуют располагать аргументы таким образом, чтобы их доказательная сила возрастала</a:t>
            </a:r>
            <a:r>
              <a:rPr b="1" lang="ru-RU" sz="2400" spc="-1" strike="noStrike">
                <a:solidFill>
                  <a:srgbClr val="262626"/>
                </a:solidFill>
                <a:latin typeface="Constantia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400" spc="-1" strike="noStrike" u="sng">
                <a:solidFill>
                  <a:srgbClr val="ab0043"/>
                </a:solidFill>
                <a:uFillTx/>
                <a:latin typeface="Constantia"/>
              </a:rPr>
              <a:t>Последний аргумент фиксируется в памяти лучш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214200" y="50004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Типы аргумен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"/>
          <p:cNvSpPr/>
          <p:nvPr/>
        </p:nvSpPr>
        <p:spPr>
          <a:xfrm>
            <a:off x="428760" y="150012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Чаще всего используются следующие аргум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Факты и со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    </a:t>
            </a: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Ссылки на авторитетных людей, цитаты из    их трудов и произве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     </a:t>
            </a: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Пословицы и погов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    </a:t>
            </a: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Примеры из личной жизни и жизни окружа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     </a:t>
            </a: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Примеры из художествен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214200" y="50004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Типы аргумен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3"/>
          <p:cNvSpPr/>
          <p:nvPr/>
        </p:nvSpPr>
        <p:spPr>
          <a:xfrm>
            <a:off x="428760" y="1428840"/>
            <a:ext cx="8143920" cy="4429080"/>
          </a:xfrm>
          <a:prstGeom prst="rect">
            <a:avLst/>
          </a:prstGeom>
          <a:solidFill>
            <a:srgbClr val="75005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71ff"/>
                </a:solidFill>
                <a:latin typeface="Constantia"/>
              </a:rPr>
              <a:t>По характеру связи с тезисом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различают аргументы </a:t>
            </a:r>
            <a:r>
              <a:rPr b="1" lang="ru-RU" sz="2400" spc="-1" strike="noStrike">
                <a:solidFill>
                  <a:srgbClr val="0d0d0d"/>
                </a:solidFill>
                <a:latin typeface="Constantia"/>
              </a:rPr>
              <a:t>ЗА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(свой тезис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аргументы </a:t>
            </a:r>
            <a:r>
              <a:rPr b="1" lang="ru-RU" sz="2400" spc="-1" strike="noStrike">
                <a:solidFill>
                  <a:srgbClr val="0d0d0d"/>
                </a:solidFill>
                <a:latin typeface="Constantia"/>
              </a:rPr>
              <a:t>ПРОТИВ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(чужого тези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Группа 10" descr=""/>
          <p:cNvPicPr/>
          <p:nvPr/>
        </p:nvPicPr>
        <p:blipFill>
          <a:blip r:embed="rId1"/>
          <a:stretch/>
        </p:blipFill>
        <p:spPr>
          <a:xfrm>
            <a:off x="554040" y="2554200"/>
            <a:ext cx="31100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290" name="Группа 12"/>
          <p:cNvGrpSpPr/>
          <p:nvPr/>
        </p:nvGrpSpPr>
        <p:grpSpPr>
          <a:xfrm>
            <a:off x="5214960" y="2500200"/>
            <a:ext cx="2928960" cy="3431520"/>
            <a:chOff x="5214960" y="2500200"/>
            <a:chExt cx="2928960" cy="3431520"/>
          </a:xfrm>
        </p:grpSpPr>
        <p:sp>
          <p:nvSpPr>
            <p:cNvPr id="291" name="Выноска со стрелкой вверх 5"/>
            <p:cNvSpPr/>
            <p:nvPr/>
          </p:nvSpPr>
          <p:spPr>
            <a:xfrm>
              <a:off x="5214960" y="2500200"/>
              <a:ext cx="2857680" cy="3214800"/>
            </a:xfrm>
            <a:prstGeom prst="upArrowCallout">
              <a:avLst>
                <a:gd name="adj1" fmla="val 25002"/>
                <a:gd name="adj2" fmla="val 25000"/>
                <a:gd name="adj3" fmla="val 24999"/>
                <a:gd name="adj4" fmla="val 70041"/>
              </a:avLst>
            </a:prstGeom>
            <a:solidFill>
              <a:srgbClr val="ffc0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7"/>
            <p:cNvSpPr/>
            <p:nvPr/>
          </p:nvSpPr>
          <p:spPr>
            <a:xfrm>
              <a:off x="6143760" y="285732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проти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1"/>
            <p:cNvSpPr/>
            <p:nvPr/>
          </p:nvSpPr>
          <p:spPr>
            <a:xfrm>
              <a:off x="5286240" y="3643200"/>
              <a:ext cx="28576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Должны убедить в том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что доводы, приводимые в поддержку критикуемого вами тезиса, слабые, не выдерживают крити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Прямоугольник 13"/>
          <p:cNvSpPr/>
          <p:nvPr/>
        </p:nvSpPr>
        <p:spPr>
          <a:xfrm>
            <a:off x="428760" y="1428840"/>
            <a:ext cx="8143920" cy="4429080"/>
          </a:xfrm>
          <a:prstGeom prst="rect">
            <a:avLst/>
          </a:prstGeom>
          <a:solidFill>
            <a:srgbClr val="68007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71ff"/>
                </a:solidFill>
                <a:latin typeface="Constantia"/>
              </a:rPr>
              <a:t>С точки зрения содержания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принято различать арг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Блок-схема: решение 15"/>
          <p:cNvSpPr/>
          <p:nvPr/>
        </p:nvSpPr>
        <p:spPr>
          <a:xfrm>
            <a:off x="4071960" y="2928960"/>
            <a:ext cx="4929120" cy="2428920"/>
          </a:xfrm>
          <a:prstGeom prst="flowChartDecision">
            <a:avLst/>
          </a:prstGeom>
          <a:solidFill>
            <a:srgbClr val="00b05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скус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Блок-схема: решение 14"/>
          <p:cNvSpPr/>
          <p:nvPr/>
        </p:nvSpPr>
        <p:spPr>
          <a:xfrm>
            <a:off x="142920" y="2928960"/>
            <a:ext cx="4714920" cy="2428920"/>
          </a:xfrm>
          <a:prstGeom prst="flowChartDecision">
            <a:avLst/>
          </a:prstGeom>
          <a:solidFill>
            <a:srgbClr val="00449e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есте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Управляющая кнопка: домой 17"/>
          <p:cNvSpPr/>
          <p:nvPr/>
        </p:nvSpPr>
        <p:spPr>
          <a:xfrm>
            <a:off x="8143920" y="6000840"/>
            <a:ext cx="1000080" cy="857160"/>
          </a:xfrm>
          <a:custGeom>
            <a:avLst/>
            <a:gdLst>
              <a:gd name="textAreaLeft" fmla="*/ 55440 w 1000080"/>
              <a:gd name="textAreaRight" fmla="*/ 944640 w 100008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5200" h="21600">
                <a:moveTo>
                  <a:pt x="0" y="0"/>
                </a:moveTo>
                <a:lnTo>
                  <a:pt x="25200" y="0"/>
                </a:lnTo>
                <a:lnTo>
                  <a:pt x="25200" y="21600"/>
                </a:lnTo>
                <a:lnTo>
                  <a:pt x="0" y="21600"/>
                </a:lnTo>
                <a:close/>
              </a:path>
              <a:path fill="lightenLess" w="25200" h="21600">
                <a:moveTo>
                  <a:pt x="0" y="0"/>
                </a:moveTo>
                <a:lnTo>
                  <a:pt x="25200" y="0"/>
                </a:lnTo>
                <a:lnTo>
                  <a:pt x="23800" y="1400"/>
                </a:lnTo>
                <a:lnTo>
                  <a:pt x="1400" y="1400"/>
                </a:lnTo>
                <a:close/>
              </a:path>
              <a:path fill="darken" w="25200" h="21600">
                <a:moveTo>
                  <a:pt x="25200" y="0"/>
                </a:moveTo>
                <a:lnTo>
                  <a:pt x="25200" y="21600"/>
                </a:lnTo>
                <a:lnTo>
                  <a:pt x="23800" y="20200"/>
                </a:lnTo>
                <a:lnTo>
                  <a:pt x="23800" y="1400"/>
                </a:lnTo>
                <a:close/>
              </a:path>
              <a:path fill="darkenLess" w="25200" h="21600">
                <a:moveTo>
                  <a:pt x="25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0" y="20200"/>
                </a:lnTo>
                <a:close/>
              </a:path>
              <a:path fill="lighten" w="25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0" h="21600">
                <a:moveTo>
                  <a:pt x="12600" y="3837"/>
                </a:moveTo>
                <a:lnTo>
                  <a:pt x="15176" y="6448"/>
                </a:lnTo>
                <a:lnTo>
                  <a:pt x="15176" y="4707"/>
                </a:lnTo>
                <a:lnTo>
                  <a:pt x="16952" y="4707"/>
                </a:lnTo>
                <a:lnTo>
                  <a:pt x="16952" y="8224"/>
                </a:lnTo>
                <a:lnTo>
                  <a:pt x="19563" y="10800"/>
                </a:lnTo>
                <a:lnTo>
                  <a:pt x="17909" y="10800"/>
                </a:lnTo>
                <a:lnTo>
                  <a:pt x="17909" y="17989"/>
                </a:lnTo>
                <a:lnTo>
                  <a:pt x="7291" y="17989"/>
                </a:lnTo>
                <a:lnTo>
                  <a:pt x="7291" y="10800"/>
                </a:lnTo>
                <a:lnTo>
                  <a:pt x="5637" y="10800"/>
                </a:lnTo>
                <a:close/>
              </a:path>
              <a:path fill="darkenLess" w="25200" h="21600">
                <a:moveTo>
                  <a:pt x="15176" y="6448"/>
                </a:moveTo>
                <a:lnTo>
                  <a:pt x="15176" y="4707"/>
                </a:lnTo>
                <a:lnTo>
                  <a:pt x="16952" y="4707"/>
                </a:lnTo>
                <a:lnTo>
                  <a:pt x="16952" y="8224"/>
                </a:lnTo>
                <a:close/>
              </a:path>
              <a:path fill="darkenLess" w="25200" h="21600">
                <a:moveTo>
                  <a:pt x="11677" y="14299"/>
                </a:moveTo>
                <a:lnTo>
                  <a:pt x="13523" y="14299"/>
                </a:lnTo>
                <a:lnTo>
                  <a:pt x="13523" y="17989"/>
                </a:lnTo>
                <a:lnTo>
                  <a:pt x="17909" y="17989"/>
                </a:lnTo>
                <a:lnTo>
                  <a:pt x="17909" y="10800"/>
                </a:lnTo>
                <a:lnTo>
                  <a:pt x="7291" y="10800"/>
                </a:lnTo>
                <a:lnTo>
                  <a:pt x="7291" y="17989"/>
                </a:lnTo>
                <a:lnTo>
                  <a:pt x="11677" y="17989"/>
                </a:lnTo>
                <a:close/>
              </a:path>
            </a:pathLst>
          </a:custGeom>
          <a:solidFill>
            <a:srgbClr val="00349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932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2"/>
          <p:cNvSpPr/>
          <p:nvPr/>
        </p:nvSpPr>
        <p:spPr>
          <a:xfrm>
            <a:off x="214200" y="2858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Естественные аргумен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>
            <a:off x="571680" y="20001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Естественные аргументы – это показания свидетелей, документы, то есть всё то, что удостоверено людьми благодаря тому, что они видели или слышали. Существуют в «готовом вид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Схема 5" descr=""/>
          <p:cNvPicPr/>
          <p:nvPr/>
        </p:nvPicPr>
        <p:blipFill>
          <a:blip r:embed="rId1"/>
          <a:stretch/>
        </p:blipFill>
        <p:spPr>
          <a:xfrm>
            <a:off x="633240" y="2036880"/>
            <a:ext cx="7589880" cy="4572000"/>
          </a:xfrm>
          <a:prstGeom prst="rect">
            <a:avLst/>
          </a:prstGeom>
          <a:ln w="0">
            <a:noFill/>
          </a:ln>
        </p:spPr>
      </p:pic>
      <p:sp>
        <p:nvSpPr>
          <p:cNvPr id="301" name="Управляющая кнопка: возврат 6"/>
          <p:cNvSpPr/>
          <p:nvPr/>
        </p:nvSpPr>
        <p:spPr>
          <a:xfrm>
            <a:off x="8143920" y="62150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68007f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1e0027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2"/>
          <p:cNvSpPr/>
          <p:nvPr/>
        </p:nvSpPr>
        <p:spPr>
          <a:xfrm>
            <a:off x="214200" y="2858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Искусственные аргумен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1143000" y="2357280"/>
            <a:ext cx="692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Искусственные аргументы так или иначе связаны с необходимостью рассуждать. Мы создаём их сами, обращаясь к разуму или чувствам убеждаем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Схема 4" descr=""/>
          <p:cNvPicPr/>
          <p:nvPr/>
        </p:nvPicPr>
        <p:blipFill>
          <a:blip r:embed="rId1"/>
          <a:stretch/>
        </p:blipFill>
        <p:spPr>
          <a:xfrm>
            <a:off x="66600" y="1974960"/>
            <a:ext cx="8906040" cy="4687920"/>
          </a:xfrm>
          <a:prstGeom prst="rect">
            <a:avLst/>
          </a:prstGeom>
          <a:ln w="0">
            <a:noFill/>
          </a:ln>
        </p:spPr>
      </p:pic>
      <p:sp>
        <p:nvSpPr>
          <p:cNvPr id="305" name="Управляющая кнопка: возврат 6"/>
          <p:cNvSpPr/>
          <p:nvPr/>
        </p:nvSpPr>
        <p:spPr>
          <a:xfrm>
            <a:off x="8143920" y="62150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68007f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1e0027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1"/>
          <p:cNvSpPr/>
          <p:nvPr/>
        </p:nvSpPr>
        <p:spPr>
          <a:xfrm>
            <a:off x="214200" y="2858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Композиция сочин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Схема 3" descr=""/>
          <p:cNvPicPr/>
          <p:nvPr/>
        </p:nvPicPr>
        <p:blipFill>
          <a:blip r:embed="rId1"/>
          <a:stretch/>
        </p:blipFill>
        <p:spPr>
          <a:xfrm>
            <a:off x="609480" y="1359000"/>
            <a:ext cx="8315280" cy="53229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1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1"/>
          <p:cNvSpPr/>
          <p:nvPr/>
        </p:nvSpPr>
        <p:spPr>
          <a:xfrm>
            <a:off x="214200" y="21420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С чего нача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714240" y="1143000"/>
            <a:ext cx="757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Начало сочинения – это  визитная карточка автора сочинения. По первым фразам можно сделать определённые выводы о богатстве словарного запаса пишущего, о его умении мыслить и строить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428760" y="2887560"/>
            <a:ext cx="828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ЗА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776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Не должен быть очень больш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776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Должен быть органично связан с основным текстом сочинения не только по содержанию, но и по эмоциональному настрою, использованию средств вырази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776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Основная цель вступления – подвести к формулировк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785880" y="1571400"/>
            <a:ext cx="79293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пишите сочинение по прочитанному текст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формулируйте и прокомментируйте одну из проблем, поставленных автором текста (избегайте чрезмерного цитирования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формулируйте позицию автора. Напишите, согласны или не согласны вы с точкой зрения автора прочитанного текста. Объясните почему. Свой ответ аргументируйте, опираясь на знания, жизненный или читательский опыт (учитываются первые два аргумента).           Объём сочинения не менее 150 сл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Прямоугольник 3" descr=""/>
          <p:cNvPicPr/>
          <p:nvPr/>
        </p:nvPicPr>
        <p:blipFill>
          <a:blip r:embed="rId1"/>
          <a:stretch/>
        </p:blipFill>
        <p:spPr>
          <a:xfrm>
            <a:off x="1670040" y="231840"/>
            <a:ext cx="6394320" cy="115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1"/>
          <p:cNvSpPr/>
          <p:nvPr/>
        </p:nvSpPr>
        <p:spPr>
          <a:xfrm>
            <a:off x="214200" y="28584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Чем закончи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Управляющая кнопка: домой 4"/>
          <p:cNvSpPr/>
          <p:nvPr/>
        </p:nvSpPr>
        <p:spPr>
          <a:xfrm>
            <a:off x="8215200" y="5929200"/>
            <a:ext cx="928800" cy="928800"/>
          </a:xfrm>
          <a:custGeom>
            <a:avLst/>
            <a:gdLst>
              <a:gd name="textAreaLeft" fmla="*/ 60120 w 928800"/>
              <a:gd name="textAreaRight" fmla="*/ 868680 w 928800"/>
              <a:gd name="textAreaTop" fmla="*/ 60120 h 928800"/>
              <a:gd name="textAreaBottom" fmla="*/ 868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349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932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714240" y="1357200"/>
            <a:ext cx="785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Основное требование к заключению: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заключение должно быть таким, чтобы читатель понял, что самое главное уже сказано и говорить больше не о чем.</a:t>
            </a: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642960" y="3071880"/>
            <a:ext cx="707220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Должно быть коротким и ём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Должно быть логически связано с основной ча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Как и вступление, должно быть выдержано в той же эмоциональной тональности, что и основн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-225360"/>
            <a:ext cx="8515080" cy="2225520"/>
          </a:xfrm>
          <a:prstGeom prst="rect">
            <a:avLst/>
          </a:prstGeom>
          <a:ln w="0">
            <a:noFill/>
          </a:ln>
        </p:spPr>
      </p:pic>
      <p:sp>
        <p:nvSpPr>
          <p:cNvPr id="316" name="TextBox 2"/>
          <p:cNvSpPr/>
          <p:nvPr/>
        </p:nvSpPr>
        <p:spPr>
          <a:xfrm>
            <a:off x="0" y="1928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776"/>
                </a:solidFill>
                <a:uFillTx/>
                <a:latin typeface="Constantia"/>
              </a:rPr>
              <a:t>ОСНОВНЫЕ ЭТАПЫ РАБОТЫ НАД СОЧИ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3"/>
          <p:cNvSpPr/>
          <p:nvPr/>
        </p:nvSpPr>
        <p:spPr>
          <a:xfrm>
            <a:off x="142920" y="2428920"/>
            <a:ext cx="900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ab0043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b0043"/>
                </a:solidFill>
                <a:latin typeface="Constantia"/>
              </a:rPr>
              <a:t>Внимательно прочитайте текст </a:t>
            </a:r>
            <a:r>
              <a:rPr b="1" i="1" lang="ru-RU" sz="2000" spc="-1" strike="noStrike">
                <a:solidFill>
                  <a:srgbClr val="34003f"/>
                </a:solidFill>
                <a:latin typeface="Constantia"/>
              </a:rPr>
              <a:t>(обратить внимание на ключевые фразы и оценочные слова, чтобы выделить проблему и позицию авто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b0043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b0043"/>
                </a:solidFill>
                <a:latin typeface="Constantia"/>
              </a:rPr>
              <a:t>Сформулируйте проблему и позицию автор</a:t>
            </a:r>
            <a:r>
              <a:rPr b="1" i="1" lang="ru-RU" sz="2800" spc="-1" strike="noStrike">
                <a:solidFill>
                  <a:srgbClr val="34003f"/>
                </a:solidFill>
                <a:latin typeface="Constant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b0043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b0043"/>
                </a:solidFill>
                <a:latin typeface="Constantia"/>
              </a:rPr>
              <a:t>Продумайте комментарий </a:t>
            </a:r>
            <a:r>
              <a:rPr b="1" i="1" lang="ru-RU" sz="2000" spc="-1" strike="noStrike">
                <a:solidFill>
                  <a:srgbClr val="34003f"/>
                </a:solidFill>
                <a:latin typeface="Constantia"/>
              </a:rPr>
              <a:t>( следите, чтобы он логично связал формулировку проблемы и позицию автора. Подберите цитаты из текста, которые помогут подтвердить правильность вашего понимания авторского тек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b0043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b0043"/>
                </a:solidFill>
                <a:latin typeface="Constantia"/>
              </a:rPr>
              <a:t>Определите своё отношение к позиции автора </a:t>
            </a:r>
            <a:r>
              <a:rPr b="1" i="1" lang="ru-RU" sz="2000" spc="-1" strike="noStrike">
                <a:solidFill>
                  <a:srgbClr val="34003f"/>
                </a:solidFill>
                <a:latin typeface="Constantia"/>
              </a:rPr>
              <a:t>(согласие/несогласие). </a:t>
            </a:r>
            <a:r>
              <a:rPr b="1" i="1" lang="ru-RU" sz="2800" spc="-1" strike="noStrike">
                <a:solidFill>
                  <a:srgbClr val="ab0043"/>
                </a:solidFill>
                <a:latin typeface="Constantia"/>
              </a:rPr>
              <a:t>Подберите аргументы </a:t>
            </a:r>
            <a:r>
              <a:rPr b="1" i="1" lang="ru-RU" sz="2000" spc="-1" strike="noStrike">
                <a:solidFill>
                  <a:srgbClr val="34003f"/>
                </a:solidFill>
                <a:latin typeface="Constantia"/>
              </a:rPr>
              <a:t>(они должны подтверждать или опровергать мнение авто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-225360"/>
            <a:ext cx="8515080" cy="2225520"/>
          </a:xfrm>
          <a:prstGeom prst="rect">
            <a:avLst/>
          </a:prstGeom>
          <a:ln w="0">
            <a:noFill/>
          </a:ln>
        </p:spPr>
      </p:pic>
      <p:sp>
        <p:nvSpPr>
          <p:cNvPr id="319" name="TextBox 2"/>
          <p:cNvSpPr/>
          <p:nvPr/>
        </p:nvSpPr>
        <p:spPr>
          <a:xfrm>
            <a:off x="0" y="1928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776"/>
                </a:solidFill>
                <a:uFillTx/>
                <a:latin typeface="Constantia"/>
              </a:rPr>
              <a:t>ОСНОВНЫЕ ЭТАПЫ РАБОТЫ НАД СОЧИ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142920" y="2571840"/>
            <a:ext cx="900108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b0043"/>
                </a:solidFill>
                <a:latin typeface="Constantia"/>
              </a:rPr>
              <a:t>5. Продумайте композицию сочинения </a:t>
            </a:r>
            <a:r>
              <a:rPr b="1" i="1" lang="ru-RU" sz="2000" spc="-1" strike="noStrike">
                <a:solidFill>
                  <a:srgbClr val="34003f"/>
                </a:solidFill>
                <a:latin typeface="Constantia"/>
              </a:rPr>
              <a:t>(определите, какой тип зачина и заключения будет использов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b0043"/>
                </a:solidFill>
                <a:latin typeface="Constantia"/>
              </a:rPr>
              <a:t>6. Работая над черновиком</a:t>
            </a:r>
            <a:r>
              <a:rPr b="1" i="1" lang="ru-RU" sz="2000" spc="-1" strike="noStrike">
                <a:solidFill>
                  <a:srgbClr val="34003f"/>
                </a:solidFill>
                <a:latin typeface="Constantia"/>
              </a:rPr>
              <a:t>, продумайте логические связки между частями. Проверьте, насколько логика вашего сочинения соотносится с рассуждениями автора. Проверьте правильность деления на абза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b0043"/>
                </a:solidFill>
                <a:latin typeface="Constantia"/>
              </a:rPr>
              <a:t>7. Переписывая сочинение </a:t>
            </a:r>
            <a:r>
              <a:rPr b="1" i="1" lang="ru-RU" sz="2000" spc="-1" strike="noStrike">
                <a:solidFill>
                  <a:srgbClr val="34003f"/>
                </a:solidFill>
                <a:latin typeface="Constantia"/>
              </a:rPr>
              <a:t>в бланк ответа, будьте внимательны. Не допускайте ошибок при переписы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b0043"/>
                </a:solidFill>
                <a:latin typeface="Constantia"/>
              </a:rPr>
              <a:t>8. Перечитайте сочинение</a:t>
            </a:r>
            <a:r>
              <a:rPr b="1" i="1" lang="ru-RU" sz="2000" spc="-1" strike="noStrike">
                <a:solidFill>
                  <a:srgbClr val="34003f"/>
                </a:solidFill>
                <a:latin typeface="Constantia"/>
              </a:rPr>
              <a:t>, чтобы исправить допущенны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Управляющая кнопка: домой 4"/>
          <p:cNvSpPr/>
          <p:nvPr/>
        </p:nvSpPr>
        <p:spPr>
          <a:xfrm>
            <a:off x="8143920" y="6000840"/>
            <a:ext cx="1000080" cy="857160"/>
          </a:xfrm>
          <a:custGeom>
            <a:avLst/>
            <a:gdLst>
              <a:gd name="textAreaLeft" fmla="*/ 55440 w 1000080"/>
              <a:gd name="textAreaRight" fmla="*/ 944640 w 100008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5200" h="21600">
                <a:moveTo>
                  <a:pt x="0" y="0"/>
                </a:moveTo>
                <a:lnTo>
                  <a:pt x="25200" y="0"/>
                </a:lnTo>
                <a:lnTo>
                  <a:pt x="25200" y="21600"/>
                </a:lnTo>
                <a:lnTo>
                  <a:pt x="0" y="21600"/>
                </a:lnTo>
                <a:close/>
              </a:path>
              <a:path fill="lightenLess" w="25200" h="21600">
                <a:moveTo>
                  <a:pt x="0" y="0"/>
                </a:moveTo>
                <a:lnTo>
                  <a:pt x="25200" y="0"/>
                </a:lnTo>
                <a:lnTo>
                  <a:pt x="23800" y="1400"/>
                </a:lnTo>
                <a:lnTo>
                  <a:pt x="1400" y="1400"/>
                </a:lnTo>
                <a:close/>
              </a:path>
              <a:path fill="darken" w="25200" h="21600">
                <a:moveTo>
                  <a:pt x="25200" y="0"/>
                </a:moveTo>
                <a:lnTo>
                  <a:pt x="25200" y="21600"/>
                </a:lnTo>
                <a:lnTo>
                  <a:pt x="23800" y="20200"/>
                </a:lnTo>
                <a:lnTo>
                  <a:pt x="23800" y="1400"/>
                </a:lnTo>
                <a:close/>
              </a:path>
              <a:path fill="darkenLess" w="25200" h="21600">
                <a:moveTo>
                  <a:pt x="25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0" y="20200"/>
                </a:lnTo>
                <a:close/>
              </a:path>
              <a:path fill="lighten" w="25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0" h="21600">
                <a:moveTo>
                  <a:pt x="12600" y="3837"/>
                </a:moveTo>
                <a:lnTo>
                  <a:pt x="15176" y="6448"/>
                </a:lnTo>
                <a:lnTo>
                  <a:pt x="15176" y="4707"/>
                </a:lnTo>
                <a:lnTo>
                  <a:pt x="16952" y="4707"/>
                </a:lnTo>
                <a:lnTo>
                  <a:pt x="16952" y="8224"/>
                </a:lnTo>
                <a:lnTo>
                  <a:pt x="19563" y="10800"/>
                </a:lnTo>
                <a:lnTo>
                  <a:pt x="17909" y="10800"/>
                </a:lnTo>
                <a:lnTo>
                  <a:pt x="17909" y="17989"/>
                </a:lnTo>
                <a:lnTo>
                  <a:pt x="7291" y="17989"/>
                </a:lnTo>
                <a:lnTo>
                  <a:pt x="7291" y="10800"/>
                </a:lnTo>
                <a:lnTo>
                  <a:pt x="5637" y="10800"/>
                </a:lnTo>
                <a:close/>
              </a:path>
              <a:path fill="darkenLess" w="25200" h="21600">
                <a:moveTo>
                  <a:pt x="15176" y="6448"/>
                </a:moveTo>
                <a:lnTo>
                  <a:pt x="15176" y="4707"/>
                </a:lnTo>
                <a:lnTo>
                  <a:pt x="16952" y="4707"/>
                </a:lnTo>
                <a:lnTo>
                  <a:pt x="16952" y="8224"/>
                </a:lnTo>
                <a:close/>
              </a:path>
              <a:path fill="darkenLess" w="25200" h="21600">
                <a:moveTo>
                  <a:pt x="11677" y="14299"/>
                </a:moveTo>
                <a:lnTo>
                  <a:pt x="13523" y="14299"/>
                </a:lnTo>
                <a:lnTo>
                  <a:pt x="13523" y="17989"/>
                </a:lnTo>
                <a:lnTo>
                  <a:pt x="17909" y="17989"/>
                </a:lnTo>
                <a:lnTo>
                  <a:pt x="17909" y="10800"/>
                </a:lnTo>
                <a:lnTo>
                  <a:pt x="7291" y="10800"/>
                </a:lnTo>
                <a:lnTo>
                  <a:pt x="7291" y="17989"/>
                </a:lnTo>
                <a:lnTo>
                  <a:pt x="11677" y="17989"/>
                </a:lnTo>
                <a:close/>
              </a:path>
            </a:pathLst>
          </a:custGeom>
          <a:solidFill>
            <a:srgbClr val="00349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932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0" y="500040"/>
            <a:ext cx="930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Что такое проблема текст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Заголовок 4"/>
          <p:cNvSpPr/>
          <p:nvPr/>
        </p:nvSpPr>
        <p:spPr>
          <a:xfrm>
            <a:off x="428760" y="2500200"/>
            <a:ext cx="785160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Problema (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лат.)-задача, вопрос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ложный теоретический  или практический вопрос, требующий решения, исследовани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( См.Словарь русского языка. В 4-х т. / под ред. А.П.Евгеньевой. – М., 1981-19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Группа 3" descr=""/>
          <p:cNvPicPr/>
          <p:nvPr/>
        </p:nvPicPr>
        <p:blipFill>
          <a:blip r:embed="rId1"/>
          <a:stretch/>
        </p:blipFill>
        <p:spPr>
          <a:xfrm>
            <a:off x="341280" y="2341440"/>
            <a:ext cx="8534520" cy="3913200"/>
          </a:xfrm>
          <a:prstGeom prst="rect">
            <a:avLst/>
          </a:prstGeom>
          <a:ln w="0">
            <a:noFill/>
          </a:ln>
        </p:spPr>
      </p:pic>
      <p:grpSp>
        <p:nvGrpSpPr>
          <p:cNvPr id="206" name="Группа 6"/>
          <p:cNvGrpSpPr/>
          <p:nvPr/>
        </p:nvGrpSpPr>
        <p:grpSpPr>
          <a:xfrm>
            <a:off x="357120" y="2357280"/>
            <a:ext cx="8501040" cy="3861000"/>
            <a:chOff x="357120" y="2357280"/>
            <a:chExt cx="8501040" cy="3861000"/>
          </a:xfrm>
        </p:grpSpPr>
        <p:sp>
          <p:nvSpPr>
            <p:cNvPr id="207" name="Блок-схема: процесс 7"/>
            <p:cNvSpPr/>
            <p:nvPr/>
          </p:nvSpPr>
          <p:spPr>
            <a:xfrm>
              <a:off x="357120" y="2357280"/>
              <a:ext cx="8501040" cy="3861000"/>
            </a:xfrm>
            <a:prstGeom prst="flowChartProcess">
              <a:avLst/>
            </a:prstGeom>
            <a:solidFill>
              <a:srgbClr val="75005f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8"/>
            <p:cNvSpPr/>
            <p:nvPr/>
          </p:nvSpPr>
          <p:spPr>
            <a:xfrm>
              <a:off x="785520" y="2525400"/>
              <a:ext cx="72151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onstantia"/>
                </a:rPr>
                <a:t>Если сформулировать проблему не удаётся, подумайте о следующе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onstantia"/>
                </a:rPr>
                <a:t>Основная мысль текста – это ответ на некоторый вопрос, над которым размышлял автор. На какой вопрос отвечает автор своим текстом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c71ff"/>
                  </a:solidFill>
                  <a:latin typeface="Constantia"/>
                </a:rPr>
                <a:t>ЭТОТ ВОПРОС И ЕСТЬ 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Прямоугольник 1" descr=""/>
          <p:cNvPicPr/>
          <p:nvPr/>
        </p:nvPicPr>
        <p:blipFill>
          <a:blip r:embed="rId1"/>
          <a:stretch/>
        </p:blipFill>
        <p:spPr>
          <a:xfrm>
            <a:off x="1560600" y="371520"/>
            <a:ext cx="5864040" cy="11523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1692360" y="1916280"/>
            <a:ext cx="2590560" cy="2017440"/>
          </a:xfrm>
          <a:prstGeom prst="rect">
            <a:avLst/>
          </a:prstGeom>
          <a:solidFill>
            <a:srgbClr val="7500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7bbfd"/>
                </a:solidFill>
                <a:uFillTx/>
                <a:latin typeface="Arial Black"/>
                <a:hlinkClick r:id="rId2" action="ppaction://hlinksldjump"/>
              </a:rPr>
              <a:t>философ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68360" y="4292640"/>
            <a:ext cx="2663640" cy="2017800"/>
          </a:xfrm>
          <a:prstGeom prst="rect">
            <a:avLst/>
          </a:prstGeom>
          <a:solidFill>
            <a:srgbClr val="7500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7bbfd"/>
                </a:solidFill>
                <a:uFillTx/>
                <a:latin typeface="Arial Black"/>
                <a:hlinkClick r:id="rId3" action="ppaction://hlinksldjump"/>
              </a:rPr>
              <a:t>поли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6300720" y="4292640"/>
            <a:ext cx="2592360" cy="2017800"/>
          </a:xfrm>
          <a:prstGeom prst="rect">
            <a:avLst/>
          </a:prstGeom>
          <a:solidFill>
            <a:srgbClr val="7500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7bbfd"/>
                </a:solidFill>
                <a:uFillTx/>
                <a:latin typeface="Arial Black"/>
                <a:hlinkClick r:id="rId4" action="ppaction://hlinksldjump"/>
              </a:rPr>
              <a:t>нрав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348000" y="4292640"/>
            <a:ext cx="2736720" cy="2017800"/>
          </a:xfrm>
          <a:prstGeom prst="rect">
            <a:avLst/>
          </a:prstGeom>
          <a:solidFill>
            <a:srgbClr val="7500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7bbfd"/>
                </a:solidFill>
                <a:uFillTx/>
                <a:latin typeface="Arial Black"/>
                <a:hlinkClick r:id="rId5" action="ppaction://hlinksldjump"/>
              </a:rPr>
              <a:t>эколог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4859280" y="1916280"/>
            <a:ext cx="2592360" cy="2017440"/>
          </a:xfrm>
          <a:prstGeom prst="rect">
            <a:avLst/>
          </a:prstGeom>
          <a:solidFill>
            <a:srgbClr val="7500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7bbfd"/>
                </a:solidFill>
                <a:uFillTx/>
                <a:latin typeface="Arial Black"/>
                <a:hlinkClick r:id="rId6" action="ppaction://hlinksldjump"/>
              </a:rPr>
              <a:t>со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Прямоугольник 1" descr=""/>
          <p:cNvPicPr/>
          <p:nvPr/>
        </p:nvPicPr>
        <p:blipFill>
          <a:blip r:embed="rId1"/>
          <a:stretch/>
        </p:blipFill>
        <p:spPr>
          <a:xfrm>
            <a:off x="79200" y="585720"/>
            <a:ext cx="9156960" cy="11509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928800" y="200016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трагивают самые общие особенности развития природы, общества,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928800" y="3000240"/>
            <a:ext cx="7000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В чём смысл человеческой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Что такое своб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Как связаны человек и мышл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Управляющая кнопка: возврат 5">
            <a:hlinkClick r:id="rId2" action="ppaction://hlinksldjump"/>
          </p:cNvPr>
          <p:cNvSpPr/>
          <p:nvPr/>
        </p:nvSpPr>
        <p:spPr>
          <a:xfrm>
            <a:off x="7929720" y="6215040"/>
            <a:ext cx="1214280" cy="642960"/>
          </a:xfrm>
          <a:custGeom>
            <a:avLst/>
            <a:gdLst>
              <a:gd name="textAreaLeft" fmla="*/ 41400 w 1214280"/>
              <a:gd name="textAreaRight" fmla="*/ 1172880 w 12142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40783" h="21600">
                <a:moveTo>
                  <a:pt x="0" y="0"/>
                </a:moveTo>
                <a:lnTo>
                  <a:pt x="40783" y="0"/>
                </a:lnTo>
                <a:lnTo>
                  <a:pt x="40783" y="21600"/>
                </a:lnTo>
                <a:lnTo>
                  <a:pt x="0" y="21600"/>
                </a:lnTo>
                <a:close/>
              </a:path>
              <a:path fill="lightenLess" w="40783" h="21600">
                <a:moveTo>
                  <a:pt x="0" y="0"/>
                </a:moveTo>
                <a:lnTo>
                  <a:pt x="40783" y="0"/>
                </a:lnTo>
                <a:lnTo>
                  <a:pt x="39383" y="1400"/>
                </a:lnTo>
                <a:lnTo>
                  <a:pt x="1400" y="1400"/>
                </a:lnTo>
                <a:close/>
              </a:path>
              <a:path fill="darken" w="40783" h="21600">
                <a:moveTo>
                  <a:pt x="40783" y="0"/>
                </a:moveTo>
                <a:lnTo>
                  <a:pt x="40783" y="21600"/>
                </a:lnTo>
                <a:lnTo>
                  <a:pt x="39383" y="20200"/>
                </a:lnTo>
                <a:lnTo>
                  <a:pt x="39383" y="1400"/>
                </a:lnTo>
                <a:close/>
              </a:path>
              <a:path fill="darkenLess" w="40783" h="21600">
                <a:moveTo>
                  <a:pt x="40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3" y="20200"/>
                </a:lnTo>
                <a:close/>
              </a:path>
              <a:path fill="lighten" w="40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83" h="21600">
                <a:moveTo>
                  <a:pt x="13385" y="7493"/>
                </a:moveTo>
                <a:lnTo>
                  <a:pt x="16892" y="7493"/>
                </a:lnTo>
                <a:lnTo>
                  <a:pt x="16892" y="12828"/>
                </a:lnTo>
                <a:cubicBezTo>
                  <a:pt x="16892" y="13751"/>
                  <a:pt x="17693" y="14482"/>
                  <a:pt x="18729" y="14482"/>
                </a:cubicBezTo>
                <a:lnTo>
                  <a:pt x="20391" y="14482"/>
                </a:lnTo>
                <a:cubicBezTo>
                  <a:pt x="21427" y="14482"/>
                  <a:pt x="22228" y="13751"/>
                  <a:pt x="22228" y="12828"/>
                </a:cubicBezTo>
                <a:lnTo>
                  <a:pt x="22228" y="7493"/>
                </a:lnTo>
                <a:lnTo>
                  <a:pt x="20391" y="7493"/>
                </a:lnTo>
                <a:lnTo>
                  <a:pt x="23899" y="3985"/>
                </a:lnTo>
                <a:lnTo>
                  <a:pt x="27572" y="7493"/>
                </a:lnTo>
                <a:lnTo>
                  <a:pt x="25735" y="7493"/>
                </a:lnTo>
                <a:lnTo>
                  <a:pt x="25735" y="12828"/>
                </a:lnTo>
                <a:cubicBezTo>
                  <a:pt x="25735" y="15596"/>
                  <a:pt x="23159" y="18155"/>
                  <a:pt x="20391" y="18155"/>
                </a:cubicBezTo>
                <a:lnTo>
                  <a:pt x="18729" y="18155"/>
                </a:lnTo>
                <a:cubicBezTo>
                  <a:pt x="15961" y="18155"/>
                  <a:pt x="13385" y="15596"/>
                  <a:pt x="13385" y="12828"/>
                </a:cubicBezTo>
                <a:close/>
              </a:path>
            </a:pathLst>
          </a:custGeom>
          <a:solidFill>
            <a:srgbClr val="68007f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1e0027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Прямоугольник 1" descr=""/>
          <p:cNvPicPr/>
          <p:nvPr/>
        </p:nvPicPr>
        <p:blipFill>
          <a:blip r:embed="rId1"/>
          <a:stretch/>
        </p:blipFill>
        <p:spPr>
          <a:xfrm>
            <a:off x="73080" y="585720"/>
            <a:ext cx="8839080" cy="11509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4"/>
          <p:cNvSpPr/>
          <p:nvPr/>
        </p:nvSpPr>
        <p:spPr>
          <a:xfrm>
            <a:off x="1214280" y="185724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саются устройства и жизни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571680" y="2500200"/>
            <a:ext cx="7715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Можно ли избежать социальной несправедлив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Возможно ли построение идеального обще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Что такое подлинный и мнимый патриотиз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Управляющая кнопка: возврат 7">
            <a:hlinkClick r:id="rId2" action="ppaction://hlinksldjump"/>
          </p:cNvPr>
          <p:cNvSpPr/>
          <p:nvPr/>
        </p:nvSpPr>
        <p:spPr>
          <a:xfrm>
            <a:off x="7858080" y="6143760"/>
            <a:ext cx="1285920" cy="714240"/>
          </a:xfrm>
          <a:custGeom>
            <a:avLst/>
            <a:gdLst>
              <a:gd name="textAreaLeft" fmla="*/ 46080 w 1285920"/>
              <a:gd name="textAreaRight" fmla="*/ 1239840 w 128592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38880" h="21600">
                <a:moveTo>
                  <a:pt x="0" y="0"/>
                </a:moveTo>
                <a:lnTo>
                  <a:pt x="38880" y="0"/>
                </a:lnTo>
                <a:lnTo>
                  <a:pt x="38880" y="21600"/>
                </a:lnTo>
                <a:lnTo>
                  <a:pt x="0" y="21600"/>
                </a:lnTo>
                <a:close/>
              </a:path>
              <a:path fill="lightenLess" w="38880" h="21600">
                <a:moveTo>
                  <a:pt x="0" y="0"/>
                </a:moveTo>
                <a:lnTo>
                  <a:pt x="38880" y="0"/>
                </a:lnTo>
                <a:lnTo>
                  <a:pt x="37480" y="1400"/>
                </a:lnTo>
                <a:lnTo>
                  <a:pt x="1400" y="1400"/>
                </a:lnTo>
                <a:close/>
              </a:path>
              <a:path fill="darken" w="38880" h="21600">
                <a:moveTo>
                  <a:pt x="38880" y="0"/>
                </a:moveTo>
                <a:lnTo>
                  <a:pt x="38880" y="21600"/>
                </a:lnTo>
                <a:lnTo>
                  <a:pt x="37480" y="20200"/>
                </a:lnTo>
                <a:lnTo>
                  <a:pt x="37480" y="1400"/>
                </a:lnTo>
                <a:close/>
              </a:path>
              <a:path fill="darkenLess" w="38880" h="21600">
                <a:moveTo>
                  <a:pt x="38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0" y="20200"/>
                </a:lnTo>
                <a:close/>
              </a:path>
              <a:path fill="lighten" w="38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0" h="21600">
                <a:moveTo>
                  <a:pt x="12434" y="7493"/>
                </a:moveTo>
                <a:lnTo>
                  <a:pt x="15941" y="7493"/>
                </a:lnTo>
                <a:lnTo>
                  <a:pt x="15941" y="12828"/>
                </a:lnTo>
                <a:cubicBezTo>
                  <a:pt x="15941" y="13751"/>
                  <a:pt x="16742" y="14482"/>
                  <a:pt x="17778" y="14482"/>
                </a:cubicBezTo>
                <a:lnTo>
                  <a:pt x="19440" y="14482"/>
                </a:lnTo>
                <a:cubicBezTo>
                  <a:pt x="20476" y="14482"/>
                  <a:pt x="21276" y="13751"/>
                  <a:pt x="21276" y="12828"/>
                </a:cubicBezTo>
                <a:lnTo>
                  <a:pt x="21276" y="7493"/>
                </a:lnTo>
                <a:lnTo>
                  <a:pt x="19440" y="7493"/>
                </a:lnTo>
                <a:lnTo>
                  <a:pt x="22948" y="3985"/>
                </a:lnTo>
                <a:lnTo>
                  <a:pt x="26621" y="7493"/>
                </a:lnTo>
                <a:lnTo>
                  <a:pt x="24784" y="7493"/>
                </a:lnTo>
                <a:lnTo>
                  <a:pt x="24784" y="12828"/>
                </a:lnTo>
                <a:cubicBezTo>
                  <a:pt x="24784" y="15596"/>
                  <a:pt x="22208" y="18155"/>
                  <a:pt x="19440" y="18155"/>
                </a:cubicBezTo>
                <a:lnTo>
                  <a:pt x="17778" y="18155"/>
                </a:lnTo>
                <a:cubicBezTo>
                  <a:pt x="15010" y="18155"/>
                  <a:pt x="12434" y="15596"/>
                  <a:pt x="12434" y="12828"/>
                </a:cubicBezTo>
                <a:close/>
              </a:path>
            </a:pathLst>
          </a:custGeom>
          <a:solidFill>
            <a:srgbClr val="68007f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1e0027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142920" y="785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Политические пробле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928800" y="2071800"/>
            <a:ext cx="714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вязаны с деятельностью государственной власти, партий или общественных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642960" y="3000240"/>
            <a:ext cx="7000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Как создать правовое государ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Как защитить политические права и свободы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Нужна ли обществу цензу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Управляющая кнопка: возврат 5">
            <a:hlinkClick r:id="rId1" action="ppaction://hlinksldjump"/>
          </p:cNvPr>
          <p:cNvSpPr/>
          <p:nvPr/>
        </p:nvSpPr>
        <p:spPr>
          <a:xfrm>
            <a:off x="7929720" y="6215040"/>
            <a:ext cx="1214280" cy="642960"/>
          </a:xfrm>
          <a:custGeom>
            <a:avLst/>
            <a:gdLst>
              <a:gd name="textAreaLeft" fmla="*/ 41400 w 1214280"/>
              <a:gd name="textAreaRight" fmla="*/ 1172880 w 12142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40783" h="21600">
                <a:moveTo>
                  <a:pt x="0" y="0"/>
                </a:moveTo>
                <a:lnTo>
                  <a:pt x="40783" y="0"/>
                </a:lnTo>
                <a:lnTo>
                  <a:pt x="40783" y="21600"/>
                </a:lnTo>
                <a:lnTo>
                  <a:pt x="0" y="21600"/>
                </a:lnTo>
                <a:close/>
              </a:path>
              <a:path fill="lightenLess" w="40783" h="21600">
                <a:moveTo>
                  <a:pt x="0" y="0"/>
                </a:moveTo>
                <a:lnTo>
                  <a:pt x="40783" y="0"/>
                </a:lnTo>
                <a:lnTo>
                  <a:pt x="39383" y="1400"/>
                </a:lnTo>
                <a:lnTo>
                  <a:pt x="1400" y="1400"/>
                </a:lnTo>
                <a:close/>
              </a:path>
              <a:path fill="darken" w="40783" h="21600">
                <a:moveTo>
                  <a:pt x="40783" y="0"/>
                </a:moveTo>
                <a:lnTo>
                  <a:pt x="40783" y="21600"/>
                </a:lnTo>
                <a:lnTo>
                  <a:pt x="39383" y="20200"/>
                </a:lnTo>
                <a:lnTo>
                  <a:pt x="39383" y="1400"/>
                </a:lnTo>
                <a:close/>
              </a:path>
              <a:path fill="darkenLess" w="40783" h="21600">
                <a:moveTo>
                  <a:pt x="40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3" y="20200"/>
                </a:lnTo>
                <a:close/>
              </a:path>
              <a:path fill="lighten" w="40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83" h="21600">
                <a:moveTo>
                  <a:pt x="13385" y="7493"/>
                </a:moveTo>
                <a:lnTo>
                  <a:pt x="16892" y="7493"/>
                </a:lnTo>
                <a:lnTo>
                  <a:pt x="16892" y="12828"/>
                </a:lnTo>
                <a:cubicBezTo>
                  <a:pt x="16892" y="13751"/>
                  <a:pt x="17693" y="14482"/>
                  <a:pt x="18729" y="14482"/>
                </a:cubicBezTo>
                <a:lnTo>
                  <a:pt x="20391" y="14482"/>
                </a:lnTo>
                <a:cubicBezTo>
                  <a:pt x="21427" y="14482"/>
                  <a:pt x="22228" y="13751"/>
                  <a:pt x="22228" y="12828"/>
                </a:cubicBezTo>
                <a:lnTo>
                  <a:pt x="22228" y="7493"/>
                </a:lnTo>
                <a:lnTo>
                  <a:pt x="20391" y="7493"/>
                </a:lnTo>
                <a:lnTo>
                  <a:pt x="23899" y="3985"/>
                </a:lnTo>
                <a:lnTo>
                  <a:pt x="27572" y="7493"/>
                </a:lnTo>
                <a:lnTo>
                  <a:pt x="25735" y="7493"/>
                </a:lnTo>
                <a:lnTo>
                  <a:pt x="25735" y="12828"/>
                </a:lnTo>
                <a:cubicBezTo>
                  <a:pt x="25735" y="15596"/>
                  <a:pt x="23159" y="18155"/>
                  <a:pt x="20391" y="18155"/>
                </a:cubicBezTo>
                <a:lnTo>
                  <a:pt x="18729" y="18155"/>
                </a:lnTo>
                <a:cubicBezTo>
                  <a:pt x="15961" y="18155"/>
                  <a:pt x="13385" y="15596"/>
                  <a:pt x="13385" y="12828"/>
                </a:cubicBezTo>
                <a:close/>
              </a:path>
            </a:pathLst>
          </a:custGeom>
          <a:solidFill>
            <a:srgbClr val="68007f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1e0027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0" y="571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Экологические пробле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428760" y="142884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тражают взаимодействие человека и окружающ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285840" y="2214720"/>
            <a:ext cx="7286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Имеет ли человек право вмешиваться в жизнь прир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Каким должно быть гармоничное взаимодействие человека и окружающей сре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Как уберечь нашу планету от экологической катастроф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Управляющая кнопка: возврат 5">
            <a:hlinkClick r:id="rId1" action="ppaction://hlinksldjump"/>
          </p:cNvPr>
          <p:cNvSpPr/>
          <p:nvPr/>
        </p:nvSpPr>
        <p:spPr>
          <a:xfrm>
            <a:off x="8143920" y="6072120"/>
            <a:ext cx="1000080" cy="785880"/>
          </a:xfrm>
          <a:custGeom>
            <a:avLst/>
            <a:gdLst>
              <a:gd name="textAreaLeft" fmla="*/ 50760 w 1000080"/>
              <a:gd name="textAreaRight" fmla="*/ 949320 w 100008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7485" h="21600">
                <a:moveTo>
                  <a:pt x="0" y="0"/>
                </a:moveTo>
                <a:lnTo>
                  <a:pt x="27485" y="0"/>
                </a:lnTo>
                <a:lnTo>
                  <a:pt x="27485" y="21600"/>
                </a:lnTo>
                <a:lnTo>
                  <a:pt x="0" y="21600"/>
                </a:lnTo>
                <a:close/>
              </a:path>
              <a:path fill="lightenLess" w="27485" h="21600">
                <a:moveTo>
                  <a:pt x="0" y="0"/>
                </a:moveTo>
                <a:lnTo>
                  <a:pt x="27485" y="0"/>
                </a:lnTo>
                <a:lnTo>
                  <a:pt x="26085" y="1400"/>
                </a:lnTo>
                <a:lnTo>
                  <a:pt x="1400" y="1400"/>
                </a:lnTo>
                <a:close/>
              </a:path>
              <a:path fill="darken" w="27485" h="21600">
                <a:moveTo>
                  <a:pt x="27485" y="0"/>
                </a:moveTo>
                <a:lnTo>
                  <a:pt x="27485" y="21600"/>
                </a:lnTo>
                <a:lnTo>
                  <a:pt x="26085" y="20200"/>
                </a:lnTo>
                <a:lnTo>
                  <a:pt x="26085" y="1400"/>
                </a:lnTo>
                <a:close/>
              </a:path>
              <a:path fill="darkenLess" w="27485" h="21600">
                <a:moveTo>
                  <a:pt x="27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5" y="20200"/>
                </a:lnTo>
                <a:close/>
              </a:path>
              <a:path fill="lighten" w="27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5" h="21600">
                <a:moveTo>
                  <a:pt x="6736" y="7493"/>
                </a:moveTo>
                <a:lnTo>
                  <a:pt x="10243" y="7493"/>
                </a:lnTo>
                <a:lnTo>
                  <a:pt x="10243" y="12828"/>
                </a:lnTo>
                <a:cubicBezTo>
                  <a:pt x="10243" y="13751"/>
                  <a:pt x="11044" y="14482"/>
                  <a:pt x="12080" y="14482"/>
                </a:cubicBezTo>
                <a:lnTo>
                  <a:pt x="13742" y="14482"/>
                </a:lnTo>
                <a:cubicBezTo>
                  <a:pt x="14778" y="14482"/>
                  <a:pt x="15579" y="13751"/>
                  <a:pt x="15579" y="12828"/>
                </a:cubicBezTo>
                <a:lnTo>
                  <a:pt x="15579" y="7493"/>
                </a:lnTo>
                <a:lnTo>
                  <a:pt x="13742" y="7493"/>
                </a:lnTo>
                <a:lnTo>
                  <a:pt x="17250" y="3985"/>
                </a:lnTo>
                <a:lnTo>
                  <a:pt x="20923" y="7493"/>
                </a:lnTo>
                <a:lnTo>
                  <a:pt x="19086" y="7493"/>
                </a:lnTo>
                <a:lnTo>
                  <a:pt x="19086" y="12828"/>
                </a:lnTo>
                <a:cubicBezTo>
                  <a:pt x="19086" y="15596"/>
                  <a:pt x="16510" y="18155"/>
                  <a:pt x="13742" y="18155"/>
                </a:cubicBezTo>
                <a:lnTo>
                  <a:pt x="12080" y="18155"/>
                </a:lnTo>
                <a:cubicBezTo>
                  <a:pt x="9312" y="18155"/>
                  <a:pt x="6736" y="15596"/>
                  <a:pt x="6736" y="12828"/>
                </a:cubicBezTo>
                <a:close/>
              </a:path>
            </a:pathLst>
          </a:custGeom>
          <a:solidFill>
            <a:srgbClr val="68007f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1e0027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14:23:12Z</dcterms:created>
  <dc:creator>я</dc:creator>
  <dc:description>rusedu.ru</dc:description>
  <dc:language>en-US</dc:language>
  <cp:lastModifiedBy>Name</cp:lastModifiedBy>
  <dcterms:modified xsi:type="dcterms:W3CDTF">2010-07-06T07:05:48Z</dcterms:modified>
  <cp:revision>80</cp:revision>
  <dc:subject/>
  <dc:title>Сочинение по литерату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24000000000001024140</vt:lpwstr>
  </property>
</Properties>
</file>