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7720" y="812520"/>
            <a:ext cx="53370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9BCD58E9-8385-4184-90E1-D811DCC9A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AF0F55EA-3D39-47D9-91C2-AE9BE4BF7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80FD58B1-ADC7-444D-AC8F-2DEA2EBC2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F9427F3-0B0A-4302-AC8F-A7B7BAB60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057FE91C-8DDC-4E29-A3F1-795FEFC0B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A7C799A6-B5F6-45E5-8EDE-F7C2D1B9B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60C936DA-C732-4E77-8D45-725EA489B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FC9D6531-F62E-4A68-B740-F55475BEA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486495A5-F692-4E1C-871F-45447FAD8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01040"/>
                <a:tab algn="l" pos="9848880"/>
                <a:tab algn="l" pos="10296360"/>
                <a:tab algn="l" pos="10744200"/>
              </a:tabLst>
            </a:pPr>
            <a:fld id="{1541E1A5-AD34-4F1B-B7B8-AA4E7BC39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4419-BEE9-4B0C-A080-99ACBCCF6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A362-9D57-4F80-B12F-4C1D6BE9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ECFC-4655-4BB4-975B-5E65701E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7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7A1-64E9-4A6A-A646-B60B666C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B73D-104A-4A1C-85CC-82A4171EC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9C9-6370-49F1-AC2D-ADB7F7D0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1BB8-42BE-4CCF-B485-D84C7E63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1FE-076F-4E16-9029-CF50193A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2760"/>
            <a:ext cx="90741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CF9-41AC-4332-8C81-EAABC436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904-12C6-46E7-86A8-88B05355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040" y="43700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7300-1FF0-4A6F-A923-2FF3805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040" y="1763640"/>
            <a:ext cx="442800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0040"/>
            <a:ext cx="90741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554B-63D4-4783-A518-24A0161D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2760"/>
            <a:ext cx="907416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3640"/>
            <a:ext cx="90741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817560" indent="-3142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258920" indent="-2509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762200" indent="-2509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4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5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6" marL="2266920" indent="-2509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7007040"/>
            <a:ext cx="319104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7007040"/>
            <a:ext cx="2352600" cy="40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en-US" sz="13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7D29250-D1FE-4101-B8C0-45FA6A3D8616}" type="slidenum">
              <a:rPr b="0" lang="en-US" sz="13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2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1440000" y="1440000"/>
            <a:ext cx="7380000" cy="54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3280" y="1618920"/>
            <a:ext cx="8856720" cy="585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t">
            <a:normAutofit/>
          </a:bodyPr>
          <a:p>
            <a:pPr lvl="3" marL="1722600" indent="-21132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ubborn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m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trong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n o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1722600" indent="-21132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rou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peacoc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gentl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 lamb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157480" indent="-211320">
              <a:spcBef>
                <a:spcPts val="901"/>
              </a:spcBef>
              <a:tabLst>
                <a:tab algn="l" pos="0"/>
                <a:tab algn="l" pos="1722600"/>
                <a:tab algn="l" pos="1917720"/>
                <a:tab algn="l" pos="2367000"/>
                <a:tab algn="l" pos="2816280"/>
                <a:tab algn="l" pos="3265560"/>
                <a:tab algn="l" pos="3714840"/>
                <a:tab algn="l" pos="4164120"/>
                <a:tab algn="l" pos="4613400"/>
                <a:tab algn="l" pos="5062680"/>
                <a:tab algn="l" pos="5511960"/>
                <a:tab algn="l" pos="5961240"/>
                <a:tab algn="l" pos="6410160"/>
                <a:tab algn="l" pos="6859440"/>
                <a:tab algn="l" pos="7308720"/>
                <a:tab algn="l" pos="7758000"/>
                <a:tab algn="l" pos="8207280"/>
                <a:tab algn="l" pos="8656560"/>
                <a:tab algn="l" pos="9105840"/>
                <a:tab algn="l" pos="9555120"/>
                <a:tab algn="l" pos="10004400"/>
                <a:tab algn="l" pos="104536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099280" y="900000"/>
            <a:ext cx="174312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5440320" y="2160720"/>
            <a:ext cx="1219320" cy="1428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559640" y="3611520"/>
            <a:ext cx="1838520" cy="142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722920" y="5411880"/>
            <a:ext cx="16574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8720" y="499680"/>
            <a:ext cx="9070920" cy="2228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MY FAMILY</a:t>
            </a:r>
            <a:br>
              <a:rPr sz="4400"/>
            </a:br>
            <a:r>
              <a:rPr b="1" lang="en-US" sz="3600" spc="-1" strike="noStrike">
                <a:solidFill>
                  <a:srgbClr val="008000"/>
                </a:solidFill>
                <a:latin typeface="Arial Black"/>
              </a:rPr>
              <a:t>SB p.63 ex.3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09440" y="2136240"/>
            <a:ext cx="9070920" cy="558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5280" bIns="50400" anchor="ctr">
            <a:noAutofit/>
          </a:bodyPr>
          <a:p>
            <a:pPr indent="0" algn="ct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Read about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Find the words that means </a:t>
            </a:r>
            <a:r>
              <a:rPr b="1" i="1" lang="en-US" sz="3300" spc="-1" strike="noStrike">
                <a:solidFill>
                  <a:srgbClr val="008000"/>
                </a:solidFill>
                <a:latin typeface="Calibri"/>
              </a:rPr>
              <a:t>mother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300" spc="-1" strike="noStrike">
                <a:solidFill>
                  <a:srgbClr val="008000"/>
                </a:solidFill>
                <a:latin typeface="Calibri"/>
              </a:rPr>
              <a:t>father</a:t>
            </a:r>
            <a:r>
              <a:rPr b="1" i="1" lang="en-US" sz="3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3300" spc="-1" strike="noStrike">
                <a:solidFill>
                  <a:srgbClr val="008000"/>
                </a:solidFill>
                <a:latin typeface="Calibri"/>
              </a:rPr>
              <a:t>sister, grandmother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 </a:t>
            </a:r>
            <a:r>
              <a:rPr b="1" lang="en-US" sz="3300" spc="-1" strike="noStrike">
                <a:solidFill>
                  <a:srgbClr val="280099"/>
                </a:solidFill>
                <a:latin typeface="Calibri"/>
              </a:rPr>
              <a:t>Find and underline the rhyming words in the poe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Find your own rhyming words to the words from the poem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206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Calibri"/>
              </a:rPr>
              <a:t>Which animal simile best matches you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825"/>
              </a:spcBef>
              <a:buClr>
                <a:srgbClr val="00206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i="1" lang="en-US" sz="33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3300" spc="-1" strike="noStrike">
                <a:solidFill>
                  <a:srgbClr val="002060"/>
                </a:solidFill>
                <a:latin typeface="Calibri"/>
              </a:rPr>
              <a:t>Can you describe your family members using animal similes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7380360" y="339840"/>
            <a:ext cx="2309760" cy="181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-360" y="204948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>
              <a:spcBef>
                <a:spcPts val="901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280099"/>
                </a:solidFill>
                <a:latin typeface="Calibri"/>
              </a:rPr>
              <a:t>SB p.63 ex.1 (дописать транскрипцию и выучить слов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280099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280099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280099"/>
                </a:solidFill>
                <a:latin typeface="Calibri"/>
              </a:rPr>
              <a:t>Подготовить рассказ о своей семье, дополнив ег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i="1" lang="en-US" sz="3500" spc="-1" strike="noStrike">
                <a:solidFill>
                  <a:srgbClr val="0000ff"/>
                </a:solidFill>
                <a:latin typeface="Calibri"/>
              </a:rPr>
              <a:t>Придумать стихотворение о своей семь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3320"/>
                <a:tab algn="l" pos="552600"/>
                <a:tab algn="l" pos="1001880"/>
                <a:tab algn="l" pos="1450800"/>
                <a:tab algn="l" pos="1900080"/>
                <a:tab algn="l" pos="2349360"/>
                <a:tab algn="l" pos="2798640"/>
                <a:tab algn="l" pos="3247920"/>
                <a:tab algn="l" pos="3697200"/>
                <a:tab algn="l" pos="4146480"/>
                <a:tab algn="l" pos="4595760"/>
                <a:tab algn="l" pos="5045040"/>
                <a:tab algn="l" pos="5494320"/>
                <a:tab algn="l" pos="5943600"/>
                <a:tab algn="l" pos="6392880"/>
                <a:tab algn="l" pos="6842160"/>
                <a:tab algn="l" pos="7291440"/>
                <a:tab algn="l" pos="7740720"/>
                <a:tab algn="l" pos="8190000"/>
                <a:tab algn="l" pos="8639280"/>
                <a:tab algn="l" pos="8685360"/>
                <a:tab algn="l" pos="9058320"/>
                <a:tab algn="l" pos="1006488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7380360" y="341280"/>
            <a:ext cx="2309760" cy="181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I </a:t>
            </a:r>
            <a:r>
              <a:rPr b="1" lang="en-US" sz="4900" spc="-1" strike="noStrike">
                <a:solidFill>
                  <a:srgbClr val="ff0000"/>
                </a:solidFill>
                <a:latin typeface="Arial Black"/>
              </a:rPr>
              <a:t>LOVE</a:t>
            </a: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 MY MUM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619280"/>
            <a:ext cx="4535640" cy="513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That is your mother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I agree, she is fi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You love your moth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And I love mine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840360" y="3600360"/>
            <a:ext cx="3060720" cy="197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6840360" y="179280"/>
            <a:ext cx="3060720" cy="2160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5400720" y="1811160"/>
            <a:ext cx="2673360" cy="1968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4859280" y="5040360"/>
            <a:ext cx="3060720" cy="21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19640" y="0"/>
            <a:ext cx="63007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MUM! 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140000" y="208080"/>
            <a:ext cx="5940360" cy="6852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ctr">
            <a:noAutofit/>
          </a:bodyPr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What's your mum's nam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Her name is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How old is sh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She is ...years old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What's she like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She is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b80047"/>
                </a:solidFill>
                <a:latin typeface="Calibri"/>
              </a:rPr>
              <a:t>What can she do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780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     </a:t>
            </a:r>
            <a:r>
              <a:rPr b="1" lang="en-US" sz="3300" spc="-1" strike="noStrike">
                <a:solidFill>
                  <a:srgbClr val="008000"/>
                </a:solidFill>
                <a:latin typeface="Calibri"/>
              </a:rPr>
              <a:t>She can..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2519280"/>
            <a:ext cx="306072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-539640" y="5040360"/>
            <a:ext cx="3600360" cy="2519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0" y="0"/>
            <a:ext cx="30607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5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-848520"/>
            <a:ext cx="9066240" cy="924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1" lang="ru-RU" sz="54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54120" y="2136240"/>
            <a:ext cx="4786200" cy="5000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What's your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How old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What's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500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6000" spc="-1" strike="noStrike">
                <a:solidFill>
                  <a:srgbClr val="b80047"/>
                </a:solidFill>
                <a:latin typeface="Calibri"/>
              </a:rPr>
              <a:t>What can…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C:\Users\User\Desktop\картинки\учитель.jpeg"/>
          <p:cNvPicPr/>
          <p:nvPr/>
        </p:nvPicPr>
        <p:blipFill>
          <a:blip r:embed="rId1"/>
          <a:stretch/>
        </p:blipFill>
        <p:spPr>
          <a:xfrm>
            <a:off x="254160" y="422280"/>
            <a:ext cx="3357360" cy="500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6"/>
          <p:cNvSpPr/>
          <p:nvPr/>
        </p:nvSpPr>
        <p:spPr>
          <a:xfrm>
            <a:off x="3683160" y="279360"/>
            <a:ext cx="5572080" cy="19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4400" spc="-1" strike="noStrike">
                <a:solidFill>
                  <a:srgbClr val="b80047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- Attention to the question words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                    </a:t>
            </a:r>
            <a:r>
              <a:rPr b="1" i="1" lang="en-US" sz="4400" spc="-1" strike="noStrike">
                <a:solidFill>
                  <a:srgbClr val="002060"/>
                </a:solidFill>
                <a:latin typeface="Arial"/>
              </a:rPr>
              <a:t>please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0"/>
            <a:ext cx="9066240" cy="85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b050"/>
                </a:solidFill>
                <a:latin typeface="Calibri"/>
              </a:rPr>
              <a:t>NEW WORDS!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03280" y="708120"/>
            <a:ext cx="9066240" cy="6851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LAYFU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ROU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QU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WI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GEN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RO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US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UBBO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78000" indent="-378000" algn="ctr">
              <a:spcBef>
                <a:spcPts val="1001"/>
              </a:spcBef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LO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00000" y="1477800"/>
            <a:ext cx="6551640" cy="5553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Playful –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игривый, весёл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Proud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горд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Quiet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тихи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Wise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мудр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Gentle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нежн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Strong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сильн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Busy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занято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Stubborn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упрям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lnSpc>
                <a:spcPct val="90000"/>
              </a:lnSpc>
              <a:spcBef>
                <a:spcPts val="876"/>
              </a:spcBef>
              <a:buClr>
                <a:srgbClr val="33cc66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10064880"/>
              </a:tabLst>
            </a:pPr>
            <a:r>
              <a:rPr b="1" lang="en-US" sz="3500" spc="-1" strike="noStrike">
                <a:solidFill>
                  <a:srgbClr val="33cc66"/>
                </a:solidFill>
                <a:latin typeface="Calibri"/>
              </a:rPr>
              <a:t>Slow - </a:t>
            </a: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медленный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208080"/>
          <a:ext cx="10080720" cy="7072200"/>
        </p:xfrm>
        <a:graphic>
          <a:graphicData uri="http://schemas.openxmlformats.org/drawingml/2006/table">
            <a:tbl>
              <a:tblPr/>
              <a:tblGrid>
                <a:gridCol w="552600"/>
                <a:gridCol w="622080"/>
                <a:gridCol w="644760"/>
                <a:gridCol w="674640"/>
                <a:gridCol w="688680"/>
                <a:gridCol w="646200"/>
                <a:gridCol w="665280"/>
                <a:gridCol w="668160"/>
                <a:gridCol w="668520"/>
                <a:gridCol w="873000"/>
                <a:gridCol w="871560"/>
                <a:gridCol w="690480"/>
                <a:gridCol w="622440"/>
                <a:gridCol w="582480"/>
                <a:gridCol w="609840"/>
              </a:tblGrid>
              <a:tr h="6109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Q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P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I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G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E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ambria"/>
                          <a:ea typeface="Calibri"/>
                        </a:rPr>
                        <a:t>D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L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W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Y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T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U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O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R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en-US" sz="3600" spc="-1" strike="noStrike">
                          <a:solidFill>
                            <a:srgbClr val="0070c0"/>
                          </a:solidFill>
                          <a:latin typeface="Cambria"/>
                          <a:ea typeface="Calibri"/>
                        </a:rPr>
                        <a:t>N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000" y="126036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28080" bIns="50400" anchor="t">
            <a:normAutofit/>
          </a:bodyPr>
          <a:p>
            <a:pPr marL="430200" indent="-318960"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799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157480" indent="-211320">
              <a:spcBef>
                <a:spcPts val="1225"/>
              </a:spcBef>
              <a:spcAft>
                <a:spcPts val="28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4900" spc="-1" strike="noStrike">
                <a:solidFill>
                  <a:srgbClr val="000000"/>
                </a:solidFill>
                <a:latin typeface="Calibri"/>
              </a:rPr>
              <a:t>as... as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spcBef>
                <a:spcPts val="1001"/>
              </a:spcBef>
              <a:spcAft>
                <a:spcPts val="1426"/>
              </a:spcAft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10064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B p.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44640" y="360360"/>
            <a:ext cx="1756080" cy="1305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5219640" y="371520"/>
            <a:ext cx="1657440" cy="142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tretch/>
        </p:blipFill>
        <p:spPr>
          <a:xfrm>
            <a:off x="7342200" y="1631880"/>
            <a:ext cx="1838160" cy="1428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4"/>
          <a:stretch/>
        </p:blipFill>
        <p:spPr>
          <a:xfrm>
            <a:off x="7920000" y="3611520"/>
            <a:ext cx="121932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5"/>
          <a:stretch/>
        </p:blipFill>
        <p:spPr>
          <a:xfrm>
            <a:off x="6480000" y="50515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6"/>
          <a:stretch/>
        </p:blipFill>
        <p:spPr>
          <a:xfrm>
            <a:off x="4319640" y="5580000"/>
            <a:ext cx="1684440" cy="117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"/>
          <p:cNvPicPr/>
          <p:nvPr/>
        </p:nvPicPr>
        <p:blipFill>
          <a:blip r:embed="rId7"/>
          <a:stretch/>
        </p:blipFill>
        <p:spPr>
          <a:xfrm>
            <a:off x="2162160" y="521964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8"/>
          <a:stretch/>
        </p:blipFill>
        <p:spPr>
          <a:xfrm>
            <a:off x="1027080" y="3419640"/>
            <a:ext cx="1133640" cy="1428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/>
          <p:cNvPicPr/>
          <p:nvPr/>
        </p:nvPicPr>
        <p:blipFill>
          <a:blip r:embed="rId9"/>
          <a:stretch/>
        </p:blipFill>
        <p:spPr>
          <a:xfrm>
            <a:off x="720720" y="1440000"/>
            <a:ext cx="16765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778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058320"/>
                <a:tab algn="l" pos="10064880"/>
              </a:tabLst>
            </a:pPr>
            <a:r>
              <a:rPr b="1" lang="en-US" sz="4900" spc="-1" strike="noStrike">
                <a:solidFill>
                  <a:srgbClr val="008000"/>
                </a:solidFill>
                <a:latin typeface="Arial Black"/>
              </a:rPr>
              <a:t>MY FAMILY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03280" y="1260360"/>
            <a:ext cx="8856720" cy="5780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31680" bIns="50400" anchor="t">
            <a:normAutofit/>
          </a:bodyPr>
          <a:p>
            <a:pPr lvl="4" marL="2154240" indent="-212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busy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b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i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n ow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12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playful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a kitt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low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 sna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0200" indent="-318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4" marL="2154240" indent="-2127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15424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979200"/>
                <a:tab algn="l" pos="10428120"/>
                <a:tab algn="l" pos="10877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quiet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as a mou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740720" y="1079640"/>
            <a:ext cx="1619280" cy="125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5040360" y="217188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8099280" y="3060720"/>
            <a:ext cx="1440000" cy="16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4"/>
          <a:stretch/>
        </p:blipFill>
        <p:spPr>
          <a:xfrm>
            <a:off x="5402160" y="4680000"/>
            <a:ext cx="1257480" cy="142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5"/>
          <a:stretch/>
        </p:blipFill>
        <p:spPr>
          <a:xfrm>
            <a:off x="7856640" y="5940360"/>
            <a:ext cx="2043000" cy="12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7:32:32Z</dcterms:created>
  <dc:creator/>
  <dc:description/>
  <dc:language>en-US</dc:language>
  <cp:lastModifiedBy>User</cp:lastModifiedBy>
  <dcterms:modified xsi:type="dcterms:W3CDTF">2013-12-10T20:35:20Z</dcterms:modified>
  <cp:revision>17</cp:revision>
  <dc:subject/>
  <dc:title>MY FAMILY</dc:title>
</cp:coreProperties>
</file>