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7720" y="812520"/>
            <a:ext cx="53370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FA733A7A-7676-4BC4-9B29-692D8D8FC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9BDEA0DF-925D-4B38-997B-C885E56F4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C3B54C51-9A99-4665-A7E4-0780AF65B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483229D7-E82A-4CEE-99D0-A54C91E5F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9DB97847-B751-4FB3-8C17-FEE35AEBB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483D9F6E-2275-4A98-AE3C-F808F69A0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889C5136-2A43-4875-ACF4-3010B3C7D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823E7976-A981-47FD-81D4-E4E9E41D2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31511D37-3A0A-48FE-8B5F-3C4B669F8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9AC55642-7360-46C5-BB1C-448EB5878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A98A-43C3-43F6-A903-BB540476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51DD-CBC6-4966-9651-83C9E339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8B1-BD31-4DBC-A10B-3AEA2541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5B1-A25A-4C80-8C26-4F5D9982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C86-21F6-4AC5-B2F5-18BB526B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75B-4746-44B6-B942-DE5FA4FA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5EB4-79E1-41BF-A48F-914E9926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CAE-633B-4EEF-B2A2-78CB2DDF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9F1-C74D-4ED5-9CB8-9F449EB6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EE1-018E-445D-901A-042BFA4C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A09-AF64-486F-B6E8-C46D0F34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971D-EACA-4A0B-831C-DBE6C609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220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1CD5CEE-53F1-4314-84BE-C556B5142CE7}" type="slidenum">
              <a:rPr b="0" lang="en-US" sz="1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9.jpeg"/><Relationship Id="rId3" Type="http://schemas.openxmlformats.org/officeDocument/2006/relationships/image" Target="../media/image17.jpeg"/><Relationship Id="rId4" Type="http://schemas.openxmlformats.org/officeDocument/2006/relationships/image" Target="../media/image16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4900" spc="-1" strike="noStrike">
                <a:solidFill>
                  <a:srgbClr val="008000"/>
                </a:solidFill>
                <a:latin typeface="Arial Black"/>
              </a:rPr>
              <a:t>MY FAMIL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440000" y="1440000"/>
            <a:ext cx="7380000" cy="54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177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4900" spc="-1" strike="noStrike">
                <a:solidFill>
                  <a:srgbClr val="008000"/>
                </a:solidFill>
                <a:latin typeface="Arial Black"/>
              </a:rPr>
              <a:t>MY FAMIL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3280" y="1618920"/>
            <a:ext cx="8856720" cy="585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1680" bIns="50400" anchor="t">
            <a:normAutofit/>
          </a:bodyPr>
          <a:p>
            <a:pPr lvl="3" marL="1722600" indent="-211320">
              <a:spcBef>
                <a:spcPts val="9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22600"/>
                <a:tab algn="l" pos="1917720"/>
                <a:tab algn="l" pos="2367000"/>
                <a:tab algn="l" pos="2816280"/>
                <a:tab algn="l" pos="3265560"/>
                <a:tab algn="l" pos="3714840"/>
                <a:tab algn="l" pos="4164120"/>
                <a:tab algn="l" pos="4613400"/>
                <a:tab algn="l" pos="5062680"/>
                <a:tab algn="l" pos="5511960"/>
                <a:tab algn="l" pos="5961240"/>
                <a:tab algn="l" pos="6410160"/>
                <a:tab algn="l" pos="6859440"/>
                <a:tab algn="l" pos="7308720"/>
                <a:tab algn="l" pos="7758000"/>
                <a:tab algn="l" pos="8207280"/>
                <a:tab algn="l" pos="8656560"/>
                <a:tab algn="l" pos="9105840"/>
                <a:tab algn="l" pos="9555120"/>
                <a:tab algn="l" pos="10004400"/>
                <a:tab algn="l" pos="10453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tubborn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a m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spcBef>
                <a:spcPts val="901"/>
              </a:spcBef>
              <a:tabLst>
                <a:tab algn="l" pos="0"/>
                <a:tab algn="l" pos="1722600"/>
                <a:tab algn="l" pos="1917720"/>
                <a:tab algn="l" pos="2367000"/>
                <a:tab algn="l" pos="2816280"/>
                <a:tab algn="l" pos="3265560"/>
                <a:tab algn="l" pos="3714840"/>
                <a:tab algn="l" pos="4164120"/>
                <a:tab algn="l" pos="4613400"/>
                <a:tab algn="l" pos="5062680"/>
                <a:tab algn="l" pos="5511960"/>
                <a:tab algn="l" pos="5961240"/>
                <a:tab algn="l" pos="6410160"/>
                <a:tab algn="l" pos="6859440"/>
                <a:tab algn="l" pos="7308720"/>
                <a:tab algn="l" pos="7758000"/>
                <a:tab algn="l" pos="8207280"/>
                <a:tab algn="l" pos="8656560"/>
                <a:tab algn="l" pos="9105840"/>
                <a:tab algn="l" pos="9555120"/>
                <a:tab algn="l" pos="10004400"/>
                <a:tab algn="l" pos="104536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spcBef>
                <a:spcPts val="9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22600"/>
                <a:tab algn="l" pos="1917720"/>
                <a:tab algn="l" pos="2367000"/>
                <a:tab algn="l" pos="2816280"/>
                <a:tab algn="l" pos="3265560"/>
                <a:tab algn="l" pos="3714840"/>
                <a:tab algn="l" pos="4164120"/>
                <a:tab algn="l" pos="4613400"/>
                <a:tab algn="l" pos="5062680"/>
                <a:tab algn="l" pos="5511960"/>
                <a:tab algn="l" pos="5961240"/>
                <a:tab algn="l" pos="6410160"/>
                <a:tab algn="l" pos="6859440"/>
                <a:tab algn="l" pos="7308720"/>
                <a:tab algn="l" pos="7758000"/>
                <a:tab algn="l" pos="8207280"/>
                <a:tab algn="l" pos="8656560"/>
                <a:tab algn="l" pos="9105840"/>
                <a:tab algn="l" pos="9555120"/>
                <a:tab algn="l" pos="10004400"/>
                <a:tab algn="l" pos="10453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tro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as an o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spcBef>
                <a:spcPts val="901"/>
              </a:spcBef>
              <a:tabLst>
                <a:tab algn="l" pos="0"/>
                <a:tab algn="l" pos="1722600"/>
                <a:tab algn="l" pos="1917720"/>
                <a:tab algn="l" pos="2367000"/>
                <a:tab algn="l" pos="2816280"/>
                <a:tab algn="l" pos="3265560"/>
                <a:tab algn="l" pos="3714840"/>
                <a:tab algn="l" pos="4164120"/>
                <a:tab algn="l" pos="4613400"/>
                <a:tab algn="l" pos="5062680"/>
                <a:tab algn="l" pos="5511960"/>
                <a:tab algn="l" pos="5961240"/>
                <a:tab algn="l" pos="6410160"/>
                <a:tab algn="l" pos="6859440"/>
                <a:tab algn="l" pos="7308720"/>
                <a:tab algn="l" pos="7758000"/>
                <a:tab algn="l" pos="8207280"/>
                <a:tab algn="l" pos="8656560"/>
                <a:tab algn="l" pos="9105840"/>
                <a:tab algn="l" pos="9555120"/>
                <a:tab algn="l" pos="10004400"/>
                <a:tab algn="l" pos="104536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22600" indent="-211320">
              <a:spcBef>
                <a:spcPts val="9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22600"/>
                <a:tab algn="l" pos="1917720"/>
                <a:tab algn="l" pos="2367000"/>
                <a:tab algn="l" pos="2816280"/>
                <a:tab algn="l" pos="3265560"/>
                <a:tab algn="l" pos="3714840"/>
                <a:tab algn="l" pos="4164120"/>
                <a:tab algn="l" pos="4613400"/>
                <a:tab algn="l" pos="5062680"/>
                <a:tab algn="l" pos="5511960"/>
                <a:tab algn="l" pos="5961240"/>
                <a:tab algn="l" pos="6410160"/>
                <a:tab algn="l" pos="6859440"/>
                <a:tab algn="l" pos="7308720"/>
                <a:tab algn="l" pos="7758000"/>
                <a:tab algn="l" pos="8207280"/>
                <a:tab algn="l" pos="8656560"/>
                <a:tab algn="l" pos="9105840"/>
                <a:tab algn="l" pos="9555120"/>
                <a:tab algn="l" pos="10004400"/>
                <a:tab algn="l" pos="10453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proud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a peacoc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spcBef>
                <a:spcPts val="901"/>
              </a:spcBef>
              <a:tabLst>
                <a:tab algn="l" pos="0"/>
                <a:tab algn="l" pos="1722600"/>
                <a:tab algn="l" pos="1917720"/>
                <a:tab algn="l" pos="2367000"/>
                <a:tab algn="l" pos="2816280"/>
                <a:tab algn="l" pos="3265560"/>
                <a:tab algn="l" pos="3714840"/>
                <a:tab algn="l" pos="4164120"/>
                <a:tab algn="l" pos="4613400"/>
                <a:tab algn="l" pos="5062680"/>
                <a:tab algn="l" pos="5511960"/>
                <a:tab algn="l" pos="5961240"/>
                <a:tab algn="l" pos="6410160"/>
                <a:tab algn="l" pos="6859440"/>
                <a:tab algn="l" pos="7308720"/>
                <a:tab algn="l" pos="7758000"/>
                <a:tab algn="l" pos="8207280"/>
                <a:tab algn="l" pos="8656560"/>
                <a:tab algn="l" pos="9105840"/>
                <a:tab algn="l" pos="9555120"/>
                <a:tab algn="l" pos="10004400"/>
                <a:tab algn="l" pos="104536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spcBef>
                <a:spcPts val="9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22600"/>
                <a:tab algn="l" pos="1917720"/>
                <a:tab algn="l" pos="2367000"/>
                <a:tab algn="l" pos="2816280"/>
                <a:tab algn="l" pos="3265560"/>
                <a:tab algn="l" pos="3714840"/>
                <a:tab algn="l" pos="4164120"/>
                <a:tab algn="l" pos="4613400"/>
                <a:tab algn="l" pos="5062680"/>
                <a:tab algn="l" pos="5511960"/>
                <a:tab algn="l" pos="5961240"/>
                <a:tab algn="l" pos="6410160"/>
                <a:tab algn="l" pos="6859440"/>
                <a:tab algn="l" pos="7308720"/>
                <a:tab algn="l" pos="7758000"/>
                <a:tab algn="l" pos="8207280"/>
                <a:tab algn="l" pos="8656560"/>
                <a:tab algn="l" pos="9105840"/>
                <a:tab algn="l" pos="9555120"/>
                <a:tab algn="l" pos="10004400"/>
                <a:tab algn="l" pos="10453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gentl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as a lamb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spcBef>
                <a:spcPts val="901"/>
              </a:spcBef>
              <a:tabLst>
                <a:tab algn="l" pos="0"/>
                <a:tab algn="l" pos="1722600"/>
                <a:tab algn="l" pos="1917720"/>
                <a:tab algn="l" pos="2367000"/>
                <a:tab algn="l" pos="2816280"/>
                <a:tab algn="l" pos="3265560"/>
                <a:tab algn="l" pos="3714840"/>
                <a:tab algn="l" pos="4164120"/>
                <a:tab algn="l" pos="4613400"/>
                <a:tab algn="l" pos="5062680"/>
                <a:tab algn="l" pos="5511960"/>
                <a:tab algn="l" pos="5961240"/>
                <a:tab algn="l" pos="6410160"/>
                <a:tab algn="l" pos="6859440"/>
                <a:tab algn="l" pos="7308720"/>
                <a:tab algn="l" pos="7758000"/>
                <a:tab algn="l" pos="8207280"/>
                <a:tab algn="l" pos="8656560"/>
                <a:tab algn="l" pos="9105840"/>
                <a:tab algn="l" pos="9555120"/>
                <a:tab algn="l" pos="10004400"/>
                <a:tab algn="l" pos="104536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157480" indent="-211320">
              <a:spcBef>
                <a:spcPts val="901"/>
              </a:spcBef>
              <a:tabLst>
                <a:tab algn="l" pos="0"/>
                <a:tab algn="l" pos="1722600"/>
                <a:tab algn="l" pos="1917720"/>
                <a:tab algn="l" pos="2367000"/>
                <a:tab algn="l" pos="2816280"/>
                <a:tab algn="l" pos="3265560"/>
                <a:tab algn="l" pos="3714840"/>
                <a:tab algn="l" pos="4164120"/>
                <a:tab algn="l" pos="4613400"/>
                <a:tab algn="l" pos="5062680"/>
                <a:tab algn="l" pos="5511960"/>
                <a:tab algn="l" pos="5961240"/>
                <a:tab algn="l" pos="6410160"/>
                <a:tab algn="l" pos="6859440"/>
                <a:tab algn="l" pos="7308720"/>
                <a:tab algn="l" pos="7758000"/>
                <a:tab algn="l" pos="8207280"/>
                <a:tab algn="l" pos="8656560"/>
                <a:tab algn="l" pos="9105840"/>
                <a:tab algn="l" pos="9555120"/>
                <a:tab algn="l" pos="10004400"/>
                <a:tab algn="l" pos="104536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8099280" y="900000"/>
            <a:ext cx="174312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5440320" y="2160720"/>
            <a:ext cx="1219320" cy="1428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559640" y="3611520"/>
            <a:ext cx="183852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5722920" y="5411880"/>
            <a:ext cx="1657440" cy="14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8720" y="499680"/>
            <a:ext cx="9070920" cy="222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MY FAMILY</a:t>
            </a:r>
            <a:br>
              <a:rPr sz="4400"/>
            </a:br>
            <a:r>
              <a:rPr b="1" lang="en-US" sz="3600" spc="-1" strike="noStrike">
                <a:solidFill>
                  <a:srgbClr val="008000"/>
                </a:solidFill>
                <a:latin typeface="Arial Black"/>
              </a:rPr>
              <a:t>SB p.63 ex.3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09440" y="2136240"/>
            <a:ext cx="9070920" cy="558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5280" bIns="50400" anchor="ctr">
            <a:noAutofit/>
          </a:bodyPr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280099"/>
              </a:buClr>
              <a:buSzPct val="45000"/>
              <a:buFont typeface="Wingdings" charset="2"/>
              <a:buChar char=""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280099"/>
                </a:solidFill>
                <a:latin typeface="Calibri"/>
              </a:rPr>
              <a:t>Read about..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280099"/>
              </a:buClr>
              <a:buSzPct val="45000"/>
              <a:buFont typeface="Wingdings" charset="2"/>
              <a:buChar char=""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280099"/>
                </a:solidFill>
                <a:latin typeface="Calibri"/>
              </a:rPr>
              <a:t>Find the words that means </a:t>
            </a:r>
            <a:r>
              <a:rPr b="1" i="1" lang="en-US" sz="3300" spc="-1" strike="noStrike">
                <a:solidFill>
                  <a:srgbClr val="008000"/>
                </a:solidFill>
                <a:latin typeface="Calibri"/>
              </a:rPr>
              <a:t>mother</a:t>
            </a:r>
            <a:r>
              <a:rPr b="1" i="1" lang="en-US" sz="3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3300" spc="-1" strike="noStrike">
                <a:solidFill>
                  <a:srgbClr val="008000"/>
                </a:solidFill>
                <a:latin typeface="Calibri"/>
              </a:rPr>
              <a:t>father</a:t>
            </a:r>
            <a:r>
              <a:rPr b="1" i="1" lang="en-US" sz="3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3300" spc="-1" strike="noStrike">
                <a:solidFill>
                  <a:srgbClr val="008000"/>
                </a:solidFill>
                <a:latin typeface="Calibri"/>
              </a:rPr>
              <a:t>sister, grandmother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280099"/>
              </a:buClr>
              <a:buSzPct val="45000"/>
              <a:buFont typeface="Wingdings" charset="2"/>
              <a:buChar char=""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280099"/>
                </a:solidFill>
                <a:latin typeface="Calibri"/>
              </a:rPr>
              <a:t> </a:t>
            </a:r>
            <a:r>
              <a:rPr b="1" lang="en-US" sz="3300" spc="-1" strike="noStrike">
                <a:solidFill>
                  <a:srgbClr val="280099"/>
                </a:solidFill>
                <a:latin typeface="Calibri"/>
              </a:rPr>
              <a:t>Find and underline the rhyming words in the poem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alibri"/>
              </a:rPr>
              <a:t>Find your own rhyming words to the words from the poem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002060"/>
              </a:buClr>
              <a:buSzPct val="45000"/>
              <a:buFont typeface="Wingdings" charset="2"/>
              <a:buChar char=""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r>
              <a:rPr b="1" i="1" lang="en-US" sz="3300" spc="-1" strike="noStrike">
                <a:solidFill>
                  <a:srgbClr val="002060"/>
                </a:solidFill>
                <a:latin typeface="Calibri"/>
              </a:rPr>
              <a:t>Which animal simile best matches you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002060"/>
              </a:buClr>
              <a:buSzPct val="45000"/>
              <a:buFont typeface="Wingdings" charset="2"/>
              <a:buChar char=""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r>
              <a:rPr b="1" i="1" lang="en-US" sz="33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en-US" sz="3300" spc="-1" strike="noStrike">
                <a:solidFill>
                  <a:srgbClr val="002060"/>
                </a:solidFill>
                <a:latin typeface="Calibri"/>
              </a:rPr>
              <a:t>Can you describe your family members using animal similes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7380360" y="339840"/>
            <a:ext cx="2309760" cy="18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4900" spc="-1" strike="noStrike">
                <a:solidFill>
                  <a:srgbClr val="008000"/>
                </a:solidFill>
                <a:latin typeface="Arial Black"/>
              </a:rPr>
              <a:t>MY FAMIL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-360" y="204948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1680" bIns="50400" anchor="ctr">
            <a:noAutofit/>
          </a:bodyPr>
          <a:p>
            <a:pPr>
              <a:spcBef>
                <a:spcPts val="901"/>
              </a:spcBef>
              <a:buClr>
                <a:srgbClr val="280099"/>
              </a:buClr>
              <a:buSzPct val="45000"/>
              <a:buFont typeface="Wingdings" charset="2"/>
              <a:buChar char=""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r>
              <a:rPr b="1" lang="en-US" sz="3600" spc="-1" strike="noStrike">
                <a:solidFill>
                  <a:srgbClr val="280099"/>
                </a:solidFill>
                <a:latin typeface="Calibri"/>
              </a:rPr>
              <a:t>SB p.63 ex.1 (дописать транскрипцию и выучить слова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280099"/>
              </a:buClr>
              <a:buSzPct val="45000"/>
              <a:buFont typeface="Wingdings" charset="2"/>
              <a:buChar char=""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r>
              <a:rPr b="1" lang="en-US" sz="3600" spc="-1" strike="noStrike">
                <a:solidFill>
                  <a:srgbClr val="280099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280099"/>
                </a:solidFill>
                <a:latin typeface="Calibri"/>
              </a:rPr>
              <a:t>Подготовить рассказ о своей семье, дополнив ег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i="1" lang="en-US" sz="3500" spc="-1" strike="noStrike">
                <a:solidFill>
                  <a:srgbClr val="0000ff"/>
                </a:solidFill>
                <a:latin typeface="Calibri"/>
              </a:rPr>
              <a:t>Придумать стихотворение о своей семье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7380360" y="341280"/>
            <a:ext cx="23097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4900" spc="-1" strike="noStrike">
                <a:solidFill>
                  <a:srgbClr val="008000"/>
                </a:solidFill>
                <a:latin typeface="Arial Black"/>
              </a:rPr>
              <a:t>I </a:t>
            </a:r>
            <a:r>
              <a:rPr b="1" lang="en-US" sz="4900" spc="-1" strike="noStrike">
                <a:solidFill>
                  <a:srgbClr val="ff0000"/>
                </a:solidFill>
                <a:latin typeface="Arial Black"/>
              </a:rPr>
              <a:t>LOVE</a:t>
            </a:r>
            <a:r>
              <a:rPr b="1" lang="en-US" sz="4900" spc="-1" strike="noStrike">
                <a:solidFill>
                  <a:srgbClr val="008000"/>
                </a:solidFill>
                <a:latin typeface="Arial Black"/>
              </a:rPr>
              <a:t> MY MUM!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360" y="1619280"/>
            <a:ext cx="4535640" cy="51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1680" bIns="50400" anchor="ctr">
            <a:noAutofit/>
          </a:bodyPr>
          <a:p>
            <a:pPr marL="378000" indent="0">
              <a:spcBef>
                <a:spcPts val="9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alibri"/>
              </a:rPr>
              <a:t>That is your mother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spcBef>
                <a:spcPts val="9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spcBef>
                <a:spcPts val="9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alibri"/>
              </a:rPr>
              <a:t>I agree, she is fi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spcBef>
                <a:spcPts val="9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spcBef>
                <a:spcPts val="9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alibri"/>
              </a:rPr>
              <a:t>You love your moth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spcBef>
                <a:spcPts val="9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spcBef>
                <a:spcPts val="9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alibri"/>
              </a:rPr>
              <a:t>And I love mine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840360" y="3600360"/>
            <a:ext cx="3060720" cy="19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840360" y="179280"/>
            <a:ext cx="3060720" cy="216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5400720" y="1811160"/>
            <a:ext cx="2673360" cy="1968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4859280" y="5040360"/>
            <a:ext cx="3060720" cy="21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19640" y="0"/>
            <a:ext cx="63007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4900" spc="-1" strike="noStrike">
                <a:solidFill>
                  <a:srgbClr val="008000"/>
                </a:solidFill>
                <a:latin typeface="Arial Black"/>
              </a:rPr>
              <a:t>MY MUM!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140000" y="208080"/>
            <a:ext cx="5940360" cy="6852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1680" bIns="50400" anchor="ctr">
            <a:noAutofit/>
          </a:bodyPr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b80047"/>
                </a:solidFill>
                <a:latin typeface="Calibri"/>
              </a:rPr>
              <a:t>What's your mum's name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Calibri"/>
              </a:rPr>
              <a:t>     </a:t>
            </a:r>
            <a:r>
              <a:rPr b="1" lang="en-US" sz="3300" spc="-1" strike="noStrike">
                <a:solidFill>
                  <a:srgbClr val="008000"/>
                </a:solidFill>
                <a:latin typeface="Calibri"/>
              </a:rPr>
              <a:t>Her name is..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b80047"/>
                </a:solidFill>
                <a:latin typeface="Calibri"/>
              </a:rPr>
              <a:t>How old is she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Calibri"/>
              </a:rPr>
              <a:t>     </a:t>
            </a:r>
            <a:r>
              <a:rPr b="1" lang="en-US" sz="3300" spc="-1" strike="noStrike">
                <a:solidFill>
                  <a:srgbClr val="008000"/>
                </a:solidFill>
                <a:latin typeface="Calibri"/>
              </a:rPr>
              <a:t>She is ...years old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b80047"/>
                </a:solidFill>
                <a:latin typeface="Calibri"/>
              </a:rPr>
              <a:t>What's she like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Calibri"/>
              </a:rPr>
              <a:t>     </a:t>
            </a:r>
            <a:r>
              <a:rPr b="1" lang="en-US" sz="3300" spc="-1" strike="noStrike">
                <a:solidFill>
                  <a:srgbClr val="008000"/>
                </a:solidFill>
                <a:latin typeface="Calibri"/>
              </a:rPr>
              <a:t>She is..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b80047"/>
                </a:solidFill>
                <a:latin typeface="Calibri"/>
              </a:rPr>
              <a:t>What can she do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Calibri"/>
              </a:rPr>
              <a:t>     </a:t>
            </a:r>
            <a:r>
              <a:rPr b="1" lang="en-US" sz="3300" spc="-1" strike="noStrike">
                <a:solidFill>
                  <a:srgbClr val="008000"/>
                </a:solidFill>
                <a:latin typeface="Calibri"/>
              </a:rPr>
              <a:t>She can..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251928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-539640" y="504036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306072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5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-848520"/>
            <a:ext cx="9066240" cy="924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ru-RU" sz="54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254120" y="2136240"/>
            <a:ext cx="4786200" cy="500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spcBef>
                <a:spcPts val="15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6000" spc="-1" strike="noStrike">
                <a:solidFill>
                  <a:srgbClr val="b80047"/>
                </a:solidFill>
                <a:latin typeface="Calibri"/>
              </a:rPr>
              <a:t>What's your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 algn="ctr">
              <a:spcBef>
                <a:spcPts val="15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6000" spc="-1" strike="noStrike">
                <a:solidFill>
                  <a:srgbClr val="b80047"/>
                </a:solidFill>
                <a:latin typeface="Calibri"/>
              </a:rPr>
              <a:t>How old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 algn="ctr">
              <a:spcBef>
                <a:spcPts val="15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6000" spc="-1" strike="noStrike">
                <a:solidFill>
                  <a:srgbClr val="b80047"/>
                </a:solidFill>
                <a:latin typeface="Calibri"/>
              </a:rPr>
              <a:t>What's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 algn="ctr">
              <a:spcBef>
                <a:spcPts val="15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6000" spc="-1" strike="noStrike">
                <a:solidFill>
                  <a:srgbClr val="b80047"/>
                </a:solidFill>
                <a:latin typeface="Calibri"/>
              </a:rPr>
              <a:t>What can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C:\Users\User\Desktop\картинки\учитель.jpeg"/>
          <p:cNvPicPr/>
          <p:nvPr/>
        </p:nvPicPr>
        <p:blipFill>
          <a:blip r:embed="rId1"/>
          <a:stretch/>
        </p:blipFill>
        <p:spPr>
          <a:xfrm>
            <a:off x="254160" y="422280"/>
            <a:ext cx="3357360" cy="500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TextBox 6"/>
          <p:cNvSpPr/>
          <p:nvPr/>
        </p:nvSpPr>
        <p:spPr>
          <a:xfrm>
            <a:off x="3683160" y="279360"/>
            <a:ext cx="5572080" cy="19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4400" spc="-1" strike="noStrike">
                <a:solidFill>
                  <a:srgbClr val="b80047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2060"/>
                </a:solidFill>
                <a:latin typeface="Arial"/>
              </a:rPr>
              <a:t>- Attention to the question words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Arial"/>
              </a:rPr>
              <a:t>                    </a:t>
            </a:r>
            <a:r>
              <a:rPr b="1" i="1" lang="en-US" sz="4400" spc="-1" strike="noStrike">
                <a:solidFill>
                  <a:srgbClr val="002060"/>
                </a:solidFill>
                <a:latin typeface="Arial"/>
              </a:rPr>
              <a:t>please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0"/>
            <a:ext cx="9066240" cy="85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900" spc="-1" strike="noStrike">
                <a:solidFill>
                  <a:srgbClr val="00b050"/>
                </a:solidFill>
                <a:latin typeface="Calibri"/>
              </a:rPr>
              <a:t>NEW WORDS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3280" y="708120"/>
            <a:ext cx="9066240" cy="685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LAYFU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 algn="ctr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ROU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 algn="ctr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QUI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 algn="ctr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WI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 algn="ctr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GENT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 algn="ctr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TRO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 algn="ctr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BUS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 algn="ctr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TUBBOR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 algn="ctr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LO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4900" spc="-1" strike="noStrike">
                <a:solidFill>
                  <a:srgbClr val="008000"/>
                </a:solidFill>
                <a:latin typeface="Arial Black"/>
              </a:rPr>
              <a:t>MY FAMIL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800000" y="1477800"/>
            <a:ext cx="6551640" cy="555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6960" indent="-322200">
              <a:lnSpc>
                <a:spcPct val="90000"/>
              </a:lnSpc>
              <a:spcBef>
                <a:spcPts val="876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10064880"/>
              </a:tabLst>
            </a:pPr>
            <a:r>
              <a:rPr b="1" lang="en-US" sz="3500" spc="-1" strike="noStrike">
                <a:solidFill>
                  <a:srgbClr val="33cc66"/>
                </a:solidFill>
                <a:latin typeface="Calibri"/>
              </a:rPr>
              <a:t>Playful – </a:t>
            </a: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игривый, весёлый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90000"/>
              </a:lnSpc>
              <a:spcBef>
                <a:spcPts val="876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10064880"/>
              </a:tabLst>
            </a:pPr>
            <a:r>
              <a:rPr b="1" lang="en-US" sz="3500" spc="-1" strike="noStrike">
                <a:solidFill>
                  <a:srgbClr val="33cc66"/>
                </a:solidFill>
                <a:latin typeface="Calibri"/>
              </a:rPr>
              <a:t>Proud - </a:t>
            </a: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гордый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90000"/>
              </a:lnSpc>
              <a:spcBef>
                <a:spcPts val="876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10064880"/>
              </a:tabLst>
            </a:pPr>
            <a:r>
              <a:rPr b="1" lang="en-US" sz="3500" spc="-1" strike="noStrike">
                <a:solidFill>
                  <a:srgbClr val="33cc66"/>
                </a:solidFill>
                <a:latin typeface="Calibri"/>
              </a:rPr>
              <a:t>Quiet - </a:t>
            </a: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тихий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90000"/>
              </a:lnSpc>
              <a:spcBef>
                <a:spcPts val="876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10064880"/>
              </a:tabLst>
            </a:pPr>
            <a:r>
              <a:rPr b="1" lang="en-US" sz="3500" spc="-1" strike="noStrike">
                <a:solidFill>
                  <a:srgbClr val="33cc66"/>
                </a:solidFill>
                <a:latin typeface="Calibri"/>
              </a:rPr>
              <a:t>Wise - </a:t>
            </a: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мудрый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90000"/>
              </a:lnSpc>
              <a:spcBef>
                <a:spcPts val="876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10064880"/>
              </a:tabLst>
            </a:pPr>
            <a:r>
              <a:rPr b="1" lang="en-US" sz="3500" spc="-1" strike="noStrike">
                <a:solidFill>
                  <a:srgbClr val="33cc66"/>
                </a:solidFill>
                <a:latin typeface="Calibri"/>
              </a:rPr>
              <a:t>Gentle - </a:t>
            </a: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нежный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90000"/>
              </a:lnSpc>
              <a:spcBef>
                <a:spcPts val="876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10064880"/>
              </a:tabLst>
            </a:pPr>
            <a:r>
              <a:rPr b="1" lang="en-US" sz="3500" spc="-1" strike="noStrike">
                <a:solidFill>
                  <a:srgbClr val="33cc66"/>
                </a:solidFill>
                <a:latin typeface="Calibri"/>
              </a:rPr>
              <a:t>Strong - </a:t>
            </a: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сильный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90000"/>
              </a:lnSpc>
              <a:spcBef>
                <a:spcPts val="876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10064880"/>
              </a:tabLst>
            </a:pPr>
            <a:r>
              <a:rPr b="1" lang="en-US" sz="3500" spc="-1" strike="noStrike">
                <a:solidFill>
                  <a:srgbClr val="33cc66"/>
                </a:solidFill>
                <a:latin typeface="Calibri"/>
              </a:rPr>
              <a:t>Busy - </a:t>
            </a: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занятой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90000"/>
              </a:lnSpc>
              <a:spcBef>
                <a:spcPts val="876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10064880"/>
              </a:tabLst>
            </a:pPr>
            <a:r>
              <a:rPr b="1" lang="en-US" sz="3500" spc="-1" strike="noStrike">
                <a:solidFill>
                  <a:srgbClr val="33cc66"/>
                </a:solidFill>
                <a:latin typeface="Calibri"/>
              </a:rPr>
              <a:t>Stubborn - </a:t>
            </a: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упрямый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90000"/>
              </a:lnSpc>
              <a:spcBef>
                <a:spcPts val="876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10064880"/>
              </a:tabLst>
            </a:pPr>
            <a:r>
              <a:rPr b="1" lang="en-US" sz="3500" spc="-1" strike="noStrike">
                <a:solidFill>
                  <a:srgbClr val="33cc66"/>
                </a:solidFill>
                <a:latin typeface="Calibri"/>
              </a:rPr>
              <a:t>Slow - </a:t>
            </a: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медленный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208080"/>
          <a:ext cx="10080720" cy="7072200"/>
        </p:xfrm>
        <a:graphic>
          <a:graphicData uri="http://schemas.openxmlformats.org/drawingml/2006/table">
            <a:tbl>
              <a:tblPr/>
              <a:tblGrid>
                <a:gridCol w="552600"/>
                <a:gridCol w="622080"/>
                <a:gridCol w="644760"/>
                <a:gridCol w="674640"/>
                <a:gridCol w="688680"/>
                <a:gridCol w="646200"/>
                <a:gridCol w="665280"/>
                <a:gridCol w="668160"/>
                <a:gridCol w="668520"/>
                <a:gridCol w="873000"/>
                <a:gridCol w="871560"/>
                <a:gridCol w="690480"/>
                <a:gridCol w="622440"/>
                <a:gridCol w="582480"/>
                <a:gridCol w="609840"/>
              </a:tblGrid>
              <a:tr h="61092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Q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W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P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W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000" y="126036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t">
            <a:normAutofit/>
          </a:bodyPr>
          <a:p>
            <a:pPr marL="430200" indent="-318960">
              <a:spcBef>
                <a:spcPts val="799"/>
              </a:spcBef>
              <a:spcAft>
                <a:spcPts val="1426"/>
              </a:spcAft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spcBef>
                <a:spcPts val="799"/>
              </a:spcBef>
              <a:spcAft>
                <a:spcPts val="1426"/>
              </a:spcAft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57480" indent="-211320">
              <a:spcBef>
                <a:spcPts val="1225"/>
              </a:spcBef>
              <a:spcAft>
                <a:spcPts val="286"/>
              </a:spcAft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1006488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as... as ..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10064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B p.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744640" y="360360"/>
            <a:ext cx="1756080" cy="1305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219640" y="371520"/>
            <a:ext cx="165744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7342200" y="1631880"/>
            <a:ext cx="1838160" cy="1428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7920000" y="3611520"/>
            <a:ext cx="1219320" cy="1428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5"/>
          <a:stretch/>
        </p:blipFill>
        <p:spPr>
          <a:xfrm>
            <a:off x="6480000" y="5051520"/>
            <a:ext cx="1743120" cy="1428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6"/>
          <a:stretch/>
        </p:blipFill>
        <p:spPr>
          <a:xfrm>
            <a:off x="4319640" y="5580000"/>
            <a:ext cx="1684440" cy="1173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7"/>
          <a:stretch/>
        </p:blipFill>
        <p:spPr>
          <a:xfrm>
            <a:off x="2162160" y="5219640"/>
            <a:ext cx="1257480" cy="1428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8"/>
          <a:stretch/>
        </p:blipFill>
        <p:spPr>
          <a:xfrm>
            <a:off x="1027080" y="3419640"/>
            <a:ext cx="1133640" cy="1428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9"/>
          <a:stretch/>
        </p:blipFill>
        <p:spPr>
          <a:xfrm>
            <a:off x="720720" y="1440000"/>
            <a:ext cx="16765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177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4900" spc="-1" strike="noStrike">
                <a:solidFill>
                  <a:srgbClr val="008000"/>
                </a:solidFill>
                <a:latin typeface="Arial Black"/>
              </a:rPr>
              <a:t>MY FAMIL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03280" y="1260360"/>
            <a:ext cx="8856720" cy="5780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1680" bIns="50400" anchor="t">
            <a:normAutofit/>
          </a:bodyPr>
          <a:p>
            <a:pPr lvl="4" marL="2154240" indent="-212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15424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979200"/>
                <a:tab algn="l" pos="10428120"/>
                <a:tab algn="l" pos="10877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busy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a b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15424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979200"/>
                <a:tab algn="l" pos="10428120"/>
                <a:tab algn="l" pos="10877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5424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979200"/>
                <a:tab algn="l" pos="10428120"/>
                <a:tab algn="l" pos="10877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wis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as an o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15424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979200"/>
                <a:tab algn="l" pos="10428120"/>
                <a:tab algn="l" pos="10877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154240" indent="-212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15424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979200"/>
                <a:tab algn="l" pos="10428120"/>
                <a:tab algn="l" pos="10877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playful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a kit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15424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979200"/>
                <a:tab algn="l" pos="10428120"/>
                <a:tab algn="l" pos="10877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5424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979200"/>
                <a:tab algn="l" pos="10428120"/>
                <a:tab algn="l" pos="10877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low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as a sna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15424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979200"/>
                <a:tab algn="l" pos="10428120"/>
                <a:tab algn="l" pos="10877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154240" indent="-212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15424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979200"/>
                <a:tab algn="l" pos="10428120"/>
                <a:tab algn="l" pos="10877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quiet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as a mo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7740720" y="1079640"/>
            <a:ext cx="1619280" cy="125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5040360" y="217188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8099280" y="3060720"/>
            <a:ext cx="1440000" cy="161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4"/>
          <a:stretch/>
        </p:blipFill>
        <p:spPr>
          <a:xfrm>
            <a:off x="5402160" y="4680000"/>
            <a:ext cx="125748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5"/>
          <a:stretch/>
        </p:blipFill>
        <p:spPr>
          <a:xfrm>
            <a:off x="7856640" y="5940360"/>
            <a:ext cx="2043000" cy="12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>User</cp:lastModifiedBy>
  <dcterms:modified xsi:type="dcterms:W3CDTF">2013-12-10T20:35:20Z</dcterms:modified>
  <cp:revision>17</cp:revision>
  <dc:subject/>
  <dc:title>MY FAMILY</dc:title>
</cp:coreProperties>
</file>