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6029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0880" y="458712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6029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90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6029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96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84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08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96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84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6029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6029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6029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6029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40880" y="577440"/>
            <a:ext cx="860292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6029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6029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6029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490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6029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6029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40880" y="458712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6029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490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6029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496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584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408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496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584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6029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6029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6029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6029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6029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40880" y="577440"/>
            <a:ext cx="860292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6029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6029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1490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6029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6029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740880" y="458712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6029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1490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6029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6496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584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7408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6496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584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6029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6029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577440"/>
            <a:ext cx="8602920" cy="63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6029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6029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90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6029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8640" y="2224080"/>
            <a:ext cx="8472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6029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0880" y="577440"/>
            <a:ext cx="8602920" cy="13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563040"/>
            <a:ext cx="860760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ЗВУК </a:t>
            </a: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Ы</a:t>
            </a: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 В КОНЦЕ ДВУХСЛОЖНЫХ СЛОВ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14400" y="1084320"/>
            <a:ext cx="8477280" cy="6502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спользуется для коррекции смягчения согласных в реч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ставитель: учитель-логопе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5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злова И.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МА-МЫ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900000" y="1800360"/>
            <a:ext cx="809964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КЕ-ДЫ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1079640" y="1800360"/>
            <a:ext cx="7920000" cy="5219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НО-ТЫ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1440000" y="1800360"/>
            <a:ext cx="774036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ДУ-БЫ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1079640" y="1619280"/>
            <a:ext cx="7920000" cy="5759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0880" y="622080"/>
            <a:ext cx="8605800" cy="12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4700" spc="-1" strike="noStrike">
                <a:solidFill>
                  <a:srgbClr val="000000"/>
                </a:solidFill>
                <a:latin typeface="Times New Roman"/>
              </a:rPr>
              <a:t>ГУ-БЫ, ЗУ-БЫ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816120" y="2101680"/>
            <a:ext cx="8453160" cy="4761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2400" y="177480"/>
            <a:ext cx="8607600" cy="108252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Я-МЫ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2340000" y="1079640"/>
            <a:ext cx="5219640" cy="6119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КО-ТЫ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900000" y="1619280"/>
            <a:ext cx="8099640" cy="5367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ЛА-ПЫ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1440000" y="1800360"/>
            <a:ext cx="7740360" cy="51861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Е-ЖИ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1079640" y="1979640"/>
            <a:ext cx="8450280" cy="5006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ЛА-МЫ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1260360" y="1619280"/>
            <a:ext cx="7559640" cy="5367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КО-ЗЫ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1079640" y="1619280"/>
            <a:ext cx="8280360" cy="5580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17784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СО-ВЫ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900000" y="1260360"/>
            <a:ext cx="7920000" cy="5940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КИ-ТЫ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720720" y="1800360"/>
            <a:ext cx="864072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00000" y="-180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БА-БЫ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3240000" y="1079640"/>
            <a:ext cx="3959280" cy="6119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5T11:51:27Z</dcterms:created>
  <dc:creator/>
  <dc:description>Предложение пути развития и альтернатив, рекомендации по использованию той или другой стратегии</dc:description>
  <dc:language>en-US</dc:language>
  <cp:lastModifiedBy>User</cp:lastModifiedBy>
  <dcterms:modified xsi:type="dcterms:W3CDTF">2017-01-17T07:33:05Z</dcterms:modified>
  <cp:revision>2</cp:revision>
  <dc:subject/>
  <dc:title>Предложение стратегии</dc:title>
</cp:coreProperties>
</file>