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ACB-94F4-4BC2-8B58-956E245C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CB1-9096-4FD6-ACC1-CDD134D2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4E1-0C22-42C4-9027-F9B535FA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065-BDDB-4419-ADD2-275A17A4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C1D2-89A0-4D1A-AA21-927CB8E3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5D78-0BBF-4FE6-90D7-935ABD85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88E5-CBDF-43CB-8D0F-0969E9DF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CB77-885B-4EFD-A5B5-6D9AD773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0812-8096-4CBE-B9C0-6E520EBF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6C65-E163-4FDB-93EE-70B60D0E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5DA7-407A-4BF9-BFD0-DC919276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246-30C7-4CA1-AEB6-F531A4B6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5370-5F4B-47B5-845A-575D4BAA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AB61-99D6-48A8-9841-9BED1971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3E9D-D865-4E47-BDA8-BB13B13A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0CDC-AC96-4DEC-B674-B20C03FE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2617-D073-4BD9-89F7-02F13F38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B03-2257-478A-9EC6-BA79BD9D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2A7-07B4-421F-9CE3-64E035CC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1B4-9B73-4836-B962-9DE8A476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BE6-CFCF-4173-8CD3-CAECC82D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160-99F2-4522-AC14-1ADE2D85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E05-3B5B-464D-920C-202A9AD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219-4DBC-4936-8BC1-50226A80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CBE-3700-4F0A-BD5E-9AC176D5AF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3668-6960-47F3-B694-FF3743EB06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old.nikolay.gogol.ru/biografiya-n-v-gogolya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803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Автор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ежбицкая Диана, ученица 7 «а» класса общеобразовательной школы № 14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уководитель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Юринская И.В.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учитель русского языка и литературы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В.Горяев. В одном департамент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835280" y="1844640"/>
          <a:ext cx="6321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321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50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шмачкин восходит к одной из разновидностей романтического героя, который чужд  житейских интересов. По свидетельству рассказчика, Башмачкин живёт жизнью замкнутой, нетипичной для его собратьев-чиновников, едва замечает окружающий его мир, едва сознаёт в этом мире себя самог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77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н не думал вовсе о своём платье: вицмундир у него был не зелёный, а какого-то рыжевато-мучного цвета… И всегда что-нибудь прилипало к его вицмундиру: или сенца кусочек, или какая-нибудь ниточка; к тому же он имел особенное искусство, ходя по улице, поспевать под окно именно в то самое время, когда из него выбрасывали всякую дрянь… Ни один раз в жизни не обратил он внимания на то, что делается и происходит всякий день на улиц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4502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овести много героев, даже мороз, как символ природной стихии, становится персонажем: это он заставил Башмачкина внимательно рассмотреть свою шинель. Визит Акакия Акакиевича к Петровичу становится поворотным в дальнейшей судьбе чинов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50403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шмачкин «носит в мыслях своих вечную идею шинели». Эта «идея» преобразила Башмачкина: «Огонь порою показывался в глазах его, в голове мелькали дерзкие мысли: не положить ли, точно, куницу на воротник?» Это была дерзкая мечта – куницу на воротник к шинели мог позволить себе едва ли не генерал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6156360" y="189000"/>
          <a:ext cx="272088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189000"/>
                    <a:ext cx="272088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7"/>
          <p:cNvSpPr/>
          <p:nvPr/>
        </p:nvSpPr>
        <p:spPr>
          <a:xfrm>
            <a:off x="5940360" y="5734080"/>
            <a:ext cx="313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Гор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ич снимает мер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594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гнать употребление чаю по вечерам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 зажигать по вечерам свечи, а если что понадобится делать, идти в комнату к хозяйке и работать при её свечк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ходя по улицам, ступать как можно легче и осторожнее,.. чтобы таким образом не истереть скоровременно подмёток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ожно реже отдавать прачке мыть бельё, а чтобы не занашивалось, то всякий раз, приходя домой,  скидать его и оставаться в одном только демикотоновом халат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пособы экономии денег Башмачкина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.Горяе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Сняли мерку                            В шинели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684360" y="1239840"/>
          <a:ext cx="295272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39840"/>
                    <a:ext cx="295272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AutoShape 23"/>
          <p:cNvSpPr/>
          <p:nvPr/>
        </p:nvSpPr>
        <p:spPr>
          <a:xfrm>
            <a:off x="4211640" y="1844640"/>
            <a:ext cx="903240" cy="2664000"/>
          </a:xfrm>
          <a:prstGeom prst="rightArrow">
            <a:avLst>
              <a:gd name="adj1" fmla="val 49944"/>
              <a:gd name="adj2" fmla="val 34620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4"/>
          <p:cNvGraphicFramePr/>
          <p:nvPr/>
        </p:nvGraphicFramePr>
        <p:xfrm>
          <a:off x="5651640" y="1225440"/>
          <a:ext cx="2836800" cy="563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225440"/>
                    <a:ext cx="2836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82342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шинель Башмачкина была замечена и произвела необыкновенное впечатление на чиновников департамента – шинель тоже становится персонажем повести, ей уделяется большее внимание, чем тому, кто её носит. Благодаря новой шинели Акакий Акакиевич был приглашён на чай к помощнику столоначальника. Башмачкин, приобретший шинель ценой двух-трёхмесячного голодания, теперь мог позволить себе посмотреть на богатую витрину, стоя рядом с очень «недурной женщиной и с мужчиной с бакенбардами и красивой эспаньолкой под губ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02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двух бокалов шампанского и весёлого вечера Башмачкин отправился домой – время, как известно, опасное в бытовом и мистическом планах. Не без страха вышел наш герой на «бесконечную площадь», «которая глядела страшной пустыней» - «точно море вокруг него».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Брод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picture"/>
          <p:cNvPicPr/>
          <p:nvPr/>
        </p:nvPicPr>
        <p:blipFill>
          <a:blip r:embed="rId1"/>
          <a:stretch/>
        </p:blipFill>
        <p:spPr>
          <a:xfrm>
            <a:off x="971640" y="4365720"/>
            <a:ext cx="7086600" cy="19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и здесь поджидали его «какие-то люди с усами», запомнился Башмачкину кулак «величиною с чиновничью голову», пинок коленом и громовой голос: «А шинель-то моя!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к и лишился Акакий Акакиевич самого дорогого, что у него бы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.В. Гоголь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есть «Шинель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шмачкин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ловек с душой, мыслями и переживания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ечный титулярный советник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вва Бродс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ель похи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1547640" y="1844640"/>
            <a:ext cx="64868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772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indent="0" algn="ctr">
              <a:spcBef>
                <a:spcPts val="700"/>
              </a:spcBef>
              <a:buNone/>
              <a:tabLst>
                <a:tab algn="l" pos="0"/>
                <a:tab algn="dec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утру рано отправился он к частному…» Частный принял как-то чрезвычайно странно рассказ о грабительстве шинели. «…Он стал расспрашивать Акакия Акакиевича: да почему он так поздно возвращался.., так что Акакий Акакиевич сконфузился совершенно и вышел от него, сам не зная, возымеет ли надлежащий ход дело о шинели или н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dec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Нечего делать, Акакий Акакиевич решился идти к значительному лицу»,откуда  «его вынесли почти без движ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авва Бродский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У « значительного лица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4" descr="picture"/>
          <p:cNvPicPr/>
          <p:nvPr/>
        </p:nvPicPr>
        <p:blipFill>
          <a:blip r:embed="rId1"/>
          <a:stretch/>
        </p:blipFill>
        <p:spPr>
          <a:xfrm>
            <a:off x="900000" y="1916280"/>
            <a:ext cx="7159680" cy="3778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мерть Башмачкин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 визита к значительному лицу Башмачкин слёг в постель. По вызову хозяйки к нему явился доктор, который «тут же объявил ему чрез полтора суток непременный капут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акия Акакиевича свезли и похорон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215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ский комментарий к этому событию значителен и настраивает на философский лад: «Исчезло и скрылось существо, никем не защищённое, никому не дорогое, ни для кого не интересное…» А в подтексте утверждается: каждое человеческое существо должно быть защищено, кому-то дорого и интерес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45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овести «фантастическое окончание». Ходит «по ночам мертвец в виде чиновника», ищущий украденную шинель и сдирающий «со всех плеч, не разбирая чин и звания, всякие шине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 значительного лица с этим мертвецом влечёт за собой самые благотворные последствия: и значительное лицо присмирело, и мертвец успоко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502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Григорьев: «В образе Акакия Акакиевича поэт начертал грань обмеления Божьего создания до той степени, что вещь, и вещь самая ничтожная, становится для человека источником беспредельной радости и уничтожающего гор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Белинский усмотрел в фигуре Башмачкина мотив социального обличения, сочувствия к социально угнетённому «маленькому человек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мысль ближе 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 С. Афанасьев. О художественности повести Н. В. Гоголя «Шинель»//Литература в школе. 2002. №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.В.Гоголь. Шинель. – М. –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.М.Данильцева. Повесть Н.В.Гоголя «Шинель»//Литература в школе.-2004.- №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  <a:hlinkClick r:id="rId1"/>
              </a:rPr>
              <a:t>http://old.nikolay.gogol.ru/biografiya-n-v-gogolya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А.Никифорова, статья «Изучение повести Н.Гоголя«Шинель»//Литература в школе. 2004. №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Литература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изведения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о «маленьких людях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С.Пушкин «Медный всадник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танционный смотрит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.М.Достоевский «Бедные люд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58920" y="1915920"/>
            <a:ext cx="3745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В.Гоголь «Шин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щь, затмивша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979640" y="4724280"/>
            <a:ext cx="1584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6084720" y="3068640"/>
            <a:ext cx="1656000" cy="2016000"/>
          </a:xfrm>
          <a:prstGeom prst="downArrow">
            <a:avLst>
              <a:gd name="adj1" fmla="val 42093"/>
              <a:gd name="adj2" fmla="val 9395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Действующие лица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акий Акакиевич Башмачкин – от рождения «готовый титулярный совет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люстрация В.Горя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22"/>
          <p:cNvGraphicFramePr/>
          <p:nvPr/>
        </p:nvGraphicFramePr>
        <p:xfrm>
          <a:off x="5030640" y="1905120"/>
          <a:ext cx="3762360" cy="42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0640" y="1905120"/>
                    <a:ext cx="376236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772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южетом для создания повести стал анекдот о чиновнике, который мечтал о лепажевском ружье, купил его и потерял на охоте. Он очень переживал, заболел и слёг. Но добросердечные сослуживцы собрали деньги и подарили ему такое же ружь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В.Гоголь  заменил ружьё, предмет роскоши,  шинелью, предметом первой необходимости в холодном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атель понимал, что в реальной жизни  деятельное сочувствие -  редкость, и поэтому его повесть заканчивается траг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305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лужбе к Башмачкину «не оказывалось никакого уважения»: «Сторожа не только не вставали с мест, когда он проходил, но даже не глядели на него, как будто через приёмную пролетела простая муха». «Начальники поступали с ним как-то холодно-деспотически», «помощник столоначальника… совал ему под нос бумаги… молодые чиновники посмеивались и острились над ним… сыпали на голову ему бумажки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 брат твой» - знаменательные слова, заповедальное слово о любви к ближнему, пронзившее только одного молодого человека. «Много раз содрогался он потом на веку своём, видя, как много в человеке бесчеловечья, даже в том человеке, которого свет признаёт благородным и честным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рессивная лекси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становился, как бы пронзённый; всё переменилось пред ним и показалось в другом виде…»;  «в проникающих словах»; «содрогался он потом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описание героя складывается и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инус-эпизодов», то есть из умолчаний рассказчика о значимых, характерных для этого жанра подробностях становления личности героя. Непосредственно за эпизодом крещения героя следует пассаж о его служебном положении, словно «он так  и родился на свет уже совершенно готовым, в вицмундире и с лысиной на голов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1-15T23:41:05Z</dcterms:modified>
  <cp:revision>8</cp:revision>
  <dc:subject/>
  <dc:title>PowerPoint Presentation</dc:title>
</cp:coreProperties>
</file>