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E372-61BE-487F-9B47-2309F2DD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FDE-E376-436E-BD7E-F7FC202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FDC-F10E-4AF2-B263-A436D927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A889-7EEF-4265-86FC-FB9AB510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DACC-2373-43BE-BF9E-B22B1051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3332-AF70-4E91-9867-B9664712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6ECC-C3AF-4D3F-9666-6536361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43E2-22B4-45D6-9FCE-5886105F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B5EE-51F4-4732-ABCA-CCDCFEA0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26D9-C05F-4217-9195-36F582F1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691-A900-4FF5-98CD-C3044D5B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834-78A4-47D6-ABAC-7EF48549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D67F-49B2-40F6-8572-E4EC4DF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533A-7B26-4D2E-84A3-9328788B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B9AF-9D85-4C4D-A425-C4890E24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D395-EBAF-42A7-AF0B-5CF4FB57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ED2E-8ACC-436C-9D90-BC256360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4ED-53C1-4DB4-AB48-BE9D7390C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755E-923B-423E-B77D-9083E5E3C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7E8-70BA-4E0D-892F-160CA250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3F0-AA4B-48B8-840C-133FA2D5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A12B-D7A1-4B52-ADA0-3835568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ADA-BD63-4FA1-8A75-0B42A06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9D3-3CA9-4391-BB4F-6DE39B91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2DBC-3142-45D6-A57F-83E1DC7FB7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9476-4C28-4E6A-A729-36A3C27B8C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old.nikolay.gogol.ru/biografiya-n-v-gogolya.ht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828036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Автор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Вежбицкая Диана, ученица 7 «а» класса общеобразовательной школы № 14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уководитель: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Юринская И.В.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учитель русского языка и литературы</a:t>
            </a:r>
            <a:endParaRPr b="1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В.Горяев. В одном департаменте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Object 4"/>
          <p:cNvGraphicFramePr/>
          <p:nvPr/>
        </p:nvGraphicFramePr>
        <p:xfrm>
          <a:off x="1835280" y="1844640"/>
          <a:ext cx="63212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844640"/>
                    <a:ext cx="63212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502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шмачкин восходит к одной из разновидностей романтического героя, который чужд  житейских интересов. По свидетельству рассказчика, Башмачкин живёт жизнью замкнутой, нетипичной для его собратьев-чиновников, едва замечает окружающий его мир, едва сознаёт в этом мире себя самого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н не думал вовсе о своём платье: вицмундир у него был не зелёный, а какого-то рыжевато-мучного цвета… И всегда что-нибудь прилипало к его вицмундиру: или сенца кусочек, или какая-нибудь ниточка; к тому же он имел особенное искусство, ходя по улице, поспевать под окно именно в то самое время, когда из него выбрасывали всякую дрянь… Ни один раз в жизни не обратил он внимания на то, что делается и происходит всякий день на улице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4502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повести много героев, даже мороз, как символ природной стихии, становится персонажем: это он заставил Башмачкина внимательно рассмотреть свою шинель. Визит Акакия Акакиевича к Петровичу становится поворотным в дальнейшей судьбе чинов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000" y="333360"/>
            <a:ext cx="504036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шмачкин «носит в мыслях своих вечную идею шинели». Эта «идея» преобразила Башмачкина: «Огонь порою показывался в глазах его, в голове мелькали дерзкие мысли: не положить ли, точно, куницу на воротник?» Это была дерзкая мечта – куницу на воротник к шинели мог позволить себе едва ли не генера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6156360" y="189000"/>
          <a:ext cx="2720880" cy="55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189000"/>
                    <a:ext cx="272088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7"/>
          <p:cNvSpPr/>
          <p:nvPr/>
        </p:nvSpPr>
        <p:spPr>
          <a:xfrm>
            <a:off x="5940360" y="5734080"/>
            <a:ext cx="31374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Горя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трович снимает мер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5946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гнать употребление чаю по вечера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 зажигать по вечерам свечи, а если что понадобится делать, идти в комнату к хозяйке и работать при её свечке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ходя по улицам, ступать как можно легче и осторожнее,.. чтобы таким образом не истереть скоровременно подмёток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66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ожно реже отдавать прачке мыть бельё, а чтобы не занашивалось, то всякий раз, приходя домой,  скидать его и оставаться в одном только демикотоновом халате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851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Способы экономии денег Башмачкина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.Горяе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Сняли мерку                            В шинели                                                                                     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Object 3"/>
          <p:cNvGraphicFramePr/>
          <p:nvPr/>
        </p:nvGraphicFramePr>
        <p:xfrm>
          <a:off x="684360" y="1239840"/>
          <a:ext cx="2952720" cy="56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39840"/>
                    <a:ext cx="2952720" cy="56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AutoShape 23"/>
          <p:cNvSpPr/>
          <p:nvPr/>
        </p:nvSpPr>
        <p:spPr>
          <a:xfrm>
            <a:off x="4211640" y="1844640"/>
            <a:ext cx="903240" cy="2664000"/>
          </a:xfrm>
          <a:prstGeom prst="rightArrow">
            <a:avLst>
              <a:gd name="adj1" fmla="val 49944"/>
              <a:gd name="adj2" fmla="val 3462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4"/>
          <p:cNvGraphicFramePr/>
          <p:nvPr/>
        </p:nvGraphicFramePr>
        <p:xfrm>
          <a:off x="5651640" y="1225440"/>
          <a:ext cx="2836800" cy="563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225440"/>
                    <a:ext cx="2836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0920" y="476280"/>
            <a:ext cx="8234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ая шинель Башмачкина была замечена и произвела необыкновенное впечатление на чиновников департамента – шинель тоже становится персонажем повести, ей уделяется большее внимание, чем тому, кто её носит. Благодаря новой шинели Акакий Акакиевич был приглашён на чай к помощнику столоначальника. Башмачкин, приобретший шинель ценой двух-трёхмесячного голодания, теперь мог позволить себе посмотреть на богатую витрину, стоя рядом с очень «недурной женщиной и с мужчиной с бакенбардами и красивой эспаньолкой под губ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450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двух бокалов шампанского и весёлого вечера Башмачкин отправился домой – время, как известно, опасное в бытовом и мистическом планах. Не без страха вышел наш герой на «бесконечную площадь», «которая глядела страшной пустыней» - «точно море вокруг него».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Брод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picture"/>
          <p:cNvPicPr/>
          <p:nvPr/>
        </p:nvPicPr>
        <p:blipFill>
          <a:blip r:embed="rId1"/>
          <a:stretch/>
        </p:blipFill>
        <p:spPr>
          <a:xfrm>
            <a:off x="971640" y="4365720"/>
            <a:ext cx="7086600" cy="194472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11280" y="83664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и здесь поджидали его «какие-то люди с усами», запомнился Башмачкину кулак «величиною с чиновничью голову», пинок коленом и громовой голос: «А шинель-то моя!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ак и лишился Акакий Акакиевич самого дорогого, что у него бы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Н.В. Гогол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Повесть «Шинель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77300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шмачкин 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еловек с душой, мыслями и переживания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вечный титулярный советник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вва Бродск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ель похищ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1547640" y="1844640"/>
            <a:ext cx="648684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99960" indent="0" algn="ctr">
              <a:spcBef>
                <a:spcPts val="700"/>
              </a:spcBef>
              <a:buNone/>
              <a:tabLst>
                <a:tab algn="l" pos="0"/>
                <a:tab algn="dec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Поутру рано отправился он к частному…» Частный принял как-то чрезвычайно странно рассказ о грабительстве шинели. «…Он стал расспрашивать Акакия Акакиевича: да почему он так поздно возвращался.., так что Акакий Акакиевич сконфузился совершенно и вышел от него, сам не зная, возымеет ли надлежащий ход дело о шинели или н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dec" pos="3324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Нечего делать, Акакий Акакиевич решился идти к значительному лицу»,откуда  «его вынесли почти без движен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авва Бродский.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У « значительного лица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Picture 4" descr="picture"/>
          <p:cNvPicPr/>
          <p:nvPr/>
        </p:nvPicPr>
        <p:blipFill>
          <a:blip r:embed="rId1"/>
          <a:stretch/>
        </p:blipFill>
        <p:spPr>
          <a:xfrm>
            <a:off x="900000" y="1916280"/>
            <a:ext cx="7159680" cy="37782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Смерть Башмачкин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 визита к значительному лицу Башмачкин слёг в постель. По вызову хозяйки к нему явился доктор, который «тут же объявил ему чрез полтора суток непременный капут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кия Акакиевича свезли и похорони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215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вторский комментарий к этому событию значителен и настраивает на философский лад: «Исчезло и скрылось существо, никем не защищённое, никому не дорогое, ни для кого не интересное…» А в подтексте утверждается: каждое человеческое существо должно быть защищено, кому-то дорого и интерес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4502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вести «фантастическое окончание». Ходит «по ночам мертвец в виде чиновника», ищущий украденную шинель и сдирающий «со всех плеч, не разбирая чин и звания, всякие шинели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еча значительного лица с этим мертвецом влечёт за собой самые благотворные последствия: и значительное лицо присмирело, и мертвец успокоил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4502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П.Григорьев: «В образе Акакия Акакиевича поэт начертал грань обмеления Божьего создания до той степени, что вещь, и вещь самая ничтожная, становится для человека источником беспредельной радости и уничтожающего горя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Г.Белинский усмотрел в фигуре Башмачкина мотив социального обличения, сочувствия к социально угнетённому «маленькому человек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ая мысль ближе в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. С. Афанасьев. О художественности повести Н. В. Гоголя «Шинель»//Литература в школе. 2002. №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.В.Гоголь. Шинель. – М. –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.М.Данильцева. Повесть Н.В.Гоголя «Шинель»//Литература в школе.-2004.- №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  <a:hlinkClick r:id="rId1"/>
              </a:rPr>
              <a:t>http://old.nikolay.gogol.ru/biografiya-n-v-gogolya.ht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А.Никифорова, статья «Изучение повести Н.Гоголя«Шинель»//Литература в школе. 2004. №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Литература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Произведения</a:t>
            </a: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 о «маленьких людях»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С.Пушкин «Медный всадник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танционный смотрит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.М.Достоевский «Бедные люд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58920" y="1915920"/>
            <a:ext cx="3745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.В.Гоголь «Шине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щь, затмивша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1979640" y="4724280"/>
            <a:ext cx="158436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6084720" y="3068640"/>
            <a:ext cx="1656000" cy="2016000"/>
          </a:xfrm>
          <a:prstGeom prst="downArrow">
            <a:avLst>
              <a:gd name="adj1" fmla="val 42093"/>
              <a:gd name="adj2" fmla="val 9395"/>
            </a:avLst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Black"/>
              </a:rPr>
              <a:t>Действующие лица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какий Акакиевич Башмачкин – от рождения «готовый титулярный совет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люстрация В.Горя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22"/>
          <p:cNvGraphicFramePr/>
          <p:nvPr/>
        </p:nvGraphicFramePr>
        <p:xfrm>
          <a:off x="5030640" y="1905120"/>
          <a:ext cx="3762360" cy="42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0640" y="1905120"/>
                    <a:ext cx="376236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3772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южетом для создания повести стал анекдот о чиновнике, который мечтал о лепажевском ружье, купил его и потерял на охоте. Он очень переживал, заболел и слёг. Но добросердечные сослуживцы собрали деньги и подарили ему такое же ружьё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В.Гоголь  заменил ружьё, предмет роскоши,  шинелью, предметом первой необходимости в холодном Петербур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тель понимал, что в реальной жизни  деятельное сочувствие -  редкость, и поэтому его повесть заканчивается траг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39640" y="620280"/>
            <a:ext cx="8305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службе к Башмачкину «не оказывалось никакого уважения»: «Сторожа не только не вставали с мест, когда он проходил, но даже не глядели на него, как будто через приёмную пролетела простая муха». «Начальники поступали с ним как-то холодно-деспотически», «помощник столоначальника… совал ему под нос бумаги… молодые чиновники посмеивались и острились над ним… сыпали на голову ему бумажки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Я брат твой» - знаменательные слова, заповедальное слово о любви к ближнему, пронзившее только одного молодого человека. «Много раз содрогался он потом на веку своём, видя, как много в человеке бесчеловечья, даже в том человеке, которого свет признаёт благородным и честным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Экспрессивная лексика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Остановился, как бы пронзённый; всё переменилось пред ним и показалось в другом виде…»;  «в проникающих словах»; «содрогался он потом»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еописание героя складывается и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инус-эпизодов», то есть из умолчаний рассказчика о значимых, характерных для этого жанра подробностях становления личности героя. Непосредственно за эпизодом крещения героя следует пассаж о его служебном положении, словно «он так  и родился на свет уже совершенно готовым, в вицмундире и с лысиной на голове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1-15T23:41:05Z</dcterms:modified>
  <cp:revision>8</cp:revision>
  <dc:subject/>
  <dc:title>PowerPoint Presentation</dc:title>
</cp:coreProperties>
</file>