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0E28-1489-41E2-A790-3DCF37B1BE0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27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831960"/>
            <a:ext cx="771372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3605400"/>
            <a:ext cx="771372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DE9EE-E52D-4BC4-BB4B-1D3DF9A8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27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831960"/>
            <a:ext cx="376416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831960"/>
            <a:ext cx="376416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3605400"/>
            <a:ext cx="376416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3605400"/>
            <a:ext cx="376416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B1CCE-EF5E-47F8-9D12-9461FDD7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27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831960"/>
            <a:ext cx="248364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2080" y="831960"/>
            <a:ext cx="248364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0280" y="831960"/>
            <a:ext cx="248364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3605400"/>
            <a:ext cx="248364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2080" y="3605400"/>
            <a:ext cx="248364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0280" y="3605400"/>
            <a:ext cx="248364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57737-0DC3-4C1B-8756-215173CFA5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27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98574-D854-450F-996C-4DC4CBC1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27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DA66C-0D6E-4EED-80C3-B523C146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27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831960"/>
            <a:ext cx="376416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831960"/>
            <a:ext cx="376416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3F9D9-923A-4D1E-BB3A-90555466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27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1BDED-AD8C-4143-B731-1562690ED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400" y="0"/>
            <a:ext cx="8227800" cy="30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EFBC4-76A9-467B-A922-C1AB1064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27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831960"/>
            <a:ext cx="376416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831960"/>
            <a:ext cx="376416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3605400"/>
            <a:ext cx="376416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A40B7-4D08-417C-9827-C2AEB97D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27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831960"/>
            <a:ext cx="376416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831960"/>
            <a:ext cx="376416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3605400"/>
            <a:ext cx="376416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2A08E-5F60-4B79-9423-87C89DC8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27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831960"/>
            <a:ext cx="376416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831960"/>
            <a:ext cx="376416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3605400"/>
            <a:ext cx="7713720" cy="25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03663-A5B3-4975-9638-76F3E5E8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2278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16.4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934A81F-C9CD-4D0E-9002-10A5B881B99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14240" y="765000"/>
            <a:ext cx="7818480" cy="5376960"/>
          </a:xfrm>
          <a:prstGeom prst="rect">
            <a:avLst/>
          </a:prstGeom>
          <a:noFill/>
          <a:ln w="76320">
            <a:solidFill>
              <a:srgbClr val="3333cc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Calibri"/>
              </a:rPr>
              <a:t>«Два основных подхода к оцениванию.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Calibri"/>
              </a:rPr>
              <a:t>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Calibri"/>
              </a:rPr>
              <a:t>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3333cc"/>
                </a:solidFill>
                <a:latin typeface="Calibri"/>
              </a:rPr>
              <a:t>К педагогическому совету на тему                          </a:t>
            </a:r>
            <a:r>
              <a:rPr b="0" lang="ru-RU" sz="12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Calibri"/>
              </a:rPr>
              <a:t>                                «Система оценки качества образовательного результата .                                                                      От результатов диагностических работ к независимой оценке и ГИА».                                                                               Логунова О.Н., учитель мате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Calibri"/>
              </a:rPr>
              <a:t>Формирующее оценивание необходимо для того, чтобы диагностировать, как идёт процесс обучения на начальной и промежуточной, а не только конечной стадии, и - если данные окажутся неудовлетворительными на основе полученной информации внести в него необходимые изменения. Его цель состоит в совершенствовании качества учебной деятельности (учения). Именно это стоит за определением формирующего оценивания как оценивания для обуч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400" y="188640"/>
            <a:ext cx="8227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Базовые принципы формирующего оцени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alibri"/>
              </a:rPr>
              <a:t>• </a:t>
            </a:r>
            <a:r>
              <a:rPr b="0" lang="en-US" sz="2200" spc="-1" strike="noStrike" u="sng">
                <a:solidFill>
                  <a:srgbClr val="3333cc"/>
                </a:solidFill>
                <a:uFillTx/>
                <a:latin typeface="Calibri"/>
              </a:rPr>
              <a:t>Центрировано на учени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alibri"/>
              </a:rPr>
              <a:t>      </a:t>
            </a:r>
            <a:r>
              <a:rPr b="0" lang="en-US" sz="2200" spc="-1" strike="noStrike">
                <a:solidFill>
                  <a:srgbClr val="3333cc"/>
                </a:solidFill>
                <a:latin typeface="Calibri"/>
              </a:rPr>
              <a:t>Это оценивание фокусирует внимание учителя и ученика в большей степени на отслеживании и улучшении учения, а не преподавания. Оно даёт учителю и ученику информацию, на основании которой они принимают решения, как улучшать и развивать учени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alibri"/>
              </a:rPr>
              <a:t>• </a:t>
            </a:r>
            <a:r>
              <a:rPr b="0" lang="en-US" sz="2200" spc="-1" strike="noStrike" u="sng">
                <a:solidFill>
                  <a:srgbClr val="3333cc"/>
                </a:solidFill>
                <a:uFillTx/>
                <a:latin typeface="Calibri"/>
              </a:rPr>
              <a:t>Направляется учител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alibri"/>
              </a:rPr>
              <a:t>      </a:t>
            </a:r>
            <a:r>
              <a:rPr b="0" lang="en-US" sz="2200" spc="-1" strike="noStrike">
                <a:solidFill>
                  <a:srgbClr val="3333cc"/>
                </a:solidFill>
                <a:latin typeface="Calibri"/>
              </a:rPr>
              <a:t>Это оценивание предполагает автономию, академическую свободу и высокий профессионализм учителя, поскольку именно он решает, что оценивать, каким образом, как реагировать на информацию, полученную в результате оценивания. При этом учитель не обязан обсуждать результаты оценивания с кем-либо помимо собственного класс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alibri"/>
              </a:rPr>
              <a:t>Разносторонне результатив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Поскольку оценивание сфокусировано на учении, оно требует активного участия учащихся. Благодаря соучастию в оценивании ученики глубже погружаются в материал и развивают навыки самооценивания. Кроме того, растёт их учебная мотивация, поскольку дети видят заинтересованность преподавателей, стремящихся помочь им стать успешными в учёб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Учителя также работают более концентрированно, ведь они постоянно спрашивают себя: «Какие наиболее существенные знания и умения я стремлюсь преподать своим ученикам?»; «Как я могу выяснить, научились ли они этому?»; «Как я могу помочь им учиться лучше?». Если учитель, отвечая на эти вопросы, работает в тесном контакте с учениками, он совершенствует свои преподавательские умения и приходит к новому пониманию свое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alibri"/>
              </a:rPr>
              <a:t>Формирует учебный процес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Цель данного оценивания улучшать качество учения, а не обеспечивать основание для выставления отметок. Оно не привязано к какой-то конкретной балльной шкале, может быть анонимным. Оценивание говорит учителю, достиг ли он пункта назначения или нет, и надо ли продвигаться к нему по-другому. Эта «дорожная карта» обеспечивает детальную разработку направления и всех действий, которые нужно совершить согласно указателям по ходу пут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•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alibri"/>
              </a:rPr>
              <a:t>Определено контекст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Это оценивание должно соответствовать определённым характеристикам и нуждам учителя, учеников и изучаемых дисциплин. То, что хорошо работает в одном классе, необязательно подойдёт для другог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 u="sng">
                <a:solidFill>
                  <a:srgbClr val="3333cc"/>
                </a:solidFill>
                <a:uFillTx/>
                <a:latin typeface="Calibri"/>
              </a:rPr>
              <a:t>• </a:t>
            </a:r>
            <a:r>
              <a:rPr b="0" lang="en-US" sz="2200" spc="-1" strike="noStrike" u="sng">
                <a:solidFill>
                  <a:srgbClr val="3333cc"/>
                </a:solidFill>
                <a:uFillTx/>
                <a:latin typeface="Calibri"/>
              </a:rPr>
              <a:t>Непрерыв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3333cc"/>
                </a:solidFill>
                <a:latin typeface="Calibri"/>
              </a:rPr>
              <a:t>Это оценивание продолжающийся процесс, который запускает механизм обратной связи и постоянно поддерживает его в работающем состоянии. Используя широкий ассортимент простых техник, которые можно легко и быстро освоить, учитель получает от учеников обратную связь относительно того, как они учатся. Преподаватели поддерживают механизм, предоставляя ученикам обратную связь относительно результатов оценивания и возможностей улучшить процесс учёбы. Для того чтобы  проверить насколько эти предложения оказались полезны, учителя опять запускают механизм обратной связи, проводя новое оценивание. Если этот подход интегрируется в ежедневную учебную работу, происходящую в классе, коммуникационный механизм, связывающий учителя с учениками и учение ё преподаванием, становится более действенным и эффективны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Calibri"/>
              </a:rPr>
              <a:t>Опирается на качественное преподав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Подобное оценивание стремится построить на основе существующей достаточно успешной и высокопрофессиональной практики, включив механизм обратной связи, информирующей учителя о том, как учатся ученики, - практику ещё более систематичную, подвижную и эффективную. Учитель активно задаёт ученикам свои вопросы, отвечает на вопросы, которые возникают у них, наблюдает за их поведением, выражением их лиц, читает домашние задания, проверяет тесты и т.д. Формирующее оценивание даёт возможность естественным образом интегрировать оценивание в традиционные процессы преподавания и учения, происходящие в клас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Calibri"/>
              </a:rPr>
              <a:t>Если коротко обобщить, </a:t>
            </a:r>
            <a:r>
              <a:rPr b="0" lang="en-US" sz="2800" spc="-1" strike="noStrike">
                <a:solidFill>
                  <a:srgbClr val="3333cc"/>
                </a:solidFill>
                <a:latin typeface="Calibri"/>
              </a:rPr>
              <a:t>то: учебные цели должны быть открыты и понятны для детей. Ученики знают, что они делают, для чего и к чему должны прийти. Критерии оценивания обсуждены вместе с детьми и понятны детям, возможно, даже введены совместно с учениками. Выстроена постоянная обратная связь от учителя к ученику и от ученика к учителю. На любом этапе учебной работы школьник может получить обратную связь, которая показывает, где он сейчас находится, что у него получается, какие затруднения возникают, как он может с ними справить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Calibri"/>
              </a:rPr>
              <a:t>Другими словами,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alibri"/>
              </a:rPr>
              <a:t>формирующее оценивание</a:t>
            </a:r>
            <a:r>
              <a:rPr b="0" lang="en-US" sz="2800" spc="-1" strike="noStrike">
                <a:solidFill>
                  <a:srgbClr val="3333cc"/>
                </a:solidFill>
                <a:latin typeface="Calibri"/>
              </a:rPr>
              <a:t> формирует самостоятельность в определении учебных задач, в выборе способа их решения и вообще – в организации своей учебы. Направлено на то, чтобы человек сам мог оценить свои учебные достижения, выявить у себя слабые места, а самое главное – мог определить, что и как ему надо делать, чтобы продвинуться дальше, чтобы улучшить собственные результаты.</a:t>
            </a:r>
            <a:r>
              <a:rPr b="1" lang="en-US" sz="2800" spc="-1" strike="noStrike">
                <a:solidFill>
                  <a:srgbClr val="3333cc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Calibri"/>
              </a:rPr>
              <a:t> Получаемая в ходе оценивания информация используется для корректировки учебных достижений, выбора методов и средств обучения, учебного материал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79148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057400" indent="0">
              <a:lnSpc>
                <a:spcPct val="98000"/>
              </a:lnSpc>
              <a:buNone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Оценивание: </a:t>
            </a:r>
            <a:r>
              <a:rPr b="1" i="1" lang="ru-RU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современные</a:t>
            </a:r>
            <a:r>
              <a:rPr b="1" i="1" lang="ru-RU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3333cc"/>
                </a:solidFill>
                <a:latin typeface="Calibri"/>
                <a:ea typeface="Times New Roman"/>
              </a:rPr>
              <a:t> тенден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4360" y="765000"/>
          <a:ext cx="7848000" cy="5473800"/>
        </p:xfrm>
        <a:graphic>
          <a:graphicData uri="http://schemas.openxmlformats.org/drawingml/2006/table">
            <a:tbl>
              <a:tblPr/>
              <a:tblGrid>
                <a:gridCol w="3762360"/>
                <a:gridCol w="4085640"/>
              </a:tblGrid>
              <a:tr h="307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исьменные работы, закрытый экзам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ткрытый экзамен, прое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ценивание преподавател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ценивание при участие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Имплицитные (</a:t>
                      </a:r>
                      <a:r>
                        <a:rPr b="0" i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неявные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) 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Эксплицитные (</a:t>
                      </a:r>
                      <a:r>
                        <a:rPr b="0" i="1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явные</a:t>
                      </a: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) 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Конкурен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Сотрудн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ценка результ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ценка процес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Цели и за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Учеб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ценивание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ценивание умений, способностей, компетен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Тестирование памя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ценивание понимания, интерпретации, применения, анализа, синте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ценивание кур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Оценивание моду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Итоговое, суммарное оцени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Формирующее, развивающее оцени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риоритетность оцен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Приоритетность у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Calibri"/>
              </a:rPr>
              <a:t>Таким образом, под формирующим (текущим) оцениванием понимается определение текущего уровня усвоения знаний и навыков в процессе повседневной работы на уроке или дома, осуществление оперативной взаимосвязи между учеником и учителем в процессе обучения. Оно позволяет учащимся понимать, насколько правильно они выполняют задания в период изучения нового материала и достигают целей и задач обучения. Формирующее оценивание используется в повседневной практике (ежеурочно. ежедневно). При данном виде оценивания обязательно должна осуществляться обратная связ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713880" y="765000"/>
            <a:ext cx="771372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3333cc"/>
                </a:solidFill>
                <a:latin typeface="Calibri"/>
              </a:rPr>
              <a:t>Под оценкой в дидактике понимается процесс соотнесения реальных результатов образования с теми целями, которые были запланированы. Основными функциями оценки являются: информационная, контролирующая, регулирующая. Рассматривая количественную систему оценивания, принятую в современной российской школе, можно констатировать, что она не всегда выполняет перечисленные функции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13880" y="620640"/>
            <a:ext cx="7713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3333cc"/>
                </a:solidFill>
                <a:latin typeface="Calibri"/>
              </a:rPr>
              <a:t>Рассматривая существующую систему оценивания, к формирующему оцениванию следует отнести и диагностическое (входное) оценивание и текущий контроль. Промежуточная аттестация и итоговая государственная аттестация относится к категории итогового оценивания и должна проводиться лицом, не участвующим непосредственно в учебном процессе. Целью итогового оценивания является отчетность и сравнение (ранжирование) учеников по результатам оценивания выполненных работ с заданным стандартом. Для осуществления итогового оценивания очень важно обеспечить одинаковые условия оценивания, путем стандартизации условий и средств оценивания, критериев оценивания. Для формирующего оценивания стандартизации оценочных средств не требуется. Оценочные средства итогового оценивания ориентированы на всех участников оценивания, когда в формирующем оценивании могут использоваться индивидуальные оценочные средств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Используемая литератур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Бойцова Е.Г. «Формирующее оценивание образовательных результатов учащихся в современной школе». жур. Человек и образование №1, 2014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Кохаева Е.Н. Формативное (формирующее) оценивание - Астана. Центр педагогического мастерства.2014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Пинская М.А. «Формирующее оценивание: оценивание в классе»- Москва, Логос. 2010 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Пинская М.А., Витковский А. «Формирующее оценивание: шаг к учебной самостоятельности»  «Первого сентября» № 3/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3333cc"/>
                </a:solidFill>
                <a:latin typeface="Calibri"/>
              </a:rPr>
              <a:t>В отечественной практике оценивание в классе традиционно рассматривается как способ осуществления текущего контроля учебных достижений школьника. Оно проводится учителем и предполагает регулярную проверку и оценку письменных работ и устных ответов до настоящего времени наиболее распространена в отечественной практике остается установленная Министерством народного просвещения в 1937 году традиционная система оценивания, опирающаяся на пятибалльную шкалу: «1» - слабые успехи; «2» -посредственные; «3» -достаточные; «4» - хорошие; «5» -отличные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alibri"/>
              </a:rPr>
              <a:t>        </a:t>
            </a:r>
            <a:r>
              <a:rPr b="0" lang="en-US" sz="2000" spc="-1" strike="noStrike">
                <a:solidFill>
                  <a:srgbClr val="3333cc"/>
                </a:solidFill>
                <a:latin typeface="Calibri"/>
              </a:rPr>
              <a:t>Такой подход к оцениванию имеет целый ряд недостатков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alibri"/>
              </a:rPr>
              <a:t>- отсутствуют четкие критерии оценки достижения результатов обучения, понятные учащимся, родителям и педагог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alibri"/>
              </a:rPr>
              <a:t>- педагог выставляет отметку; ориентируясь на средний уровень знаний класса в целом, а не на основе единых критериев достижения результатов каждым ученико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alibri"/>
              </a:rPr>
              <a:t>- отметки, выставляемые учащимся, не дают четкой картины усвоения конкретных знаний, умений, навыков по отдельным разделам учебной программы, что не позволяет определить индивидуальную траекторию обучения каждого ученик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alibri"/>
              </a:rPr>
              <a:t>- при выставлении итоговой оценки учитываются текущие оценки, что не является объективным оцениванием конечного результата обуч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alibri"/>
              </a:rPr>
              <a:t>- отсутствует оперативная связь между учеником и учителем в процессе обучения, что не способствует мотивации учащихся к обуче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То есть, основной проблемой можно считать закрытость и субъективность оценочных процедур, отсутствие чётких критериев, на основании которых определяется качество оцениваемых достижений. Она непрозрачна для учащихся и никак не способствуют становлению и развитию оценочной и в целом учебной самостоятельности, ставит ученика в зависимость от внешней оценки, от реакции окружающих и абсолютно индифферентна к его собственному мнению. Анализ вышеперечисленных противоречий позволяет сделать вывод о необходимости создания системы оценивания, позволяющей оценивать и развивать предметные и метапредметные результаты учащих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Calibri"/>
              </a:rPr>
              <a:t>Внедрение нового федерального государственного образовательного стандарта основной школы, предъявляющего его новые требования к результатам освоения образовательной программы, повлекло за собой изменение подходов к оцениванию учащихся. Теперь педагоги должны использовать такие методы и приемы оценивания, которые позволяют им оценивать не только предметные, но и метапредметные результаты учащихся на различных этапах образовательного процесса. Оценивание должно проводиться как с целью итоговой фиксации достижений учащихся, так и с целью формирования и развития предметных и метапредметных навыков и уме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3333cc"/>
                </a:solidFill>
                <a:latin typeface="Calibri"/>
              </a:rPr>
              <a:t>Кроме того неотъемлемой частью образовательной программы основного общего образования становится система оценок достижений планируемых результатов освоения образовательной программы, которая должка управлять качеством образования, обеспечивать комплексный подход к оценке результатов освоения программы и оценку динамики индивидуальных достижений обучающихся, предусматривать использование разнообразных методов и форм, а именно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Calibri"/>
              </a:rPr>
              <a:t>формирующего оценивания</a:t>
            </a:r>
            <a:r>
              <a:rPr b="0" lang="en-US" sz="2800" spc="-1" strike="noStrike">
                <a:solidFill>
                  <a:srgbClr val="3333c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3333cc"/>
                </a:solidFill>
                <a:latin typeface="Calibri"/>
              </a:rPr>
              <a:t>Под формирующим оцениванием  понимается  оценивание в ходе обучения, когда анализируются знания, умения, ценностные установки, а также коммуникативные умения учащегося, устанавливается обратная связь об успехах и недостатках учащегося. Основная цель такого оценивания - мотивировать учащегося на дальнейшее обучение, на определение индивидуальных образовательных результатов и планирование путёй их достижения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13880" y="831960"/>
            <a:ext cx="771372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Calibri"/>
              </a:rPr>
              <a:t>Согласно стратегии, предложенной в образовательной системе «Школа 2100», на первом этапе работы определяются предметные и метапредметные результаты, подлежащие оценке. Затем производится совместное распределение учителем и учеником критерии отметки и оценки. На следующем этапе определяется количество выставляемых оценок, время их выставления и места накапливания. Определяется система выставления итоговых оценок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1T09:09:28Z</dcterms:created>
  <dc:creator>User</dc:creator>
  <dc:description/>
  <dc:language>en-US</dc:language>
  <cp:lastModifiedBy>User</cp:lastModifiedBy>
  <dcterms:modified xsi:type="dcterms:W3CDTF">2017-01-18T08:55:04Z</dcterms:modified>
  <cp:revision>10</cp:revision>
  <dc:subject/>
  <dc:title>Слайд 1</dc:title>
</cp:coreProperties>
</file>