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4002-C965-42E6-A152-55047A505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771372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605400"/>
            <a:ext cx="771372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C6EE9-81E0-4D6C-BA14-F6E22BE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D5759-A94D-40C3-A19E-97691D6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83196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0280" y="83196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60540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360540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0280" y="360540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714E-5934-49FE-943F-D7949C36B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571D-8F0B-4B1A-A8A5-3BD359BD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4297-83F5-4DF9-8E6F-12C7D51B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23C3-740C-4670-8114-3F4B40A9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A552-70B2-4E37-91A3-E272737E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0"/>
            <a:ext cx="82278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CB6F-A518-4750-BDC4-E2D0EB8C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F7B2-F70E-4211-81A6-568D5F96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1B23-0462-4428-8780-0FD66209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605400"/>
            <a:ext cx="771372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37A5-276C-40BD-A41C-720A1F2E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6.4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EAA42A8-7554-407D-94C5-ADB5B7E3EF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765000"/>
            <a:ext cx="7818480" cy="5376960"/>
          </a:xfrm>
          <a:prstGeom prst="rect">
            <a:avLst/>
          </a:prstGeom>
          <a:noFill/>
          <a:ln w="76320">
            <a:solidFill>
              <a:srgbClr val="3333cc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«Два основных подхода к оцениванию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К педагогическому совету на тему                          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                                «Система оценки качества образовательного результата .                                                                      От результатов диагностических работ к независимой оценке и ГИА».                                                                               Логунова О.Н., учитель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Формирующее оценивание необходимо для того, чтобы диагностировать, как идёт процесс обучения на начальной и промежуточной, а не только конечной стадии, и - если данные окажутся неудовлетворительными на основе полученной информации внести в него необходимые изменения. Его цель состоит в совершенствовании качества учебной деятельности (учения). Именно это стоит за определением формирующего оценивания как оценивания для обуч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88640"/>
            <a:ext cx="8227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Базовые принципы формирующего оцени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Центрировано на учен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Это оценивание фокусирует внимание учителя и ученика в большей степени на отслеживании и улучшении учения, а не преподавания. Оно даёт учителю и ученику информацию, на основании которой они принимают решения, как улучшать и развивать уч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Направляется учител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Это оценивание предполагает автономию, академическую свободу и высокий профессионализм учителя, поскольку именно он решает, что оценивать, каким образом, как реагировать на информацию, полученную в результате оценивания. При этом учитель не обязан обсуждать результаты оценивания с кем-либо помимо собственного клас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Разносторонне результа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оскольку оценивание сфокусировано на учении, оно требует активного участия учащихся. Благодаря соучастию в оценивании ученики глубже погружаются в материал и развивают навыки самооценивания. Кроме того, растёт их учебная мотивация, поскольку дети видят заинтересованность преподавателей, стремящихся помочь им стать успешными в учё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Учителя также работают более концентрированно, ведь они постоянно спрашивают себя: «Какие наиболее существенные знания и умения я стремлюсь преподать своим ученикам?»; «Как я могу выяснить, научились ли они этому?»; «Как я могу помочь им учиться лучше?». Если учитель, отвечая на эти вопросы, работает в тесном контакте с учениками, он совершенствует свои преподавательские умения и приходит к новому пониманию свое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Формирует учебный проце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Цель данного оценивания улучшать качество учения, а не обеспечивать основание для выставления отметок. Оно не привязано к какой-то конкретной балльной шкале, может быть анонимным. Оценивание говорит учителю, достиг ли он пункта назначения или нет, и надо ли продвигаться к нему по-другому. Эта «дорожная карта» обеспечивает детальную разработку направления и всех действий, которые нужно совершить согласно указателям по ходу пу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Определено кон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Это оценивание должно соответствовать определённым характеристикам и нуждам учителя, учеников и изучаемых дисциплин. То, что хорошо работает в одном классе, необязательно подойдёт для друго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•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Непреры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Это оценивание продолжающийся процесс, который запускает механизм обратной связи и постоянно поддерживает его в работающем состоянии. Используя широкий ассортимент простых техник, которые можно легко и быстро освоить, учитель получает от учеников обратную связь относительно того, как они учатся. Преподаватели поддерживают механизм, предоставляя ученикам обратную связь относительно результатов оценивания и возможностей улучшить процесс учёбы. Для того чтобы  проверить насколько эти предложения оказались полезны, учителя опять запускают механизм обратной связи, проводя новое оценивание. Если этот подход интегрируется в ежедневную учебную работу, происходящую в классе, коммуникационный механизм, связывающий учителя с учениками и учение ё преподаванием, становится более действенным и эффективны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Опирается на качественное препода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одобное оценивание стремится построить на основе существующей достаточно успешной и высокопрофессиональной практики, включив механизм обратной связи, информирующей учителя о том, как учатся ученики, - практику ещё более систематичную, подвижную и эффективную. Учитель активно задаёт ученикам свои вопросы, отвечает на вопросы, которые возникают у них, наблюдает за их поведением, выражением их лиц, читает домашние задания, проверяет тесты и т.д. Формирующее оценивание даёт возможность естественным образом интегрировать оценивание в традиционные процессы преподавания и учения, происходящие в кла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Если коротко обобщить,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то: учебные цели должны быть открыты и понятны для детей. Ученики знают, что они делают, для чего и к чему должны прийти. Критерии оценивания обсуждены вместе с детьми и понятны детям, возможно, даже введены совместно с учениками. Выстроена постоянная обратная связь от учителя к ученику и от ученика к учителю. На любом этапе учебной работы школьник может получить обратную связь, которая показывает, где он сейчас находится, что у него получается, какие затруднения возникают, как он может с ними справи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Другими словами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alibri"/>
              </a:rPr>
              <a:t>формирующее оценивание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 формирует самостоятельность в определении учебных задач, в выборе способа их решения и вообще – в организации своей учебы. Направлено на то, чтобы человек сам мог оценить свои учебные достижения, выявить у себя слабые места, а самое главное – мог определить, что и как ему надо делать, чтобы продвинуться дальше, чтобы улучшить собственные результаты.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 Получаемая в ходе оценивания информация используется для корректировки учебных достижений, выбора методов и средств обучения, учебного матери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914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Оценивание: </a:t>
            </a:r>
            <a:r>
              <a:rPr b="1" i="1" lang="ru-RU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современные</a:t>
            </a:r>
            <a:r>
              <a:rPr b="1" i="1" lang="ru-RU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тенд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765000"/>
          <a:ext cx="7848000" cy="5473800"/>
        </p:xfrm>
        <a:graphic>
          <a:graphicData uri="http://schemas.openxmlformats.org/drawingml/2006/table">
            <a:tbl>
              <a:tblPr/>
              <a:tblGrid>
                <a:gridCol w="3762360"/>
                <a:gridCol w="4085640"/>
              </a:tblGrid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исьменные работы, закрытый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ткрытый экзамен, прое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преподава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при участие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мплицитные (</a:t>
                      </a: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еявные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) 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Эксплицитные (</a:t>
                      </a: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явные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) 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нкур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ка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ка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Цели и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Учеб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умений, способностей, компетен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Тестирование памя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понимания, интерпретации, применения, анализа, син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моду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тоговое, суммарное 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Формирующее, развивающее оцени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иоритетность оцен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иоритетность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Таким образом, под формирующим (текущим) оцениванием понимается определение текущего уровня усвоения знаний и навыков в процессе повседневной работы на уроке или дома, осуществление оперативной взаимосвязи между учеником и учителем в процессе обучения. Оно позволяет учащимся понимать, насколько правильно они выполняют задания в период изучения нового материала и достигают целей и задач обучения. Формирующее оценивание используется в повседневной практике (ежеурочно. ежедневно). При данном виде оценивания обязательно должна осуществляться обратная св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13880" y="765000"/>
            <a:ext cx="771372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Под оценкой в дидактике понимается процесс соотнесения реальных результатов образования с теми целями, которые были запланированы. Основными функциями оценки являются: информационная, контролирующая, регулирующая. Рассматривая количественную систему оценивания, принятую в современной российской школе, можно констатировать, что она не всегда выполняет перечисленные функции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13880" y="620640"/>
            <a:ext cx="7713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Рассматривая существующую систему оценивания, к формирующему оцениванию следует отнести и диагностическое (входное) оценивание и текущий контроль. Промежуточная аттестация и итоговая государственная аттестация относится к категории итогового оценивания и должна проводиться лицом, не участвующим непосредственно в учебном процессе. Целью итогового оценивания является отчетность и сравнение (ранжирование) учеников по результатам оценивания выполненных работ с заданным стандартом. Для осуществления итогового оценивания очень важно обеспечить одинаковые условия оценивания, путем стандартизации условий и средств оценивания, критериев оценивания. Для формирующего оценивания стандартизации оценочных средств не требуется. Оценочные средства итогового оценивания ориентированы на всех участников оценивания, когда в формирующем оценивании могут использоваться индивидуальные оценочные средст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Бойцова Е.Г. «Формирующее оценивание образовательных результатов учащихся в современной школе». жур. Человек и образование №1, 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Кохаева Е.Н. Формативное (формирующее) оценивание - Астана. Центр педагогического мастерства.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инская М.А. «Формирующее оценивание: оценивание в классе»- Москва, Логос. 20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инская М.А., Витковский А. «Формирующее оценивание: шаг к учебной самостоятельности»  «Первого сентября» № 3/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В отечественной практике оценивание в классе традиционно рассматривается как способ осуществления текущего контроля учебных достижений школьника. Оно проводится учителем и предполагает регулярную проверку и оценку письменных работ и устных ответов до настоящего времени наиболее распространена в отечественной практике остается установленная Министерством народного просвещения в 1937 году традиционная система оценивания, опирающаяся на пятибалльную шкалу: «1» - слабые успехи; «2» -посредственные; «3» -достаточные; «4» - хорошие; «5» -отличные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Такой подход к оцениванию имеет целый ряд недостатк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отсутствуют четкие критерии оценки достижения результатов обучения, понятные учащимся, родителям и педагог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педагог выставляет отметку; ориентируясь на средний уровень знаний класса в целом, а не на основе единых критериев достижения результатов каждым уче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отметки, выставляемые учащимся, не дают четкой картины усвоения конкретных знаний, умений, навыков по отдельным разделам учебной программы, что не позволяет определить индивидуальную траекторию обучения каждого уче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при выставлении итоговой оценки учитываются текущие оценки, что не является объективным оцениванием конечного результата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отсутствует оперативная связь между учеником и учителем в процессе обучения, что не способствует мотивации учащихся к обуч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То есть, основной проблемой можно считать закрытость и субъективность оценочных процедур, отсутствие чётких критериев, на основании которых определяется качество оцениваемых достижений. Она непрозрачна для учащихся и никак не способствуют становлению и развитию оценочной и в целом учебной самостоятельности, ставит ученика в зависимость от внешней оценки, от реакции окружающих и абсолютно индифферентна к его собственному мнению. Анализ вышеперечисленных противоречий позволяет сделать вывод о необходимости создания системы оценивания, позволяющей оценивать и развивать предметные и метапредметные результаты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Внедрение нового федерального государственного образовательного стандарта основной школы, предъявляющего его новые требования к результатам освоения образовательной программы, повлекло за собой изменение подходов к оцениванию учащихся. Теперь педагоги должны использовать такие методы и приемы оценивания, которые позволяют им оценивать не только предметные, но и метапредметные результаты учащихся на различных этапах образовательного процесса. Оценивание должно проводиться как с целью итоговой фиксации достижений учащихся, так и с целью формирования и развития предметных и метапредметных навыков и ум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Кроме того неотъемлемой частью образовательной программы основного общего образования становится система оценок достижений планируемых результатов освоения образовательной программы, которая должка управлять качеством образования, обеспечивать комплексный подход к оценке результатов освоения программы и оценку динамики индивидуальных достижений обучающихся, предусматривать использование разнообразных методов и форм, а именно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alibri"/>
              </a:rPr>
              <a:t>формирующего оценивания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Под формирующим оцениванием  понимается  оценивание в ходе обучения, когда анализируются знания, умения, ценностные установки, а также коммуникативные умения учащегося, устанавливается обратная связь об успехах и недостатках учащегося. Основная цель такого оценивания - мотивировать учащегося на дальнейшее обучение, на определение индивидуальных образовательных результатов и планирование путёй их достиж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Согласно стратегии, предложенной в образовательной системе «Школа 2100», на первом этапе работы определяются предметные и метапредметные результаты, подлежащие оценке. Затем производится совместное распределение учителем и учеником критерии отметки и оценки. На следующем этапе определяется количество выставляемых оценок, время их выставления и места накапливания. Определяется система выставления итоговых оцен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09:28Z</dcterms:created>
  <dc:creator>User</dc:creator>
  <dc:description/>
  <dc:language>en-US</dc:language>
  <cp:lastModifiedBy>User</cp:lastModifiedBy>
  <dcterms:modified xsi:type="dcterms:W3CDTF">2017-01-18T08:55:04Z</dcterms:modified>
  <cp:revision>10</cp:revision>
  <dc:subject/>
  <dc:title>Слайд 1</dc:title>
</cp:coreProperties>
</file>