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3.gif" ContentType="image/gif"/>
  <Override PartName="/ppt/media/image12.png" ContentType="image/png"/>
  <Override PartName="/ppt/media/image4.png" ContentType="image/png"/>
  <Override PartName="/ppt/media/image5.jpeg" ContentType="image/jpeg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27D2-5134-47E2-B9CD-92811BBB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234A-62AB-4C4A-B9A9-C7975751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1607-5233-461A-8717-4F5499604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D46-BED7-45FD-9480-E8F4F033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71B0-D642-4F0C-B052-8FD507AB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EAF4-4A96-471C-AE16-C669D3EB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FEF4-55D0-4CD3-8562-184A04D3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B0BD-1458-48EF-9948-56413EA5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DFB54-1EEC-4360-99E0-C3F6C9E5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27EB-6EFC-444D-9BA6-8080030C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4872-7F8F-4408-8EFF-71A0A2CF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00FF-CF5E-4CCE-8931-F0BD3B7C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97EA-3DB6-4482-9A7A-8727CD90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EE54-9F4C-4AFA-A460-42D540B8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7AEC-2B50-4C14-82E5-1574572E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108E-53FF-4CE2-9DD6-84C310BD4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E746-78EF-4C19-90F7-D9A9C9A28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D87C-319B-4D74-9C99-B9EF8062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3DEE-0C04-4CF4-AE08-560EC2BA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C24E-1356-4928-B29D-934562BF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BC8-0C82-4F74-AF4D-6BD5CD08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A24F-726F-46B6-AF73-2D1345A3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4EF1-17A7-4AAE-8132-B91F462D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E08B-B721-447A-87E4-990D40DC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065F-0A43-4CED-9946-9F153525C6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9BB4-0888-4734-AE6C-E8597812EEC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jpeg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WordArt 13"/>
          <p:cNvSpPr txBox="1"/>
          <p:nvPr/>
        </p:nvSpPr>
        <p:spPr>
          <a:xfrm>
            <a:off x="304920" y="762120"/>
            <a:ext cx="8610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кологический полевой лагерь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0" name="Picture 17" descr="логотип"/>
          <p:cNvPicPr/>
          <p:nvPr/>
        </p:nvPicPr>
        <p:blipFill>
          <a:blip r:embed="rId1"/>
          <a:stretch/>
        </p:blipFill>
        <p:spPr>
          <a:xfrm>
            <a:off x="2057400" y="1905120"/>
            <a:ext cx="5410080" cy="327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8" descr="babochkia-170"/>
          <p:cNvPicPr/>
          <p:nvPr/>
        </p:nvPicPr>
        <p:blipFill>
          <a:blip r:embed="rId2"/>
          <a:stretch/>
        </p:blipFill>
        <p:spPr>
          <a:xfrm>
            <a:off x="6477120" y="4800600"/>
            <a:ext cx="2422440" cy="19051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-230040"/>
            <a:ext cx="7696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Организация научно–исследовательской деятельност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экологическое просвещение и оздоровление школь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углубить и расширить знания учащихся об объектах и явлениях окружающей приро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стимулировать развитие коммуникативных качеств, повышение способности адаптироваться к постоянно меняющимся условиям социальной ср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овладение практическими навыками жизни в полевых услови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привлечь школьников к активному участию в экологической деятель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WordArt 8"/>
          <p:cNvSpPr txBox="1"/>
          <p:nvPr/>
        </p:nvSpPr>
        <p:spPr>
          <a:xfrm>
            <a:off x="533520" y="380880"/>
            <a:ext cx="80769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и и задачи экологического лагеря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11" descr="gallery_2_79_20694"/>
          <p:cNvPicPr/>
          <p:nvPr/>
        </p:nvPicPr>
        <p:blipFill>
          <a:blip r:embed="rId1"/>
          <a:stretch/>
        </p:blipFill>
        <p:spPr>
          <a:xfrm>
            <a:off x="7238880" y="4648320"/>
            <a:ext cx="1714680" cy="20574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Территория лагеря находится в живописнейшем, экологически чистом месте на берегу Финского залива в Ленинградской области вблизи поселка Солнечное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17960" y="19047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917960" y="4076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WordArt 8"/>
          <p:cNvSpPr txBox="1"/>
          <p:nvPr/>
        </p:nvSpPr>
        <p:spPr>
          <a:xfrm>
            <a:off x="-11506320" y="3124080"/>
            <a:ext cx="743904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рритория лагеря находится в живописнейшем,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кологически чистом месте на берегу Финского залива 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Ленинградской области вблизи поселка Солнечное.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13" descr="solnechnoe-map"/>
          <p:cNvPicPr/>
          <p:nvPr/>
        </p:nvPicPr>
        <p:blipFill>
          <a:blip r:embed="rId7"/>
          <a:stretch/>
        </p:blipFill>
        <p:spPr>
          <a:xfrm>
            <a:off x="533520" y="1828800"/>
            <a:ext cx="8458200" cy="4648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babochkia-170"/>
          <p:cNvPicPr/>
          <p:nvPr/>
        </p:nvPicPr>
        <p:blipFill>
          <a:blip r:embed="rId8"/>
          <a:stretch/>
        </p:blipFill>
        <p:spPr>
          <a:xfrm>
            <a:off x="3657600" y="2666880"/>
            <a:ext cx="1143000" cy="14288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083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9:00  –  Подъ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9:30  –  Заряд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    </a:t>
            </a: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10:00 – Завтра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    </a:t>
            </a: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10:40 – Учебные занят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14:00 – Обе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     </a:t>
            </a: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15:00 – Воспитательная раб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16:00 – Свободное врем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18:00 –  Работа по лагер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19:00 – Уж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20:00 – Подведение итогов за день, песни у костра, иг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21:00 – Вечерний ча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22:00 – Подготовка ко с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Monotype Corsiva"/>
              </a:rPr>
              <a:t>23:00 – Отб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1752480" y="457200"/>
            <a:ext cx="5791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жим дня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5" name="Picture 6" descr="gallery_2_79_1599"/>
          <p:cNvPicPr/>
          <p:nvPr/>
        </p:nvPicPr>
        <p:blipFill>
          <a:blip r:embed="rId3"/>
          <a:stretch/>
        </p:blipFill>
        <p:spPr>
          <a:xfrm>
            <a:off x="6629400" y="2362320"/>
            <a:ext cx="184140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2" descr="gallery_2_79_66479"/>
          <p:cNvPicPr/>
          <p:nvPr/>
        </p:nvPicPr>
        <p:blipFill>
          <a:blip r:embed="rId1"/>
          <a:stretch/>
        </p:blipFill>
        <p:spPr>
          <a:xfrm>
            <a:off x="7238880" y="4191120"/>
            <a:ext cx="1905120" cy="23619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83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Monotype Corsiva"/>
              </a:rPr>
              <a:t>Инструктаж по технике безопасности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Monotype Corsiva"/>
              </a:rPr>
              <a:t>Экскурсия «знакомство с исследуемой территорией »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Monotype Corsiva"/>
              </a:rPr>
              <a:t>Методы изучения залива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Monotype Corsiva"/>
              </a:rPr>
              <a:t>Школа выживания в дикой природе (первая медицинская помощь) – Лекционное практическое занятие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Monotype Corsiva"/>
              </a:rPr>
              <a:t>Практическая работа по изучению растительного сообществ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Monotype Corsiva"/>
              </a:rPr>
              <a:t>Лекция «Съедобные дикорастущие растения»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Monotype Corsiva"/>
              </a:rPr>
              <a:t>Изучениеп очвенного покрова территории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Monotype Corsiva"/>
              </a:rPr>
              <a:t>Подведение итогов по пройденным исследовательским работам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WordArt 11"/>
          <p:cNvSpPr txBox="1"/>
          <p:nvPr/>
        </p:nvSpPr>
        <p:spPr>
          <a:xfrm>
            <a:off x="1752480" y="4572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ебные занят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5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00"/>
                </a:solidFill>
                <a:latin typeface="Monotype Corsiva"/>
              </a:rPr>
              <a:t>Воспитательная работа в условиях экологического полевого лагеря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Сбор участников лагеря, знакомство в виде иг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«Интеллектуальная эстафета» (тема: «Экология»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«Интеллектуальное казино» (тема: «Родной край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Игра «Что я за зверь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Игра «Экологическая этика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Экологическая игра «Вода мира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Игра «Географические названия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Подведение итогов работы лагеря, награжд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gallery_2_79_28578"/>
          <p:cNvPicPr/>
          <p:nvPr/>
        </p:nvPicPr>
        <p:blipFill>
          <a:blip r:embed="rId1"/>
          <a:stretch/>
        </p:blipFill>
        <p:spPr>
          <a:xfrm>
            <a:off x="7086600" y="3429000"/>
            <a:ext cx="1778040" cy="21337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360" y="1142640"/>
            <a:ext cx="7854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Monotype Corsiva"/>
              </a:rPr>
              <a:t>Основные цели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расширение зоны индивидуальной экологической ответственности, включённость в мир прир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Monotype Corsiva"/>
              </a:rPr>
              <a:t>Ориентировочное время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1 ча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Monotype Corsiva"/>
              </a:rPr>
              <a:t>Материалы и подготовка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контурная карта-схема местности, на которой проводятся занятия, карандаши. Знание местности участниками и опыт пребывания на этой мест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Monotype Corsiva"/>
              </a:rPr>
              <a:t>Процедура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Участникам предлагается вспомнить свои впечатления от пребывания на тех или иных участках данной местности (на берегу озера, на поляне, на лесной тропинке и т.д.). На основе этих воспоминаний заполнить контурную карту, давая всем знакомым участкам и объектам собственные названия, связанные с какими-то событиями или впечатлениями. В местах интересных находок или встреч с животными можно сделать на карте соответствующие рисун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В конце занятия участники рассказывают о своём опыте пребывания на территории, иллюстрируя свой рассказ демонстрацией кар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Monotype Corsiva"/>
              </a:rPr>
              <a:t>Примечание</a:t>
            </a:r>
            <a:r>
              <a:rPr b="1" lang="ru-RU" sz="2000" spc="-1" strike="noStrike">
                <a:solidFill>
                  <a:srgbClr val="ffffff"/>
                </a:solidFill>
                <a:latin typeface="Monotype Corsiva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Monotype Corsiva"/>
              </a:rPr>
              <a:t> Важно, чтобы названия участков местности носили эмоционально окрашенный, личностно значимый, романтический, лирический характер. Например, «Берег ночных следов», «Овраг шуршащих ящериц», «Поляна сладкой земляники», «Тропинка барсучьей норы»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WordArt 11"/>
          <p:cNvSpPr txBox="1"/>
          <p:nvPr/>
        </p:nvSpPr>
        <p:spPr>
          <a:xfrm>
            <a:off x="1066680" y="457200"/>
            <a:ext cx="73724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 «Географические названия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6" name="Picture 12" descr="gallery_2_79_19992"/>
          <p:cNvPicPr/>
          <p:nvPr/>
        </p:nvPicPr>
        <p:blipFill>
          <a:blip r:embed="rId1"/>
          <a:stretch/>
        </p:blipFill>
        <p:spPr>
          <a:xfrm>
            <a:off x="0" y="5029200"/>
            <a:ext cx="1523880" cy="16765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cveta-1172"/>
          <p:cNvPicPr/>
          <p:nvPr/>
        </p:nvPicPr>
        <p:blipFill>
          <a:blip r:embed="rId1"/>
          <a:stretch/>
        </p:blipFill>
        <p:spPr>
          <a:xfrm>
            <a:off x="0" y="5619600"/>
            <a:ext cx="1619280" cy="1238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cveta-1172"/>
          <p:cNvPicPr/>
          <p:nvPr/>
        </p:nvPicPr>
        <p:blipFill>
          <a:blip r:embed="rId2"/>
          <a:stretch/>
        </p:blipFill>
        <p:spPr>
          <a:xfrm>
            <a:off x="1600200" y="5619600"/>
            <a:ext cx="1619280" cy="1238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cveta-1172"/>
          <p:cNvPicPr/>
          <p:nvPr/>
        </p:nvPicPr>
        <p:blipFill>
          <a:blip r:embed="rId3"/>
          <a:stretch/>
        </p:blipFill>
        <p:spPr>
          <a:xfrm>
            <a:off x="3200400" y="5619600"/>
            <a:ext cx="1619280" cy="123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veta-1172"/>
          <p:cNvPicPr/>
          <p:nvPr/>
        </p:nvPicPr>
        <p:blipFill>
          <a:blip r:embed="rId4"/>
          <a:stretch/>
        </p:blipFill>
        <p:spPr>
          <a:xfrm>
            <a:off x="4800600" y="5619600"/>
            <a:ext cx="1619280" cy="1238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cveta-1172"/>
          <p:cNvPicPr/>
          <p:nvPr/>
        </p:nvPicPr>
        <p:blipFill>
          <a:blip r:embed="rId5"/>
          <a:stretch/>
        </p:blipFill>
        <p:spPr>
          <a:xfrm>
            <a:off x="6400800" y="5619600"/>
            <a:ext cx="1619280" cy="1238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cveta-1172"/>
          <p:cNvPicPr/>
          <p:nvPr/>
        </p:nvPicPr>
        <p:blipFill>
          <a:blip r:embed="rId6"/>
          <a:stretch/>
        </p:blipFill>
        <p:spPr>
          <a:xfrm>
            <a:off x="7924680" y="5619600"/>
            <a:ext cx="1619280" cy="1238400"/>
          </a:xfrm>
          <a:prstGeom prst="rect">
            <a:avLst/>
          </a:prstGeom>
          <a:ln w="0">
            <a:noFill/>
          </a:ln>
        </p:spPr>
      </p:pic>
      <p:sp>
        <p:nvSpPr>
          <p:cNvPr id="133" name="WordArt 11"/>
          <p:cNvSpPr txBox="1"/>
          <p:nvPr/>
        </p:nvSpPr>
        <p:spPr>
          <a:xfrm>
            <a:off x="1676520" y="2286000"/>
            <a:ext cx="655308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 advTm="15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</cp:lastModifiedBy>
  <dcterms:modified xsi:type="dcterms:W3CDTF">2012-02-26T11:11:2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