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A92-49FE-422C-B284-A934DD93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642-F863-4FCD-88B9-E15093A2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76D-4444-431D-AFDC-7904DCE8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7CB-F55B-44A3-A407-8E353112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CE2E-D7A2-49F4-BCE9-7F3E0891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2E89-3553-49B1-850E-D239B189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9122-4525-4D08-B1B7-FF86FD95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1979-5539-4490-8963-547582B1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0C7F-B603-4E13-85CE-D36BAC62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A5F9-AB90-45FA-83BE-D663C643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780E-C72F-40E8-8657-4F55F2DC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711-373D-48D4-8A41-322335DF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1222-440B-4132-BA15-586A6EC3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64B4-ED4D-43AA-99C3-2B09CF24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5EF8-B0F6-4AD5-9B22-CD1317E6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6B22-328C-4568-A66F-5306BB2C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0232-D395-4EC2-8C42-029CA7F4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BA4-355B-430B-876A-CE97A21E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F29-2DDF-4370-BF6C-D4A7B010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7A2-C1DC-4F62-9FC8-5FACC198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A8E-6A9D-4191-A651-9C375CF1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CAF-8275-45BE-AF57-47D6B8CF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06A-6C8F-4BBA-AFFC-99C52391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E63-7C76-46C3-A19B-5F44B014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1A5E-AB1D-4136-AB11-FC5D89F3D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941D-4043-4ADA-9673-8BD4DCC1EE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304920" y="762120"/>
            <a:ext cx="8610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кологический полевой лагер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17" descr="логотип"/>
          <p:cNvPicPr/>
          <p:nvPr/>
        </p:nvPicPr>
        <p:blipFill>
          <a:blip r:embed="rId1"/>
          <a:stretch/>
        </p:blipFill>
        <p:spPr>
          <a:xfrm>
            <a:off x="2057400" y="1905120"/>
            <a:ext cx="5410080" cy="327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babochkia-170"/>
          <p:cNvPicPr/>
          <p:nvPr/>
        </p:nvPicPr>
        <p:blipFill>
          <a:blip r:embed="rId2"/>
          <a:stretch/>
        </p:blipFill>
        <p:spPr>
          <a:xfrm>
            <a:off x="6477120" y="4800600"/>
            <a:ext cx="2422440" cy="19051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230040"/>
            <a:ext cx="7696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Организация научно–исследовательской деятельност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экологическое просвещение и оздоровление школь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углубить и расширить знания учащихся об объектах и явлениях окружающей прир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тимулировать развитие коммуникативных качеств, повышение способности адаптироваться к постоянно меняющимся условиям социальной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овладение практическими навыками жизни в полевых услови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влечь школьников к активному участию в экологической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533520" y="380880"/>
            <a:ext cx="80769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и и задачи экологического лагеря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11" descr="gallery_2_79_20694"/>
          <p:cNvPicPr/>
          <p:nvPr/>
        </p:nvPicPr>
        <p:blipFill>
          <a:blip r:embed="rId1"/>
          <a:stretch/>
        </p:blipFill>
        <p:spPr>
          <a:xfrm>
            <a:off x="7238880" y="4648320"/>
            <a:ext cx="1714680" cy="20574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ерритория лагеря находится в живописнейшем, экологически чистом месте на берегу Финского залива в Ленинградской области вблизи поселка Солнечное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1796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WordArt 8"/>
          <p:cNvSpPr txBox="1"/>
          <p:nvPr/>
        </p:nvSpPr>
        <p:spPr>
          <a:xfrm>
            <a:off x="-11506320" y="3124080"/>
            <a:ext cx="743904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рритория лагеря находится в живописнейшем,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 чистом месте на берегу Финского залива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Ленинградской области вблизи поселка Солнечное.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13" descr="solnechnoe-map"/>
          <p:cNvPicPr/>
          <p:nvPr/>
        </p:nvPicPr>
        <p:blipFill>
          <a:blip r:embed="rId7"/>
          <a:stretch/>
        </p:blipFill>
        <p:spPr>
          <a:xfrm>
            <a:off x="533520" y="1828800"/>
            <a:ext cx="8458200" cy="4648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babochkia-170"/>
          <p:cNvPicPr/>
          <p:nvPr/>
        </p:nvPicPr>
        <p:blipFill>
          <a:blip r:embed="rId8"/>
          <a:stretch/>
        </p:blipFill>
        <p:spPr>
          <a:xfrm>
            <a:off x="3657600" y="266688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8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9:00  –  Подъ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9:30  –  Заряд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10:00 – Завтра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10:40 – Учебные за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14:00 – Об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     </a:t>
            </a: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15:00 – Воспитательная раб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16:00 – Свободное врем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18:00 –  Работа по лагер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19:00 – У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20:00 – Подведение итогов за день, песни у костра,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21:00 – Вечерний 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22:00 – Подготовка ко с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23:00 – Отб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1752480" y="457200"/>
            <a:ext cx="5791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жим дн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Picture 6" descr="gallery_2_79_1599"/>
          <p:cNvPicPr/>
          <p:nvPr/>
        </p:nvPicPr>
        <p:blipFill>
          <a:blip r:embed="rId3"/>
          <a:stretch/>
        </p:blipFill>
        <p:spPr>
          <a:xfrm>
            <a:off x="6629400" y="2362320"/>
            <a:ext cx="184140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2" descr="gallery_2_79_66479"/>
          <p:cNvPicPr/>
          <p:nvPr/>
        </p:nvPicPr>
        <p:blipFill>
          <a:blip r:embed="rId1"/>
          <a:stretch/>
        </p:blipFill>
        <p:spPr>
          <a:xfrm>
            <a:off x="7238880" y="4191120"/>
            <a:ext cx="1905120" cy="2361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Инструктаж по технике безопасност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Экскурсия «знакомство с исследуемой территорией »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Методы изучения залива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Школа выживания в дикой природе (первая медицинская помощь) – Лекционное практическое занятие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Практическая работа по изучению растительного сообществ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Лекция «Съедобные дикорастущие растения»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Изучениеп очвенного покрова территори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Подведение итогов по пройденным исследовательским работам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11"/>
          <p:cNvSpPr txBox="1"/>
          <p:nvPr/>
        </p:nvSpPr>
        <p:spPr>
          <a:xfrm>
            <a:off x="1752480" y="4572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ебные занят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5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Monotype Corsiva"/>
              </a:rPr>
              <a:t>Воспитательная работа в условиях экологического полевого лагер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Сбор участников лагеря, знакомство в виде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«Интеллектуальная эстафета» (тема: «Экология»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«Интеллектуальное казино» (тема: «Родной край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Игра «Что я за зверь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Игра «Экологическая этика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Экологическая игра «Вода мира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Игра «Географические названия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Подведение итогов работы лагеря, награжд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gallery_2_79_28578"/>
          <p:cNvPicPr/>
          <p:nvPr/>
        </p:nvPicPr>
        <p:blipFill>
          <a:blip r:embed="rId1"/>
          <a:stretch/>
        </p:blipFill>
        <p:spPr>
          <a:xfrm>
            <a:off x="7086600" y="3429000"/>
            <a:ext cx="1778040" cy="2133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854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Monotype Corsiva"/>
              </a:rPr>
              <a:t>Основные цели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расширение зоны индивидуальной экологической ответственности, включённость в мир при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Monotype Corsiva"/>
              </a:rPr>
              <a:t>Ориентировочное врем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1 ча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Monotype Corsiva"/>
              </a:rPr>
              <a:t>Материалы и подготовка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контурная карта-схема местности, на которой проводятся занятия, карандаши. Знание местности участниками и опыт пребывания на этой мест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Monotype Corsiva"/>
              </a:rPr>
              <a:t>Процедура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Участникам предлагается вспомнить свои впечатления от пребывания на тех или иных участках данной местности (на берегу озера, на поляне, на лесной тропинке и т.д.). На основе этих воспоминаний заполнить контурную карту, давая всем знакомым участкам и объектам собственные названия, связанные с какими-то событиями или впечатлениями. В местах интересных находок или встреч с животными можно сделать на карте соответствующие рису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В конце занятия участники рассказывают о своём опыте пребывания на территории, иллюстрируя свой рассказ демонстрацией кар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Monotype Corsiva"/>
              </a:rPr>
              <a:t>Примечание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Важно, чтобы названия участков местности носили эмоционально окрашенный, личностно значимый, романтический, лирический характер. Например, «Берег ночных следов», «Овраг шуршащих ящериц», «Поляна сладкой земляники», «Тропинка барсучьей норы»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WordArt 11"/>
          <p:cNvSpPr txBox="1"/>
          <p:nvPr/>
        </p:nvSpPr>
        <p:spPr>
          <a:xfrm>
            <a:off x="1066680" y="457200"/>
            <a:ext cx="7372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«Географические названия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Picture 12" descr="gallery_2_79_19992"/>
          <p:cNvPicPr/>
          <p:nvPr/>
        </p:nvPicPr>
        <p:blipFill>
          <a:blip r:embed="rId1"/>
          <a:stretch/>
        </p:blipFill>
        <p:spPr>
          <a:xfrm>
            <a:off x="0" y="5029200"/>
            <a:ext cx="152388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cveta-1172"/>
          <p:cNvPicPr/>
          <p:nvPr/>
        </p:nvPicPr>
        <p:blipFill>
          <a:blip r:embed="rId1"/>
          <a:stretch/>
        </p:blipFill>
        <p:spPr>
          <a:xfrm>
            <a:off x="0" y="5619600"/>
            <a:ext cx="1619280" cy="1238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veta-1172"/>
          <p:cNvPicPr/>
          <p:nvPr/>
        </p:nvPicPr>
        <p:blipFill>
          <a:blip r:embed="rId2"/>
          <a:stretch/>
        </p:blipFill>
        <p:spPr>
          <a:xfrm>
            <a:off x="1600200" y="5619600"/>
            <a:ext cx="1619280" cy="1238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cveta-1172"/>
          <p:cNvPicPr/>
          <p:nvPr/>
        </p:nvPicPr>
        <p:blipFill>
          <a:blip r:embed="rId3"/>
          <a:stretch/>
        </p:blipFill>
        <p:spPr>
          <a:xfrm>
            <a:off x="3200400" y="5619600"/>
            <a:ext cx="1619280" cy="123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veta-1172"/>
          <p:cNvPicPr/>
          <p:nvPr/>
        </p:nvPicPr>
        <p:blipFill>
          <a:blip r:embed="rId4"/>
          <a:stretch/>
        </p:blipFill>
        <p:spPr>
          <a:xfrm>
            <a:off x="4800600" y="5619600"/>
            <a:ext cx="1619280" cy="1238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veta-1172"/>
          <p:cNvPicPr/>
          <p:nvPr/>
        </p:nvPicPr>
        <p:blipFill>
          <a:blip r:embed="rId5"/>
          <a:stretch/>
        </p:blipFill>
        <p:spPr>
          <a:xfrm>
            <a:off x="6400800" y="5619600"/>
            <a:ext cx="1619280" cy="1238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veta-1172"/>
          <p:cNvPicPr/>
          <p:nvPr/>
        </p:nvPicPr>
        <p:blipFill>
          <a:blip r:embed="rId6"/>
          <a:stretch/>
        </p:blipFill>
        <p:spPr>
          <a:xfrm>
            <a:off x="7924680" y="5619600"/>
            <a:ext cx="1619280" cy="1238400"/>
          </a:xfrm>
          <a:prstGeom prst="rect">
            <a:avLst/>
          </a:prstGeom>
          <a:ln w="0">
            <a:noFill/>
          </a:ln>
        </p:spPr>
      </p:pic>
      <p:sp>
        <p:nvSpPr>
          <p:cNvPr id="133" name="WordArt 11"/>
          <p:cNvSpPr txBox="1"/>
          <p:nvPr/>
        </p:nvSpPr>
        <p:spPr>
          <a:xfrm>
            <a:off x="1676520" y="2286000"/>
            <a:ext cx="655308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5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</cp:lastModifiedBy>
  <dcterms:modified xsi:type="dcterms:W3CDTF">2012-02-26T11:11:2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